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C8D-A518-4286-B525-EC093A10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7BE-B8B4-4BF9-9D6E-D7C891CA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B1B-47A5-4118-A623-9A17F1C5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7BF-8D8B-4FA6-8664-B32EC185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DA4-AD8A-47F8-A6EE-66D633C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783-D1FA-4476-A418-B8E2E289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FB5-B3FC-456C-9389-E600A68D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A55-D1E2-44FA-B2F5-3B8231D5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A43-574C-4605-BE7E-7E7FAC7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C18-993A-4C42-B180-1F78E32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B61-B525-43A3-BC12-7017942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EBF-B8F9-40B2-BE25-E252F22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f0e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545EB4-2401-4C75-ACAB-2610BA7DF3A6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637200" y="1571760"/>
            <a:ext cx="8121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1апрел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День шуток и сме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21486.gif"/>
          <p:cNvPicPr/>
          <p:nvPr/>
        </p:nvPicPr>
        <p:blipFill>
          <a:blip r:embed="rId1"/>
          <a:stretch/>
        </p:blipFill>
        <p:spPr>
          <a:xfrm>
            <a:off x="3429000" y="271476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21474.gif"/>
          <p:cNvPicPr/>
          <p:nvPr/>
        </p:nvPicPr>
        <p:blipFill>
          <a:blip r:embed="rId2"/>
          <a:stretch/>
        </p:blipFill>
        <p:spPr>
          <a:xfrm>
            <a:off x="1000080" y="838080"/>
            <a:ext cx="1428480" cy="17330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21474.gif"/>
          <p:cNvPicPr/>
          <p:nvPr/>
        </p:nvPicPr>
        <p:blipFill>
          <a:blip r:embed="rId3"/>
          <a:stretch/>
        </p:blipFill>
        <p:spPr>
          <a:xfrm>
            <a:off x="7072200" y="928800"/>
            <a:ext cx="1353960" cy="1642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21486.gif"/>
          <p:cNvPicPr/>
          <p:nvPr/>
        </p:nvPicPr>
        <p:blipFill>
          <a:blip r:embed="rId4"/>
          <a:stretch/>
        </p:blipFill>
        <p:spPr>
          <a:xfrm>
            <a:off x="6429240" y="350028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21486.gif"/>
          <p:cNvPicPr/>
          <p:nvPr/>
        </p:nvPicPr>
        <p:blipFill>
          <a:blip r:embed="rId5"/>
          <a:stretch/>
        </p:blipFill>
        <p:spPr>
          <a:xfrm>
            <a:off x="857160" y="3429000"/>
            <a:ext cx="2340000" cy="1928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E1EA13-7F3C-478C-B3B5-93980CDA3D1B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3640" y="332640"/>
            <a:ext cx="8002800" cy="43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 Познакомить детей с праздником, посвященного дню смеха; развивать позитивные самоощущения, связанные с состоянием закрепощенности, 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ызвать интерес к персонажам праздника. Доставить детям радость и удовольствие, создать весел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азвивать двигательные навыки и умения, умение играть в совместные игры, активизировать словарный запас, воспитывать коммуникативн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6E9574-DCCE-4B83-B134-C2781A85AB5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Детский рисунок клоун (53 фото) ."/>
          <p:cNvPicPr/>
          <p:nvPr/>
        </p:nvPicPr>
        <p:blipFill>
          <a:blip r:embed="rId1"/>
          <a:stretch/>
        </p:blipFill>
        <p:spPr>
          <a:xfrm>
            <a:off x="4716000" y="32097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а 100 из 5284"/>
          <p:cNvPicPr/>
          <p:nvPr/>
        </p:nvPicPr>
        <p:blipFill>
          <a:blip r:embed="rId1"/>
          <a:stretch/>
        </p:blipFill>
        <p:spPr>
          <a:xfrm>
            <a:off x="539640" y="692280"/>
            <a:ext cx="8280000" cy="587196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1"/>
          <p:cNvSpPr/>
          <p:nvPr/>
        </p:nvSpPr>
        <p:spPr>
          <a:xfrm>
            <a:off x="4651560" y="1052640"/>
            <a:ext cx="3500280" cy="4112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глашаем на наше веселье! День смеха. Будем пляски плясать, будем песни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одходи, поспеши, с нами вместе попля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D651BC-9F5F-46DA-91CF-0EFCDD01232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79280" y="1197000"/>
            <a:ext cx="8714880" cy="46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dk1"/>
              </a:solidFill>
              <a:latin typeface="Times New Roman"/>
              <a:ea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6040" y="2708280"/>
            <a:ext cx="6928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E5AD09-5B6F-4052-BEB6-5E693AE098B2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5-17T08:39:28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