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B79-8590-40DE-8EE0-91954958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AD2-B3BB-4438-962A-9DF6699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3AF-6A24-4BD7-BC20-38BB200D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490-3BF4-4549-86C8-0CA920CD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CE4-D6D9-4060-A5CD-EAC71A7F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3EA-F199-4674-A5D3-7F94EB8F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38B-943E-4F1A-886F-799DD9A7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CF7-12BB-4587-9D2D-A9EEEE00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F6B-468F-4101-B2DD-B5C65F7A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064-A7B9-4DB9-ADEB-C48BEDF5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9B7-FCCC-4576-9598-0DF5BC7D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2E1-11BE-42E6-85EE-A810F89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f0e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4AC8A7-5933-4CBB-A382-4C5531413B21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637200" y="1571760"/>
            <a:ext cx="81216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000" spc="49" strike="noStrike">
                <a:solidFill>
                  <a:schemeClr val="accent2"/>
                </a:solidFill>
                <a:latin typeface="Comic Sans MS"/>
                <a:ea typeface="Arial"/>
              </a:rPr>
              <a:t>1апрел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49" strike="noStrike">
                <a:solidFill>
                  <a:schemeClr val="accent2"/>
                </a:solidFill>
                <a:latin typeface="Comic Sans MS"/>
                <a:ea typeface="Arial"/>
              </a:rPr>
              <a:t>День шуток и сме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21486.gif"/>
          <p:cNvPicPr/>
          <p:nvPr/>
        </p:nvPicPr>
        <p:blipFill>
          <a:blip r:embed="rId1"/>
          <a:stretch/>
        </p:blipFill>
        <p:spPr>
          <a:xfrm>
            <a:off x="3429000" y="2714760"/>
            <a:ext cx="2340000" cy="19285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21474.gif"/>
          <p:cNvPicPr/>
          <p:nvPr/>
        </p:nvPicPr>
        <p:blipFill>
          <a:blip r:embed="rId2"/>
          <a:stretch/>
        </p:blipFill>
        <p:spPr>
          <a:xfrm>
            <a:off x="1000080" y="838080"/>
            <a:ext cx="1428480" cy="17330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21474.gif"/>
          <p:cNvPicPr/>
          <p:nvPr/>
        </p:nvPicPr>
        <p:blipFill>
          <a:blip r:embed="rId3"/>
          <a:stretch/>
        </p:blipFill>
        <p:spPr>
          <a:xfrm>
            <a:off x="7072200" y="928800"/>
            <a:ext cx="1353960" cy="1642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21486.gif"/>
          <p:cNvPicPr/>
          <p:nvPr/>
        </p:nvPicPr>
        <p:blipFill>
          <a:blip r:embed="rId4"/>
          <a:stretch/>
        </p:blipFill>
        <p:spPr>
          <a:xfrm>
            <a:off x="6429240" y="3500280"/>
            <a:ext cx="2340000" cy="1928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21486.gif"/>
          <p:cNvPicPr/>
          <p:nvPr/>
        </p:nvPicPr>
        <p:blipFill>
          <a:blip r:embed="rId5"/>
          <a:stretch/>
        </p:blipFill>
        <p:spPr>
          <a:xfrm>
            <a:off x="857160" y="3429000"/>
            <a:ext cx="2340000" cy="1928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E0DCA4-B47E-49EE-ADDB-A909D6E40FC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23640" y="332640"/>
            <a:ext cx="8002800" cy="43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Цель: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 Познакомить детей с праздником, посвященного дню смеха; развивать позитивные самоощущения, связанные с состоянием закрепощенности, уверенности в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ызвать интерес к персонажам праздника. Доставить детям радость и удовольствие, создать весел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азвивать двигательные навыки и умения, умение играть в совместные игры, активизировать словарный запас, воспитывать коммуникативны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747784-32EE-4AE6-9F8D-D2E6BDBDE3BA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Детский рисунок клоун (53 фото) ."/>
          <p:cNvPicPr/>
          <p:nvPr/>
        </p:nvPicPr>
        <p:blipFill>
          <a:blip r:embed="rId1"/>
          <a:stretch/>
        </p:blipFill>
        <p:spPr>
          <a:xfrm>
            <a:off x="4716000" y="320976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тинка 100 из 5284"/>
          <p:cNvPicPr/>
          <p:nvPr/>
        </p:nvPicPr>
        <p:blipFill>
          <a:blip r:embed="rId1"/>
          <a:stretch/>
        </p:blipFill>
        <p:spPr>
          <a:xfrm>
            <a:off x="539640" y="692280"/>
            <a:ext cx="8280000" cy="587196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1"/>
          <p:cNvSpPr/>
          <p:nvPr/>
        </p:nvSpPr>
        <p:spPr>
          <a:xfrm>
            <a:off x="4651560" y="1052640"/>
            <a:ext cx="3500280" cy="411228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0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иглашаем на наше веселье! День смеха. Будем пляски плясать, будем песни иг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одходи, поспеши, с нами вместе попля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86BACE-4695-4A92-9871-FAFFEC8AD3B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79280" y="1197000"/>
            <a:ext cx="8714880" cy="4611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dk1"/>
              </a:solidFill>
              <a:latin typeface="Times New Roman"/>
              <a:ea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76040" y="2708280"/>
            <a:ext cx="6928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DEF8C5-5F60-4B90-A336-D6E1BDDC071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5-17T08:39:28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