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2B9-2E73-454B-BB01-ADAB3A73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E6C-7347-4FC7-AE15-9CBF5A9A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AB1-30C5-4BD6-AFD0-910D39DE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C9C-3516-4E8E-A550-F5B08FF0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B2E-2E44-4914-A6EA-7E0E42AA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3AC-84A8-4DD5-8503-CF9622BA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3EF-C7F6-44AF-8E76-2D11E0E1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0F14-AD79-4E7E-B005-3E4C629B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839-0A8E-4ECD-93A7-7C9FD653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25D-2532-48BA-8B72-D09E774E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F7D-3CEF-4DCC-AF43-C2C4B208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202-9D63-413F-8DAE-278F0BBC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b9b8"/>
            </a:gs>
            <a:gs pos="100000">
              <a:srgbClr val="f0e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F97B85-49BF-42E0-8042-491623685BEA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8"/>
          <p:cNvSpPr/>
          <p:nvPr/>
        </p:nvSpPr>
        <p:spPr>
          <a:xfrm>
            <a:off x="637200" y="1571760"/>
            <a:ext cx="81216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000" spc="49" strike="noStrike">
                <a:solidFill>
                  <a:schemeClr val="accent2"/>
                </a:solidFill>
                <a:latin typeface="Comic Sans MS"/>
                <a:ea typeface="Arial"/>
              </a:rPr>
              <a:t>1апреля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000" spc="49" strike="noStrike">
                <a:solidFill>
                  <a:schemeClr val="accent2"/>
                </a:solidFill>
                <a:latin typeface="Comic Sans MS"/>
                <a:ea typeface="Arial"/>
              </a:rPr>
              <a:t>День шуток и смех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21486.gif"/>
          <p:cNvPicPr/>
          <p:nvPr/>
        </p:nvPicPr>
        <p:blipFill>
          <a:blip r:embed="rId1"/>
          <a:stretch/>
        </p:blipFill>
        <p:spPr>
          <a:xfrm>
            <a:off x="3429000" y="2714760"/>
            <a:ext cx="2340000" cy="19285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21474.gif"/>
          <p:cNvPicPr/>
          <p:nvPr/>
        </p:nvPicPr>
        <p:blipFill>
          <a:blip r:embed="rId2"/>
          <a:stretch/>
        </p:blipFill>
        <p:spPr>
          <a:xfrm>
            <a:off x="1000080" y="838080"/>
            <a:ext cx="1428480" cy="17330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21474.gif"/>
          <p:cNvPicPr/>
          <p:nvPr/>
        </p:nvPicPr>
        <p:blipFill>
          <a:blip r:embed="rId3"/>
          <a:stretch/>
        </p:blipFill>
        <p:spPr>
          <a:xfrm>
            <a:off x="7072200" y="928800"/>
            <a:ext cx="1353960" cy="1642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21486.gif"/>
          <p:cNvPicPr/>
          <p:nvPr/>
        </p:nvPicPr>
        <p:blipFill>
          <a:blip r:embed="rId4"/>
          <a:stretch/>
        </p:blipFill>
        <p:spPr>
          <a:xfrm>
            <a:off x="6429240" y="3500280"/>
            <a:ext cx="2340000" cy="1928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21486.gif"/>
          <p:cNvPicPr/>
          <p:nvPr/>
        </p:nvPicPr>
        <p:blipFill>
          <a:blip r:embed="rId5"/>
          <a:stretch/>
        </p:blipFill>
        <p:spPr>
          <a:xfrm>
            <a:off x="857160" y="3429000"/>
            <a:ext cx="2340000" cy="1928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A57FD3-C58D-44BB-AC92-7438A00E3258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23640" y="332640"/>
            <a:ext cx="8002800" cy="435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Цель: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 Познакомить детей с праздником, посвященного дню смеха; развивать позитивные самоощущения, связанные с состоянием закрепощенности, уверенности в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Вызвать интерес к персонажам праздника. Доставить детям радость и удовольствие, создать веселое настро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азвивать двигательные навыки и умения, умение играть в совместные игры, активизировать словарный запас, воспитывать коммуникативные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AB786D-241A-4FB8-994B-FD812CAEAA46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Детский рисунок клоун (53 фото) ."/>
          <p:cNvPicPr/>
          <p:nvPr/>
        </p:nvPicPr>
        <p:blipFill>
          <a:blip r:embed="rId1"/>
          <a:stretch/>
        </p:blipFill>
        <p:spPr>
          <a:xfrm>
            <a:off x="4716000" y="320976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тинка 100 из 5284"/>
          <p:cNvPicPr/>
          <p:nvPr/>
        </p:nvPicPr>
        <p:blipFill>
          <a:blip r:embed="rId1"/>
          <a:stretch/>
        </p:blipFill>
        <p:spPr>
          <a:xfrm>
            <a:off x="539640" y="692280"/>
            <a:ext cx="8280000" cy="587196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1"/>
          <p:cNvSpPr/>
          <p:nvPr/>
        </p:nvSpPr>
        <p:spPr>
          <a:xfrm>
            <a:off x="4651560" y="1052640"/>
            <a:ext cx="3500280" cy="411228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2000"/>
            </a:br>
            <a:r>
              <a:rPr b="0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Приглашаем на наше веселье! День смеха. Будем пляски плясать, будем песни иг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 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Подходи, поспеши, с нами вместе попля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43B98D-37A6-4F01-BB62-223EF76D097E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79280" y="1197000"/>
            <a:ext cx="8714880" cy="4611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chemeClr val="dk1"/>
              </a:solidFill>
              <a:latin typeface="Times New Roman"/>
              <a:ea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76040" y="2708280"/>
            <a:ext cx="6928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C55406-F21F-4E51-B894-CF85C99B6DFF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5-17T08:39:28Z</dcterms:modified>
  <cp:revision>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