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A51-FB9C-4522-8B27-0F050CA1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EE7-1E59-4BEF-8942-A135F5AD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415-4AC9-4A52-9F3A-169A33C8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801-3CBD-49E5-B696-65DC96CE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D74-86E8-4C41-AAF4-1B106A5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5D2-AE9C-4C5E-B73B-FA031CF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F16-B7F9-44D2-8108-1BEBA4B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655-2F5C-4956-ADC3-4C97FEB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E1F-6BF7-46CD-B1C5-34D739A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B29-1B3B-4864-9EBB-FFAB110C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30B-E1E5-43A6-9E26-61E79F5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32B-4953-4599-B5E7-BA507CB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E2C-FED0-42A2-A3B9-99FCF0EE4BD7}" type="datetime">
              <a:rPr b="0" lang="ru-RU" sz="1200" spc="-1" strike="noStrike">
                <a:solidFill>
                  <a:srgbClr val="898989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AD7-1035-4BC1-841F-8C205936875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" name="Рисунок 6" descr="ФОН_флаг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114560" y="257040"/>
            <a:ext cx="6929280" cy="60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1114560" y="301680"/>
            <a:ext cx="6941880" cy="52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1332000" y="40114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Год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едагога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ставника - 2023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2627280" y="484200"/>
            <a:ext cx="356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1494000"/>
            <a:ext cx="54864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ассказать о новых формах наставничества в работе.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093760" y="514440"/>
            <a:ext cx="6956640" cy="554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108160" y="477720"/>
            <a:ext cx="6927840" cy="5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203480" cy="120348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1" descr=""/>
          <p:cNvPicPr/>
          <p:nvPr/>
        </p:nvPicPr>
        <p:blipFill>
          <a:blip r:embed="rId4"/>
          <a:stretch/>
        </p:blipFill>
        <p:spPr>
          <a:xfrm>
            <a:off x="1260360" y="123840"/>
            <a:ext cx="7775640" cy="92880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99" descr=""/>
          <p:cNvPicPr/>
          <p:nvPr/>
        </p:nvPicPr>
        <p:blipFill>
          <a:blip r:embed="rId5"/>
          <a:stretch/>
        </p:blipFill>
        <p:spPr>
          <a:xfrm>
            <a:off x="4572000" y="25718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2" name="Замещающая рамка рисунка 99" descr=""/>
          <p:cNvPicPr/>
          <p:nvPr/>
        </p:nvPicPr>
        <p:blipFill>
          <a:blip r:embed="rId6"/>
          <a:stretch/>
        </p:blipFill>
        <p:spPr>
          <a:xfrm>
            <a:off x="1473120" y="2206800"/>
            <a:ext cx="651204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114560" y="257040"/>
            <a:ext cx="6929280" cy="60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1114560" y="301680"/>
            <a:ext cx="6941880" cy="52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2195640" y="14922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12160" y="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овое поле 1"/>
          <p:cNvSpPr/>
          <p:nvPr/>
        </p:nvSpPr>
        <p:spPr>
          <a:xfrm>
            <a:off x="179280" y="4827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новый воспитатель приходит в дошкольное учреждение, важно оказать ему поддержку. На него обрушивается большое количество задач. Молодым специалистам особенно непросто с ними справиться, поскольку у них еще нет практических  знаний и не всегда есть понимание как выстроить работу. Такому сотруднику сложно проявить свои творческие способности и под воздействием стресса он может начать сомневаться, подходит ли ему эта работа. Исправить ситуацию помогает наставничество. В статье обсудим как педагог-наставник может помочь освоиться молодому воспитателю.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187720" y="357120"/>
            <a:ext cx="6956280" cy="55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216160" y="276120"/>
            <a:ext cx="6927840" cy="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1203480" cy="1203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9"/>
          <p:cNvSpPr/>
          <p:nvPr/>
        </p:nvSpPr>
        <p:spPr>
          <a:xfrm>
            <a:off x="1285920" y="428760"/>
            <a:ext cx="7643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Текстовое поле 1"/>
          <p:cNvSpPr/>
          <p:nvPr/>
        </p:nvSpPr>
        <p:spPr>
          <a:xfrm>
            <a:off x="1285920" y="555480"/>
            <a:ext cx="7623000" cy="34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гда молодой специалист только приходит в детский сад, перед наставником стоит задача определить, какие личностные и профессиональные навыки сформированы у воспитателя и какие проблемы он испытывает. После чего помочь новичку разобраться в годовом плане детского сада и выбрать тему для самообразования.</a:t>
            </a: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основе этих данных в дальнейшем разрабатывается план наставничества. Прописывая цели для плана, необходимо учитывать выбранную тему для самообразования, уровень базового образования воспитателя, его творческий потенциал, личные особенности и сложности, которые он испытывает в работе. </a:t>
            </a:r>
            <a:endParaRPr b="0" lang="en-US" sz="1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имер, если начинающему воспитателю непросто общаться с родителями деток или он не умеет работать с документацией,педагог-наставник включает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ти вопросы в план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57600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Педагог-наставник разрабатывает индивидуальный план наставничества для обучения молодого воспитателя. План составляется на определенный период, с</a:t>
            </a: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указанием необходимых тем мероприятий, сроков и форматов</a:t>
            </a: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работы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4920" y="31680"/>
            <a:ext cx="12063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216160" y="276120"/>
            <a:ext cx="6927840" cy="60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3"/>
          <a:stretch/>
        </p:blipFill>
        <p:spPr>
          <a:xfrm>
            <a:off x="2195640" y="339840"/>
            <a:ext cx="6956280" cy="55440"/>
          </a:xfrm>
          <a:prstGeom prst="rect">
            <a:avLst/>
          </a:prstGeom>
          <a:ln w="0">
            <a:noFill/>
          </a:ln>
        </p:spPr>
      </p:pic>
      <p:sp>
        <p:nvSpPr>
          <p:cNvPr id="67" name="Текстовое поле 6"/>
          <p:cNvSpPr/>
          <p:nvPr/>
        </p:nvSpPr>
        <p:spPr>
          <a:xfrm>
            <a:off x="1482840" y="1563840"/>
            <a:ext cx="630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т мероприятий выбирается в зависимости от текущих задач и особенностей воспитателя. Важно предусмотреть различные форматы. Сочетать индивидуальные и групповые форматы, практические и теоретические занятия.</a:t>
            </a:r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Текстовое поле 7"/>
          <p:cNvSpPr/>
          <p:nvPr/>
        </p:nvSpPr>
        <p:spPr>
          <a:xfrm>
            <a:off x="1482840" y="2454120"/>
            <a:ext cx="595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проделанной работы педагог-наставник анализирует ее результаты. Он контролирует работу воспитателя, дает конструктивную обратную связь для устранения ошибок. Таким образом наставник проверяет готовность воспитателя к самостоятельной работе.</a:t>
            </a:r>
            <a:endParaRPr b="0" lang="en-US" sz="1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-257040"/>
            <a:ext cx="8229600" cy="177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1596960"/>
            <a:ext cx="85834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 наставничества можно считать удачным, если у воспитателя сформировался положительный опыт работы в детском саду и появилась мотивация продолжать работу именно в этом учреждении. Он овладел необходимыми навыками и выработал собственную систему работы. Воспитатель начал самостоятельно выполнять всю работу и результаты этой работы удовлетворяют руководство и родителей воспита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34920" y="31680"/>
            <a:ext cx="1206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мещающее содержимое 4" descr="698e589775b69638d76e0d1a7a90a72e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7T12:32:13Z</dcterms:created>
  <dc:creator>Ахметьянова Элиза Рашитовна</dc:creator>
  <dc:description/>
  <dc:language>en-US</dc:language>
  <cp:lastModifiedBy>Юрий</cp:lastModifiedBy>
  <cp:lastPrinted>2011-09-23T09:38:03Z</cp:lastPrinted>
  <dcterms:modified xsi:type="dcterms:W3CDTF">2023-05-15T19:14:45Z</dcterms:modified>
  <cp:revision>5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8FFDB987EAC4063841B26C7F07BE689</vt:lpwstr>
  </property>
  <property fmtid="{D5CDD505-2E9C-101B-9397-08002B2CF9AE}" pid="3" name="KSOProductBuildVer">
    <vt:lpwstr>1049-11.2.0.11537</vt:lpwstr>
  </property>
</Properties>
</file>