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4B7-AF74-4D85-A86F-B2D5FED7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60D-905D-4081-B4E7-8C2CD147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E53-9CA3-4381-A7FE-8957F862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342-B6A4-42F7-829B-371C1F86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95E-CFB6-468A-ADAB-04FF4317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8FC-854D-449E-8590-01D9D71E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079-EEBE-4E4F-960B-5A6E93AB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D98-FC81-484B-9FB9-F76A5DB4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D70-4307-4BCC-994A-BE4A885E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E4-6277-4F6B-8F35-8AD4B3F0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5A2-2DF6-4567-BECB-1B184E5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AD3-6E64-407E-AA3E-88C1E746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04F1-2B3D-4121-B1EC-D11E9B545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17T15:14:24Z</dcterms:created>
  <dc:creator>YOY</dc:creator>
  <dc:description/>
  <dc:language>en-US</dc:language>
  <cp:lastModifiedBy>YOY</cp:lastModifiedBy>
  <dcterms:modified xsi:type="dcterms:W3CDTF">2023-05-17T15:58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