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8DD-5123-458F-A10A-EC8D7FD7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31D-899F-45AE-B4C7-93D409E7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D41-E115-4465-B107-D255DFC5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4CA-D8AF-44C5-9B83-B60F5A82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3D9-88F9-409F-8D50-39A5555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3EC-B54C-4DD0-865E-B31C366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170-0BD2-48F5-836D-D03DACFF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B6A-BEA4-4FA3-BC64-F67D3DFB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023-33ED-4914-BAC2-3D4983B9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E62-EF62-443E-BBD8-DE1D573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005-8BD7-4ACD-9D35-8A38758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882-F9ED-4D6C-9D76-082FC137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9968-DA19-4983-A31C-0469F673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17T15:14:24Z</dcterms:created>
  <dc:creator>YOY</dc:creator>
  <dc:description/>
  <dc:language>en-US</dc:language>
  <cp:lastModifiedBy>YOY</cp:lastModifiedBy>
  <dcterms:modified xsi:type="dcterms:W3CDTF">2023-05-17T15:58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