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5F93-9654-4E66-B90F-51C0A03A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8B6C-D1E2-45C8-91D0-5F92910E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AADB-9AB6-47EF-88C9-7C57020E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59F6-DE82-4886-89AD-CE2BA0BCD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EFEF-F050-440A-90FC-854B2693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DECB-ABFE-4CE5-9528-F60EAFEF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EE68-BDF6-45ED-8686-712CB5CE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64C4-D298-42A6-821A-58C1948C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A4F1-ABA8-47DB-9AEA-36B8533D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E87E-AF7D-4BE3-A223-586072A6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98E9-6CE7-4BDB-B5B1-A8CCDB80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12BC-3FBD-4391-8E33-45DDD3D8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5B4B-6875-4B6C-95E1-C42A0453EF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znanio.ru/" TargetMode="External"/><Relationship Id="rId2" Type="http://schemas.openxmlformats.org/officeDocument/2006/relationships/hyperlink" Target="https://znanio.ru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213840"/>
            <a:ext cx="7972200" cy="28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неурочная деятельность с одаренными детьми по русскому языку и литературе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82600" y="2707920"/>
            <a:ext cx="7763040" cy="19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«В душе каждого ребенка есть невидимые стру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Если тронуть их умелой рукой, они красиво зазвуча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. А. Сухомлин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72040" y="2206440"/>
            <a:ext cx="3813120" cy="43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Arial"/>
              </a:rPr>
              <a:t>Учитель русского языка и литера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Arial"/>
              </a:rPr>
              <a:t>высшейквалификационной категор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Arial"/>
              </a:rPr>
              <a:t>Школы   № 5 города Белоречен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Arial"/>
              </a:rPr>
              <a:t>Опаренко Наталья Юр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Банк данных одаренных де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2017800"/>
            <a:ext cx="262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Участие учащихся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школьных, город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олимпиадах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конкурсах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литератур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русскому язы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286000" y="1828800"/>
          <a:ext cx="6546960" cy="4649760"/>
        </p:xfrm>
        <a:graphic>
          <a:graphicData uri="http://schemas.openxmlformats.org/drawingml/2006/table">
            <a:tbl>
              <a:tblPr/>
              <a:tblGrid>
                <a:gridCol w="2743200"/>
                <a:gridCol w="1219320"/>
                <a:gridCol w="1218960"/>
                <a:gridCol w="1365480"/>
              </a:tblGrid>
              <a:tr h="775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Мероприятия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(русский язык и литература)</a:t>
                      </a: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015-2016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016-2017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017-2018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Школьная олимпиада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4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4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Городские литературные чтения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Городская олимпиад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Мероприятие  кружка  «Знайки»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8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8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8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Месячник  русского  языка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2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5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2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«Состязание знаний»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9092_vista_fresh_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64" name="WordArt 6"/>
          <p:cNvSpPr txBox="1"/>
          <p:nvPr/>
        </p:nvSpPr>
        <p:spPr>
          <a:xfrm>
            <a:off x="609480" y="1569960"/>
            <a:ext cx="7925040" cy="422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331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Comic Sans MS"/>
              </a:rPr>
              <a:t>Спасибо за внимание!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качано с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nanio.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82600" y="2017440"/>
            <a:ext cx="38102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182600" y="415116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ель моей работы с одаренными деть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85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ыявление доминирующих способностей у де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- оказание помощи в выборе принципа рациональных путей их личностного развития и обучение навыкам социальной адапт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- предупреждение развития одаренности по скрытому тип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8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«Одаренный ребенок – это..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д одаренными детьми нами понимаются дети, которые отличаются высокими функциональными или потенциальными возможностями в ряде областей: интеллектуальной, академической, творческой, художественной, психомоторной или социаль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аждый ребенок неповторим, но при всем индивидуальном своеобразии реальных проявлений детской одаренности существует много черт, характерных для большинства одаренных 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атегории одаренных в умственном отношении дете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- дети с необыкновенно высоким уровнем умственного развития при прочих равных условия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- дети с признаками специальной умственной одаренности (профильная одаренность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- дети потенциально одаренные, обладающие яркой познавательной активностью и незаурядными умственными резервами, но не достигшие успехов в учении и пока себя не проявивш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214200"/>
            <a:ext cx="876456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Диагностика одар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5480" y="200016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ыявление одаренных детей должно проходить поэтап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На первом этапе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я выявляю одаренных детей, учитывая высокие показатели ребенка по русскому языку и литерату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Второй этап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диагностический.  На этом этапе провожу индивидуальную оценку возможностей ребенка: результаты олимпиад, уровень исследовательских и творческих работ (стихи собственного сочинения, проза и т.д.). Создается банк данных одаренных учащихся, персональные портфоли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14200"/>
            <a:ext cx="876456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Диагностика одар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сихологии принято различать общую и специальную одарен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9999"/>
                </a:solidFill>
                <a:uFillTx/>
                <a:latin typeface="Arial"/>
              </a:rPr>
              <a:t>Общая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 (интеллектуальная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умственная, интеллектуальная одаренность проявляется во многих видах и областях деятельности, в том числе и в уч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9999"/>
                </a:solidFill>
                <a:uFillTx/>
                <a:latin typeface="Arial"/>
              </a:rPr>
              <a:t>Специальная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(академическая, художественная, творческая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одаренность в отдельных видах деятельности (решение сложных олимпиадных заданий по русскому языку и литературе; участие в исследовательских конкурсах; сочинение стихов и прозы и т.д.). Проводить диагностическую работу учителю необходимо для выявления талантливых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дарённые дети и учебная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В учебной деятельности одарённые дети отличаются тем, ч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- хотят добиваться успехов в учёбе и приобретать знания, не воспринимая это как насилие над соб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- способны к самостоятельным действиям благодаря приобретённым ранее умственным навык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- умеют критически оценивать окружающую действительность и проникать в суть вещей и явл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- - постоянно стремятся к самосовершенствованию и стараются всё делать хорошо (перфекционизм). Отсюда - постановка завышенных целей и тяжёлые переживания в случае невозможности их достиж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- могут полностью концентрировать внимание и погружаться в проблему, подавляя любые «помехи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- способны фиксировать свой опыт и оперативно применять его в экстремальной ситу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- урок для них особенно интересен, когда имеет место поисковая и исследовательская ситуация, импровизация и парадок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214200"/>
            <a:ext cx="854856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чества, необходимые учителю для работы с одарёнными детьм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840" y="1928520"/>
            <a:ext cx="8775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1) Разбираться в психологических особенностях одаренных детей, учитывать их потребности и интерес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2) быть доброжелательным и чутки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3) уметь строить обучение в соответствии с результатами диагностического обследования ребе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4) быть зрелым, т.е. четко осознавать свои цели и задачи, обладать обширными знаниями и опытом применения методик и стратегий обу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5) быть эмоционально стабильным, т.е. необходимо быть собранным и хорошо владеть своими эмоциями и чувств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6) иметь высокий уровень интеллектуального развития, широкий круг интересов и умений и стремление к постоянному самосовершенствовани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ормы работы с одаренными детьми на уроках русского языка и литературы и во внеурочн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9999"/>
                </a:solidFill>
                <a:uFillTx/>
                <a:latin typeface="Arial"/>
              </a:rPr>
              <a:t>Урочная деятельность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1) проектная деятельность;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2) нетрадиционные уроки с применением технологий творческой        мастерской, критического мышления;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3) самостоятельная работа (с учебником, справочным материалом, выполнение заданий на опережение и заданий расширенного уровня);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4) работа в груп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9999"/>
                </a:solidFill>
                <a:uFillTx/>
                <a:latin typeface="Arial"/>
              </a:rPr>
              <a:t>Внеурочная деятельно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1) предметные недели;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2) научно-практические конференции;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3) олимпиады по предмету;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4) участие в конкурсах исследовательских работ;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5) участие в конкурсах кружка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6) конкурсы рисунков;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7) музыкально-литературные гости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23-05-17T10:02:34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