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58C-0358-4C29-A34A-1EAE2935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0EF-23D5-4F57-9949-5A447981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46C-A6EC-4DB6-A705-C521FE56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658-D449-49D0-99C9-3EEA9914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865-BFD7-420B-883A-8CE0D130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346-F459-4208-9AF4-AEFDACFD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FB9-7473-42A3-9784-890EF654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BFD-026D-43F3-BFAE-E1DB4E0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FCE-D1E3-416E-846A-05DBB60C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B03-A868-4436-995E-B86545D6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E28-3348-41DB-A257-F1EF2D1C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425-69C2-4119-AB68-9B26563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9F18-5CF1-45E4-8688-820D910FA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znanio.ru/" TargetMode="External"/><Relationship Id="rId2" Type="http://schemas.openxmlformats.org/officeDocument/2006/relationships/hyperlink" Target="https://znanio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13840"/>
            <a:ext cx="7972200" cy="28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еурочная деятельность с одаренными детьми по русскому языку и литератур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2600" y="2707920"/>
            <a:ext cx="776304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В душе каждого ребенка есть невидимые стру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Если тронуть их умелой рукой, они красиво зазвуча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 А. Сухомли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2040" y="2206440"/>
            <a:ext cx="381312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Arial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Arial"/>
              </a:rPr>
              <a:t>высшейквалификационной катег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Arial"/>
              </a:rPr>
              <a:t>Школы   № 5 города Белорече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Arial"/>
              </a:rPr>
              <a:t>Опаренко Наталья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Банк данных одаренных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26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Участие учащихс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школьных, город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лимпиада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нкурсах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литератур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усск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0" y="1828800"/>
          <a:ext cx="6546960" cy="4649760"/>
        </p:xfrm>
        <a:graphic>
          <a:graphicData uri="http://schemas.openxmlformats.org/drawingml/2006/table">
            <a:tbl>
              <a:tblPr/>
              <a:tblGrid>
                <a:gridCol w="2743200"/>
                <a:gridCol w="1219320"/>
                <a:gridCol w="1218960"/>
                <a:gridCol w="1365480"/>
              </a:tblGrid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Мероприят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(русский язык и литература)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5-201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6-2017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7-2018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Школьная олимпиада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4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4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Городские литературные чтени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Городская олимпиад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Мероприятие  кружка  «Знайки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Месячник  русского  языка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«Состязание знаний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9092_vista_fresh_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64" name="WordArt 6"/>
          <p:cNvSpPr txBox="1"/>
          <p:nvPr/>
        </p:nvSpPr>
        <p:spPr>
          <a:xfrm>
            <a:off x="609480" y="1569960"/>
            <a:ext cx="792504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31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Comic Sans MS"/>
              </a:rPr>
              <a:t>Спасибо за внимание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качано с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nanio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2600" y="201744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моей работы с одаренными деть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явление доминирующих способностей у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- оказание помощи в выборе принципа рациональных путей их личностного развития и обучение навыкам социальной адап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- предупреждение развития одаренности по скрытому ти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8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Одаренный ребенок – это..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 одаренными детьми нами понимаются дети, которые отличаются высокими функциональными или потенциальными возможностями в ряде областей: интеллектуальной, академической, творческой, художественной, психомоторной или социаль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ждый ребенок неповторим, но при всем индивидуальном своеобразии реальных проявлений детской одаренности существует много черт, характерных для большинства одаренных 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тегории одаренных в умственном отношении де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 дети с необыкновенно высоким уровнем умственного развития при прочих равных услов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 дети с признаками специальной умственной одаренности (профильная одаренност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 дети потенциально одаренные, обладающие яркой познавательной активностью и незаурядными умственными резервами, но не достигшие успехов в учении и пока себя не проявивш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14200"/>
            <a:ext cx="87645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иагностика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200016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явление одаренных детей должно проходить поэтап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а первом этап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я выявляю одаренных детей, учитывая высокие показатели ребенка по русскому языку и литерату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торой этап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иагностический.  На этом этапе провожу индивидуальную оценку возможностей ребенка: результаты олимпиад, уровень исследовательских и творческих работ (стихи собственного сочинения, проза и т.д.). Создается банк данных одаренных учащихся, персональные портфоли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14200"/>
            <a:ext cx="87645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иагностика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сихологии принято различать общую и специальную одар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Arial"/>
              </a:rPr>
              <a:t>Общая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(интеллектуальна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мственная, интеллектуальная одаренность проявляется во многих видах и областях деятельности, в том числе и в 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Arial"/>
              </a:rPr>
              <a:t>Специальна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(академическая, художественная, творческа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даренность в отдельных видах деятельности (решение сложных олимпиадных заданий по русскому языку и литературе; участие в исследовательских конкурсах; сочинение стихов и прозы и т.д.). Проводить диагностическую работу учителю необходимо для выявления талантлив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дарённые дети и учебная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В учебной деятельности одарённые дети отличаются тем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хотят добиваться успехов в учёбе и приобретать знания, не воспринимая это как насилие над соб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способны к самостоятельным действиям благодаря приобретённым ранее умственным навык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умеют критически оценивать окружающую действительность и проникать в суть вещей и явл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- постоянно стремятся к самосовершенствованию и стараются всё делать хорошо (перфекционизм). Отсюда - постановка завышенных целей и тяжёлые переживания в случае невозможности их дости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могут полностью концентрировать внимание и погружаться в проблему, подавляя любые «помех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способны фиксировать свой опыт и оперативно применять его в экстремальной ситу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урок для них особенно интересен, когда имеет место поисковая и исследовательская ситуация, импровизация и парадок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5485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чества, необходимые учителю для работы с одарёнными деть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840" y="1928520"/>
            <a:ext cx="877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) Разбираться в психологических особенностях одаренных детей, учитывать их потребности и интере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) быть доброжелательным и чутк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3) уметь строить обучение в соответствии с результатами диагностического обследования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4) быть зрелым, т.е. четко осознавать свои цели и задачи, обладать обширными знаниями и опытом применения методик и стратегий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5) быть эмоционально стабильным, т.е. необходимо быть собранным и хорошо владеть своими эмоциями и чув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6) иметь высокий уровень интеллектуального развития, широкий круг интересов и умений и стремление к постоянному самосовершенствова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ы работы с одаренными детьми на уроках русского языка и литературы и во внеуроч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</a:rPr>
              <a:t>Урочная деятельность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) проектная деятельность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) нетрадиционные уроки с применением технологий творческой        мастерской, критического мышления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) самостоятельная работа (с учебником, справочным материалом, выполнение заданий на опережение и заданий расширенного уровня)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) работа в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</a:rPr>
              <a:t>Внеурочная дея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) предметные недели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) научно-практические конференции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) олимпиады по предмету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) участие в конкурсах исследовательских работ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5) участие в конкурсах кружка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6) конкурсы рисунков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7) музыкально-литературные гости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3-05-17T10:02:3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