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551-5895-48FA-9E8C-61D5B0AE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362-D850-45AF-8161-3E183BF0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EAD-ACB0-4347-A1A6-AC75AD23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9DF-4AEE-4E5A-9B85-2BFC4FA2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895-7170-404F-AE24-EAE299FD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309-7113-471B-93AE-EB150A8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F34-79D7-40AD-B5A1-E0FD9A5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842-FF36-4DE1-97C9-26DEA31F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89B-B926-4CFE-8320-1D85546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5CB-0398-4A0C-9F3D-7A46F83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112-90E1-4867-88A0-E67B8A5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DA1-5838-4984-AEC5-913B603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D84-3EDA-4EA3-95D2-963CFD534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6765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тение живой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858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685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пит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4724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рас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8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размнож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97180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Имеет органы: корень, стебель, листья, цветы, плоды, с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76212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На ветках растений чуть выше листьев на зиму остаются почки. Особенно легко их можно рассмотреть на лиственных растениях. Почку снаружи покрывают плотные темные чешуйки. Под ними хорошо видны маленькие зеленые лис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019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думай, какое значение имеют чешуй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карт2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62485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38480" y="836640"/>
            <a:ext cx="471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Почка покрыта чешуйками, которые защищают ее от мороза, клейкое вещество, выполняющее так же защитную роль. Видите зеленые листочки, маленький стебелек, из которых и будут развиваться новые ветки и листья дерева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0060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начит, почка – это неразвитый стебелек с листьями. Образование почек является приспособлением лиственных растений (деревьев и кустарников) к неблагоприятным условиям суров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кар4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2192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914400"/>
            <a:ext cx="784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Готовят еду растениям маленькие поварята – хлорофилловые зернышки, которые находятся в листьях растений. Делают они это с помощью углекислого газа, воды и солнечного света. Углекислый газ поступает в листья из воздуха через устьица – маленькие дырочки в листьях. Воду всасывают из почвы корни и посылают по стволу растения в листья. В это время, когда хлорофилл готовит еду, растения выделяют кислород, которым дышит все жи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457200"/>
            <a:ext cx="80773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роверяем то, что знаем, что умеем, по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) Чт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желуди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137808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плод5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7891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шишка3" descr=""/>
          <p:cNvPicPr/>
          <p:nvPr/>
        </p:nvPicPr>
        <p:blipFill>
          <a:blip r:embed="rId4"/>
          <a:stretch/>
        </p:blipFill>
        <p:spPr>
          <a:xfrm>
            <a:off x="5105520" y="2514600"/>
            <a:ext cx="1461960" cy="900000"/>
          </a:xfrm>
          <a:prstGeom prst="rect">
            <a:avLst/>
          </a:prstGeom>
          <a:ln w="0">
            <a:noFill/>
          </a:ln>
        </p:spPr>
      </p:pic>
      <p:pic>
        <p:nvPicPr>
          <p:cNvPr id="89" name="плод3" descr=""/>
          <p:cNvPicPr/>
          <p:nvPr/>
        </p:nvPicPr>
        <p:blipFill>
          <a:blip r:embed="rId5"/>
          <a:stretch/>
        </p:blipFill>
        <p:spPr>
          <a:xfrm>
            <a:off x="6858000" y="2209680"/>
            <a:ext cx="938160" cy="121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34290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а                      б                        в                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2) Как правильно назвать лист хвойного дере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3434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колю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иг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и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3) Какое из хвойных деревьев сбрасывает листья на зи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ос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листвен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4) С чем связано состояние растений зи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низкими температурами в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метелями и снегопад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настроением люд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830556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5) Что можно узнать о лиственных растениях, наблюдая за ними зи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большинство лиственных растений зимуют без листье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некоторых сохранились плоды и сухие лист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лиственные растения цвету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ветках есть поч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6) Что можно узнать, наблюдая зимой за хвойными раст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йные растения зимуют с зелеными листьями-хвоин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хвойных растениях распускаются цвет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хвойных растениях есть шишки с семен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я с хвойных растений опадает пол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304920"/>
            <a:ext cx="86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Как зимуют травянистые раст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858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екоторые сохраняют зеленые листья под снегом</a:t>
            </a:r>
            <a:r>
              <a:rPr b="0" i="1" lang="en-US" sz="20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некоторые ярко цвет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75248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  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у некоторых в почве сохраняются подземные ч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некоторые травянистые растения погибают, но сохраняют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Верно ли, что зимой люди выращивают помидоры и огур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911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Times New Roman"/>
              </a:rPr>
              <a:t>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24280"/>
            <a:ext cx="83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да, помидоры и огурцы выращивают на снегу, как на поч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410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да, помидоры и огурцы выращивают в тепл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9436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дачи  в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5335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Ключ к тесту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75248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 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391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кар1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04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228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Многообразие раст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26668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3716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кустар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05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609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48769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мхи и 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8098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00400" y="2743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9144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Хв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447920"/>
            <a:ext cx="236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1) ель,                                 2) сос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3) пих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4) лиственн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5) ке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220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590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838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Ли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371600"/>
            <a:ext cx="2232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) бере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2) кле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3) топо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4) яс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5) д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65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береза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900080" cy="3047760"/>
          </a:xfrm>
          <a:prstGeom prst="rect">
            <a:avLst/>
          </a:prstGeom>
          <a:ln w="0">
            <a:noFill/>
          </a:ln>
        </p:spPr>
      </p:pic>
      <p:pic>
        <p:nvPicPr>
          <p:cNvPr id="64" name="ель" descr=""/>
          <p:cNvPicPr/>
          <p:nvPr/>
        </p:nvPicPr>
        <p:blipFill>
          <a:blip r:embed="rId3"/>
          <a:stretch/>
        </p:blipFill>
        <p:spPr>
          <a:xfrm>
            <a:off x="6019920" y="3505320"/>
            <a:ext cx="1836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Большинство хвойных растений зимуют с зелеными листьями – хвоинками. И только лиственница зимует без листьев. На ее голых ветках зимой можно наблюдать множество шиш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ейзаж3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3124440" cy="3824280"/>
          </a:xfrm>
          <a:prstGeom prst="rect">
            <a:avLst/>
          </a:prstGeom>
          <a:ln w="0">
            <a:noFill/>
          </a:ln>
        </p:spPr>
      </p:pic>
      <p:pic>
        <p:nvPicPr>
          <p:cNvPr id="67" name="1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3276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762120"/>
            <a:ext cx="525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Лиственные растения еще осенью сбросили листья. Но кое-где и зимой на их ветках можно наблюдать сухие побуревшие листочки. Чаще всего их можно видеть на ду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кар3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45720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Лиственны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и хвойные растения зи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4454640"/>
          </a:xfrm>
          <a:prstGeom prst="rect">
            <a:avLst/>
          </a:prstGeom>
          <a:ln w="0">
            <a:noFill/>
          </a:ln>
        </p:spPr>
      </p:pic>
      <p:pic>
        <p:nvPicPr>
          <p:cNvPr id="72" name="кар3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222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45720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Иголки – это узкие листья. Такие листья, узкие как иголки, называют хво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шишка1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749320" cy="1706400"/>
          </a:xfrm>
          <a:prstGeom prst="rect">
            <a:avLst/>
          </a:prstGeom>
          <a:ln w="0">
            <a:noFill/>
          </a:ln>
        </p:spPr>
      </p:pic>
      <p:pic>
        <p:nvPicPr>
          <p:cNvPr id="75" name="шишка2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2719440" cy="1706400"/>
          </a:xfrm>
          <a:prstGeom prst="rect">
            <a:avLst/>
          </a:prstGeom>
          <a:ln w="0">
            <a:noFill/>
          </a:ln>
        </p:spPr>
      </p:pic>
      <p:pic>
        <p:nvPicPr>
          <p:cNvPr id="76" name="шишка3" descr=""/>
          <p:cNvPicPr/>
          <p:nvPr/>
        </p:nvPicPr>
        <p:blipFill>
          <a:blip r:embed="rId4"/>
          <a:stretch/>
        </p:blipFill>
        <p:spPr>
          <a:xfrm>
            <a:off x="6370560" y="4648320"/>
            <a:ext cx="27734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836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ам может показаться, что деревья стоят как будто неживые, но это не так. Зимой деревья не умирают – прекращается их рост. За весь год дерево растет всего лишь полтора – два месяца, причем весной, а в остальное время накапливает запасы, чтобы зиму пережить. Зимой хотя и медленно, но обмен веществ идет. Многих интересует, почему растения сбрасывают на зиму листья. Вы уже знаете, что лист – это своеобразная кухня, на которой готовят великолепные блюда. Но от всякого лакомства остаются отходы, и в листе эти отходы, за неимением мусоропровода, скапливаются в вакуолях. К концу лета вакуоли просто забиты отходами. Поэтому растению проще всего одним махом избавиться то кухни, сбросив ее навсегда , а весной приобрести новую. Хвойные деревья тоже сбрасывают хвоинки, только не все сразу – одна иголка выпадает, другая вырастает. Елке так лучше – в наших местах зимы длинные, за лето трудно накопить запас, поэтому процесс питания у елки ив холоде идет. Чем же защищаются растения от холода? Одни накапливают сахар, другие – крахмал, как картофель, третьи – жиры: все эти вещества способствуют холодоустойчив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1:16:25Z</dcterms:created>
  <dc:creator>user</dc:creator>
  <dc:description/>
  <dc:language>en-US</dc:language>
  <cp:lastModifiedBy>учитель</cp:lastModifiedBy>
  <dcterms:modified xsi:type="dcterms:W3CDTF">2005-02-04T07:37:09Z</dcterms:modified>
  <cp:revision>10</cp:revision>
  <dc:subject/>
  <dc:title>Слайд 1</dc:title>
</cp:coreProperties>
</file>