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399-E400-4578-A719-498E7E42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5DE-0200-4C20-9315-CBD6B51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115-6ADE-434E-991C-800685A4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05E-83EC-4DC6-AE5A-41192716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663-70CB-48A5-BFBD-9CFD1CF2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95F-9208-4657-8CD5-DDFBF7B1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EA0-B299-4464-B827-34729E71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DBE-15C0-4C74-8A24-23B1E853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FE0-B70D-495D-B6B0-1B5720DC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7B6-0ED7-4B69-A6BE-A2EFAB05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161-8CF0-4BC4-930A-AEAF695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384-3D31-46BD-A670-A6252C1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D86C-E47E-4554-80EC-DC517294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Безречевые д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276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сихолого-педагогический статус. Сложности диагно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478476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Автор презентации: Курышева Елена Александ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учитель-логопед детского сада «У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14475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ЗРЕЧЕВЫ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514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дети с тяжелыми нарушениями речи, для которых развитие общения с помощью речевых средств является невозможным вследствие особенностей их психофиз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уппа безречевых детей клинически  неоднородна. В нее входят дети с моторной и сенсорной алалией, различными задержками психоречевого развития,   ранним детским аутизмом, интеллектуальной недостаточностью, детским церебральным параличом, нарушением сл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ЧИНАМИ РЕЧЕВОЙ ПАТОЛОГИИ МОГУТ ЯВЛЯ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ые различные неблагоприятные факторы или во время внутриутробного этапа развития или во время 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благоприятные факторы жизни матери, предшествующие беременности. Алкоголизм и курение, аборты, наркомания, ранняя половая жизнь, неблагоприятная социальная среда, ведущая к нервно-психической нестабильности будущей матери, венерические заболевания и друг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болевания, перенесенные ребенком в первые годы жизни. Особенно опасны для развития менингит и энцефалит, частые инфекционные заболевания, ранние расстройства желудочно-кишечного тр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равмы черепа, сопровождающиеся поражением головного мозга. Неблагополучные социальные и бытовые усло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следственность, генетическая патология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2286000"/>
            <a:ext cx="8610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 России, как и во всем мире, увеличивается число детей с особенностями развития, нуждающихся в специальных условиях обучения. По данным Минпросвещения, в 2021 году в инклюзивных классах училось более 500 тысяч детей с ограниченными возможностями здоровья — на шесть процентов больше по сравнению с предыдущим учебным годом. Еще более 100 тысяч детей и подростков получали общее образование на дому. Осваивать учебную программу им помогают дефектологи и логоп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 отношении детей-инвалидов в последние годы фиксируется увеличение численности. На начало 2015 года у нас было 590 тысяч детей-инвалидов, на ноябрь 2021 года — 725 тысяч, т.е. наблюдается существен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Актуальна ли эта 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60020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лучшение медицинской диагностик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Сейчас, например, чаще выявляют детей с аутизмом, раньше такой диагноз ставили очень редко. Сегодня появились совершенно другие подходы к расстройству аутистического спектра, выявляют много его вариантов — с нарушением интеллекта или с сохранным интеллектом. Диагностика этих состояний шагнула далеко вперед. Поэтому и количество таких детей увеличилось — их берут на учет, с ними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ннего детства работ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7339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торая причина тоже связана с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расширением возможностей медицины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В частности — со снижением детской смертности. Врачи научились выхаживать недоношенных детей даже с очень низкой массой тела. Нередко им удается догнать своих сверстников и стать полноценными членами общества. Но, к сожалению, у детей, особенно рожденных с экстремально низкой массой тела, выше и риск развития различных нарушений — слуха, зрения и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858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Каковы причины роста числа детей с ОВ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7913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татистика по выжившим детям с экстремально малой массой тела: 24% - относительно здоровые, 76% - глубокие пожизненные инвали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2057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аконец, причина может быть и в том, что современные женщины все чаще откладывают рождение ребенка на более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оздний возраст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А чем старше будущая мама, тем выше вероятность рождения ребенка с патоло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озможно, рост числа детей с ОВЗ связан и с бесконечными стрессами, которых сейчас стало намного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ЖЕ ЯВЛЯЕТСЯ ОБЩИМ ДЛЯ ЭТИХ Д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743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сутствие мотивации к общению, неумение ориентироваться в ситуации общения, разлаженность поведения, негибкость в контактах, повышенная эмоциональная истощаемость, полное или почти полное отсутствие словесных средств общения в возрасте, когда у нормально развивающихся детей речь, в основном сформирована, часто крайне низкий уровень развития понимания обращенной речи — все, что мешает полноценному взаимодействию ребенка с окружающим миром. При наличии общности проявлений основные симптомы различаются по качеству протекания и степени выраженности у детей с разными диагно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7400" y="533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ложность диагно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23880"/>
            <a:ext cx="8381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Сочетанные 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 сложным нарушениям детского развития относят сочетание двух или более психофизических нарушений (зрения, слуха, речи, умственного развития и др.) у одного ребенк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ередко поставленный диагноз не соответствует действ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657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434340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е является врожденной способностью человека, возникает как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рефлекс по подражанию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Для правильного и своевременного формирования речи необходимо, чтобы ребенок был соматически здоров, имел полноценное речевое окружение, испытывал потребность в общении, обладал нормальным слухом и интелл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1T18:59:30Z</dcterms:created>
  <dc:creator>YOY</dc:creator>
  <dc:description/>
  <dc:language>en-US</dc:language>
  <cp:lastModifiedBy>YOY</cp:lastModifiedBy>
  <dcterms:modified xsi:type="dcterms:W3CDTF">2023-05-17T16:39:2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