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877-1F16-40B8-81B7-10F841E8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89B-3E90-4253-8239-539A697E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8E8-BFC9-4649-A35F-D1594A02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72A-343A-4877-977A-5D4401DC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F1E-E5ED-48BD-9B57-48B2C56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C65-A336-4690-8F5D-B36E45C3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8CB-58CE-421D-B1CD-B21656E4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848-3A36-485C-9EB8-274BCBB8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8FC-D81B-44AA-AC2A-ED5D517D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8F4-F02B-4C99-8EED-85DDEA0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394-062F-4C6A-8A2C-7EEC302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A9F-962B-41E1-AB74-696553E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40160" cy="1640160"/>
          </a:xfrm>
          <a:prstGeom prst="pie">
            <a:avLst/>
          </a:prstGeom>
          <a:solidFill>
            <a:srgbClr val="fef9f3">
              <a:alpha val="32000"/>
            </a:srgbClr>
          </a:solidFill>
          <a:ln cap="rnd" w="3240">
            <a:solidFill>
              <a:srgbClr val="d0c2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4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160" y="1055520"/>
            <a:ext cx="1125720" cy="1101960"/>
          </a:xfrm>
          <a:prstGeom prst="donut">
            <a:avLst>
              <a:gd name="adj" fmla="val 11828"/>
            </a:avLst>
          </a:prstGeom>
          <a:blipFill rotWithShape="0">
            <a:blip r:embed="rId3"/>
            <a:srcRect/>
            <a:stretch/>
          </a:blipFill>
          <a:ln cap="rnd" w="7200">
            <a:solidFill>
              <a:srgbClr val="c5b6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5622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4a6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2F66-7B1B-412F-9202-3F6C9EA03700}" type="datetime">
              <a:rPr b="0" lang="en-US" sz="1200" spc="-1" strike="noStrike">
                <a:solidFill>
                  <a:srgbClr val="b4a688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4a6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D548-EE54-4A03-B158-826ABDD39698}" type="slidenum">
              <a:rPr b="0" lang="en-US" sz="1200" spc="-1" strike="noStrike">
                <a:solidFill>
                  <a:srgbClr val="b4a6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6920" y="1126800"/>
            <a:ext cx="7634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Проект «</a:t>
            </a:r>
            <a:r>
              <a:rPr b="1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Веселый рюкзачок</a:t>
            </a:r>
            <a:r>
              <a:rPr b="1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группа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 компенсирующей направленности</a:t>
            </a:r>
            <a:r>
              <a:rPr b="0" lang="zh-CN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 № 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воспитатели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:</a:t>
            </a: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Воронина Н.В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Титова И.Н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познавательно-исследовательский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Срок реализации: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26.09.22 - 31.10.22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65440" y="4079880"/>
            <a:ext cx="403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6120"/>
            <a:ext cx="74995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7020000" y="117360"/>
            <a:ext cx="1946160" cy="116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260000" y="1197000"/>
            <a:ext cx="7674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6. Регулярные представления продуктов детской деятельности (рисунки, поделки, аппликации), достижений детей (новые знания, эмоции, впечатления) на утреннем и вечернем круга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4" name="Текст 8" descr=""/>
          <p:cNvPicPr/>
          <p:nvPr/>
        </p:nvPicPr>
        <p:blipFill>
          <a:blip r:embed="rId3"/>
          <a:stretch/>
        </p:blipFill>
        <p:spPr>
          <a:xfrm>
            <a:off x="1260360" y="2133720"/>
            <a:ext cx="3673440" cy="4105080"/>
          </a:xfrm>
          <a:prstGeom prst="rect">
            <a:avLst/>
          </a:prstGeom>
          <a:ln w="0">
            <a:noFill/>
          </a:ln>
        </p:spPr>
      </p:pic>
      <p:pic>
        <p:nvPicPr>
          <p:cNvPr id="95" name="Текст 8" descr=""/>
          <p:cNvPicPr/>
          <p:nvPr/>
        </p:nvPicPr>
        <p:blipFill>
          <a:blip r:embed="rId4"/>
          <a:stretch/>
        </p:blipFill>
        <p:spPr>
          <a:xfrm>
            <a:off x="4932360" y="2133720"/>
            <a:ext cx="3889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8720" y="1269720"/>
            <a:ext cx="774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проект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8" name="Рисунок 8" descr=""/>
          <p:cNvPicPr/>
          <p:nvPr/>
        </p:nvPicPr>
        <p:blipFill>
          <a:blip r:embed="rId2"/>
          <a:stretch/>
        </p:blipFill>
        <p:spPr>
          <a:xfrm>
            <a:off x="6877080" y="333360"/>
            <a:ext cx="1944720" cy="1163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254560" y="3927600"/>
            <a:ext cx="367992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17440" y="1774800"/>
            <a:ext cx="435636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88000" y="1701720"/>
            <a:ext cx="4106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4480" y="27576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103" name="Рисунок 8" descr=""/>
          <p:cNvPicPr/>
          <p:nvPr/>
        </p:nvPicPr>
        <p:blipFill>
          <a:blip r:embed="rId2"/>
          <a:stretch/>
        </p:blipFill>
        <p:spPr>
          <a:xfrm>
            <a:off x="7199280" y="18900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104" name="Текст 8" descr=""/>
          <p:cNvPicPr/>
          <p:nvPr/>
        </p:nvPicPr>
        <p:blipFill>
          <a:blip r:embed="rId3"/>
          <a:stretch/>
        </p:blipFill>
        <p:spPr>
          <a:xfrm>
            <a:off x="1190520" y="1341360"/>
            <a:ext cx="3886200" cy="5112000"/>
          </a:xfrm>
          <a:prstGeom prst="rect">
            <a:avLst/>
          </a:prstGeom>
          <a:ln w="0">
            <a:noFill/>
          </a:ln>
        </p:spPr>
      </p:pic>
      <p:pic>
        <p:nvPicPr>
          <p:cNvPr id="105" name="Текст 8" descr=""/>
          <p:cNvPicPr/>
          <p:nvPr/>
        </p:nvPicPr>
        <p:blipFill>
          <a:blip r:embed="rId4"/>
          <a:stretch/>
        </p:blipFill>
        <p:spPr>
          <a:xfrm>
            <a:off x="5148360" y="1343160"/>
            <a:ext cx="3674880" cy="273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148360" y="3933720"/>
            <a:ext cx="3674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110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411280" y="2781360"/>
            <a:ext cx="4897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341108"/>
                </a:solidFill>
                <a:latin typeface="Garamond"/>
              </a:rPr>
              <a:t>Спасибо за внимание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3440" y="836280"/>
            <a:ext cx="6191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562214"/>
                </a:solidFill>
                <a:latin typeface="Garamond"/>
              </a:rPr>
              <a:t>  </a:t>
            </a:r>
            <a:r>
              <a:rPr b="0" lang="zh-CN" sz="9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900"/>
            </a:br>
            <a:r>
              <a:rPr b="0" lang="zh-CN" sz="9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6280" y="1413000"/>
            <a:ext cx="716112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82440" indent="0" algn="ctr">
              <a:lnSpc>
                <a:spcPts val="1672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ts val="1672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" name="Рисунок 8" descr=""/>
          <p:cNvPicPr/>
          <p:nvPr/>
        </p:nvPicPr>
        <p:blipFill>
          <a:blip r:embed="rId2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67160" y="31082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1917720"/>
            <a:ext cx="741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еведческая деятельность с детьми дошкольного возраста имеет особое значение в формировании у них любви, чувства причастности к своей стране, малой родине и гордости за ее достижения. Историческое, культурное, природно-экологическое своеобразие родного края - это огромное богатство, к которому необходимо приобщить воспитанников, научить правильно им распоряжаться, сохраняя и приумножая его. Особенности восприятия ребенка дошкольного возраста таковы, что его ежедневное окружение - семья, детский сад, улица, микрорайон, город - имеет колоссальное воздействие на формирование личности, наполняет сознание самими яркими и запоминающимися впечатлениями. Поэтому ознакомление с родным краем выступает, как основополагающее направление образовательной деятельности по приобщению к социокультурным ценностям и патриотическому воспи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4720" y="1603440"/>
            <a:ext cx="740556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Цель проекта:</a:t>
            </a: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формирование у детей дошкольного возраста целостного представления о родном крае</a:t>
            </a:r>
            <a:r>
              <a:rPr b="0" lang="zh-CN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через знакомство с его культурными, природными, историческими особенностям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Задачи:</a:t>
            </a: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. Расширять представления детей о природе, истории, культуре г. Ярославл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. Продолжать формировать представления о себе, своей семье, объектах окружающего мира, как неотъемлемой части родного края (я - Ярославец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. Развивать любознательность, познавательный интерес и активность детей к изучению природы, истории и культуры Ярославл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Создавать условия для отражения детьми своих впечатлений о малой родине в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Поддерживать самостоятельность и инициативу детей в изучении особенностей родного город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05080" y="1341360"/>
            <a:ext cx="7408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341108"/>
                </a:solidFill>
                <a:latin typeface="Garamond"/>
              </a:rPr>
              <a:t>Этапы реализации проект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09.22 - 30.09.22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седа с детьми и выделение вариантов группового проекта в рамках указанной темы, информирование и привлечение родителей к участию в  проекте, планирование действий по реализации проекта, определение  методов и приемов работы с детьми, сбор необходимой  информаци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.10.22 - 21.10.2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: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роприятий с воспиатнниками по реализации проекта, сбор материалов (рисунков, поделок, фотографий), подготовленных детьми и родителями по теме проекта, обсуждение и определение итогового продукт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10.22 - 31.10.2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проекта, обсуждение и обобщение с детьми результатов деятельности, изготовление и оформление итогового продукта, презентация проект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продук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ное совместно с детьми дидактическое пособие «Веселый рюкзачок»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576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68" name="Рисунок 8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944720" cy="1163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260000" y="1054080"/>
            <a:ext cx="7674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Рассматривание карты мира и беседа по н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Цель: ознакомление с картой мира, формирование представлений о многообразии нашей стран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" name="Текст 8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3600360" cy="3962160"/>
          </a:xfrm>
          <a:prstGeom prst="rect">
            <a:avLst/>
          </a:prstGeom>
          <a:ln w="0">
            <a:noFill/>
          </a:ln>
        </p:spPr>
      </p:pic>
      <p:sp>
        <p:nvSpPr>
          <p:cNvPr id="71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Текст 8" descr=""/>
          <p:cNvPicPr/>
          <p:nvPr/>
        </p:nvPicPr>
        <p:blipFill>
          <a:blip r:embed="rId5"/>
          <a:stretch/>
        </p:blipFill>
        <p:spPr>
          <a:xfrm>
            <a:off x="5079960" y="2421000"/>
            <a:ext cx="3597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946520" cy="1163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260000" y="1447560"/>
            <a:ext cx="76741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Рассматривание  карты Ярославской обла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Цель: ознакомление  с картой Ярославской области, формирование представлений о многообразии городов нашей области, в том числе родном городе Ярославл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" name="Текст 8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7632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8200" y="1447560"/>
            <a:ext cx="73850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 Беседа и раскрашивание «Сказочные герои Ярославской области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формирование представлений о связи сказочных героев и столиц некоторых городов Ярославской област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" name="Рисунок 8" descr=""/>
          <p:cNvPicPr/>
          <p:nvPr/>
        </p:nvPicPr>
        <p:blipFill>
          <a:blip r:embed="rId2"/>
          <a:stretch/>
        </p:blipFill>
        <p:spPr>
          <a:xfrm>
            <a:off x="6950160" y="262080"/>
            <a:ext cx="1944720" cy="1079280"/>
          </a:xfrm>
          <a:prstGeom prst="rect">
            <a:avLst/>
          </a:prstGeom>
          <a:ln w="0">
            <a:noFill/>
          </a:ln>
        </p:spPr>
      </p:pic>
      <p:pic>
        <p:nvPicPr>
          <p:cNvPr id="81" name="Текст 8" descr=""/>
          <p:cNvPicPr/>
          <p:nvPr/>
        </p:nvPicPr>
        <p:blipFill>
          <a:blip r:embed="rId3"/>
          <a:stretch/>
        </p:blipFill>
        <p:spPr>
          <a:xfrm>
            <a:off x="1336680" y="2421000"/>
            <a:ext cx="3672000" cy="396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151600" y="2494080"/>
            <a:ext cx="352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38200" y="1447920"/>
            <a:ext cx="378144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. Рассматривание сборников открыток город Ярославль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ознакомление с достопримечательностями родного город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5" name="Рисунок 8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8" descr=""/>
          <p:cNvPicPr/>
          <p:nvPr/>
        </p:nvPicPr>
        <p:blipFill>
          <a:blip r:embed="rId3"/>
          <a:stretch/>
        </p:blipFill>
        <p:spPr>
          <a:xfrm>
            <a:off x="5149800" y="1558800"/>
            <a:ext cx="367200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576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36760" y="1196640"/>
            <a:ext cx="70977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. Настольная игра «Наша родина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расширение представлений детей о родной стране, ее культуре, народах, праздника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9" name="Рисунок 8" descr=""/>
          <p:cNvPicPr/>
          <p:nvPr/>
        </p:nvPicPr>
        <p:blipFill>
          <a:blip r:embed="rId2"/>
          <a:stretch/>
        </p:blipFill>
        <p:spPr>
          <a:xfrm>
            <a:off x="6877080" y="3333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90" name="Текст 8" descr=""/>
          <p:cNvPicPr/>
          <p:nvPr/>
        </p:nvPicPr>
        <p:blipFill>
          <a:blip r:embed="rId3"/>
          <a:stretch/>
        </p:blipFill>
        <p:spPr>
          <a:xfrm>
            <a:off x="2557440" y="2133720"/>
            <a:ext cx="468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1T14:12:00Z</dcterms:created>
  <dc:creator>2017</dc:creator>
  <dc:description/>
  <dc:language>en-US</dc:language>
  <cp:lastModifiedBy>2017</cp:lastModifiedBy>
  <dcterms:modified xsi:type="dcterms:W3CDTF">2023-04-11T15:06:40Z</dcterms:modified>
  <cp:revision>5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