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6D97-747C-42FC-AEB4-98E14AC0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7352-02DC-48C9-B9FE-059E8C55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5BE4-88BA-4344-A00A-5B270D08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4D4-01D1-499E-B1D8-58C6E8A3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E4F9-ABBA-4387-96EF-65696FDB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FD12-401F-4C87-ABA3-E1A4B44E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AF8-A84A-4766-B9EB-5C1E8B89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0F8-F55D-4C8A-984A-DDD382D3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C947-F2DB-499E-8705-D4C80822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3F56-E6A7-4905-90FC-8B323DF2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D17B-EB78-4D8C-8565-423C7B59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C632-CF73-41B5-9A05-2B2191DA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40160" cy="1640160"/>
          </a:xfrm>
          <a:prstGeom prst="pie">
            <a:avLst/>
          </a:prstGeom>
          <a:solidFill>
            <a:srgbClr val="fef9f3">
              <a:alpha val="32000"/>
            </a:srgbClr>
          </a:solidFill>
          <a:ln cap="rnd" w="3240">
            <a:solidFill>
              <a:srgbClr val="d0c2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4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160" y="1055520"/>
            <a:ext cx="1125720" cy="1101960"/>
          </a:xfrm>
          <a:prstGeom prst="donut">
            <a:avLst>
              <a:gd name="adj" fmla="val 11828"/>
            </a:avLst>
          </a:prstGeom>
          <a:blipFill rotWithShape="0">
            <a:blip r:embed="rId3"/>
            <a:srcRect/>
            <a:stretch/>
          </a:blipFill>
          <a:ln cap="rnd" w="7200">
            <a:solidFill>
              <a:srgbClr val="c5b6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300" spc="-1" strike="noStrike">
                <a:solidFill>
                  <a:srgbClr val="5622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7400" indent="-22860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52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4a6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69F9-2F53-4E3E-93EF-603A4B62A156}" type="datetime">
              <a:rPr b="0" lang="en-US" sz="1200" spc="-1" strike="noStrike">
                <a:solidFill>
                  <a:srgbClr val="b4a688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4a6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D1CE-FE32-4832-8369-AF219E707B3A}" type="slidenum">
              <a:rPr b="0" lang="en-US" sz="1200" spc="-1" strike="noStrike">
                <a:solidFill>
                  <a:srgbClr val="b4a6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Овал 7"/>
          <p:cNvSpPr/>
          <p:nvPr/>
        </p:nvSpPr>
        <p:spPr>
          <a:xfrm>
            <a:off x="920880" y="1413000"/>
            <a:ext cx="210960" cy="21096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2160">
            <a:solidFill>
              <a:srgbClr val="2f8da4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17f92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        </a:t>
            </a: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муниципальное дошкольное образовательное учреждение</a:t>
            </a:r>
            <a:br>
              <a:rPr sz="1400"/>
            </a:b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endParaRPr b="0" lang="en-US" sz="14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6920" y="1126800"/>
            <a:ext cx="76345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Проект «</a:t>
            </a:r>
            <a:r>
              <a:rPr b="1" lang="ru-RU" sz="22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Веселый рюкзачок</a:t>
            </a:r>
            <a:r>
              <a:rPr b="1" lang="zh-CN" sz="22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200" spc="-1" strike="noStrike" u="sng">
                <a:solidFill>
                  <a:srgbClr val="341108"/>
                </a:solidFill>
                <a:uFillTx/>
                <a:latin typeface="Times New Roman"/>
                <a:ea typeface="Times New Roman"/>
              </a:rPr>
              <a:t>группа</a:t>
            </a:r>
            <a:r>
              <a:rPr b="0" lang="ru-RU" sz="2200" spc="-1" strike="noStrike" u="sng">
                <a:solidFill>
                  <a:srgbClr val="341108"/>
                </a:solidFill>
                <a:uFillTx/>
                <a:latin typeface="Times New Roman"/>
                <a:ea typeface="Times New Roman"/>
              </a:rPr>
              <a:t> компенсирующей направленности</a:t>
            </a:r>
            <a:r>
              <a:rPr b="0" lang="zh-CN" sz="2200" spc="-1" strike="noStrike" u="sng">
                <a:solidFill>
                  <a:srgbClr val="341108"/>
                </a:solidFill>
                <a:uFillTx/>
                <a:latin typeface="Times New Roman"/>
                <a:ea typeface="Times New Roman"/>
              </a:rPr>
              <a:t> № </a:t>
            </a:r>
            <a:r>
              <a:rPr b="0" lang="ru-RU" sz="2200" spc="-1" strike="noStrike" u="sng">
                <a:solidFill>
                  <a:srgbClr val="341108"/>
                </a:solidFill>
                <a:uFillTx/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2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воспитатели</a:t>
            </a:r>
            <a:r>
              <a:rPr b="0" lang="ru-RU" sz="22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:</a:t>
            </a:r>
            <a:r>
              <a:rPr b="0" lang="zh-CN" sz="22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Воронина Н.В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Титова И.Н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2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Тип проекта:</a:t>
            </a:r>
            <a:r>
              <a:rPr b="0" lang="ru-RU" sz="22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 u="sng">
                <a:solidFill>
                  <a:srgbClr val="341108"/>
                </a:solidFill>
                <a:uFillTx/>
                <a:latin typeface="Times New Roman"/>
                <a:ea typeface="Times New Roman"/>
              </a:rPr>
              <a:t>познавательно-исследовательский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2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Срок реализации:</a:t>
            </a:r>
            <a:r>
              <a:rPr b="0" lang="ru-RU" sz="22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 u="sng">
                <a:solidFill>
                  <a:srgbClr val="341108"/>
                </a:solidFill>
                <a:uFillTx/>
                <a:latin typeface="Times New Roman"/>
                <a:ea typeface="Times New Roman"/>
              </a:rPr>
              <a:t>26.09.22 - 31.10.22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" name="Рисунок 8" descr=""/>
          <p:cNvPicPr/>
          <p:nvPr/>
        </p:nvPicPr>
        <p:blipFill>
          <a:blip r:embed="rId3"/>
          <a:stretch/>
        </p:blipFill>
        <p:spPr>
          <a:xfrm>
            <a:off x="6743880" y="192240"/>
            <a:ext cx="2400120" cy="14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765440" y="4079880"/>
            <a:ext cx="4032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4960" y="276120"/>
            <a:ext cx="74995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562214"/>
                </a:solidFill>
                <a:latin typeface="Garamond"/>
              </a:rPr>
              <a:t>м</a:t>
            </a: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униципальное дошкольное образовательное учреждение</a:t>
            </a:r>
            <a:br>
              <a:rPr sz="1400"/>
            </a:b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endParaRPr b="0" lang="en-US" sz="1400" spc="-1" strike="noStrike">
              <a:solidFill>
                <a:srgbClr val="562214"/>
              </a:solidFill>
              <a:latin typeface="Gill Sans MT"/>
            </a:endParaRPr>
          </a:p>
        </p:txBody>
      </p:sp>
      <p:pic>
        <p:nvPicPr>
          <p:cNvPr id="92" name="Рисунок 8" descr=""/>
          <p:cNvPicPr/>
          <p:nvPr/>
        </p:nvPicPr>
        <p:blipFill>
          <a:blip r:embed="rId2"/>
          <a:stretch/>
        </p:blipFill>
        <p:spPr>
          <a:xfrm>
            <a:off x="7020000" y="117360"/>
            <a:ext cx="1946160" cy="1163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260000" y="1197000"/>
            <a:ext cx="7674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6. Регулярные представления продуктов детской деятельности (рисунки, поделки, аппликации), достижений детей (новые знания, эмоции, впечатления) на утреннем и вечернем кругах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4" name="Текст 8" descr=""/>
          <p:cNvPicPr/>
          <p:nvPr/>
        </p:nvPicPr>
        <p:blipFill>
          <a:blip r:embed="rId3"/>
          <a:stretch/>
        </p:blipFill>
        <p:spPr>
          <a:xfrm>
            <a:off x="1260360" y="2133720"/>
            <a:ext cx="3673440" cy="4105080"/>
          </a:xfrm>
          <a:prstGeom prst="rect">
            <a:avLst/>
          </a:prstGeom>
          <a:ln w="0">
            <a:noFill/>
          </a:ln>
        </p:spPr>
      </p:pic>
      <p:pic>
        <p:nvPicPr>
          <p:cNvPr id="95" name="Текст 8" descr=""/>
          <p:cNvPicPr/>
          <p:nvPr/>
        </p:nvPicPr>
        <p:blipFill>
          <a:blip r:embed="rId4"/>
          <a:stretch/>
        </p:blipFill>
        <p:spPr>
          <a:xfrm>
            <a:off x="4932360" y="2133720"/>
            <a:ext cx="3889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562214"/>
                </a:solidFill>
                <a:latin typeface="Garamond"/>
              </a:rPr>
              <a:t>м</a:t>
            </a: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униципальное дошкольное образовательное учреждение</a:t>
            </a:r>
            <a:br>
              <a:rPr sz="1400"/>
            </a:b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endParaRPr b="0" lang="en-US" sz="14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8720" y="1269720"/>
            <a:ext cx="7745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зультаты проекта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8" name="Рисунок 8" descr=""/>
          <p:cNvPicPr/>
          <p:nvPr/>
        </p:nvPicPr>
        <p:blipFill>
          <a:blip r:embed="rId2"/>
          <a:stretch/>
        </p:blipFill>
        <p:spPr>
          <a:xfrm>
            <a:off x="6877080" y="333360"/>
            <a:ext cx="1944720" cy="1163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254560" y="3927600"/>
            <a:ext cx="367992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17440" y="1774800"/>
            <a:ext cx="4356360" cy="4680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788000" y="1701720"/>
            <a:ext cx="410688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44480" y="27576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562214"/>
                </a:solidFill>
                <a:latin typeface="Garamond"/>
              </a:rPr>
              <a:t>м</a:t>
            </a: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униципальное дошкольное образовательное учреждение</a:t>
            </a:r>
            <a:br>
              <a:rPr sz="1400"/>
            </a:b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endParaRPr b="0" lang="en-US" sz="1400" spc="-1" strike="noStrike">
              <a:solidFill>
                <a:srgbClr val="562214"/>
              </a:solidFill>
              <a:latin typeface="Gill Sans MT"/>
            </a:endParaRPr>
          </a:p>
        </p:txBody>
      </p:sp>
      <p:pic>
        <p:nvPicPr>
          <p:cNvPr id="103" name="Рисунок 8" descr=""/>
          <p:cNvPicPr/>
          <p:nvPr/>
        </p:nvPicPr>
        <p:blipFill>
          <a:blip r:embed="rId2"/>
          <a:stretch/>
        </p:blipFill>
        <p:spPr>
          <a:xfrm>
            <a:off x="7199280" y="189000"/>
            <a:ext cx="1944720" cy="1163520"/>
          </a:xfrm>
          <a:prstGeom prst="rect">
            <a:avLst/>
          </a:prstGeom>
          <a:ln w="0">
            <a:noFill/>
          </a:ln>
        </p:spPr>
      </p:pic>
      <p:pic>
        <p:nvPicPr>
          <p:cNvPr id="104" name="Текст 8" descr=""/>
          <p:cNvPicPr/>
          <p:nvPr/>
        </p:nvPicPr>
        <p:blipFill>
          <a:blip r:embed="rId3"/>
          <a:stretch/>
        </p:blipFill>
        <p:spPr>
          <a:xfrm>
            <a:off x="1190520" y="1341360"/>
            <a:ext cx="3886200" cy="5112000"/>
          </a:xfrm>
          <a:prstGeom prst="rect">
            <a:avLst/>
          </a:prstGeom>
          <a:ln w="0">
            <a:noFill/>
          </a:ln>
        </p:spPr>
      </p:pic>
      <p:pic>
        <p:nvPicPr>
          <p:cNvPr id="105" name="Текст 8" descr=""/>
          <p:cNvPicPr/>
          <p:nvPr/>
        </p:nvPicPr>
        <p:blipFill>
          <a:blip r:embed="rId4"/>
          <a:stretch/>
        </p:blipFill>
        <p:spPr>
          <a:xfrm>
            <a:off x="5148360" y="1343160"/>
            <a:ext cx="3674880" cy="2735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148360" y="3933720"/>
            <a:ext cx="3674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Овал 7"/>
          <p:cNvSpPr/>
          <p:nvPr/>
        </p:nvSpPr>
        <p:spPr>
          <a:xfrm>
            <a:off x="920880" y="1413000"/>
            <a:ext cx="210960" cy="21096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2160">
            <a:solidFill>
              <a:srgbClr val="2f8da4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17f92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        </a:t>
            </a: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муниципальное дошкольное образовательное учреждение</a:t>
            </a:r>
            <a:br>
              <a:rPr sz="1400"/>
            </a:b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endParaRPr b="0" lang="en-US" sz="1400" spc="-1" strike="noStrike">
              <a:solidFill>
                <a:srgbClr val="562214"/>
              </a:solidFill>
              <a:latin typeface="Gill Sans MT"/>
            </a:endParaRPr>
          </a:p>
        </p:txBody>
      </p:sp>
      <p:pic>
        <p:nvPicPr>
          <p:cNvPr id="110" name="Рисунок 8" descr=""/>
          <p:cNvPicPr/>
          <p:nvPr/>
        </p:nvPicPr>
        <p:blipFill>
          <a:blip r:embed="rId3"/>
          <a:stretch/>
        </p:blipFill>
        <p:spPr>
          <a:xfrm>
            <a:off x="6743880" y="192240"/>
            <a:ext cx="2400120" cy="14364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411280" y="2781360"/>
            <a:ext cx="48974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600" spc="-1" strike="noStrike">
                <a:solidFill>
                  <a:srgbClr val="341108"/>
                </a:solidFill>
                <a:latin typeface="Garamond"/>
              </a:rPr>
              <a:t>Спасибо за внимание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3440" y="836280"/>
            <a:ext cx="6191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562214"/>
                </a:solidFill>
                <a:latin typeface="Garamond"/>
              </a:rPr>
              <a:t>  </a:t>
            </a:r>
            <a:r>
              <a:rPr b="0" lang="zh-CN" sz="900" spc="-1" strike="noStrike">
                <a:solidFill>
                  <a:srgbClr val="562214"/>
                </a:solidFill>
                <a:latin typeface="Garamond"/>
              </a:rPr>
              <a:t>муниципальное дошкольное образовательное учреждение</a:t>
            </a:r>
            <a:br>
              <a:rPr sz="900"/>
            </a:br>
            <a:r>
              <a:rPr b="0" lang="zh-CN" sz="9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6280" y="1413000"/>
            <a:ext cx="7161120" cy="50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82440" indent="0" algn="ctr">
              <a:lnSpc>
                <a:spcPts val="1672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Актуальность проект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 algn="just">
              <a:lnSpc>
                <a:spcPts val="1672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" name="Рисунок 8" descr=""/>
          <p:cNvPicPr/>
          <p:nvPr/>
        </p:nvPicPr>
        <p:blipFill>
          <a:blip r:embed="rId2"/>
          <a:stretch/>
        </p:blipFill>
        <p:spPr>
          <a:xfrm>
            <a:off x="6743880" y="192240"/>
            <a:ext cx="2400120" cy="1436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67160" y="31082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60360" y="1917720"/>
            <a:ext cx="741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еведческая деятельность с детьми дошкольного возраста имеет особое значение в формировании у них любви, чувства причастности к своей стране, малой родине и гордости за ее достижения. Историческое, культурное, природно-экологическое своеобразие родного края - это огромное богатство, к которому необходимо приобщить воспитанников, научить правильно им распоряжаться, сохраняя и приумножая его. Особенности восприятия ребенка дошкольного возраста таковы, что его ежедневное окружение - семья, детский сад, улица, микрорайон, город - имеет колоссальное воздействие на формирование личности, наполняет сознание самими яркими и запоминающимися впечатлениями. Поэтому ознакомление с родным краем выступает, как основополагающее направление образовательной деятельности по приобщению к социокультурным ценностям и патриотическому воспит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Овал 7"/>
          <p:cNvSpPr/>
          <p:nvPr/>
        </p:nvSpPr>
        <p:spPr>
          <a:xfrm>
            <a:off x="920880" y="1413000"/>
            <a:ext cx="210960" cy="21096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2160">
            <a:solidFill>
              <a:srgbClr val="2f8da4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17f92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        </a:t>
            </a: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муниципальное дошкольное образовательное учреждение</a:t>
            </a:r>
            <a:br>
              <a:rPr sz="1400"/>
            </a:b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endParaRPr b="0" lang="en-US" sz="14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404720" y="1603440"/>
            <a:ext cx="740556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Цель проекта:</a:t>
            </a:r>
            <a:r>
              <a:rPr b="1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формирование у детей дошкольного возраста целостного представления о родном крае</a:t>
            </a:r>
            <a:r>
              <a:rPr b="0" lang="zh-CN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через знакомство с его культурными, природными, историческими особенностями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Задачи:</a:t>
            </a:r>
            <a:r>
              <a:rPr b="1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. Расширять представления детей о природе, истории, культуре г. Ярославля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. Продолжать формировать представления о себе, своей семье, объектах окружающего мира, как неотъемлемой части родного края (я - Ярославец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. Развивать любознательность, познавательный интерес и активность детей к изучению природы, истории и культуры Ярославля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4.</a:t>
            </a:r>
            <a:r>
              <a:rPr b="0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 Создавать условия для отражения детьми своих впечатлений о малой родине в продуктивной деятельности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5.</a:t>
            </a:r>
            <a:r>
              <a:rPr b="0" lang="ru-RU" sz="1800" spc="-1" strike="noStrike">
                <a:solidFill>
                  <a:srgbClr val="341108"/>
                </a:solidFill>
                <a:latin typeface="Times New Roman"/>
                <a:ea typeface="Times New Roman"/>
              </a:rPr>
              <a:t> Поддерживать самостоятельность и инициативу детей в изучении особенностей родного города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" name="Рисунок 8" descr=""/>
          <p:cNvPicPr/>
          <p:nvPr/>
        </p:nvPicPr>
        <p:blipFill>
          <a:blip r:embed="rId3"/>
          <a:stretch/>
        </p:blipFill>
        <p:spPr>
          <a:xfrm>
            <a:off x="6743880" y="192240"/>
            <a:ext cx="2400120" cy="14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Овал 7"/>
          <p:cNvSpPr/>
          <p:nvPr/>
        </p:nvSpPr>
        <p:spPr>
          <a:xfrm>
            <a:off x="920880" y="1413000"/>
            <a:ext cx="210960" cy="21096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2160">
            <a:solidFill>
              <a:srgbClr val="2f8da4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17f92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        </a:t>
            </a: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муниципальное дошкольное образовательное учреждение</a:t>
            </a:r>
            <a:br>
              <a:rPr sz="1400"/>
            </a:b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endParaRPr b="0" lang="en-US" sz="14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05080" y="1341360"/>
            <a:ext cx="7408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341108"/>
                </a:solidFill>
                <a:latin typeface="Garamond"/>
              </a:rPr>
              <a:t>Этапы реализации проекта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.09.22 - 30.09.22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еседа с детьми и выделение вариантов группового проекта в рамках указанной темы, информирование и привлечение родителей к участию в  проекте, планирование действий по реализации проекта, определение  методов и приемов работы с детьми, сбор необходимой  информации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.10.22 - 21.10.2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: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мероприятий с воспиатнниками по реализации проекта, сбор материалов (рисунков, поделок, фотографий), подготовленных детьми и родителями по теме проекта, обсуждение и определение итогового продукта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ы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.10.22 - 31.10.2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проекта, обсуждение и обобщение с детьми результатов деятельности, изготовление и оформление итогового продукта, презентация проекта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 продукт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ное совместно с детьми дидактическое пособие «Веселый рюкзачок»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" name="Рисунок 8" descr=""/>
          <p:cNvPicPr/>
          <p:nvPr/>
        </p:nvPicPr>
        <p:blipFill>
          <a:blip r:embed="rId3"/>
          <a:stretch/>
        </p:blipFill>
        <p:spPr>
          <a:xfrm>
            <a:off x="6743880" y="192240"/>
            <a:ext cx="2400120" cy="14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576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562214"/>
                </a:solidFill>
                <a:latin typeface="Garamond"/>
              </a:rPr>
              <a:t>м</a:t>
            </a: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униципальное дошкольное образовательное учреждение</a:t>
            </a:r>
            <a:br>
              <a:rPr sz="1400"/>
            </a:b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endParaRPr b="0" lang="en-US" sz="1400" spc="-1" strike="noStrike">
              <a:solidFill>
                <a:srgbClr val="562214"/>
              </a:solidFill>
              <a:latin typeface="Gill Sans MT"/>
            </a:endParaRPr>
          </a:p>
        </p:txBody>
      </p:sp>
      <p:pic>
        <p:nvPicPr>
          <p:cNvPr id="68" name="Рисунок 8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1944720" cy="1163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260000" y="1054080"/>
            <a:ext cx="76741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приятия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. Рассматривание карты мира и беседа по ней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Цель: ознакомление с картой мира, формирование представлений о многообразии нашей страны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0" name="Текст 8" descr=""/>
          <p:cNvPicPr/>
          <p:nvPr/>
        </p:nvPicPr>
        <p:blipFill>
          <a:blip r:embed="rId3"/>
          <a:stretch/>
        </p:blipFill>
        <p:spPr>
          <a:xfrm>
            <a:off x="1332000" y="2421000"/>
            <a:ext cx="3600360" cy="3962160"/>
          </a:xfrm>
          <a:prstGeom prst="rect">
            <a:avLst/>
          </a:prstGeom>
          <a:ln w="0">
            <a:noFill/>
          </a:ln>
        </p:spPr>
      </p:pic>
      <p:sp>
        <p:nvSpPr>
          <p:cNvPr id="71" name="Овал 7"/>
          <p:cNvSpPr/>
          <p:nvPr/>
        </p:nvSpPr>
        <p:spPr>
          <a:xfrm>
            <a:off x="920880" y="1413000"/>
            <a:ext cx="210960" cy="210960"/>
          </a:xfrm>
          <a:prstGeom prst="ellipse">
            <a:avLst/>
          </a:prstGeom>
          <a:blipFill rotWithShape="0">
            <a:blip r:embed="rId4"/>
            <a:srcRect/>
            <a:stretch/>
          </a:blipFill>
          <a:ln cap="rnd" w="2160">
            <a:solidFill>
              <a:srgbClr val="2f8da4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17f92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Текст 8" descr=""/>
          <p:cNvPicPr/>
          <p:nvPr/>
        </p:nvPicPr>
        <p:blipFill>
          <a:blip r:embed="rId5"/>
          <a:stretch/>
        </p:blipFill>
        <p:spPr>
          <a:xfrm>
            <a:off x="5079960" y="2421000"/>
            <a:ext cx="35974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 </a:t>
            </a: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муниципальное дошкольное образовательное учреждение</a:t>
            </a:r>
            <a:br>
              <a:rPr sz="1400"/>
            </a:br>
            <a:r>
              <a:rPr b="0" lang="en-US" sz="14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562214"/>
              </a:solidFill>
              <a:latin typeface="Gill Sans MT"/>
            </a:endParaRPr>
          </a:p>
        </p:txBody>
      </p:sp>
      <p:pic>
        <p:nvPicPr>
          <p:cNvPr id="75" name="Рисунок 8" descr=""/>
          <p:cNvPicPr/>
          <p:nvPr/>
        </p:nvPicPr>
        <p:blipFill>
          <a:blip r:embed="rId2"/>
          <a:stretch/>
        </p:blipFill>
        <p:spPr>
          <a:xfrm>
            <a:off x="6588000" y="333360"/>
            <a:ext cx="1946520" cy="1163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260000" y="1447560"/>
            <a:ext cx="76741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. Рассматривание  карты Ярославской област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Цель: ознакомление  с картой Ярославской области, формирование представлений о многообразии городов нашей области, в том числе родном городе Ярославле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7" name="Текст 8" descr=""/>
          <p:cNvPicPr/>
          <p:nvPr/>
        </p:nvPicPr>
        <p:blipFill>
          <a:blip r:embed="rId3"/>
          <a:stretch/>
        </p:blipFill>
        <p:spPr>
          <a:xfrm>
            <a:off x="1116000" y="2637000"/>
            <a:ext cx="7632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562214"/>
                </a:solidFill>
                <a:latin typeface="Garamond"/>
              </a:rPr>
              <a:t>м</a:t>
            </a: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униципальное дошкольное образовательное учреждение</a:t>
            </a:r>
            <a:br>
              <a:rPr sz="1400"/>
            </a:b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endParaRPr b="0" lang="en-US" sz="14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8200" y="1447560"/>
            <a:ext cx="738504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3. Беседа и раскрашивание «Сказочные герои Ярославской области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: формирование представлений о связи сказочных героев и столиц некоторых городов Ярославской области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0" name="Рисунок 8" descr=""/>
          <p:cNvPicPr/>
          <p:nvPr/>
        </p:nvPicPr>
        <p:blipFill>
          <a:blip r:embed="rId2"/>
          <a:stretch/>
        </p:blipFill>
        <p:spPr>
          <a:xfrm>
            <a:off x="6950160" y="262080"/>
            <a:ext cx="1944720" cy="1079280"/>
          </a:xfrm>
          <a:prstGeom prst="rect">
            <a:avLst/>
          </a:prstGeom>
          <a:ln w="0">
            <a:noFill/>
          </a:ln>
        </p:spPr>
      </p:pic>
      <p:pic>
        <p:nvPicPr>
          <p:cNvPr id="81" name="Текст 8" descr=""/>
          <p:cNvPicPr/>
          <p:nvPr/>
        </p:nvPicPr>
        <p:blipFill>
          <a:blip r:embed="rId3"/>
          <a:stretch/>
        </p:blipFill>
        <p:spPr>
          <a:xfrm>
            <a:off x="1336680" y="2421000"/>
            <a:ext cx="3672000" cy="396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151600" y="2494080"/>
            <a:ext cx="3525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562214"/>
                </a:solidFill>
                <a:latin typeface="Garamond"/>
              </a:rPr>
              <a:t>м</a:t>
            </a: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униципальное дошкольное образовательное учреждение</a:t>
            </a:r>
            <a:br>
              <a:rPr sz="1400"/>
            </a:b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endParaRPr b="0" lang="en-US" sz="14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38200" y="1447920"/>
            <a:ext cx="378144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4. Рассматривание сборников открыток город Ярославль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: ознакомление с достопримечательностями родного города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5" name="Рисунок 8" descr=""/>
          <p:cNvPicPr/>
          <p:nvPr/>
        </p:nvPicPr>
        <p:blipFill>
          <a:blip r:embed="rId2"/>
          <a:stretch/>
        </p:blipFill>
        <p:spPr>
          <a:xfrm>
            <a:off x="6948360" y="189000"/>
            <a:ext cx="1944720" cy="1163520"/>
          </a:xfrm>
          <a:prstGeom prst="rect">
            <a:avLst/>
          </a:prstGeom>
          <a:ln w="0">
            <a:noFill/>
          </a:ln>
        </p:spPr>
      </p:pic>
      <p:pic>
        <p:nvPicPr>
          <p:cNvPr id="86" name="Текст 8" descr=""/>
          <p:cNvPicPr/>
          <p:nvPr/>
        </p:nvPicPr>
        <p:blipFill>
          <a:blip r:embed="rId3"/>
          <a:stretch/>
        </p:blipFill>
        <p:spPr>
          <a:xfrm>
            <a:off x="5149800" y="1558800"/>
            <a:ext cx="367200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576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562214"/>
                </a:solidFill>
                <a:latin typeface="Garamond"/>
              </a:rPr>
              <a:t>м</a:t>
            </a: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униципальное дошкольное образовательное учреждение</a:t>
            </a:r>
            <a:br>
              <a:rPr sz="1400"/>
            </a:br>
            <a:r>
              <a:rPr b="0" lang="zh-CN" sz="1400" spc="-1" strike="noStrike">
                <a:solidFill>
                  <a:srgbClr val="562214"/>
                </a:solidFill>
                <a:latin typeface="Garamond"/>
              </a:rPr>
              <a:t>                                          «Детский сад № 20»</a:t>
            </a:r>
            <a:endParaRPr b="0" lang="en-US" sz="1400" spc="-1" strike="noStrike">
              <a:solidFill>
                <a:srgbClr val="562214"/>
              </a:solidFill>
              <a:latin typeface="Gill Sans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36760" y="1196640"/>
            <a:ext cx="709776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5. Настольная игра «Наша родина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: расширение представлений детей о родной стране, ее культуре, народах, праздниках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9" name="Рисунок 8" descr=""/>
          <p:cNvPicPr/>
          <p:nvPr/>
        </p:nvPicPr>
        <p:blipFill>
          <a:blip r:embed="rId2"/>
          <a:stretch/>
        </p:blipFill>
        <p:spPr>
          <a:xfrm>
            <a:off x="6877080" y="333360"/>
            <a:ext cx="1944720" cy="1163520"/>
          </a:xfrm>
          <a:prstGeom prst="rect">
            <a:avLst/>
          </a:prstGeom>
          <a:ln w="0">
            <a:noFill/>
          </a:ln>
        </p:spPr>
      </p:pic>
      <p:pic>
        <p:nvPicPr>
          <p:cNvPr id="90" name="Текст 8" descr=""/>
          <p:cNvPicPr/>
          <p:nvPr/>
        </p:nvPicPr>
        <p:blipFill>
          <a:blip r:embed="rId3"/>
          <a:stretch/>
        </p:blipFill>
        <p:spPr>
          <a:xfrm>
            <a:off x="2557440" y="2133720"/>
            <a:ext cx="4680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11T14:12:00Z</dcterms:created>
  <dc:creator>2017</dc:creator>
  <dc:description/>
  <dc:language>en-US</dc:language>
  <cp:lastModifiedBy>2017</cp:lastModifiedBy>
  <dcterms:modified xsi:type="dcterms:W3CDTF">2023-04-11T15:06:40Z</dcterms:modified>
  <cp:revision>5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5247</vt:lpwstr>
  </property>
</Properties>
</file>