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304-B82D-4DBF-8F26-397572E6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2F7-CE57-4866-A7C2-641BC96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B27-568A-453A-87B9-D3E4A29C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504-4326-4FCA-BEA0-486604A9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A35-CBEF-4EBE-AA0B-C46A9FD0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0426-8605-4EAE-87DD-99CDE30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6F8-29DF-459B-B48B-44CBFF5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E1AD-9B09-4E61-827A-B044CCE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C66-3A67-4AC9-B206-3AD77488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5A81-F1C4-4AB2-B94B-775A40D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6F8-812B-490F-97E4-EE79A2E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63D-6773-44EF-A2C4-29DCF44E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CF84-B198-48AF-9F1F-8F3A3D1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D023-8643-4958-81BD-2FF0259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4469-C8A4-404E-BD19-040AA78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B1A-4C70-43F6-A716-689DC6C5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202-CAEA-4947-A0AD-E64BFBDE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18A-5545-4CAA-9CE4-B5263ED3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6DB-61AD-40EE-99F4-091B0527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B62-D1AA-4FCA-A665-6D735504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CC3-CDFA-4B8B-9A27-04A9FAA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7D6-5FFC-418F-8A53-7A56303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97A-3964-464F-8575-CEE92D6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44-3012-4267-A70E-48F6B43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23A-A8B6-4CA5-83B0-7508E040CC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A40-A198-45DB-A3C7-7FCA4759850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сихология общения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357360" y="5143320"/>
            <a:ext cx="5335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Учитель коррекционно-развивающих занятий                     Капора Т.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атегии общен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крытое – закрытое общ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нологическое – диалогическо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олевое (исходя из социальной роли) – личностное (общение  “по душам”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онтакт масок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митив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льно-ролев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ховное, межличност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нипулятивн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етское общ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иции в общении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желательная позиция принятия собесед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йтральная пози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раждебная позиция  непринятия собесед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, или “общение сверху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ние на равных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чинение, или позиция “снизу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мотивы общ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печатлений (познавательный мотив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 активной деятельности (деловой мотив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требность в признании и поддержке (личностный мотив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ая периодизация развития лич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моционально-непосредственное общение (от рождения до года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но-манипулятивная деятельность (от года до 3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южетно-ролевая игра (от 3 до 6-7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ебно-познавательная деятельность (от 6-7 до 10-11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фессионально-личностное общение (от 10-11 до 14-15 лет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рально-личностное общение (от 14-15 до 16-17 ле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ложный процесс установления и развития контактов между людьми, необходимый для совместной деятельности и включающий в себя обмен информацией, выработку единой стратегии взаимодействия, восприятие и понимание другого челове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ние – это сложный процесс, в который входят три составляющие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муника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(обмен информацией между людь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нтерак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рганизация взаимодействия между индивида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ерцеп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оцесс восприятия друг друга партнерами по общению и установление взаимопони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оммуника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обмен информацией) характеризуетс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м устанавливать психологический контак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ом особенностей коммуникативного воздейств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декватностью ситуации общен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ффективностью использования вербальных и невербальных средств 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Интерак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взаимодействие) характериз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ланированностью обще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стностью принятых  решени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ким распределением обязанностей в совместной деятельност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лым разрешением 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Перцепция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процесс восприятия, способствующий взаимопониманию участников общения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осознает себя через другого человека посредством определенных механизмов межличностной перцепции. К ним относя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и понимание людьми друг друг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самого себя в процессе общ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нозирование поведения партнера по общен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ства общ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ербальны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евербаль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j0216724"/>
          <p:cNvPicPr/>
          <p:nvPr/>
        </p:nvPicPr>
        <p:blipFill>
          <a:blip r:embed="rId1"/>
          <a:stretch/>
        </p:blipFill>
        <p:spPr>
          <a:xfrm>
            <a:off x="6443640" y="2421000"/>
            <a:ext cx="2122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ербальная коммуник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осуществляется посредством речи. Речь является универсальным средством коммуникации, так как при передаче информации с ее помощью передается смысл сообщен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66080" y="774360"/>
            <a:ext cx="776052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зуальные виды общения – это жесты, мимика, позы, кожные реакции, пространственно-временная организация общения, контакт гла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устическая система: тембр голоса, интонация, громкость, а также включение в речь пауз и других средств, таких как покашливание, смех, плач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тильная система ( прикосновения, пожатие руки, объятия, поцелуи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стема запахов (приятные и неприятные запахи окружающей среды; искусственные и естественные запахи человека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28T15:08:09Z</dcterms:modified>
  <cp:revision>13</cp:revision>
  <dc:subject/>
  <dc:title>PowerPoint Presentation</dc:title>
</cp:coreProperties>
</file>