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376-FF83-49E4-8DC6-64A1023C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F81-FF39-49DA-B977-BFDA4BA7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450-28D8-423D-946E-91DC4C92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AD0-F77A-40D8-98E7-61A62A89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C8B8-A1B6-4050-BE27-96BFBA02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D99C-2D5B-42A8-AAC0-CF42D44C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E773-2320-4408-8C14-DF78425E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3AE7-DB9E-440B-A6BC-96DAF712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B3CD-E316-48B6-9134-C336D589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3417-16C1-4F24-8ABD-93D907EE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1369-8364-4711-B23A-087712E7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536-452D-4D80-817A-C883BDF1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95EE-2312-478E-B56A-915ABAF1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91F7-2FF7-48AD-8A08-A2F37391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3EFA-08DF-47F2-A15A-00A12BBD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E188-EB9E-482F-9E7C-FBE4DB65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31D8-D1C1-4437-B4BD-7E1B619E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B23-39D8-4493-9206-BE41D1F4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737-93A6-4B4B-8BCD-9C4F9452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F39-5E6D-435C-90B1-6A1ACE8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127-A91A-462C-A72C-6B71DDBC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3AA-F7A4-48FE-BED5-49D06CA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DCB-661A-4026-9589-D81CD03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6AE-AAD3-4F89-A277-67FCFB3B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BC0D-429B-46BC-B70F-616738A6977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3786-2A8D-4CDA-BBFD-502387D7B35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сихология общения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357360" y="5143320"/>
            <a:ext cx="53355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Учитель коррекционно-развивающих занятий                     Капора Т.А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атегии общени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крытое – закрытое общ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нологическое – диалогическо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олевое (исходя из социальной роли) – личностное (общение  “по душам”)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общ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онтакт масок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митивн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ально-ролев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ов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уховное, межличностн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нипулятивн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етск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зиции в общении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желательная позиция принятия собеседн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йтральная позиц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раждебная позиция  непринятия собеседн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инирование, или “общение сверху”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ние на равных”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чинение, или позиция “снизу”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мотивы обще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требность впечатлений (познавательный мотив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требность в активной деятельности (деловой мотив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требность в признании и поддержке (личностный мотив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растная периодизация развития лич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моционально-непосредственное общение (от рождения до года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но-манипулятивная деятельность (от года до 3 лет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южетно-ролевая игра (от 3 до 6-7 лет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ебно-познавательная деятельность (от 6-7 до 10-11 лет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фессионально-личностное общение (от 10-11 до 14-15 лет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рально-личностное общение (от 14-15 до 16-17 лет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ложный процесс установления и развития контактов между людьми, необходимый для совместной деятельности и включающий в себя обмен информацией, выработку единой стратегии взаимодействия, восприятие и понимание другого челове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щение – это сложный процесс, в который входят три составляющие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Коммуника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бщения (обмен информацией между людь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Интерак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организация взаимодействия между индивида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ерцеп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процесс восприятия друг друга партнерами по общению и установление взаимопонима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Коммуникативная сторон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(обмен информацией) характеризуется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нием устанавливать психологический контакт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том особенностей коммуникативного воздейств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декватностью ситуации общен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ффективностью использования вербальных и невербальных средств общ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Интерактивная сторон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(взаимодействие) характеризу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ланированностью общей деятель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стностью принятых  решени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тким распределением обязанностей в совместной деятельност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лым разрешением конфлик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Перцепция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– процесс восприятия, способствующий взаимопониманию участников общения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осознает себя через другого человека посредством определенных механизмов межличностной перцепции. К ним относя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и понимание людьми друг друг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самого себя в процессе общ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нозирование поведения партнера по общени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ства обще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ербальны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Невербальны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j0216724"/>
          <p:cNvPicPr/>
          <p:nvPr/>
        </p:nvPicPr>
        <p:blipFill>
          <a:blip r:embed="rId1"/>
          <a:stretch/>
        </p:blipFill>
        <p:spPr>
          <a:xfrm>
            <a:off x="6443640" y="2421000"/>
            <a:ext cx="2122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ербальная коммуник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бщения осуществляется посредством речи. Речь является универсальным средством коммуникации, так как при передаче информации с ее помощью передается смысл сообщен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66080" y="774360"/>
            <a:ext cx="7760520" cy="113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е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84596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изуальные виды общения – это жесты, мимика, позы, кожные реакции, пространственно-временная организация общения, контакт глаз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устическая система: тембр голоса, интонация, громкость, а также включение в речь пауз и других средств, таких как покашливание, смех, плач и др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тильная система ( прикосновения, пожатие руки, объятия, поцелуи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стема запахов (приятные и неприятные запахи окружающей среды; искусственные и естественные запахи человека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28T15:08:09Z</dcterms:modified>
  <cp:revision>13</cp:revision>
  <dc:subject/>
  <dc:title>PowerPoint Presentation</dc:title>
</cp:coreProperties>
</file>