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65AB-97F1-4B96-9C04-0FA6DDA65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6C6B-55BA-4163-8B7E-633F2662C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6D43-019E-4A9F-993E-150C82783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E8A9-3B66-40C5-8BEA-2A6232550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673E9-A582-4B8E-84B1-A9955794B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8F307-328A-4692-B8F1-6EAA00EE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28AD-3EEA-490A-9FC5-0BF2053A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133F-BB93-422E-B2A7-CED4A6EA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9313-E7C0-45A4-A940-706B66AD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F8A8-C17B-4AFF-AF9A-659DA014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1791-29CB-4BD9-A0DA-05B63675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9459-6CC2-4155-A895-26839FCA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0F06-4F32-4B9E-893D-4AF10269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A8EF-E899-4A11-A012-42A23722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54BCA-D430-4E67-8B31-5E11453E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95D1-D222-4A01-8A68-C28B820C5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BA8D-0E97-4E3A-99A5-2345CCEFD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BAE08-94A8-4464-AD61-738AD23E3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F3DFA-790F-4ED4-B45C-BFEB98EF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723D1-9C9A-45FA-980C-72BC2C7D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3F518-F09D-4255-8F97-CDE8A554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734B4-0CE4-4CBF-89F9-90051145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761A-FA56-473B-A0F7-668B6C8E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4DF86-4713-4666-8FF0-F84B746F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24D98-C1FE-441F-AE5A-70D47BEF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5916B-1BD3-42FB-8CDE-5CF1A1BA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E2CD5-056B-4597-9D49-57EF5D5E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ABBBC-30BF-4EF2-8F45-1E837B24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5B4D0-EBF8-499F-8A16-B81BACA6A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4E462-FA23-42B4-B69F-00B6AF5C3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426A-5C86-4655-AED2-2CAC46BA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54C2-A6BB-4598-B96E-B0C106BE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48DA-546C-4765-9E93-CF247CF4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9C36-81CB-4F87-9341-DF6D15FB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3F4A-82E2-46FA-B449-0C9269CE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E3FD-DE48-446F-B55F-E280E48D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Calibri"/>
                <a:ea typeface="Arial"/>
              </a:rPr>
              <a:t>Образец заголовка</a:t>
            </a:r>
            <a:endParaRPr b="0" lang="ru-RU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f5f5f5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f5f5f5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f5f5f5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1779795A-D726-4845-B94A-706FBCFADBEF}" type="slidenum">
              <a:rPr b="0" lang="ru-RU" sz="1200" spc="-1" strike="noStrike">
                <a:solidFill>
                  <a:srgbClr val="f5f5f5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2f2f2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2f2f2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f2f2f2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2f2f2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f2f2f2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2f2f2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f2f2f2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2f2f2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f2f2f2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2f2f2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f2f2f2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2f2f2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Calibri"/>
                <a:ea typeface="Arial"/>
              </a:rPr>
              <a:t>Образец заголовка</a:t>
            </a:r>
            <a:endParaRPr b="0" lang="ru-RU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2f2f2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2f2f2"/>
                </a:solidFill>
                <a:latin typeface="Calibri"/>
                <a:ea typeface="Arial"/>
              </a:rPr>
              <a:t>Образец текста</a:t>
            </a:r>
            <a:endParaRPr b="0" lang="ru-RU" sz="2800" spc="-1" strike="noStrike">
              <a:solidFill>
                <a:srgbClr val="f2f2f2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2f2f2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f2f2f2"/>
                </a:solidFill>
                <a:latin typeface="Calibri"/>
                <a:ea typeface="Arial"/>
              </a:rPr>
              <a:t>Второй уровень</a:t>
            </a:r>
            <a:endParaRPr b="0" lang="ru-RU" sz="2400" spc="-1" strike="noStrike">
              <a:solidFill>
                <a:srgbClr val="f2f2f2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2f2f2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2f2f2"/>
                </a:solidFill>
                <a:latin typeface="Calibri"/>
                <a:ea typeface="Arial"/>
              </a:rPr>
              <a:t>Третий уровень</a:t>
            </a:r>
            <a:endParaRPr b="0" lang="ru-RU" sz="2000" spc="-1" strike="noStrike">
              <a:solidFill>
                <a:srgbClr val="f2f2f2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2f2f2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  <a:ea typeface="Arial"/>
              </a:rPr>
              <a:t>Четвертый уровень</a:t>
            </a: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2f2f2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  <a:ea typeface="Arial"/>
              </a:rPr>
              <a:t>Пятый уровень</a:t>
            </a: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2f2f2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2f2f2"/>
                </a:solidFill>
                <a:latin typeface="Calibri"/>
                <a:ea typeface="Arial"/>
              </a:rPr>
              <a:t>Образец текста</a:t>
            </a:r>
            <a:endParaRPr b="0" lang="ru-RU" sz="2800" spc="-1" strike="noStrike">
              <a:solidFill>
                <a:srgbClr val="f2f2f2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2f2f2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f2f2f2"/>
                </a:solidFill>
                <a:latin typeface="Calibri"/>
                <a:ea typeface="Arial"/>
              </a:rPr>
              <a:t>Второй уровень</a:t>
            </a:r>
            <a:endParaRPr b="0" lang="ru-RU" sz="2400" spc="-1" strike="noStrike">
              <a:solidFill>
                <a:srgbClr val="f2f2f2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2f2f2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2f2f2"/>
                </a:solidFill>
                <a:latin typeface="Calibri"/>
                <a:ea typeface="Arial"/>
              </a:rPr>
              <a:t>Третий уровень</a:t>
            </a:r>
            <a:endParaRPr b="0" lang="ru-RU" sz="2000" spc="-1" strike="noStrike">
              <a:solidFill>
                <a:srgbClr val="f2f2f2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2f2f2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  <a:ea typeface="Arial"/>
              </a:rPr>
              <a:t>Четвертый уровень</a:t>
            </a: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2f2f2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  <a:ea typeface="Arial"/>
              </a:rPr>
              <a:t>Пятый уровень</a:t>
            </a: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f5f5f5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f5f5f5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f5f5f5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000CCD11-F9E8-4330-9D8A-66C07FBE7288}" type="slidenum">
              <a:rPr b="0" lang="ru-RU" sz="1200" spc="-1" strike="noStrike">
                <a:solidFill>
                  <a:srgbClr val="f5f5f5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Calibri"/>
                <a:ea typeface="Arial"/>
              </a:rPr>
              <a:t>Образец заголовка</a:t>
            </a:r>
            <a:endParaRPr b="0" lang="ru-RU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2f2f2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2f2f2"/>
                </a:solidFill>
                <a:latin typeface="Calibri"/>
                <a:ea typeface="Arial"/>
              </a:rPr>
              <a:t>Образец текста</a:t>
            </a: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2f2f2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f2f2f2"/>
                </a:solidFill>
                <a:latin typeface="Calibri"/>
                <a:ea typeface="Arial"/>
              </a:rPr>
              <a:t>Второй уровень</a:t>
            </a:r>
            <a:endParaRPr b="0" lang="ru-RU" sz="2800" spc="-1" strike="noStrike">
              <a:solidFill>
                <a:srgbClr val="f2f2f2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2f2f2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2f2f2"/>
                </a:solidFill>
                <a:latin typeface="Calibri"/>
                <a:ea typeface="Arial"/>
              </a:rPr>
              <a:t>Третий уровень</a:t>
            </a:r>
            <a:endParaRPr b="0" lang="ru-RU" sz="2400" spc="-1" strike="noStrike">
              <a:solidFill>
                <a:srgbClr val="f2f2f2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2f2f2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f2f2f2"/>
                </a:solidFill>
                <a:latin typeface="Calibri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f2f2f2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2f2f2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f2f2f2"/>
                </a:solidFill>
                <a:latin typeface="Calibri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f5f5f5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f5f5f5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f5f5f5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9017B9AF-6314-44D6-8FA3-01E0C37E4563}" type="slidenum">
              <a:rPr b="0" lang="ru-RU" sz="1200" spc="-1" strike="noStrike">
                <a:solidFill>
                  <a:srgbClr val="f5f5f5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72;&#1088;&#1090;&#1080;&#1085;&#1082;&#1080;%20&#1082;&#1086;&#1089;&#1084;&#1086;&#1089;%20&#1076;&#1083;&#1103;%20&#1076;&#1077;&#1090;&#1077;&#1081;&amp;img_url=http%3A%2F%2Fwww.shaping.ru%2Fnews%2Fimg.asp%3Fid%3D7545&amp;pos=7&amp;rpt=simage&amp;lr=213&amp;noreask=1&amp;source=wiz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http://img.mota.ru/upload/wallpapers/2009/07/14/20/04/1876/3d_386-cro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Arial"/>
              </a:rPr>
              <a:t>«Космическое путешествие 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Arial"/>
              </a:rPr>
              <a:t>к планетам Здоровья»</a:t>
            </a:r>
            <a:endParaRPr b="0" lang="ru-RU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37676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готовили: Половинкина Н.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абибуллина О.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1280" y="333360"/>
            <a:ext cx="836424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  <a:ea typeface="Arial"/>
              </a:rPr>
              <a:t>Задачи:</a:t>
            </a:r>
            <a:br>
              <a:rPr sz="4400"/>
            </a:br>
            <a:endParaRPr b="0" lang="ru-RU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333080" y="1844640"/>
            <a:ext cx="4546080" cy="64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f2f2f2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f2f2f2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03640" y="836640"/>
            <a:ext cx="4824000" cy="5113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2f2f2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Calibri"/>
                <a:ea typeface="Arial"/>
              </a:rPr>
              <a:t>- закрепить знания о здоровом образе жизни.</a:t>
            </a:r>
            <a:endParaRPr b="0" lang="ru-RU" sz="28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2f2f2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Calibri"/>
                <a:ea typeface="Arial"/>
              </a:rPr>
              <a:t>-развивать коммуникативные навыки и навыки самоконтроля.</a:t>
            </a:r>
            <a:endParaRPr b="0" lang="ru-RU" sz="28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2f2f2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Calibri"/>
                <a:ea typeface="Arial"/>
              </a:rPr>
              <a:t>-продолжить воспитание мировоззрения, направленного на здоровый образ жизни</a:t>
            </a:r>
            <a:endParaRPr b="0" lang="ru-RU" sz="2800" spc="-1" strike="noStrike">
              <a:solidFill>
                <a:srgbClr val="f2f2f2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 rot="10800000">
            <a:off x="-1115640" y="503640"/>
            <a:ext cx="142560" cy="11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2f2f2"/>
              </a:solidFill>
              <a:latin typeface="Calibri"/>
              <a:ea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620640"/>
            <a:ext cx="4247640" cy="57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Arial"/>
              </a:rPr>
              <a:t>Дети входят в музыкальный зал и выстраиваются в шеренгу. После вступительных слов ведущего, дети надевают скафандры и ждут в гости астронома.</a:t>
            </a:r>
            <a:endParaRPr b="0" lang="ru-RU" sz="2400" spc="-1" strike="noStrike">
              <a:solidFill>
                <a:srgbClr val="f2f2f2"/>
              </a:solidFill>
              <a:latin typeface="Calibri"/>
            </a:endParaRPr>
          </a:p>
        </p:txBody>
      </p:sp>
      <p:pic>
        <p:nvPicPr>
          <p:cNvPr id="132" name="Объект 2" descr=""/>
          <p:cNvPicPr/>
          <p:nvPr/>
        </p:nvPicPr>
        <p:blipFill>
          <a:blip r:embed="rId1"/>
          <a:stretch/>
        </p:blipFill>
        <p:spPr>
          <a:xfrm>
            <a:off x="4427640" y="2127240"/>
            <a:ext cx="4501800" cy="44701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 rot="10800000">
            <a:off x="-757080" y="228960"/>
            <a:ext cx="215640" cy="45720"/>
          </a:xfrm>
          <a:prstGeom prst="rect">
            <a:avLst/>
          </a:prstGeom>
          <a:noFill/>
          <a:ln w="0">
            <a:noFill/>
          </a:ln>
        </p:spPr>
        <p:txBody>
          <a:bodyPr tIns="22680" bIns="2268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2f2f2"/>
              </a:solidFill>
              <a:latin typeface="Calibri"/>
              <a:ea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620640"/>
            <a:ext cx="8229240" cy="34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1"/>
              </a:spcBef>
              <a:buClr>
                <a:srgbClr val="ffff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  <a:ea typeface="Arial"/>
              </a:rPr>
              <a:t>Астроном предлагает детям отравится в путешествие в космос к планетам здоровья</a:t>
            </a:r>
            <a:r>
              <a:rPr b="0" lang="ru-RU" sz="3200" spc="-1" strike="noStrike">
                <a:solidFill>
                  <a:srgbClr val="f2f2f2"/>
                </a:solidFill>
                <a:latin typeface="Calibri"/>
                <a:ea typeface="Arial"/>
              </a:rPr>
              <a:t>. </a:t>
            </a: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41"/>
              </a:spcBef>
              <a:buClr>
                <a:srgbClr val="ffff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  <a:ea typeface="Arial"/>
              </a:rPr>
              <a:t>Первая планета, которую посетили ребята вместе с Астрономом называется планета «Зарядка»</a:t>
            </a: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  <p:transition spd="med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  <a:ea typeface="Arial"/>
              </a:rPr>
              <a:t>«Планета Здоровье»</a:t>
            </a:r>
            <a:endParaRPr b="0" lang="ru-RU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43280" y="1600200"/>
            <a:ext cx="424944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Физкультминутка "Космонавты"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Космонавты все отважны! </a:t>
            </a:r>
            <a:endParaRPr b="0" lang="ru-RU" sz="24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Тренировки - вот что важно: </a:t>
            </a:r>
            <a:endParaRPr b="0" lang="ru-RU" sz="24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Руки вверх, руки вниз,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На носочках потянись,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Руки в стороны, пошире,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И присели, три-четыре.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Руки вверх, руки вниз,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На носочках потянись,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Руки в стороны, пошире,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И присели, три-четыре.</a:t>
            </a:r>
            <a:br>
              <a:rPr sz="2400"/>
            </a:br>
            <a:r>
              <a:rPr b="0" lang="ru-RU" sz="2400" spc="-1" strike="noStrike">
                <a:solidFill>
                  <a:srgbClr val="f2f2f2"/>
                </a:solidFill>
                <a:latin typeface="Calibri"/>
              </a:rPr>
              <a:t> </a:t>
            </a:r>
            <a:endParaRPr b="0" lang="ru-RU" sz="2400" spc="-1" strike="noStrike">
              <a:solidFill>
                <a:srgbClr val="f2f2f2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ru-RU" sz="2400" spc="-1" strike="noStrike">
              <a:solidFill>
                <a:srgbClr val="f2f2f2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f2f2f2"/>
              </a:solidFill>
              <a:latin typeface="Calibri"/>
            </a:endParaRPr>
          </a:p>
        </p:txBody>
      </p:sp>
      <p:pic>
        <p:nvPicPr>
          <p:cNvPr id="137" name="Объект 2" descr=""/>
          <p:cNvPicPr/>
          <p:nvPr/>
        </p:nvPicPr>
        <p:blipFill>
          <a:blip r:embed="rId1"/>
          <a:stretch/>
        </p:blipFill>
        <p:spPr>
          <a:xfrm>
            <a:off x="1042920" y="1600200"/>
            <a:ext cx="3395160" cy="45255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Следующую планету, которую посетили ребята, называется «Режим дня»</a:t>
            </a:r>
            <a:endParaRPr b="0" lang="ru-RU" sz="2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744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  <a:ea typeface="Arial"/>
              </a:rPr>
              <a:t>Играющим раздаются вразброс карточки с пунктами режима дня: «подъем», «ужин», «самостоятельная деятельность», «завтрак», 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  <a:ea typeface="Arial"/>
              </a:rPr>
              <a:t>«зарядка», «прогулка», «умывание» «сон».</a:t>
            </a:r>
            <a:endParaRPr b="0" lang="ru-RU" sz="2800" spc="-1" strike="noStrike">
              <a:solidFill>
                <a:srgbClr val="f2f2f2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2f2f2"/>
              </a:solidFill>
              <a:latin typeface="Calibri"/>
            </a:endParaRPr>
          </a:p>
        </p:txBody>
      </p:sp>
      <p:pic>
        <p:nvPicPr>
          <p:cNvPr id="140" name="Объект 2" descr=""/>
          <p:cNvPicPr/>
          <p:nvPr/>
        </p:nvPicPr>
        <p:blipFill>
          <a:blip r:embed="rId1"/>
          <a:stretch/>
        </p:blipFill>
        <p:spPr>
          <a:xfrm>
            <a:off x="4788000" y="1268280"/>
            <a:ext cx="4152600" cy="266508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3" descr=""/>
          <p:cNvPicPr/>
          <p:nvPr/>
        </p:nvPicPr>
        <p:blipFill>
          <a:blip r:embed="rId2"/>
          <a:stretch/>
        </p:blipFill>
        <p:spPr>
          <a:xfrm>
            <a:off x="3564000" y="4149720"/>
            <a:ext cx="4419360" cy="27079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1890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Следующую планету, которую посетили ребята, называется «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Здоровая пища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»</a:t>
            </a:r>
            <a:endParaRPr b="0" lang="ru-RU" sz="2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18080" y="155736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гра называется «Вредные и полезные продукты».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  <a:ea typeface="Arial"/>
              </a:rPr>
              <a:t> Нужно разделиться на две команды. Одна команда в корзину собирает вредные продукты, а другая полезные. </a:t>
            </a:r>
            <a:endParaRPr b="0" lang="ru-RU" sz="2800" spc="-1" strike="noStrike">
              <a:solidFill>
                <a:srgbClr val="f2f2f2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f2f2f2"/>
              </a:solidFill>
              <a:latin typeface="Calibri"/>
            </a:endParaRPr>
          </a:p>
        </p:txBody>
      </p:sp>
      <p:pic>
        <p:nvPicPr>
          <p:cNvPr id="144" name="Объект 2" descr=""/>
          <p:cNvPicPr/>
          <p:nvPr/>
        </p:nvPicPr>
        <p:blipFill>
          <a:blip r:embed="rId1"/>
          <a:stretch/>
        </p:blipFill>
        <p:spPr>
          <a:xfrm>
            <a:off x="826920" y="1362240"/>
            <a:ext cx="3395160" cy="45255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5760" y="1890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Следующую планету, которую посетили ребята, называется «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Физкультура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»</a:t>
            </a:r>
            <a:endParaRPr b="0" lang="ru-RU" sz="2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4000" y="1332000"/>
            <a:ext cx="3960360" cy="41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  <a:ea typeface="Arial"/>
              </a:rPr>
              <a:t>    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  <a:ea typeface="Arial"/>
              </a:rPr>
              <a:t>Детям нужно пройти по гимнастической доске, не сутулясь и при этом не уронив мешочек на голове. </a:t>
            </a: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2f2f2"/>
              </a:solidFill>
              <a:latin typeface="Calibri"/>
            </a:endParaRPr>
          </a:p>
        </p:txBody>
      </p:sp>
      <p:pic>
        <p:nvPicPr>
          <p:cNvPr id="147" name="Объект 2" descr=""/>
          <p:cNvPicPr/>
          <p:nvPr/>
        </p:nvPicPr>
        <p:blipFill>
          <a:blip r:embed="rId1"/>
          <a:stretch/>
        </p:blipFill>
        <p:spPr>
          <a:xfrm>
            <a:off x="5110200" y="1700280"/>
            <a:ext cx="3393720" cy="45255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В конце путешествия ребята возвращаются на планету под названием «Детский сад».</a:t>
            </a:r>
            <a:endParaRPr b="0" lang="ru-RU" sz="2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едущий предлагает детям вспомнить, на каких планетах они побывали, что им больше всего запомнилось и понравилось в этом путешествие.</a:t>
            </a:r>
            <a:endParaRPr b="0" lang="ru-RU" sz="2400" spc="-1" strike="noStrike">
              <a:solidFill>
                <a:srgbClr val="f2f2f2"/>
              </a:solidFill>
              <a:latin typeface="Calibri"/>
            </a:endParaRPr>
          </a:p>
        </p:txBody>
      </p:sp>
      <p:pic>
        <p:nvPicPr>
          <p:cNvPr id="150" name="Yuriy-Gagarin-Start-i-znamenitoe-quotPoehali33quot(muzofon.com).mp3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1" name="Объект 3" descr=""/>
          <p:cNvPicPr/>
          <p:nvPr/>
        </p:nvPicPr>
        <p:blipFill>
          <a:blip r:embed="rId2"/>
          <a:stretch/>
        </p:blipFill>
        <p:spPr>
          <a:xfrm>
            <a:off x="331920" y="1400040"/>
            <a:ext cx="403812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delay="0" evt="onClick">
                    <p:tgtEl>
                      <p:spTgt spid="15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delay="0"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0105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Другая 1">
      <a:dk1>
        <a:srgbClr val="f2f2f2"/>
      </a:dk1>
      <a:lt1>
        <a:srgbClr val="ffffff"/>
      </a:lt1>
      <a:dk2>
        <a:srgbClr val="d2533c"/>
      </a:dk2>
      <a:lt2>
        <a:srgbClr val="f3f2dc"/>
      </a:lt2>
      <a:accent1>
        <a:srgbClr val="93a299"/>
      </a:accent1>
      <a:accent2>
        <a:srgbClr val="ad8f67"/>
      </a:accent2>
      <a:accent3>
        <a:srgbClr val="726056"/>
      </a:accent3>
      <a:accent4>
        <a:srgbClr val="4c5a6a"/>
      </a:accent4>
      <a:accent5>
        <a:srgbClr val="808da0"/>
      </a:accent5>
      <a:accent6>
        <a:srgbClr val="79463d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Другая 1">
      <a:dk1>
        <a:srgbClr val="f2f2f2"/>
      </a:dk1>
      <a:lt1>
        <a:srgbClr val="ffffff"/>
      </a:lt1>
      <a:dk2>
        <a:srgbClr val="d2533c"/>
      </a:dk2>
      <a:lt2>
        <a:srgbClr val="f3f2dc"/>
      </a:lt2>
      <a:accent1>
        <a:srgbClr val="93a299"/>
      </a:accent1>
      <a:accent2>
        <a:srgbClr val="ad8f67"/>
      </a:accent2>
      <a:accent3>
        <a:srgbClr val="726056"/>
      </a:accent3>
      <a:accent4>
        <a:srgbClr val="4c5a6a"/>
      </a:accent4>
      <a:accent5>
        <a:srgbClr val="808da0"/>
      </a:accent5>
      <a:accent6>
        <a:srgbClr val="79463d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Другая 1">
      <a:dk1>
        <a:srgbClr val="f2f2f2"/>
      </a:dk1>
      <a:lt1>
        <a:srgbClr val="ffffff"/>
      </a:lt1>
      <a:dk2>
        <a:srgbClr val="d2533c"/>
      </a:dk2>
      <a:lt2>
        <a:srgbClr val="f3f2dc"/>
      </a:lt2>
      <a:accent1>
        <a:srgbClr val="93a299"/>
      </a:accent1>
      <a:accent2>
        <a:srgbClr val="ad8f67"/>
      </a:accent2>
      <a:accent3>
        <a:srgbClr val="726056"/>
      </a:accent3>
      <a:accent4>
        <a:srgbClr val="4c5a6a"/>
      </a:accent4>
      <a:accent5>
        <a:srgbClr val="808da0"/>
      </a:accent5>
      <a:accent6>
        <a:srgbClr val="79463d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  <Paragraphs>23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31T10:20:57Z</dcterms:created>
  <dc:creator>User</dc:creator>
  <dc:description/>
  <dc:language>en-US</dc:language>
  <cp:lastModifiedBy>User</cp:lastModifiedBy>
  <dcterms:modified xsi:type="dcterms:W3CDTF">2023-05-17T08:43:30Z</dcterms:modified>
  <cp:revision>5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9</vt:r8>
  </property>
</Properties>
</file>