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3D1-78E1-4D34-8E03-2C8C2423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2AA-B872-48DA-9AE9-32B206E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B70-7E84-43EC-AFE2-4F8033A6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C58-A5E3-46CF-AF4D-17499213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A9B4-24E1-41F0-BA4B-C2351C23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5B42-EE62-4930-B15B-7A801BE9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896C-360E-4B85-B16B-AD953EC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124-A38B-49C4-93DF-44F0748B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6648-AE66-4360-8661-C433AA5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C83C-DBE3-4528-8A6C-2B58CB9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31D5-752D-49FE-A104-0F967B3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D4A-B5AE-45EB-9C8A-B933AF2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8DD-4FB1-4A1A-A6F2-4097290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6FED-7073-4813-B6B7-437B060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FD6-B9D5-45A1-BFD9-502CBCB7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A5F-CB30-415F-889E-172E7F5F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8EF7-14A2-4EAD-AB32-8776BAEA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F787-01BA-4D32-8BA5-C71C5EE2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9D34-CEB6-41F5-9235-CAB0DB6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2EEB-85F9-41F8-8EA5-092B2E60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8F2D-3B9B-47D7-9A49-9EA0602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5D30-75CC-463B-BA43-3998982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A80-5CBA-4A35-802F-996A835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981F-CA60-45B6-9113-0D2C258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13FB-ECC9-4B73-BA58-6AEFC021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8A99-03F3-4E16-98EF-BEF93AB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D725-22AA-41D2-814D-F6F8395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C84F-1CA9-4DC6-9A66-C309DA73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F0D2-6527-4A66-B593-8B1C0BD0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706E-EB3C-4465-B0C9-EF7240CC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B00-EAD6-43A8-92B4-A114416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485-D6D1-4FED-B4F7-A6DDE50F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D6A-F29A-47D7-9DD4-0144404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CC7-BBC4-4AB4-BDE7-EBB7EFAC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411-F8FB-4C11-8B53-81E2CA40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B5D-66FA-4BFD-9A01-44249DFC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D68A12B-1EE0-4C18-87D3-E38556469137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3AC2DED-852C-4FA0-8FD9-75E552486F4D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534845E-F9FE-403B-90E7-2FBD7CA12673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&#1086;&#1089;&#1084;&#1086;&#1089;%20&#1076;&#1083;&#1103;%20&#1076;&#1077;&#1090;&#1077;&#1081;&amp;img_url=http%3A%2F%2Fwww.shaping.ru%2Fnews%2Fimg.asp%3Fid%3D7545&amp;pos=7&amp;rpt=simage&amp;lr=213&amp;noreask=1&amp;source=wiz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mg.mota.ru/upload/wallpapers/2009/07/14/20/04/1876/3d_386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Космическое путешествие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к планетам Здоровья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67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и: Половинкина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бибуллина О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280" y="333360"/>
            <a:ext cx="8364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  <a:ea typeface="Arial"/>
              </a:rPr>
              <a:t>Задачи:</a:t>
            </a:r>
            <a:br>
              <a:rPr sz="4400"/>
            </a:b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33080" y="1844640"/>
            <a:ext cx="4546080" cy="64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03640" y="836640"/>
            <a:ext cx="4824000" cy="511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 закрепить знания о здоровом образе жизни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развивать коммуникативные навыки и навыки самоконтроля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продолжить воспитание мировоззрения, направленного на здоровый образ жизни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0800000">
            <a:off x="-1115640" y="503640"/>
            <a:ext cx="142560" cy="1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424764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Дети входят в музыкальный зал и выстраиваются в шеренгу. После вступительных слов ведущего, дети надевают скафандры и ждут в гости астронома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2" name="Объект 2" descr=""/>
          <p:cNvPicPr/>
          <p:nvPr/>
        </p:nvPicPr>
        <p:blipFill>
          <a:blip r:embed="rId1"/>
          <a:stretch/>
        </p:blipFill>
        <p:spPr>
          <a:xfrm>
            <a:off x="4427640" y="2127240"/>
            <a:ext cx="4501800" cy="4470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0800000">
            <a:off x="-757080" y="228960"/>
            <a:ext cx="215640" cy="4572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240" cy="34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Астроном предлагает детям отравится в путешествие в космос к планетам здоровья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Первая планета, которую посетили ребята вместе с Астрономом называется планета «Зарядка»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Планета Здоровье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249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Физкультминутка "Космонавты"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Космонавты все отважны!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Тренировки - вот что важно: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Режим дня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Играющим раздаются вразброс карточки с пунктами режима дня: «подъем», «ужин», «самостоятельная деятельность», «завтрак»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«зарядка», «прогулка», «умывание» «сон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152600" cy="2665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3564000" y="4149720"/>
            <a:ext cx="4419360" cy="2707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доровая пищ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18080" y="15573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 называется «Вредные и полезные продукты»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 Нужно разделиться на две команды. Одна команда в корзину собирает вредные продукты, а другая полезные. 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4" name="Объект 2" descr=""/>
          <p:cNvPicPr/>
          <p:nvPr/>
        </p:nvPicPr>
        <p:blipFill>
          <a:blip r:embed="rId1"/>
          <a:stretch/>
        </p:blipFill>
        <p:spPr>
          <a:xfrm>
            <a:off x="826920" y="136224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Физкультур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332000"/>
            <a:ext cx="3960360" cy="41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Детям нужно пройти по гимнастической доске, не сутулясь и при этом не уронив мешочек на голове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5110200" y="1700280"/>
            <a:ext cx="339372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 конце путешествия ребята возвращаются на планету под названием «Детский сад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дущий предлагает детям вспомнить, на каких планетах они побывали, что им больше всего запомнилось и понравилось в этом путешествие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50" name="Yuriy-Gagarin-Start-i-znamenitoe-quotPoehali33quot(muzofon.com).mp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331920" y="14000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10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Paragraphs>2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0:20:57Z</dcterms:created>
  <dc:creator>User</dc:creator>
  <dc:description/>
  <dc:language>en-US</dc:language>
  <cp:lastModifiedBy>User</cp:lastModifiedBy>
  <dcterms:modified xsi:type="dcterms:W3CDTF">2023-05-17T08:43:3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