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B901-BDCB-4390-B2F8-0B63F245E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5D0D-AFCE-414E-9303-9F5E39C42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B2FF-C772-4ED1-9C2A-C51EF5587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82268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1878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82268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1878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59E5-C35F-4867-9EF5-A7300B539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938D6-75B5-46B2-B870-E6E585CE5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9AFC0-171C-4EDE-A47C-2EF8DE508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C7C84-9233-43AC-B28A-0FF84B995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D8CE6-0457-4432-86F0-CD0B95FB2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21D65-593C-46F5-B200-9DC93ACF3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B1537-5D7D-4CB7-9311-BFF60FDE2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8FCDD-6934-4647-88EA-A065E31D9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3909-20B3-4407-84BD-04CCB27E5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EAE9D-9FA5-44CF-9E77-AB11B14C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A61BD-3733-40F3-BD1B-08EEE803D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0531B-5D83-40B7-A224-A32C719FA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6067A-65C7-4ADF-BC1B-12B96B4A3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82268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1878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182268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31878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8C7BC-6F51-4954-BD1B-CA7D7B2A8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FAC04-E704-4E1A-933C-5C86A5D2F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BD0A8-937A-4DB6-8F49-20D3D33C7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3D3E7-DBD6-4666-B9C4-E53B1F742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B9682-3232-4B9D-AE07-AEBBC324B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A4FC3-09C8-4FF8-8CBC-E9EBA481B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B00A-37BD-457F-936F-EBAB9ABAC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4C5C6-9BA3-455F-945F-E6276DC37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23915-91A2-4A4E-BC00-066588E5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CC331-3A8A-4D13-A676-BC8B05B97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82A44-2488-4656-AA2D-F1923029D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C8319-CCC0-44A5-B77A-D28E236D9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C56A3-B733-4E43-A36E-BD0A26869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82268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1878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182268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31878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91107-B956-40AC-91F4-3041C5422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9C67-2B14-43E5-A3D3-557B7AA40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EED5-5A5D-4E7D-BF59-D0495CF02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769D-36ED-4FBE-A2B6-2F01BF2DB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DD20-6CF8-4B65-8FED-A5708D9E6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6D01-504A-4840-A196-AC53D7644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AE8F-5A6B-472B-B022-4CB8A3AB3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f2f2f2"/>
                </a:solidFill>
                <a:latin typeface="Calibri"/>
                <a:ea typeface="Arial"/>
              </a:rPr>
              <a:t>Образец заголовка</a:t>
            </a:r>
            <a:endParaRPr b="0" lang="ru-RU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f5f5f5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f5f5f5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f5f5f5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C287F4D5-EC55-48BF-BCB9-8D6F63CA864E}" type="slidenum">
              <a:rPr b="0" lang="ru-RU" sz="1200" spc="-1" strike="noStrike">
                <a:solidFill>
                  <a:srgbClr val="f5f5f5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f2f2f2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f2f2f2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f2f2f2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2f2f2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f2f2f2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2f2f2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f2f2f2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2f2f2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f2f2f2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2f2f2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f2f2f2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2f2f2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f2f2f2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f2f2f2"/>
                </a:solidFill>
                <a:latin typeface="Calibri"/>
                <a:ea typeface="Arial"/>
              </a:rPr>
              <a:t>Образец заголовка</a:t>
            </a:r>
            <a:endParaRPr b="0" lang="ru-RU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2f2f2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f2f2f2"/>
                </a:solidFill>
                <a:latin typeface="Calibri"/>
                <a:ea typeface="Arial"/>
              </a:rPr>
              <a:t>Образец текста</a:t>
            </a:r>
            <a:endParaRPr b="0" lang="ru-RU" sz="2800" spc="-1" strike="noStrike">
              <a:solidFill>
                <a:srgbClr val="f2f2f2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2f2f2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f2f2f2"/>
                </a:solidFill>
                <a:latin typeface="Calibri"/>
                <a:ea typeface="Arial"/>
              </a:rPr>
              <a:t>Второй уровень</a:t>
            </a:r>
            <a:endParaRPr b="0" lang="ru-RU" sz="2400" spc="-1" strike="noStrike">
              <a:solidFill>
                <a:srgbClr val="f2f2f2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2f2f2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f2f2f2"/>
                </a:solidFill>
                <a:latin typeface="Calibri"/>
                <a:ea typeface="Arial"/>
              </a:rPr>
              <a:t>Третий уровень</a:t>
            </a:r>
            <a:endParaRPr b="0" lang="ru-RU" sz="2000" spc="-1" strike="noStrike">
              <a:solidFill>
                <a:srgbClr val="f2f2f2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f2f2f2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  <a:ea typeface="Arial"/>
              </a:rPr>
              <a:t>Четвертый уровень</a:t>
            </a: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2f2f2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  <a:ea typeface="Arial"/>
              </a:rPr>
              <a:t>Пятый уровень</a:t>
            </a: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2f2f2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f2f2f2"/>
                </a:solidFill>
                <a:latin typeface="Calibri"/>
                <a:ea typeface="Arial"/>
              </a:rPr>
              <a:t>Образец текста</a:t>
            </a:r>
            <a:endParaRPr b="0" lang="ru-RU" sz="2800" spc="-1" strike="noStrike">
              <a:solidFill>
                <a:srgbClr val="f2f2f2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2f2f2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f2f2f2"/>
                </a:solidFill>
                <a:latin typeface="Calibri"/>
                <a:ea typeface="Arial"/>
              </a:rPr>
              <a:t>Второй уровень</a:t>
            </a:r>
            <a:endParaRPr b="0" lang="ru-RU" sz="2400" spc="-1" strike="noStrike">
              <a:solidFill>
                <a:srgbClr val="f2f2f2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2f2f2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f2f2f2"/>
                </a:solidFill>
                <a:latin typeface="Calibri"/>
                <a:ea typeface="Arial"/>
              </a:rPr>
              <a:t>Третий уровень</a:t>
            </a:r>
            <a:endParaRPr b="0" lang="ru-RU" sz="2000" spc="-1" strike="noStrike">
              <a:solidFill>
                <a:srgbClr val="f2f2f2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f2f2f2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  <a:ea typeface="Arial"/>
              </a:rPr>
              <a:t>Четвертый уровень</a:t>
            </a: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2f2f2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  <a:ea typeface="Arial"/>
              </a:rPr>
              <a:t>Пятый уровень</a:t>
            </a:r>
            <a:endParaRPr b="0" lang="ru-RU" sz="1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f5f5f5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f5f5f5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f5f5f5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154163A0-D2B7-4605-85DC-B0C662AD831A}" type="slidenum">
              <a:rPr b="0" lang="ru-RU" sz="1200" spc="-1" strike="noStrike">
                <a:solidFill>
                  <a:srgbClr val="f5f5f5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f2f2f2"/>
                </a:solidFill>
                <a:latin typeface="Calibri"/>
                <a:ea typeface="Arial"/>
              </a:rPr>
              <a:t>Образец заголовка</a:t>
            </a:r>
            <a:endParaRPr b="0" lang="ru-RU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2f2f2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f2f2f2"/>
                </a:solidFill>
                <a:latin typeface="Calibri"/>
                <a:ea typeface="Arial"/>
              </a:rPr>
              <a:t>Образец текста</a:t>
            </a: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2f2f2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f2f2f2"/>
                </a:solidFill>
                <a:latin typeface="Calibri"/>
                <a:ea typeface="Arial"/>
              </a:rPr>
              <a:t>Второй уровень</a:t>
            </a:r>
            <a:endParaRPr b="0" lang="ru-RU" sz="2800" spc="-1" strike="noStrike">
              <a:solidFill>
                <a:srgbClr val="f2f2f2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2f2f2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f2f2f2"/>
                </a:solidFill>
                <a:latin typeface="Calibri"/>
                <a:ea typeface="Arial"/>
              </a:rPr>
              <a:t>Третий уровень</a:t>
            </a:r>
            <a:endParaRPr b="0" lang="ru-RU" sz="2400" spc="-1" strike="noStrike">
              <a:solidFill>
                <a:srgbClr val="f2f2f2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2f2f2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f2f2f2"/>
                </a:solidFill>
                <a:latin typeface="Calibri"/>
                <a:ea typeface="Arial"/>
              </a:rPr>
              <a:t>Четвертый уровень</a:t>
            </a:r>
            <a:endParaRPr b="0" lang="ru-RU" sz="2000" spc="-1" strike="noStrike">
              <a:solidFill>
                <a:srgbClr val="f2f2f2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f2f2f2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f2f2f2"/>
                </a:solidFill>
                <a:latin typeface="Calibri"/>
                <a:ea typeface="Arial"/>
              </a:rPr>
              <a:t>Пятый уровень</a:t>
            </a:r>
            <a:endParaRPr b="0" lang="ru-RU" sz="2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f5f5f5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f5f5f5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f5f5f5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3D97CEDE-72A2-4601-BB6A-FACC9A23660C}" type="slidenum">
              <a:rPr b="0" lang="ru-RU" sz="1200" spc="-1" strike="noStrike">
                <a:solidFill>
                  <a:srgbClr val="f5f5f5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2;&#1072;&#1088;&#1090;&#1080;&#1085;&#1082;&#1080;%20&#1082;&#1086;&#1089;&#1084;&#1086;&#1089;%20&#1076;&#1083;&#1103;%20&#1076;&#1077;&#1090;&#1077;&#1081;&amp;img_url=http%3A%2F%2Fwww.shaping.ru%2Fnews%2Fimg.asp%3Fid%3D7545&amp;pos=7&amp;rpt=simage&amp;lr=213&amp;noreask=1&amp;source=wiz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6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http://img.mota.ru/upload/wallpapers/2009/07/14/20/04/1876/3d_386-crop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  <a:ea typeface="Arial"/>
              </a:rPr>
              <a:t>«Космическое путешествие 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  <a:ea typeface="Arial"/>
              </a:rPr>
              <a:t>к планетам Здоровья»</a:t>
            </a:r>
            <a:endParaRPr b="0" lang="ru-RU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37676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готовили: Половинкина Н.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                             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абибуллина О.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1280" y="333360"/>
            <a:ext cx="836424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libri"/>
                <a:ea typeface="Arial"/>
              </a:rPr>
              <a:t>Задачи:</a:t>
            </a:r>
            <a:br>
              <a:rPr sz="4400"/>
            </a:br>
            <a:endParaRPr b="0" lang="ru-RU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333080" y="1844640"/>
            <a:ext cx="4546080" cy="64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f2f2f2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f2f2f2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03640" y="836640"/>
            <a:ext cx="4824000" cy="5113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f2f2f2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2f2f2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Calibri"/>
                <a:ea typeface="Arial"/>
              </a:rPr>
              <a:t>- закрепить знания о здоровом образе жизни.</a:t>
            </a:r>
            <a:endParaRPr b="0" lang="ru-RU" sz="2800" spc="-1" strike="noStrike">
              <a:solidFill>
                <a:srgbClr val="f2f2f2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2f2f2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Calibri"/>
                <a:ea typeface="Arial"/>
              </a:rPr>
              <a:t>-развивать коммуникативные навыки и навыки самоконтроля.</a:t>
            </a:r>
            <a:endParaRPr b="0" lang="ru-RU" sz="2800" spc="-1" strike="noStrike">
              <a:solidFill>
                <a:srgbClr val="f2f2f2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2f2f2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Calibri"/>
                <a:ea typeface="Arial"/>
              </a:rPr>
              <a:t>-продолжить воспитание мировоззрения, направленного на здоровый образ жизни</a:t>
            </a:r>
            <a:endParaRPr b="0" lang="ru-RU" sz="2800" spc="-1" strike="noStrike">
              <a:solidFill>
                <a:srgbClr val="f2f2f2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f2f2f2"/>
              </a:solidFill>
              <a:latin typeface="Calibri"/>
            </a:endParaRPr>
          </a:p>
        </p:txBody>
      </p:sp>
    </p:spTree>
  </p:cSld>
  <p:transition spd="med"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 rot="10800000">
            <a:off x="-1115640" y="503640"/>
            <a:ext cx="142560" cy="11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2f2f2"/>
              </a:solidFill>
              <a:latin typeface="Calibri"/>
              <a:ea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9280" y="620640"/>
            <a:ext cx="4247640" cy="57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omic Sans MS"/>
                <a:ea typeface="Arial"/>
              </a:rPr>
              <a:t>Дети входят в музыкальный зал и выстраиваются в шеренгу. После вступительных слов ведущего, дети надевают скафандры и ждут в гости астронома.</a:t>
            </a:r>
            <a:endParaRPr b="0" lang="ru-RU" sz="2400" spc="-1" strike="noStrike">
              <a:solidFill>
                <a:srgbClr val="f2f2f2"/>
              </a:solidFill>
              <a:latin typeface="Calibri"/>
            </a:endParaRPr>
          </a:p>
        </p:txBody>
      </p:sp>
      <p:pic>
        <p:nvPicPr>
          <p:cNvPr id="132" name="Объект 2" descr=""/>
          <p:cNvPicPr/>
          <p:nvPr/>
        </p:nvPicPr>
        <p:blipFill>
          <a:blip r:embed="rId1"/>
          <a:stretch/>
        </p:blipFill>
        <p:spPr>
          <a:xfrm>
            <a:off x="4427640" y="2127240"/>
            <a:ext cx="4501800" cy="447012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 rot="10800000">
            <a:off x="-757080" y="228960"/>
            <a:ext cx="215640" cy="45720"/>
          </a:xfrm>
          <a:prstGeom prst="rect">
            <a:avLst/>
          </a:prstGeom>
          <a:noFill/>
          <a:ln w="0">
            <a:noFill/>
          </a:ln>
        </p:spPr>
        <p:txBody>
          <a:bodyPr tIns="22680" bIns="2268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2f2f2"/>
              </a:solidFill>
              <a:latin typeface="Calibri"/>
              <a:ea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5280" y="620640"/>
            <a:ext cx="8229240" cy="34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41"/>
              </a:spcBef>
              <a:buClr>
                <a:srgbClr val="ffff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  <a:ea typeface="Arial"/>
              </a:rPr>
              <a:t>Астроном предлагает детям отравится в путешествие в космос к планетам здоровья</a:t>
            </a:r>
            <a:r>
              <a:rPr b="0" lang="ru-RU" sz="3200" spc="-1" strike="noStrike">
                <a:solidFill>
                  <a:srgbClr val="f2f2f2"/>
                </a:solidFill>
                <a:latin typeface="Calibri"/>
                <a:ea typeface="Arial"/>
              </a:rPr>
              <a:t>. </a:t>
            </a: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41"/>
              </a:spcBef>
              <a:buClr>
                <a:srgbClr val="ffff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  <a:ea typeface="Arial"/>
              </a:rPr>
              <a:t>Первая планета, которую посетили ребята вместе с Астрономом называется планета «Зарядка»</a:t>
            </a: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</p:txBody>
      </p:sp>
    </p:spTree>
  </p:cSld>
  <p:transition spd="med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  <a:ea typeface="Arial"/>
              </a:rPr>
              <a:t>«Планета Здоровье»</a:t>
            </a:r>
            <a:endParaRPr b="0" lang="ru-RU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43280" y="1600200"/>
            <a:ext cx="4249440" cy="48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  <a:ea typeface="Arial"/>
              </a:rPr>
              <a:t>Физкультминутка "Космонавты"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Calibri"/>
                <a:ea typeface="Arial"/>
              </a:rPr>
              <a:t>Космонавты все отважны! </a:t>
            </a:r>
            <a:endParaRPr b="0" lang="ru-RU" sz="2400" spc="-1" strike="noStrike">
              <a:solidFill>
                <a:srgbClr val="f2f2f2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  <a:ea typeface="Arial"/>
              </a:rPr>
              <a:t>Тренировки - вот что важно: </a:t>
            </a:r>
            <a:endParaRPr b="0" lang="ru-RU" sz="2400" spc="-1" strike="noStrike">
              <a:solidFill>
                <a:srgbClr val="f2f2f2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  <a:ea typeface="Arial"/>
              </a:rPr>
              <a:t>Руки вверх, руки вниз,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Calibri"/>
                <a:ea typeface="Arial"/>
              </a:rPr>
              <a:t>На носочках потянись,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Calibri"/>
                <a:ea typeface="Arial"/>
              </a:rPr>
              <a:t>Руки в стороны, пошире,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Calibri"/>
                <a:ea typeface="Arial"/>
              </a:rPr>
              <a:t>И присели, три-четыре.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Calibri"/>
                <a:ea typeface="Arial"/>
              </a:rPr>
              <a:t>Руки вверх, руки вниз,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Calibri"/>
                <a:ea typeface="Arial"/>
              </a:rPr>
              <a:t>На носочках потянись,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Calibri"/>
                <a:ea typeface="Arial"/>
              </a:rPr>
              <a:t>Руки в стороны, пошире,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Calibri"/>
                <a:ea typeface="Arial"/>
              </a:rPr>
              <a:t>И присели, три-четыре.</a:t>
            </a:r>
            <a:br>
              <a:rPr sz="2400"/>
            </a:br>
            <a:r>
              <a:rPr b="0" lang="ru-RU" sz="2400" spc="-1" strike="noStrike">
                <a:solidFill>
                  <a:srgbClr val="f2f2f2"/>
                </a:solidFill>
                <a:latin typeface="Calibri"/>
              </a:rPr>
              <a:t> </a:t>
            </a:r>
            <a:endParaRPr b="0" lang="ru-RU" sz="2400" spc="-1" strike="noStrike">
              <a:solidFill>
                <a:srgbClr val="f2f2f2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ru-RU" sz="2400" spc="-1" strike="noStrike">
              <a:solidFill>
                <a:srgbClr val="f2f2f2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f2f2f2"/>
              </a:solidFill>
              <a:latin typeface="Calibri"/>
            </a:endParaRPr>
          </a:p>
        </p:txBody>
      </p:sp>
      <p:pic>
        <p:nvPicPr>
          <p:cNvPr id="137" name="Объект 2" descr=""/>
          <p:cNvPicPr/>
          <p:nvPr/>
        </p:nvPicPr>
        <p:blipFill>
          <a:blip r:embed="rId1"/>
          <a:stretch/>
        </p:blipFill>
        <p:spPr>
          <a:xfrm>
            <a:off x="1042920" y="1600200"/>
            <a:ext cx="3395160" cy="452556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Arial"/>
              </a:rPr>
              <a:t>Следующую планету, которую посетили ребята, называется «Режим дня»</a:t>
            </a:r>
            <a:endParaRPr b="0" lang="ru-RU" sz="2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744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ff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  <a:ea typeface="Arial"/>
              </a:rPr>
              <a:t>Играющим раздаются вразброс карточки с пунктами режима дня: «подъем», «ужин», «самостоятельная деятельность», «завтрак», </a:t>
            </a:r>
            <a:r>
              <a:rPr b="0" lang="ru-RU" sz="2800" spc="-1" strike="noStrike">
                <a:solidFill>
                  <a:srgbClr val="ffff00"/>
                </a:solidFill>
                <a:latin typeface="Calibri"/>
                <a:ea typeface="Arial"/>
              </a:rPr>
              <a:t>«зарядка», «прогулка», «умывание» «сон».</a:t>
            </a:r>
            <a:endParaRPr b="0" lang="ru-RU" sz="2800" spc="-1" strike="noStrike">
              <a:solidFill>
                <a:srgbClr val="f2f2f2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f2f2f2"/>
              </a:solidFill>
              <a:latin typeface="Calibri"/>
            </a:endParaRPr>
          </a:p>
        </p:txBody>
      </p:sp>
      <p:pic>
        <p:nvPicPr>
          <p:cNvPr id="140" name="Объект 2" descr=""/>
          <p:cNvPicPr/>
          <p:nvPr/>
        </p:nvPicPr>
        <p:blipFill>
          <a:blip r:embed="rId1"/>
          <a:stretch/>
        </p:blipFill>
        <p:spPr>
          <a:xfrm>
            <a:off x="4788000" y="1268280"/>
            <a:ext cx="4152600" cy="266508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3" descr=""/>
          <p:cNvPicPr/>
          <p:nvPr/>
        </p:nvPicPr>
        <p:blipFill>
          <a:blip r:embed="rId2"/>
          <a:stretch/>
        </p:blipFill>
        <p:spPr>
          <a:xfrm>
            <a:off x="3564000" y="4149720"/>
            <a:ext cx="4419360" cy="270792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18900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Arial"/>
              </a:rPr>
              <a:t>Следующую планету, которую посетили ребята, называется «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Arial"/>
              </a:rPr>
              <a:t>Здоровая пища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Arial"/>
              </a:rPr>
              <a:t>»</a:t>
            </a:r>
            <a:endParaRPr b="0" lang="ru-RU" sz="2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18080" y="155736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гра называется «Вредные и полезные продукты».</a:t>
            </a:r>
            <a:r>
              <a:rPr b="0" lang="ru-RU" sz="2800" spc="-1" strike="noStrike">
                <a:solidFill>
                  <a:srgbClr val="ffff00"/>
                </a:solidFill>
                <a:latin typeface="Calibri"/>
                <a:ea typeface="Arial"/>
              </a:rPr>
              <a:t> Нужно разделиться на две команды. Одна команда в корзину собирает вредные продукты, а другая полезные. </a:t>
            </a:r>
            <a:endParaRPr b="0" lang="ru-RU" sz="2800" spc="-1" strike="noStrike">
              <a:solidFill>
                <a:srgbClr val="f2f2f2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f2f2f2"/>
              </a:solidFill>
              <a:latin typeface="Calibri"/>
            </a:endParaRPr>
          </a:p>
        </p:txBody>
      </p:sp>
      <p:pic>
        <p:nvPicPr>
          <p:cNvPr id="144" name="Объект 2" descr=""/>
          <p:cNvPicPr/>
          <p:nvPr/>
        </p:nvPicPr>
        <p:blipFill>
          <a:blip r:embed="rId1"/>
          <a:stretch/>
        </p:blipFill>
        <p:spPr>
          <a:xfrm>
            <a:off x="826920" y="1362240"/>
            <a:ext cx="3395160" cy="452556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5760" y="18900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Arial"/>
              </a:rPr>
              <a:t>Следующую планету, которую посетили ребята, называется «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Arial"/>
              </a:rPr>
              <a:t>Физкультура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Arial"/>
              </a:rPr>
              <a:t>»</a:t>
            </a:r>
            <a:endParaRPr b="0" lang="ru-RU" sz="2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4000" y="1332000"/>
            <a:ext cx="3960360" cy="41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  <a:ea typeface="Arial"/>
              </a:rPr>
              <a:t>    </a:t>
            </a:r>
            <a:r>
              <a:rPr b="0" lang="ru-RU" sz="3200" spc="-1" strike="noStrike">
                <a:solidFill>
                  <a:srgbClr val="ffff00"/>
                </a:solidFill>
                <a:latin typeface="Calibri"/>
                <a:ea typeface="Arial"/>
              </a:rPr>
              <a:t>Детям нужно пройти по гимнастической доске, не сутулясь и при этом не уронив мешочек на голове. </a:t>
            </a: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f2f2f2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f2f2f2"/>
              </a:solidFill>
              <a:latin typeface="Calibri"/>
            </a:endParaRPr>
          </a:p>
        </p:txBody>
      </p:sp>
      <p:pic>
        <p:nvPicPr>
          <p:cNvPr id="147" name="Объект 2" descr=""/>
          <p:cNvPicPr/>
          <p:nvPr/>
        </p:nvPicPr>
        <p:blipFill>
          <a:blip r:embed="rId1"/>
          <a:stretch/>
        </p:blipFill>
        <p:spPr>
          <a:xfrm>
            <a:off x="5110200" y="1700280"/>
            <a:ext cx="3393720" cy="452556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Arial"/>
              </a:rPr>
              <a:t>В конце путешествия ребята возвращаются на планету под названием «Детский сад».</a:t>
            </a:r>
            <a:endParaRPr b="0" lang="ru-RU" sz="2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едущий предлагает детям вспомнить, на каких планетах они побывали, что им больше всего запомнилось и понравилось в этом путешествие.</a:t>
            </a:r>
            <a:endParaRPr b="0" lang="ru-RU" sz="2400" spc="-1" strike="noStrike">
              <a:solidFill>
                <a:srgbClr val="f2f2f2"/>
              </a:solidFill>
              <a:latin typeface="Calibri"/>
            </a:endParaRPr>
          </a:p>
        </p:txBody>
      </p:sp>
      <p:pic>
        <p:nvPicPr>
          <p:cNvPr id="150" name="Yuriy-Gagarin-Start-i-znamenitoe-quotPoehali33quot(muzofon.com).mp3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51" name="Объект 3" descr=""/>
          <p:cNvPicPr/>
          <p:nvPr/>
        </p:nvPicPr>
        <p:blipFill>
          <a:blip r:embed="rId2"/>
          <a:stretch/>
        </p:blipFill>
        <p:spPr>
          <a:xfrm>
            <a:off x="331920" y="1400040"/>
            <a:ext cx="403812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delay="0" evt="onClick">
                    <p:tgtEl>
                      <p:spTgt spid="150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delay="0"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0105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Другая 1">
      <a:dk1>
        <a:srgbClr val="f2f2f2"/>
      </a:dk1>
      <a:lt1>
        <a:srgbClr val="ffffff"/>
      </a:lt1>
      <a:dk2>
        <a:srgbClr val="d2533c"/>
      </a:dk2>
      <a:lt2>
        <a:srgbClr val="f3f2dc"/>
      </a:lt2>
      <a:accent1>
        <a:srgbClr val="93a299"/>
      </a:accent1>
      <a:accent2>
        <a:srgbClr val="ad8f67"/>
      </a:accent2>
      <a:accent3>
        <a:srgbClr val="726056"/>
      </a:accent3>
      <a:accent4>
        <a:srgbClr val="4c5a6a"/>
      </a:accent4>
      <a:accent5>
        <a:srgbClr val="808da0"/>
      </a:accent5>
      <a:accent6>
        <a:srgbClr val="79463d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Другая 1">
      <a:dk1>
        <a:srgbClr val="f2f2f2"/>
      </a:dk1>
      <a:lt1>
        <a:srgbClr val="ffffff"/>
      </a:lt1>
      <a:dk2>
        <a:srgbClr val="d2533c"/>
      </a:dk2>
      <a:lt2>
        <a:srgbClr val="f3f2dc"/>
      </a:lt2>
      <a:accent1>
        <a:srgbClr val="93a299"/>
      </a:accent1>
      <a:accent2>
        <a:srgbClr val="ad8f67"/>
      </a:accent2>
      <a:accent3>
        <a:srgbClr val="726056"/>
      </a:accent3>
      <a:accent4>
        <a:srgbClr val="4c5a6a"/>
      </a:accent4>
      <a:accent5>
        <a:srgbClr val="808da0"/>
      </a:accent5>
      <a:accent6>
        <a:srgbClr val="79463d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Другая 1">
      <a:dk1>
        <a:srgbClr val="f2f2f2"/>
      </a:dk1>
      <a:lt1>
        <a:srgbClr val="ffffff"/>
      </a:lt1>
      <a:dk2>
        <a:srgbClr val="d2533c"/>
      </a:dk2>
      <a:lt2>
        <a:srgbClr val="f3f2dc"/>
      </a:lt2>
      <a:accent1>
        <a:srgbClr val="93a299"/>
      </a:accent1>
      <a:accent2>
        <a:srgbClr val="ad8f67"/>
      </a:accent2>
      <a:accent3>
        <a:srgbClr val="726056"/>
      </a:accent3>
      <a:accent4>
        <a:srgbClr val="4c5a6a"/>
      </a:accent4>
      <a:accent5>
        <a:srgbClr val="808da0"/>
      </a:accent5>
      <a:accent6>
        <a:srgbClr val="79463d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  <Paragraphs>23</Paragraphs>
  <Company>SPecialiST RePack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31T10:20:57Z</dcterms:created>
  <dc:creator>User</dc:creator>
  <dc:description/>
  <dc:language>en-US</dc:language>
  <cp:lastModifiedBy>User</cp:lastModifiedBy>
  <dcterms:modified xsi:type="dcterms:W3CDTF">2023-05-17T08:43:30Z</dcterms:modified>
  <cp:revision>50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9</vt:r8>
  </property>
</Properties>
</file>