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21A-1AF5-4D9E-A1A6-7CC18FF4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068-24E4-4160-A800-78EC66F7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6C2-5BFF-40D6-BAC5-4DB53885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B12-3CE9-49AB-BFE4-7DC90E4A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483D-C361-4D8B-BF4A-C6128441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9252-14EA-4387-A58A-EA1E0AC8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0280-115A-4118-9425-0F48A670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79AE-7849-40E2-A32E-4578E245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18B-FFAE-4262-A8A8-875D5F3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4344-94EE-4A44-97F9-6E04C868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5B7F-C488-40DC-B1B4-0EDF654A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749-1D36-4F83-8007-C5709E1F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9CC9-6B3F-44AC-8A6F-8B0F90D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4E57-1F54-4A5D-9D36-83F92788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E5E3-49ED-412B-8CF3-51136D5C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C886-55A0-49B9-A5FE-D2980947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0D12-7F29-4411-A97D-9A741F5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A5DB-B146-4B4F-A648-1B77297A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61B5-8A81-4444-8985-235979FC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E3BA-409E-4FB7-92F0-D3E1D106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5083-18A2-4775-AB78-B2495BE9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5CAF-9723-4AFC-8C07-1E75A00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80F-3E1D-41F3-B066-D8EFCF9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D5C3-ED4E-478E-94D1-0D8028F8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E2E0-F558-4252-80E3-E584179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085D-E3E7-4ED7-A683-A3C4265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169B-F997-4461-BBA7-CFC72ACE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52CC-055E-4817-A718-A2BC8A1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A11C-0FD7-4FBA-A808-2912657A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4D9E-4674-4060-AD89-0194F689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F37-54FC-4CAF-9726-6B983B8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895-BCEE-47F6-B2CE-AFD5523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47E-E540-40B0-A091-95620A68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CDF-7F82-4F43-B113-897C5E4B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7FB-275A-40C8-BC40-697D483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6CE-4E8C-40D1-8492-FC49FD4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806992E-A78F-4F11-97AB-7D1DC36E8920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57AC174-4A72-424D-B79D-68B0044AA244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DA85DFB-000C-4D30-A602-0D8A6BE96EF3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2;&#1086;&#1089;&#1084;&#1086;&#1089;%20&#1076;&#1083;&#1103;%20&#1076;&#1077;&#1090;&#1077;&#1081;&amp;img_url=http%3A%2F%2Fwww.shaping.ru%2Fnews%2Fimg.asp%3Fid%3D7545&amp;pos=7&amp;rpt=simage&amp;lr=213&amp;noreask=1&amp;source=wiz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mg.mota.ru/upload/wallpapers/2009/07/14/20/04/1876/3d_386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Космическое путешествие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к планетам Здоровья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67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и: Половинкина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бибуллина О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280" y="333360"/>
            <a:ext cx="8364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  <a:ea typeface="Arial"/>
              </a:rPr>
              <a:t>Задачи:</a:t>
            </a:r>
            <a:br>
              <a:rPr sz="4400"/>
            </a:b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33080" y="1844640"/>
            <a:ext cx="4546080" cy="64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03640" y="836640"/>
            <a:ext cx="4824000" cy="511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 закрепить знания о здоровом образе жизни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развивать коммуникативные навыки и навыки самоконтроля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продолжить воспитание мировоззрения, направленного на здоровый образ жизни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0800000">
            <a:off x="-1115640" y="503640"/>
            <a:ext cx="142560" cy="1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424764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Дети входят в музыкальный зал и выстраиваются в шеренгу. После вступительных слов ведущего, дети надевают скафандры и ждут в гости астронома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2" name="Объект 2" descr=""/>
          <p:cNvPicPr/>
          <p:nvPr/>
        </p:nvPicPr>
        <p:blipFill>
          <a:blip r:embed="rId1"/>
          <a:stretch/>
        </p:blipFill>
        <p:spPr>
          <a:xfrm>
            <a:off x="4427640" y="2127240"/>
            <a:ext cx="4501800" cy="4470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0800000">
            <a:off x="-757080" y="228960"/>
            <a:ext cx="215640" cy="4572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240" cy="34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Астроном предлагает детям отравится в путешествие в космос к планетам здоровья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Первая планета, которую посетили ребята вместе с Астрономом называется планета «Зарядка»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Планета Здоровье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249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Физкультминутка "Космонавты"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Космонавты все отважны!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Тренировки - вот что важно: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Режим дня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Играющим раздаются вразброс карточки с пунктами режима дня: «подъем», «ужин», «самостоятельная деятельность», «завтрак»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«зарядка», «прогулка», «умывание» «сон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0" name="Объект 2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152600" cy="2665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3564000" y="4149720"/>
            <a:ext cx="4419360" cy="2707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доровая пищ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18080" y="15573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а называется «Вредные и полезные продукты»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 Нужно разделиться на две команды. Одна команда в корзину собирает вредные продукты, а другая полезные. 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4" name="Объект 2" descr=""/>
          <p:cNvPicPr/>
          <p:nvPr/>
        </p:nvPicPr>
        <p:blipFill>
          <a:blip r:embed="rId1"/>
          <a:stretch/>
        </p:blipFill>
        <p:spPr>
          <a:xfrm>
            <a:off x="826920" y="136224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Физкультур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332000"/>
            <a:ext cx="3960360" cy="41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Детям нужно пройти по гимнастической доске, не сутулясь и при этом не уронив мешочек на голове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5110200" y="1700280"/>
            <a:ext cx="339372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 конце путешествия ребята возвращаются на планету под названием «Детский сад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дущий предлагает детям вспомнить, на каких планетах они побывали, что им больше всего запомнилось и понравилось в этом путешествие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50" name="Yuriy-Gagarin-Start-i-znamenitoe-quotPoehali33quot(muzofon.com).mp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3" descr=""/>
          <p:cNvPicPr/>
          <p:nvPr/>
        </p:nvPicPr>
        <p:blipFill>
          <a:blip r:embed="rId2"/>
          <a:stretch/>
        </p:blipFill>
        <p:spPr>
          <a:xfrm>
            <a:off x="331920" y="14000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10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Paragraphs>2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0:20:57Z</dcterms:created>
  <dc:creator>User</dc:creator>
  <dc:description/>
  <dc:language>en-US</dc:language>
  <cp:lastModifiedBy>User</cp:lastModifiedBy>
  <dcterms:modified xsi:type="dcterms:W3CDTF">2023-05-17T08:43:3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