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542A-ABCF-4630-BAE6-FA2CE9FC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B0F1-4F49-4FA7-BF59-35AD71B3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524D-CACE-459C-B7A0-30135B1D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6248-7A71-4261-8307-A973935B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70AC-4DFD-4193-B3A9-A7493138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0B52-14CD-49B3-89EA-FBFD50C9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E797-0229-4184-8A52-1072192A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58E1-CE6D-4616-B20A-9489BDDC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F04A-C7F4-4FF0-B719-A270FE13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738D-7DD3-4818-B241-E0C4851F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38EE-AEF4-40A3-9788-1B047DB4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2296-3461-4514-9C9C-267B5F67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0940-7515-469F-AE4C-0516188C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ACBC-8F6B-47CF-9823-33231CA8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D94A-BF61-4CF7-971C-657E26DA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CF61-3B4B-4743-86F4-6F93257E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DB57-D852-48C3-9240-D847BA10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6B5-DD85-42B4-A4DC-1207FECF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3A29-81B0-49EF-9D4C-46D5D125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32F6-6442-452B-B234-41009FE7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D54B-D255-4D04-B2BC-F71BA4EF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6825-253E-4A84-80BB-DDCF9951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CBE-6981-449E-BA0A-BA06211C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E5C2-14E9-4732-8F0F-53335C58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F0AD-917A-4EC7-B7D1-305786E7FC6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382D-D929-43D0-97B2-A6874BF8FCF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post-46693-12496639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Цвета наших чувств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556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ы проекта: группа учащихся 9-а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study1"/>
          <p:cNvPicPr/>
          <p:nvPr/>
        </p:nvPicPr>
        <p:blipFill>
          <a:blip r:embed="rId1"/>
          <a:stretch/>
        </p:blipFill>
        <p:spPr>
          <a:xfrm>
            <a:off x="0" y="2708280"/>
            <a:ext cx="3195720" cy="4149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1218712623891"/>
          <p:cNvPicPr/>
          <p:nvPr/>
        </p:nvPicPr>
        <p:blipFill>
          <a:blip r:embed="rId2"/>
          <a:stretch/>
        </p:blipFill>
        <p:spPr>
          <a:xfrm>
            <a:off x="5945040" y="0"/>
            <a:ext cx="3198960" cy="4365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64587"/>
          <p:cNvPicPr/>
          <p:nvPr/>
        </p:nvPicPr>
        <p:blipFill>
          <a:blip r:embed="rId3"/>
          <a:stretch/>
        </p:blipFill>
        <p:spPr>
          <a:xfrm>
            <a:off x="3780000" y="2924280"/>
            <a:ext cx="1547640" cy="12888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395280" y="260280"/>
            <a:ext cx="50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шумел зелёный лес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зывая интер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лёное раст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ждает удив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лёный цвет вниматель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очень любознательны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564720" y="4508640"/>
            <a:ext cx="440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просов множество зад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в гущу знаний сам поле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любопытен очень ста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доровый это интерес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345273_331312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6708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663480" y="460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 rot="19119600">
            <a:off x="211320" y="3270960"/>
            <a:ext cx="52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ое чувст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хватило мен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4523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33640" y="189000"/>
            <a:ext cx="89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уги краски, фантазия наша делают мир ярче и краш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6886440" cy="58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сли б все на свете было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динакового цвета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с бы это огорчало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ли радовало это?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еть мир привыкли люди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ёлтым, зелёным, синим и красным…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усть же всё вокруг нас будет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дивительным и разным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43927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Жёлтая бабочк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Жёлтый цветок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Жёлтое солнце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Жёлтый песок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Жёлтые иск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 траве зажглись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Жёлтый цвет радости –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Шире улыбнис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1" descr="342644"/>
          <p:cNvPicPr/>
          <p:nvPr/>
        </p:nvPicPr>
        <p:blipFill>
          <a:blip r:embed="rId1"/>
          <a:stretch/>
        </p:blipFill>
        <p:spPr>
          <a:xfrm>
            <a:off x="5292720" y="3429000"/>
            <a:ext cx="3456000" cy="2814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70013_large"/>
          <p:cNvPicPr/>
          <p:nvPr/>
        </p:nvPicPr>
        <p:blipFill>
          <a:blip r:embed="rId2"/>
          <a:stretch/>
        </p:blipFill>
        <p:spPr>
          <a:xfrm>
            <a:off x="3348000" y="260280"/>
            <a:ext cx="2376360" cy="3340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100954"/>
          <p:cNvPicPr/>
          <p:nvPr/>
        </p:nvPicPr>
        <p:blipFill>
          <a:blip r:embed="rId3"/>
          <a:stretch/>
        </p:blipFill>
        <p:spPr>
          <a:xfrm>
            <a:off x="0" y="0"/>
            <a:ext cx="234000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941360"/>
            <a:ext cx="5338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Arial"/>
              </a:rPr>
              <a:t>Что такое доброта? </a:t>
            </a:r>
            <a:br>
              <a:rPr sz="3900"/>
            </a:br>
            <a:r>
              <a:rPr b="1" lang="ru-RU" sz="3900" spc="-1" strike="noStrike">
                <a:solidFill>
                  <a:srgbClr val="000000"/>
                </a:solidFill>
                <a:latin typeface="Arial"/>
              </a:rPr>
              <a:t>Это сердца высота!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nach"/>
          <p:cNvPicPr/>
          <p:nvPr/>
        </p:nvPicPr>
        <p:blipFill>
          <a:blip r:embed="rId1"/>
          <a:stretch/>
        </p:blipFill>
        <p:spPr>
          <a:xfrm>
            <a:off x="5292720" y="1430280"/>
            <a:ext cx="3486240" cy="2614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NEW_1243753751"/>
          <p:cNvPicPr/>
          <p:nvPr/>
        </p:nvPicPr>
        <p:blipFill>
          <a:blip r:embed="rId2"/>
          <a:stretch/>
        </p:blipFill>
        <p:spPr>
          <a:xfrm>
            <a:off x="6311880" y="4076640"/>
            <a:ext cx="1946160" cy="25923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3"/>
          <p:cNvSpPr/>
          <p:nvPr/>
        </p:nvSpPr>
        <p:spPr>
          <a:xfrm>
            <a:off x="3276720" y="404640"/>
            <a:ext cx="16556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делать после дождик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радуге качаться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делать после дождика? Радостно смеятьс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15" descr="ec9ca0c9-452b-4cfd-9213-1f988acff992"/>
          <p:cNvPicPr/>
          <p:nvPr/>
        </p:nvPicPr>
        <p:blipFill>
          <a:blip r:embed="rId3"/>
          <a:stretch/>
        </p:blipFill>
        <p:spPr>
          <a:xfrm>
            <a:off x="7199280" y="0"/>
            <a:ext cx="1944720" cy="1494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tumblr_kw5477MIqn1qaac67o1_500"/>
          <p:cNvPicPr/>
          <p:nvPr/>
        </p:nvPicPr>
        <p:blipFill>
          <a:blip r:embed="rId4"/>
          <a:srcRect l="12501" t="0" r="0" b="0"/>
          <a:stretch/>
        </p:blipFill>
        <p:spPr>
          <a:xfrm>
            <a:off x="0" y="0"/>
            <a:ext cx="30225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664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1833840" y="260280"/>
            <a:ext cx="692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от какие чудеса: мы смеёмся два ча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 нам соседи подошли и смеяться помогл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о что за настроенье? Угадали? Да – 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4824360" cy="23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ее облачко расстроилос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рьёз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иним-синим дождико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 землю пролилось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ий цвет грустит и плачет –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на слёзы весь растраче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smile-1405"/>
          <p:cNvPicPr/>
          <p:nvPr/>
        </p:nvPicPr>
        <p:blipFill>
          <a:blip r:embed="rId1"/>
          <a:stretch/>
        </p:blipFill>
        <p:spPr>
          <a:xfrm>
            <a:off x="0" y="0"/>
            <a:ext cx="1403280" cy="1403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07_07_42"/>
          <p:cNvPicPr/>
          <p:nvPr/>
        </p:nvPicPr>
        <p:blipFill>
          <a:blip r:embed="rId2"/>
          <a:stretch/>
        </p:blipFill>
        <p:spPr>
          <a:xfrm>
            <a:off x="6348240" y="0"/>
            <a:ext cx="2795760" cy="3789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fdeti714"/>
          <p:cNvPicPr/>
          <p:nvPr/>
        </p:nvPicPr>
        <p:blipFill>
          <a:blip r:embed="rId3"/>
          <a:stretch/>
        </p:blipFill>
        <p:spPr>
          <a:xfrm>
            <a:off x="0" y="2706840"/>
            <a:ext cx="2698920" cy="41511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9"/>
          <p:cNvSpPr/>
          <p:nvPr/>
        </p:nvSpPr>
        <p:spPr>
          <a:xfrm>
            <a:off x="2916360" y="537372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грусть уходит за ворот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да сочувствует вам кто-т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3068640" y="3716280"/>
            <a:ext cx="607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е приснился грустный сон,  я его забы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лько помню, что во сне я без мамы бы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3587056"/>
          <p:cNvPicPr/>
          <p:nvPr/>
        </p:nvPicPr>
        <p:blipFill>
          <a:blip r:embed="rId1"/>
          <a:stretch/>
        </p:blipFill>
        <p:spPr>
          <a:xfrm>
            <a:off x="266760" y="4680"/>
            <a:ext cx="8610480" cy="6848640"/>
          </a:xfrm>
          <a:prstGeom prst="rect">
            <a:avLst/>
          </a:prstGeom>
          <a:ln w="0">
            <a:noFill/>
          </a:ln>
        </p:spPr>
      </p:pic>
      <p:sp>
        <p:nvSpPr>
          <p:cNvPr id="172" name="WordArt 5"/>
          <p:cNvSpPr txBox="1"/>
          <p:nvPr/>
        </p:nvSpPr>
        <p:spPr>
          <a:xfrm>
            <a:off x="1763640" y="260280"/>
            <a:ext cx="5819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ое у меня настроение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post-5450-1181480382"/>
          <p:cNvPicPr/>
          <p:nvPr/>
        </p:nvPicPr>
        <p:blipFill>
          <a:blip r:embed="rId1"/>
          <a:stretch/>
        </p:blipFill>
        <p:spPr>
          <a:xfrm>
            <a:off x="3780000" y="2106720"/>
            <a:ext cx="4679640" cy="3700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originnal_a086056412c46fe061414f3901a1502a"/>
          <p:cNvPicPr/>
          <p:nvPr/>
        </p:nvPicPr>
        <p:blipFill>
          <a:blip r:embed="rId2"/>
          <a:stretch/>
        </p:blipFill>
        <p:spPr>
          <a:xfrm>
            <a:off x="324000" y="1916280"/>
            <a:ext cx="3100320" cy="4681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4f8094135db2c75f92a2c6165ae2a397"/>
          <p:cNvPicPr/>
          <p:nvPr/>
        </p:nvPicPr>
        <p:blipFill>
          <a:blip r:embed="rId3"/>
          <a:stretch/>
        </p:blipFill>
        <p:spPr>
          <a:xfrm>
            <a:off x="0" y="0"/>
            <a:ext cx="2236680" cy="16732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8"/>
          <p:cNvSpPr/>
          <p:nvPr/>
        </p:nvSpPr>
        <p:spPr>
          <a:xfrm>
            <a:off x="2556000" y="260280"/>
            <a:ext cx="53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лость сегодня правит мн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всех рычу, как зверь лесно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сным стал, как помидор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сный цвет – цвет злости 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3995640" y="587700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вестно всем из века в ве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злостью славен чело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angry_kid2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4750560" y="189000"/>
            <a:ext cx="439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ня трясёт, глаза горя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а пряма, как гвозд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идаюсь я на всех подря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это? Это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1T22:07:54Z</dcterms:created>
  <dc:creator>БУХГАЛТЕР</dc:creator>
  <dc:description/>
  <dc:language>en-US</dc:language>
  <cp:lastModifiedBy>User</cp:lastModifiedBy>
  <dcterms:modified xsi:type="dcterms:W3CDTF">2001-12-31T23:12:42Z</dcterms:modified>
  <cp:revision>7</cp:revision>
  <dc:subject/>
  <dc:title>Цвета наших чувств</dc:title>
</cp:coreProperties>
</file>