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193-8108-48EC-9C98-5F99D9D5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B77-C10F-4981-95C0-744BB64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7D3-7A59-47AF-AAC3-5AF2C1E4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861-08FA-49E1-ABD1-D92EB467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50F0-695F-423B-B6F3-E21ECAEE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4E5-83B9-40A6-83B0-0777FF5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9E4-948C-4A29-9125-A7D5E015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DC5-93A7-4D10-A314-6D89E40D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DCB-37FB-480B-9A86-EE0759E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1F8-0FCB-46F6-9CB5-FCF8424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54D-3D96-4F85-BB43-56E2011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B70-F077-4B7D-9BE1-654CC8A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D2B0-5DAC-441A-B5FC-3D1CBE6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36A9-2BB4-46BD-958B-B93E0B6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ED93-2BB9-492C-8927-BF4C34F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D538-F512-4144-AB8D-D2112DD5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E7CD-4DCD-4D32-8133-60B8DD27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F0C-D716-4308-ACDE-89D2458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8D5-CDFD-48CE-9EFC-547F79B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747-D52A-4B15-B1F5-5E3442F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7E5-FD67-463C-AF25-A5C8462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F18-B463-405D-9D91-2684CD3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7CF-7F00-4419-86DB-5B3A23E3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678-25DA-4D83-A02C-7FE5791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4A9F-8453-45E1-83F8-56ACD3EA04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42B-1AF6-488B-8BD2-28E102BD63B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post-46693-1249663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вета наших чувст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ы проекта: группа учащихся 9-а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tudy1"/>
          <p:cNvPicPr/>
          <p:nvPr/>
        </p:nvPicPr>
        <p:blipFill>
          <a:blip r:embed="rId1"/>
          <a:stretch/>
        </p:blipFill>
        <p:spPr>
          <a:xfrm>
            <a:off x="0" y="2708280"/>
            <a:ext cx="3195720" cy="414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218712623891"/>
          <p:cNvPicPr/>
          <p:nvPr/>
        </p:nvPicPr>
        <p:blipFill>
          <a:blip r:embed="rId2"/>
          <a:stretch/>
        </p:blipFill>
        <p:spPr>
          <a:xfrm>
            <a:off x="5945040" y="0"/>
            <a:ext cx="3198960" cy="436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4587"/>
          <p:cNvPicPr/>
          <p:nvPr/>
        </p:nvPicPr>
        <p:blipFill>
          <a:blip r:embed="rId3"/>
          <a:stretch/>
        </p:blipFill>
        <p:spPr>
          <a:xfrm>
            <a:off x="3780000" y="2924280"/>
            <a:ext cx="1547640" cy="1288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95280" y="26028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шумел зелёный ле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ывая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ёное раст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дает уди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лёный цвет внима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любознатель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64720" y="4508640"/>
            <a:ext cx="44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ов множество зад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 гущу знаний сам пол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любопытен очень ста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ый это интере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345273_331312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66348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 rot="19119600">
            <a:off x="211320" y="327096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е чув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хватило мен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4523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33640" y="189000"/>
            <a:ext cx="89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уги краски, фантазия наша делают мир ярче и кра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8644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б все на свете был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кового цвет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с бы это огорчал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ли радовало это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еть мир привыкли люд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ёлтым, зелёным, синим и красным…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же всё вокруг нас буде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дивительным и разным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4392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ая бабочк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цве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ое солнце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пес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е иск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траве зажглись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ёлтый цвет радости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ире улыбни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342644"/>
          <p:cNvPicPr/>
          <p:nvPr/>
        </p:nvPicPr>
        <p:blipFill>
          <a:blip r:embed="rId1"/>
          <a:stretch/>
        </p:blipFill>
        <p:spPr>
          <a:xfrm>
            <a:off x="5292720" y="3429000"/>
            <a:ext cx="3456000" cy="281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70013_large"/>
          <p:cNvPicPr/>
          <p:nvPr/>
        </p:nvPicPr>
        <p:blipFill>
          <a:blip r:embed="rId2"/>
          <a:stretch/>
        </p:blipFill>
        <p:spPr>
          <a:xfrm>
            <a:off x="3348000" y="260280"/>
            <a:ext cx="2376360" cy="334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100954"/>
          <p:cNvPicPr/>
          <p:nvPr/>
        </p:nvPicPr>
        <p:blipFill>
          <a:blip r:embed="rId3"/>
          <a:stretch/>
        </p:blipFill>
        <p:spPr>
          <a:xfrm>
            <a:off x="0" y="0"/>
            <a:ext cx="2340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5338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Что такое доброта?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Это сердца высота!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nach"/>
          <p:cNvPicPr/>
          <p:nvPr/>
        </p:nvPicPr>
        <p:blipFill>
          <a:blip r:embed="rId1"/>
          <a:stretch/>
        </p:blipFill>
        <p:spPr>
          <a:xfrm>
            <a:off x="5292720" y="1430280"/>
            <a:ext cx="3486240" cy="261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NEW_1243753751"/>
          <p:cNvPicPr/>
          <p:nvPr/>
        </p:nvPicPr>
        <p:blipFill>
          <a:blip r:embed="rId2"/>
          <a:stretch/>
        </p:blipFill>
        <p:spPr>
          <a:xfrm>
            <a:off x="6311880" y="4076640"/>
            <a:ext cx="1946160" cy="2592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3276720" y="404640"/>
            <a:ext cx="1655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 после дожди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дуге качатьс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 после дождика? Радостно смеять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5" descr="ec9ca0c9-452b-4cfd-9213-1f988acff992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149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tumblr_kw5477MIqn1qaac67o1_500"/>
          <p:cNvPicPr/>
          <p:nvPr/>
        </p:nvPicPr>
        <p:blipFill>
          <a:blip r:embed="rId4"/>
          <a:srcRect l="12501" t="0" r="0" b="0"/>
          <a:stretch/>
        </p:blipFill>
        <p:spPr>
          <a:xfrm>
            <a:off x="0" y="0"/>
            <a:ext cx="30225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664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833840" y="260280"/>
            <a:ext cx="69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т какие чудеса: мы смеёмся два ча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м соседи подошли и смеяться помог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о что за настроенье? Угадали? Да –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482436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е облачко расстроилос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ьё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ним-синим дожди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землю пролилось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ий цвет грустит и плачет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а слёзы весь растрачен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mile-1405"/>
          <p:cNvPicPr/>
          <p:nvPr/>
        </p:nvPicPr>
        <p:blipFill>
          <a:blip r:embed="rId1"/>
          <a:stretch/>
        </p:blipFill>
        <p:spPr>
          <a:xfrm>
            <a:off x="0" y="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07_07_42"/>
          <p:cNvPicPr/>
          <p:nvPr/>
        </p:nvPicPr>
        <p:blipFill>
          <a:blip r:embed="rId2"/>
          <a:stretch/>
        </p:blipFill>
        <p:spPr>
          <a:xfrm>
            <a:off x="6348240" y="0"/>
            <a:ext cx="2795760" cy="378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fdeti714"/>
          <p:cNvPicPr/>
          <p:nvPr/>
        </p:nvPicPr>
        <p:blipFill>
          <a:blip r:embed="rId3"/>
          <a:stretch/>
        </p:blipFill>
        <p:spPr>
          <a:xfrm>
            <a:off x="0" y="2706840"/>
            <a:ext cx="2698920" cy="41511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2916360" y="5373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грусть уходит за воро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сочувствует вам кто-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068640" y="3716280"/>
            <a:ext cx="60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е приснился грустный сон,  я его заб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помню, что во сне я без мамы б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3587056"/>
          <p:cNvPicPr/>
          <p:nvPr/>
        </p:nvPicPr>
        <p:blipFill>
          <a:blip r:embed="rId1"/>
          <a:stretch/>
        </p:blipFill>
        <p:spPr>
          <a:xfrm>
            <a:off x="266760" y="4680"/>
            <a:ext cx="8610480" cy="68486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1763640" y="260280"/>
            <a:ext cx="581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е у меня настроени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ost-5450-1181480382"/>
          <p:cNvPicPr/>
          <p:nvPr/>
        </p:nvPicPr>
        <p:blipFill>
          <a:blip r:embed="rId1"/>
          <a:stretch/>
        </p:blipFill>
        <p:spPr>
          <a:xfrm>
            <a:off x="3780000" y="2106720"/>
            <a:ext cx="4679640" cy="3700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originnal_a086056412c46fe061414f3901a1502a"/>
          <p:cNvPicPr/>
          <p:nvPr/>
        </p:nvPicPr>
        <p:blipFill>
          <a:blip r:embed="rId2"/>
          <a:stretch/>
        </p:blipFill>
        <p:spPr>
          <a:xfrm>
            <a:off x="324000" y="1916280"/>
            <a:ext cx="3100320" cy="46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f8094135db2c75f92a2c6165ae2a397"/>
          <p:cNvPicPr/>
          <p:nvPr/>
        </p:nvPicPr>
        <p:blipFill>
          <a:blip r:embed="rId3"/>
          <a:stretch/>
        </p:blipFill>
        <p:spPr>
          <a:xfrm>
            <a:off x="0" y="0"/>
            <a:ext cx="2236680" cy="1673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556000" y="26028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лость сегодня правит м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сех рычу, как зверь лесн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м стал, как помидор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й цвет – цвет злости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995640" y="587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естно всем из века в ве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злостью славен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angry_kid2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4750560" y="189000"/>
            <a:ext cx="43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 трясёт, глаза гор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а пряма, как гвоз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даюсь я на всех подря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это?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2:07:54Z</dcterms:created>
  <dc:creator>БУХГАЛТЕР</dc:creator>
  <dc:description/>
  <dc:language>en-US</dc:language>
  <cp:lastModifiedBy>User</cp:lastModifiedBy>
  <dcterms:modified xsi:type="dcterms:W3CDTF">2001-12-31T23:12:42Z</dcterms:modified>
  <cp:revision>7</cp:revision>
  <dc:subject/>
  <dc:title>Цвета наших чувств</dc:title>
</cp:coreProperties>
</file>