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63870-2DD5-4F4E-9F9E-1AFCEA4DE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9DA7C-DC23-454B-8F7B-4783B8F9D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B1170A-DCB4-4DAA-AAD2-661E017FE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C0136C-F206-4559-9B36-A046EFC27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3ACAD8-DED6-402D-9FBE-C76426DB7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F8B205-A34B-420C-B358-13C195B78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A3EF1-A58E-41BA-9B29-F90A9DDD2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5F92FE-C4E6-4221-83FD-1D853B491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CE12A3-816A-439E-BD8F-20C2AD35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DF0200-2F10-4EC2-AE24-93B63F1076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D37D17-74CB-46E7-9CB4-0D96C4F0C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A55-4DF3-4F7D-A150-C33DD3FD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91D-CD38-41E4-9147-BFB18F2C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D25-DAA4-4399-B9D3-20965213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3CC-7D79-4B58-8665-034B25F6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E34B-1EC1-4EAA-BD10-13E4001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DED-2426-4D13-89B9-C2F41F04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C1D4-0290-4A54-A08A-9D4FEFEA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8106-A4B7-411B-B2CC-71CD7D83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73D4-0A0C-4D03-A0A8-5FA2A6A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C35-1697-47B8-AFFC-50FAD57A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C265-273E-4071-B79E-73E8A71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664-E28D-4057-8E76-60B7394E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819D-1355-40B3-BA77-D2116E5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383-F26F-4F7A-BA7B-702BBD9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7BC-AE70-4449-95B9-28C4A12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C98-ED2C-4623-A240-CFDF0CD9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2909-1FD0-43BC-A90B-E0B85BB5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82B2-E02A-45BC-9BC1-CC1483E3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50F1-0C4B-4942-98C1-C83569CD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A0B7-544A-461E-9E68-A167E49B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D0C6-405C-4B92-9271-E248864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21EE-26E8-4B97-871A-0634278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9E5-F5F7-45F6-9F85-BACC856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2186-9D59-47F0-BEE2-C914BF7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0370-B959-43C2-9A37-6E7F5FC2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2EFF-C159-4CCA-A409-2DF651B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26D2-791E-444B-ADB3-4837039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B3E2-0F48-425B-B2BD-DC853F1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4B8E-6F51-426B-87A4-F16E1B50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5DD8-5EE0-48AF-BE5C-76676F7C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39E5-7E69-4062-8EF2-8DF8F4A6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66AF-EBD4-4B2F-9384-DD8FC9E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542C-9A3B-486E-A369-E81DFA6C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D5C-7E56-408B-A079-DFC2237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A8F1-88B2-4E68-BD7D-0DFC4B6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E38D-83A8-44A0-B2F4-1859670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01E5-7202-4BB5-93B4-00D0963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53E6-6C96-49C3-BF2F-056BFF15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BFAD-1D60-4848-8616-98640CF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3444-80C0-4A37-ABCB-F102024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6512-A994-4A43-A2B9-1CD22762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A2ED-0BC8-430C-84AD-9E120760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6874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67200" y="216072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796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6874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4867200" y="4188240"/>
            <a:ext cx="207540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FB30-500F-48F4-9BC5-FFA25B0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872-6FF1-440B-90C7-70CE4F57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07960" y="609480"/>
            <a:ext cx="6446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89E-60A6-4D91-A8B2-ECE6F55B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1EA-6251-4021-9A3B-FC18018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11320" y="418824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EB0-5230-4527-A6CF-67491389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1320" y="2160720"/>
            <a:ext cx="314568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7960" y="4188240"/>
            <a:ext cx="64465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BA2-7E3D-40B3-AC46-D5F1AD6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360" y="-7920"/>
            <a:ext cx="9143280" cy="6865920"/>
            <a:chOff x="360" y="-7920"/>
            <a:chExt cx="9143280" cy="6865920"/>
          </a:xfrm>
        </p:grpSpPr>
        <p:cxnSp>
          <p:nvCxnSpPr>
            <p:cNvPr id="12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3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Isosceles Triangle 28"/>
            <p:cNvSpPr/>
            <p:nvPr/>
          </p:nvSpPr>
          <p:spPr>
            <a:xfrm rot="10800000">
              <a:off x="360" y="360"/>
              <a:ext cx="631440" cy="56653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400" y="2404440"/>
            <a:ext cx="5824800" cy="164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1AD210-ABC8-4BB6-93B7-4B0DF1DD5DFF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64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07960" y="2160720"/>
            <a:ext cx="3137760" cy="388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3817440" y="2160720"/>
            <a:ext cx="3137760" cy="388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dt" idx="4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5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6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2096A2-3631-47B3-A0F4-42BBCF46D7CE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17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18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19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7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B7058A-BB90-455C-8078-79D3E2387F64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8"/>
          <p:cNvGrpSpPr/>
          <p:nvPr/>
        </p:nvGrpSpPr>
        <p:grpSpPr>
          <a:xfrm>
            <a:off x="0" y="-7920"/>
            <a:ext cx="9143640" cy="6865920"/>
            <a:chOff x="0" y="-7920"/>
            <a:chExt cx="9143640" cy="6865920"/>
          </a:xfrm>
        </p:grpSpPr>
        <p:cxnSp>
          <p:nvCxnSpPr>
            <p:cNvPr id="170" name="Straight Connector 18"/>
            <p:cNvCxnSpPr/>
            <p:nvPr/>
          </p:nvCxnSpPr>
          <p:spPr>
            <a:xfrm>
              <a:off x="7027560" y="0"/>
              <a:ext cx="914760" cy="685836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cxnSp>
          <p:nvCxnSpPr>
            <p:cNvPr id="171" name="Straight Connector 19"/>
            <p:cNvCxnSpPr/>
            <p:nvPr/>
          </p:nvCxnSpPr>
          <p:spPr>
            <a:xfrm flipH="1">
              <a:off x="5568840" y="3681360"/>
              <a:ext cx="3573720" cy="3177000"/>
            </a:xfrm>
            <a:prstGeom prst="straightConnector1">
              <a:avLst/>
            </a:prstGeom>
            <a:ln w="9525">
              <a:solidFill>
                <a:srgbClr val="4f81bd">
                  <a:alpha val="70000"/>
                </a:srgbClr>
              </a:solidFill>
              <a:round/>
            </a:ln>
          </p:spPr>
        </p:cxnSp>
        <p:sp>
          <p:nvSpPr>
            <p:cNvPr id="172" name="Rectangle 23"/>
            <p:cNvSpPr/>
            <p:nvPr/>
          </p:nvSpPr>
          <p:spPr>
            <a:xfrm>
              <a:off x="6886440" y="-7920"/>
              <a:ext cx="2255400" cy="686556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7202520" y="-7920"/>
              <a:ext cx="1941120" cy="6865560"/>
            </a:xfrm>
            <a:custGeom>
              <a:avLst/>
              <a:gdLst>
                <a:gd name="textAreaLeft" fmla="*/ 0 w 1941120"/>
                <a:gd name="textAreaRight" fmla="*/ 1941480 w 194112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2"/>
            <p:cNvSpPr/>
            <p:nvPr/>
          </p:nvSpPr>
          <p:spPr>
            <a:xfrm>
              <a:off x="6699240" y="3048120"/>
              <a:ext cx="244440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72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7000920" y="-7920"/>
              <a:ext cx="2141280" cy="686556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8174160" y="-7920"/>
              <a:ext cx="966600" cy="6865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8204040" y="-7920"/>
              <a:ext cx="936360" cy="68655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865560"/>
                <a:gd name="textAreaBottom" fmla="*/ 6865920 h 686556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50000"/>
                <a:alpha val="8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Isosceles Triangle 26"/>
            <p:cNvSpPr/>
            <p:nvPr/>
          </p:nvSpPr>
          <p:spPr>
            <a:xfrm>
              <a:off x="7778880" y="3589200"/>
              <a:ext cx="1363320" cy="326844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50000"/>
                <a:alpha val="66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Isosceles Triangle 27"/>
            <p:cNvSpPr/>
            <p:nvPr/>
          </p:nvSpPr>
          <p:spPr>
            <a:xfrm>
              <a:off x="0" y="4013280"/>
              <a:ext cx="33624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lumMod val="75000"/>
                <a:alpha val="70000"/>
              </a:schemeClr>
            </a:solidFill>
            <a:ln>
              <a:noFill/>
            </a:ln>
            <a:effectLst>
              <a:softEdge rad="1260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76092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7960" y="2160720"/>
            <a:ext cx="6446520" cy="388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3200" spc="-1" strike="noStrike">
                <a:solidFill>
                  <a:srgbClr val="40404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Franklin Gothic Book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Franklin Gothic Book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5403960" y="6041880"/>
            <a:ext cx="684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507960" y="6041880"/>
            <a:ext cx="4722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43640" y="6041880"/>
            <a:ext cx="510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37609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41A14C-1302-4630-870F-A111E64B1368}" type="slidenum">
              <a:rPr b="0" lang="ru-RU" sz="900" spc="-1" strike="noStrike">
                <a:solidFill>
                  <a:srgbClr val="3760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077.radikal.ru/0907/57/134b77bcbe13.jp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.foto.radikal.ru/0603/0eff1b6e734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5/19/42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08.radikal.ru/i181/0909/de/d76a5b472743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30400" y="404640"/>
            <a:ext cx="5824800" cy="136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Старинные танц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30400" y="2493000"/>
            <a:ext cx="5824800" cy="265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Franklin Gothic Book"/>
              </a:rPr>
              <a:t>Составил: преподаватель Нижневартовского социально-гуманитарного колледжа Харченко Э.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Аргенти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Танго-Вальс или Аргентинский Вальс – согласно названию несут в себе элементы и Танго, и Вальса. Танцуется Аргентинский Вальс на 3/4, однако движения используются, в основном, те же, что и в Танго.Известные Вальсы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123516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440" y="5052240"/>
            <a:ext cx="1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Картинка 34 из 1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3644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альс-бос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Салонный и народный танец начала XX века, родившийся из медленного исполнения венского вальса. Характер исполнения достаточно свободный. Схема движения произвольная. Музыка умеренно медленная, 40 т/мин и менее.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123516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440" y="5052240"/>
            <a:ext cx="1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Картинка 75 из 170">
            <a:hlinkClick r:id="rId1"/>
          </p:cNvPr>
          <p:cNvPicPr/>
          <p:nvPr/>
        </p:nvPicPr>
        <p:blipFill>
          <a:blip r:embed="rId2"/>
          <a:srcRect l="12188" t="10290" r="12188" b="15997"/>
          <a:stretch/>
        </p:blipFill>
        <p:spPr>
          <a:xfrm>
            <a:off x="5292720" y="1268280"/>
            <a:ext cx="372384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1449360" y="1268280"/>
            <a:ext cx="405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а ш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waltz_box_step"/>
          <p:cNvPicPr/>
          <p:nvPr/>
        </p:nvPicPr>
        <p:blipFill>
          <a:blip r:embed="rId1"/>
          <a:stretch/>
        </p:blipFill>
        <p:spPr>
          <a:xfrm>
            <a:off x="3137040" y="981000"/>
            <a:ext cx="5673240" cy="56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11280" y="1052640"/>
            <a:ext cx="5400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должны представить себе квадрат. По нему во время нашего обучения и нужно Вам будет скольз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й шаг данного танца – это приставной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 очень прост в исполнении. На раз – правой ногой делаем шаг вперед, на два – левую ногу приставляем и на месте, далее на три – снова наша правая нога – на месте. Вы должны запомнить, что лишь первый шаг большой, а все остальные маленькие, они едва улови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движения наш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шаги должны быть скользящими и легким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язательно стоит помнить об э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1"/>
          <p:cNvSpPr/>
          <p:nvPr/>
        </p:nvSpPr>
        <p:spPr>
          <a:xfrm>
            <a:off x="0" y="476280"/>
            <a:ext cx="9143640" cy="63813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Заголовок 2"/>
          <p:cNvSpPr/>
          <p:nvPr/>
        </p:nvSpPr>
        <p:spPr>
          <a:xfrm>
            <a:off x="0" y="-27000"/>
            <a:ext cx="9143640" cy="106200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rect">
              <a:fillToRect l="100000" t="100000" r="0" b="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62856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Как научиться танцевать валь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449360" y="1268280"/>
            <a:ext cx="405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11280" y="1052640"/>
            <a:ext cx="5689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нужно скользить подушечкой ноги, затем уже переходим на носок, а после снова подушечкой и на всю ступ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в данном танце начинается непосредственно с правой ноги, а потом вперед и заканчивается уже левой ног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жчина в танце кладет свою левую руку на талию партнерши, а правой он берет ее за руку. Партнерша кладет левую руку на плечо мужчины. Не забывайте о том, что нужно держать спину прямо, а не стоять, как вопросительный знак. Такж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еобходимо быть максимально расслабленным и улыбаться обяз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921440" cy="172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chemeClr val="accent1">
                    <a:lumMod val="75000"/>
                  </a:schemeClr>
                </a:solidFill>
                <a:latin typeface="Franklin Gothic Medium"/>
              </a:rPr>
              <a:t>«Вальс»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30400" y="4051440"/>
            <a:ext cx="5824080" cy="109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08080"/>
              </a:solidFill>
              <a:latin typeface="Franklin Gothic Book"/>
            </a:endParaRPr>
          </a:p>
        </p:txBody>
      </p:sp>
      <p:pic>
        <p:nvPicPr>
          <p:cNvPr id="231" name="Picture 7" descr="Картинка 10 из 500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227320"/>
            <a:ext cx="5182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609480"/>
            <a:ext cx="6446520" cy="1320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20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Franklin Gothic Medium"/>
              </a:rPr>
              <a:t>История возникновения вальс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2120" y="1773360"/>
            <a:ext cx="5285880" cy="387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одиной вальса считают сразу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три страны: Францию, Чехию и Австрию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(от немецкого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walzer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бальный танец) вобрал черты народного танца лендлера. Крестьяне на праздничных вечерах весело кружились парами. Постепенно движения становились плавными, кругообразными – рождался вальс.  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50920" y="19080"/>
            <a:ext cx="8686440" cy="91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6427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250920" y="316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История возникновения валь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72880" y="981000"/>
            <a:ext cx="85467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ередине ХVII столетия во Франции бытов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одный танец  ВО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154080" y="1844640"/>
            <a:ext cx="5400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ьт - провансальский танец. Это танец – парный и танцевался под музыку в размере ¾. В вольте в начале преобладали прыжки, а затем появились и быстрые повороты и вращения. Во Франции вольт запрещалось исполнять при дворе, а кардинал Ришелье усматривал в нем подрыв устоев религии и общества. (Это нетрудно себе представить – в начале XVIII в., когда в моду входил чинный и галантный менуэт, то, что кавалер берет руку дамы, считалось невиданным нарушением приличий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Аллеманда"/>
          <p:cNvPicPr/>
          <p:nvPr/>
        </p:nvPicPr>
        <p:blipFill>
          <a:blip r:embed="rId1"/>
          <a:stretch/>
        </p:blipFill>
        <p:spPr>
          <a:xfrm>
            <a:off x="5651640" y="2060640"/>
            <a:ext cx="2945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50920" y="316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История возникновения валь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272880" y="1181160"/>
            <a:ext cx="88707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хии в это же время был популярен веселый танец фурм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4080" y="1944720"/>
            <a:ext cx="460800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рмант означает «франт», «гордец». Парень, подражая франтоватому богачу, сначала горделиво выступает, шагает, а потом начинает гоняться по кругу за своей партнершей и, поймав ее, обнимает за талию и начинает кружиться в веселом танце под одобрительную песню и притопывание оста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rcRect l="17300" t="9142" r="61479" b="38499"/>
          <a:stretch/>
        </p:blipFill>
        <p:spPr>
          <a:xfrm>
            <a:off x="5651640" y="2060640"/>
            <a:ext cx="2917440" cy="44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е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35680" cy="52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имел огромный успех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 производил настоящий фурор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ри многих дворах Европы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1815 году после победы над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Наполеоном в Вене, на конгрессе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союзников-победителей, на всех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алах самозабвенно танцевали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 – чарующий, волшебный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лестящий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менно тогда вальс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риобрел свою специфическую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собенность – акцентированный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итм, который сделал этот танец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олее элегантным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 более романтичным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46" name="Picture 13" descr="Медленный вальс"/>
          <p:cNvPicPr/>
          <p:nvPr/>
        </p:nvPicPr>
        <p:blipFill>
          <a:blip r:embed="rId1"/>
          <a:stretch/>
        </p:blipFill>
        <p:spPr>
          <a:xfrm>
            <a:off x="5651640" y="1268280"/>
            <a:ext cx="3126960" cy="48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1908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Венски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50920" y="960480"/>
            <a:ext cx="481932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Два замечательных композитора, живших в Вене – Иоганн Штраус-отец (1804 – 1849) и еще более знаменитый Иоганн Штраус-сын, написавший такие широко известные и популярные и сегодня шедевры как «Голубой Дунай» и «Сказки Венского леса», способствовали становлению венского вальса, затмившего собой все другие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альс, став официальным бальным танцем, как нельзя лучше гармонировал и с тогдашней модой: узкие в талии платья с роскошными пышными юбками с кринолином подчеркивали красоту движений дамы.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49" name="Picture 8" descr="Johann_Strauss_I_(1)"/>
          <p:cNvPicPr/>
          <p:nvPr/>
        </p:nvPicPr>
        <p:blipFill>
          <a:blip r:embed="rId1"/>
          <a:srcRect l="7874" t="15128" r="5499" b="7370"/>
          <a:stretch/>
        </p:blipFill>
        <p:spPr>
          <a:xfrm>
            <a:off x="5292720" y="1268280"/>
            <a:ext cx="2376000" cy="29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10867107"/>
          <p:cNvPicPr/>
          <p:nvPr/>
        </p:nvPicPr>
        <p:blipFill>
          <a:blip r:embed="rId2"/>
          <a:stretch/>
        </p:blipFill>
        <p:spPr>
          <a:xfrm>
            <a:off x="6588000" y="3068640"/>
            <a:ext cx="240012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250920" y="1116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Медленны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3568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За свою 150-летнюю историю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существования вальс не раз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двергался изменениям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едленный вальс окончательн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формился в Англии, и, хотя е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еще называют вальс-бостон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 действительном месте е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рождения говорить трудно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Кто-то считает, что эта форма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также родилась в Австрии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кто-то склонен полагать, чт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на имеет русские корни.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т классического венского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этот вальс отличается и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узыкой, и движениями. </a:t>
            </a:r>
            <a:endParaRPr b="0" lang="ru-RU" sz="20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53" name="Picture 12" descr="Медленный вальс"/>
          <p:cNvPicPr/>
          <p:nvPr/>
        </p:nvPicPr>
        <p:blipFill>
          <a:blip r:embed="rId1"/>
          <a:stretch/>
        </p:blipFill>
        <p:spPr>
          <a:xfrm>
            <a:off x="5292720" y="1268280"/>
            <a:ext cx="280800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50920" y="14400"/>
            <a:ext cx="86864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игурный ва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7040" y="1181160"/>
            <a:ext cx="4674960" cy="550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76092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Franklin Gothic Book"/>
              </a:rPr>
              <a:t>Фигурные вальсы исполняются преимущественно по 3-й позиции, по кругу. Начальная позиция - кавалер стоит спиной в центр, дама - лицом. Состоят из фиксированных схем. Характер музыки - средний, хотя можно исполнять и под быструю, и под медленную</a:t>
            </a:r>
            <a:endParaRPr b="0" lang="ru-RU" sz="2400" spc="-1" strike="noStrike">
              <a:solidFill>
                <a:srgbClr val="404040"/>
              </a:solidFill>
              <a:latin typeface="Franklin Gothic Book"/>
            </a:endParaRPr>
          </a:p>
        </p:txBody>
      </p:sp>
      <p:pic>
        <p:nvPicPr>
          <p:cNvPr id="256" name="Picture 6" descr="Картинка 27 из 7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3660480" cy="48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19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9</Template>
  <TotalTime>4226</TotalTime>
  <Application>LibreOffice/7.4.7.2$Linux_X86_64 LibreOffice_project/40$Build-2</Application>
  <AppVersion>15.0000</AppVersion>
  <Words>827</Words>
  <Paragraphs>57</Paragraphs>
  <Company>Home Sweet 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16:47Z</dcterms:created>
  <dc:creator>User PC</dc:creator>
  <dc:description/>
  <dc:language>en-US</dc:language>
  <cp:lastModifiedBy>Артём</cp:lastModifiedBy>
  <dcterms:modified xsi:type="dcterms:W3CDTF">2023-05-17T17:19:35Z</dcterms:modified>
  <cp:revision>64</cp:revision>
  <dc:subject/>
  <dc:title>Проект по предмету музыка: «Где живет вальс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