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F822B7C-E7D8-4CED-A5DA-0EAE4D35A7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228B620-45B8-4123-AE67-7EA8316DFF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8171F2F-A140-4C32-B68A-130E68099F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398E5A3-6B97-4979-AF0D-A478AEB506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6032A34-C7BA-464C-BD73-DFD7E3CBB8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05E3C7A-353B-4545-BC57-9961A4A379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56E69AB-5C5D-4D98-AA69-F1BB1080AA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D3C0C2F-B118-41EC-9A5E-8B77C48A0A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FACA24A-9E60-4676-BB7F-0EDC0B4EFE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73BC6CF-A5E9-4A9C-921F-AD9FAA5FA7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6FDB7A8-72ED-4DB2-AF8E-953B1BE302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7D94-9327-408D-9E0C-5DE099E3F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7960" y="609480"/>
            <a:ext cx="6446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7960" y="2160720"/>
            <a:ext cx="644652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7960" y="4188240"/>
            <a:ext cx="644652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DCEF-1723-4FAA-931F-C31475184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7960" y="609480"/>
            <a:ext cx="6446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960" y="2160720"/>
            <a:ext cx="314568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811320" y="2160720"/>
            <a:ext cx="314568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7960" y="4188240"/>
            <a:ext cx="314568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3811320" y="4188240"/>
            <a:ext cx="314568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5D26-E293-4B4B-80BE-1D6D1516B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7960" y="609480"/>
            <a:ext cx="6446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7960" y="2160720"/>
            <a:ext cx="207540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687400" y="2160720"/>
            <a:ext cx="207540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67200" y="2160720"/>
            <a:ext cx="207540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07960" y="4188240"/>
            <a:ext cx="207540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2687400" y="4188240"/>
            <a:ext cx="207540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4867200" y="4188240"/>
            <a:ext cx="207540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B886-A8EA-4798-A2BF-04C3160CE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646AF-65AE-4750-8EDE-3EBF78D94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7960" y="609480"/>
            <a:ext cx="6446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507960" y="2160720"/>
            <a:ext cx="644652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5E6ED-E7DF-4A7E-A333-5597D4FD3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7960" y="609480"/>
            <a:ext cx="6446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7960" y="2160720"/>
            <a:ext cx="644652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5067D-7329-4655-AE00-CB7651A42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7960" y="609480"/>
            <a:ext cx="6446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7960" y="2160720"/>
            <a:ext cx="314568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1320" y="2160720"/>
            <a:ext cx="314568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F7365-33FB-4A04-9E41-72A724191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609480"/>
            <a:ext cx="6446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0882E-6424-44C4-AC6E-8E7F77B78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507960" y="609480"/>
            <a:ext cx="644652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12B3C-FB1A-4A02-A6BF-FC237A2C2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7960" y="609480"/>
            <a:ext cx="6446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7960" y="2160720"/>
            <a:ext cx="314568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811320" y="2160720"/>
            <a:ext cx="314568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07960" y="4188240"/>
            <a:ext cx="314568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8BFB9-8377-479C-82A9-DF4BE0A0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7960" y="609480"/>
            <a:ext cx="6446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507960" y="2160720"/>
            <a:ext cx="644652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E410-2E22-46FE-B1A8-567871440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7960" y="609480"/>
            <a:ext cx="6446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7960" y="2160720"/>
            <a:ext cx="314568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1320" y="2160720"/>
            <a:ext cx="314568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3811320" y="4188240"/>
            <a:ext cx="314568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7105D-4A30-48D7-924B-29397165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7960" y="609480"/>
            <a:ext cx="6446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7960" y="2160720"/>
            <a:ext cx="314568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11320" y="2160720"/>
            <a:ext cx="314568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7960" y="4188240"/>
            <a:ext cx="644652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D5B7C-31BC-4C60-B20B-0C4DE1A6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7960" y="609480"/>
            <a:ext cx="6446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7960" y="2160720"/>
            <a:ext cx="644652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7960" y="4188240"/>
            <a:ext cx="644652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5A818-023D-47CF-A474-A6FC9DFB6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7960" y="609480"/>
            <a:ext cx="6446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7960" y="2160720"/>
            <a:ext cx="314568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811320" y="2160720"/>
            <a:ext cx="314568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7960" y="4188240"/>
            <a:ext cx="314568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3811320" y="4188240"/>
            <a:ext cx="314568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A36BF-8336-4F36-97FE-043B9B5B3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960" y="609480"/>
            <a:ext cx="6446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7960" y="2160720"/>
            <a:ext cx="207540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87400" y="2160720"/>
            <a:ext cx="207540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67200" y="2160720"/>
            <a:ext cx="207540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07960" y="4188240"/>
            <a:ext cx="207540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2687400" y="4188240"/>
            <a:ext cx="207540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4867200" y="4188240"/>
            <a:ext cx="207540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178C2-AA55-4697-942D-1FB22B026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BE35C-DBA4-44A3-B921-53B033BC0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7960" y="609480"/>
            <a:ext cx="6446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07960" y="2160720"/>
            <a:ext cx="644652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F0746-2785-4B38-BE95-840F46D5A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7960" y="609480"/>
            <a:ext cx="6446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7960" y="2160720"/>
            <a:ext cx="644652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C88AD-26B7-4EE9-BAE2-50013CACC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7960" y="609480"/>
            <a:ext cx="6446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7960" y="2160720"/>
            <a:ext cx="314568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11320" y="2160720"/>
            <a:ext cx="314568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3F4EA-8713-41E3-9DBE-974951BAB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7960" y="609480"/>
            <a:ext cx="6446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66563-24EC-4781-A538-8DEAE0B25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609480"/>
            <a:ext cx="6446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2160720"/>
            <a:ext cx="644652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62EB-42B3-40EB-BBFA-00FED8A24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507960" y="609480"/>
            <a:ext cx="644652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3EC0A-75FF-463D-9245-36AFA24B8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7960" y="609480"/>
            <a:ext cx="6446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7960" y="2160720"/>
            <a:ext cx="314568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811320" y="2160720"/>
            <a:ext cx="314568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960" y="4188240"/>
            <a:ext cx="314568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1CC5A-A32B-4284-9541-3D73638F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7960" y="609480"/>
            <a:ext cx="6446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7960" y="2160720"/>
            <a:ext cx="314568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11320" y="2160720"/>
            <a:ext cx="314568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811320" y="4188240"/>
            <a:ext cx="314568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8CA8A-0A0F-4E4C-8BDF-293C91DA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7960" y="609480"/>
            <a:ext cx="6446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7960" y="2160720"/>
            <a:ext cx="314568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811320" y="2160720"/>
            <a:ext cx="314568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7960" y="4188240"/>
            <a:ext cx="644652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19F92-001C-46FA-80B9-9A9C1448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7960" y="609480"/>
            <a:ext cx="6446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7960" y="2160720"/>
            <a:ext cx="644652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07960" y="4188240"/>
            <a:ext cx="644652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80399-D575-4542-A80D-561C91251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7960" y="609480"/>
            <a:ext cx="6446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7960" y="2160720"/>
            <a:ext cx="314568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811320" y="2160720"/>
            <a:ext cx="314568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07960" y="4188240"/>
            <a:ext cx="314568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811320" y="4188240"/>
            <a:ext cx="314568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5C3B0-B0C8-4348-B9DF-7255215FE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7960" y="609480"/>
            <a:ext cx="6446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7960" y="2160720"/>
            <a:ext cx="207540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2687400" y="2160720"/>
            <a:ext cx="207540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867200" y="2160720"/>
            <a:ext cx="207540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07960" y="4188240"/>
            <a:ext cx="207540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2687400" y="4188240"/>
            <a:ext cx="207540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4867200" y="4188240"/>
            <a:ext cx="207540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72E26-AACA-46F1-A502-C7656D5BE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A784D-F3B8-4613-997E-F316CCF0C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7960" y="609480"/>
            <a:ext cx="6446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507960" y="2160720"/>
            <a:ext cx="644652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5F119-3A6B-41A1-8889-3AC55EE75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7960" y="609480"/>
            <a:ext cx="6446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7960" y="2160720"/>
            <a:ext cx="644652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606E8-2CCB-46D6-86C3-B9BE57694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7960" y="609480"/>
            <a:ext cx="6446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7960" y="2160720"/>
            <a:ext cx="314568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11320" y="2160720"/>
            <a:ext cx="314568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2378-0269-4A7B-935A-03ED039F4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7960" y="609480"/>
            <a:ext cx="6446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7960" y="2160720"/>
            <a:ext cx="314568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11320" y="2160720"/>
            <a:ext cx="314568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4B781-FCE7-410D-89E6-F7C9A84D3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7960" y="609480"/>
            <a:ext cx="6446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FE6A8-7D2B-4D64-B626-9C02D022F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507960" y="609480"/>
            <a:ext cx="644652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B445E-EDD4-4521-93C9-3ABBC3D51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7960" y="609480"/>
            <a:ext cx="6446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7960" y="2160720"/>
            <a:ext cx="314568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811320" y="2160720"/>
            <a:ext cx="314568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07960" y="4188240"/>
            <a:ext cx="314568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3A10B-D133-484F-87F7-78467F12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7960" y="609480"/>
            <a:ext cx="6446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7960" y="2160720"/>
            <a:ext cx="314568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811320" y="2160720"/>
            <a:ext cx="314568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811320" y="4188240"/>
            <a:ext cx="314568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DCE65-A6FA-430F-842E-1ECF2971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7960" y="609480"/>
            <a:ext cx="6446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7960" y="2160720"/>
            <a:ext cx="314568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811320" y="2160720"/>
            <a:ext cx="314568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7960" y="4188240"/>
            <a:ext cx="644652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1453E-43FC-42E4-9C06-E98C5048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7960" y="609480"/>
            <a:ext cx="6446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7960" y="2160720"/>
            <a:ext cx="644652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7960" y="4188240"/>
            <a:ext cx="644652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09E5C-3232-4EF8-8EDE-27C7FBB52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7960" y="609480"/>
            <a:ext cx="6446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7960" y="2160720"/>
            <a:ext cx="314568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811320" y="2160720"/>
            <a:ext cx="314568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7960" y="4188240"/>
            <a:ext cx="314568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3811320" y="4188240"/>
            <a:ext cx="314568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4D5B0-29C9-47CD-9F35-077B021F1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7960" y="609480"/>
            <a:ext cx="6446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7960" y="2160720"/>
            <a:ext cx="207540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2687400" y="2160720"/>
            <a:ext cx="207540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867200" y="2160720"/>
            <a:ext cx="207540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07960" y="4188240"/>
            <a:ext cx="207540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2687400" y="4188240"/>
            <a:ext cx="207540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4867200" y="4188240"/>
            <a:ext cx="207540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42877-C435-4CB6-A662-6C42D6FD1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7960" y="609480"/>
            <a:ext cx="6446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4FD7-F7D0-43C3-8C08-590570181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507960" y="609480"/>
            <a:ext cx="644652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C94D-47F3-40C8-A0ED-FE1A24C10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7960" y="609480"/>
            <a:ext cx="6446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7960" y="2160720"/>
            <a:ext cx="314568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11320" y="2160720"/>
            <a:ext cx="314568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07960" y="4188240"/>
            <a:ext cx="314568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74A2-A55D-4CA4-AE31-7A7188DC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07960" y="609480"/>
            <a:ext cx="6446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07960" y="2160720"/>
            <a:ext cx="314568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1320" y="2160720"/>
            <a:ext cx="314568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811320" y="4188240"/>
            <a:ext cx="314568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7A8E-084A-4F2F-B885-030185D7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7960" y="609480"/>
            <a:ext cx="6446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7960" y="2160720"/>
            <a:ext cx="314568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11320" y="2160720"/>
            <a:ext cx="314568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07960" y="4188240"/>
            <a:ext cx="644652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D790-C4F2-455B-B26F-8EB2E932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8"/>
          <p:cNvGrpSpPr/>
          <p:nvPr/>
        </p:nvGrpSpPr>
        <p:grpSpPr>
          <a:xfrm>
            <a:off x="0" y="-7920"/>
            <a:ext cx="9143640" cy="6865920"/>
            <a:chOff x="0" y="-7920"/>
            <a:chExt cx="9143640" cy="6865920"/>
          </a:xfrm>
        </p:grpSpPr>
        <p:cxnSp>
          <p:nvCxnSpPr>
            <p:cNvPr id="1" name="Straight Connector 18"/>
            <p:cNvCxnSpPr/>
            <p:nvPr/>
          </p:nvCxnSpPr>
          <p:spPr>
            <a:xfrm>
              <a:off x="7027560" y="0"/>
              <a:ext cx="914760" cy="6858360"/>
            </a:xfrm>
            <a:prstGeom prst="straightConnector1">
              <a:avLst/>
            </a:prstGeom>
            <a:ln w="9525">
              <a:solidFill>
                <a:srgbClr val="4f81bd">
                  <a:alpha val="70000"/>
                </a:srgbClr>
              </a:solidFill>
              <a:round/>
            </a:ln>
          </p:spPr>
        </p:cxnSp>
        <p:cxnSp>
          <p:nvCxnSpPr>
            <p:cNvPr id="2" name="Straight Connector 19"/>
            <p:cNvCxnSpPr/>
            <p:nvPr/>
          </p:nvCxnSpPr>
          <p:spPr>
            <a:xfrm flipH="1">
              <a:off x="5568840" y="3681360"/>
              <a:ext cx="3573720" cy="3177000"/>
            </a:xfrm>
            <a:prstGeom prst="straightConnector1">
              <a:avLst/>
            </a:prstGeom>
            <a:ln w="9525">
              <a:solidFill>
                <a:srgbClr val="4f81bd">
                  <a:alpha val="70000"/>
                </a:srgbClr>
              </a:solidFill>
              <a:round/>
            </a:ln>
          </p:spPr>
        </p:cxnSp>
        <p:sp>
          <p:nvSpPr>
            <p:cNvPr id="3" name="Rectangle 23"/>
            <p:cNvSpPr/>
            <p:nvPr/>
          </p:nvSpPr>
          <p:spPr>
            <a:xfrm>
              <a:off x="6886440" y="-7920"/>
              <a:ext cx="2255400" cy="6865560"/>
            </a:xfrm>
            <a:custGeom>
              <a:avLst/>
              <a:gdLst>
                <a:gd name="textAreaLeft" fmla="*/ 0 w 2255400"/>
                <a:gd name="textAreaRight" fmla="*/ 2255760 w 2255400"/>
                <a:gd name="textAreaTop" fmla="*/ 0 h 6865560"/>
                <a:gd name="textAreaBottom" fmla="*/ 6865920 h 686556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6000"/>
              </a:schemeClr>
            </a:solidFill>
            <a:ln>
              <a:noFill/>
            </a:ln>
            <a:effectLst>
              <a:softEdge rad="12600"/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7202520" y="-7920"/>
              <a:ext cx="1941120" cy="6865560"/>
            </a:xfrm>
            <a:custGeom>
              <a:avLst/>
              <a:gdLst>
                <a:gd name="textAreaLeft" fmla="*/ 0 w 1941120"/>
                <a:gd name="textAreaRight" fmla="*/ 1941480 w 1941120"/>
                <a:gd name="textAreaTop" fmla="*/ 0 h 6865560"/>
                <a:gd name="textAreaBottom" fmla="*/ 6865920 h 686556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softEdge rad="12600"/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Isosceles Triangle 22"/>
            <p:cNvSpPr/>
            <p:nvPr/>
          </p:nvSpPr>
          <p:spPr>
            <a:xfrm>
              <a:off x="6699240" y="3048120"/>
              <a:ext cx="2444400" cy="38095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alpha val="72000"/>
              </a:schemeClr>
            </a:solidFill>
            <a:ln>
              <a:noFill/>
            </a:ln>
            <a:effectLst>
              <a:softEdge rad="12600"/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7000920" y="-7920"/>
              <a:ext cx="2141280" cy="6865560"/>
            </a:xfrm>
            <a:custGeom>
              <a:avLst/>
              <a:gdLst>
                <a:gd name="textAreaLeft" fmla="*/ 0 w 2141280"/>
                <a:gd name="textAreaRight" fmla="*/ 2141640 w 2141280"/>
                <a:gd name="textAreaTop" fmla="*/ 0 h 6865560"/>
                <a:gd name="textAreaBottom" fmla="*/ 6865920 h 686556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lumMod val="75000"/>
                <a:alpha val="50000"/>
              </a:schemeClr>
            </a:solidFill>
            <a:ln>
              <a:noFill/>
            </a:ln>
            <a:effectLst>
              <a:softEdge rad="12600"/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8174160" y="-7920"/>
              <a:ext cx="966600" cy="6865560"/>
            </a:xfrm>
            <a:custGeom>
              <a:avLst/>
              <a:gdLst>
                <a:gd name="textAreaLeft" fmla="*/ 0 w 966600"/>
                <a:gd name="textAreaRight" fmla="*/ 966960 w 966600"/>
                <a:gd name="textAreaTop" fmla="*/ 0 h 6865560"/>
                <a:gd name="textAreaBottom" fmla="*/ 6865920 h 686556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1">
                <a:lumMod val="75000"/>
                <a:alpha val="70000"/>
              </a:schemeClr>
            </a:solidFill>
            <a:ln>
              <a:noFill/>
            </a:ln>
            <a:effectLst>
              <a:softEdge rad="12600"/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8204040" y="-7920"/>
              <a:ext cx="936360" cy="6865560"/>
            </a:xfrm>
            <a:custGeom>
              <a:avLst/>
              <a:gdLst>
                <a:gd name="textAreaLeft" fmla="*/ 0 w 936360"/>
                <a:gd name="textAreaRight" fmla="*/ 936720 w 936360"/>
                <a:gd name="textAreaTop" fmla="*/ 0 h 6865560"/>
                <a:gd name="textAreaBottom" fmla="*/ 6865920 h 686556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lumMod val="50000"/>
                <a:alpha val="80000"/>
              </a:schemeClr>
            </a:solidFill>
            <a:ln>
              <a:noFill/>
            </a:ln>
            <a:effectLst>
              <a:softEdge rad="12600"/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Isosceles Triangle 26"/>
            <p:cNvSpPr/>
            <p:nvPr/>
          </p:nvSpPr>
          <p:spPr>
            <a:xfrm>
              <a:off x="7778880" y="3589200"/>
              <a:ext cx="1363320" cy="326844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lumMod val="50000"/>
                <a:alpha val="66000"/>
              </a:schemeClr>
            </a:solidFill>
            <a:ln>
              <a:noFill/>
            </a:ln>
            <a:effectLst>
              <a:softEdge rad="12600"/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Isosceles Triangle 27"/>
            <p:cNvSpPr/>
            <p:nvPr/>
          </p:nvSpPr>
          <p:spPr>
            <a:xfrm>
              <a:off x="0" y="4013280"/>
              <a:ext cx="336240" cy="2844360"/>
            </a:xfrm>
            <a:prstGeom prst="triangle">
              <a:avLst>
                <a:gd name="adj" fmla="val 0"/>
              </a:avLst>
            </a:prstGeom>
            <a:solidFill>
              <a:schemeClr val="accent1">
                <a:lumMod val="75000"/>
                <a:alpha val="70000"/>
              </a:schemeClr>
            </a:solidFill>
            <a:ln>
              <a:noFill/>
            </a:ln>
            <a:effectLst>
              <a:softEdge rad="12600"/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Group 15"/>
          <p:cNvGrpSpPr/>
          <p:nvPr/>
        </p:nvGrpSpPr>
        <p:grpSpPr>
          <a:xfrm>
            <a:off x="360" y="-7920"/>
            <a:ext cx="9143280" cy="6865920"/>
            <a:chOff x="360" y="-7920"/>
            <a:chExt cx="9143280" cy="6865920"/>
          </a:xfrm>
        </p:grpSpPr>
        <p:cxnSp>
          <p:nvCxnSpPr>
            <p:cNvPr id="12" name="Straight Connector 18"/>
            <p:cNvCxnSpPr/>
            <p:nvPr/>
          </p:nvCxnSpPr>
          <p:spPr>
            <a:xfrm>
              <a:off x="7027560" y="0"/>
              <a:ext cx="914760" cy="6858360"/>
            </a:xfrm>
            <a:prstGeom prst="straightConnector1">
              <a:avLst/>
            </a:prstGeom>
            <a:ln w="9525">
              <a:solidFill>
                <a:srgbClr val="4f81bd">
                  <a:alpha val="70000"/>
                </a:srgbClr>
              </a:solidFill>
              <a:round/>
            </a:ln>
          </p:spPr>
        </p:cxnSp>
        <p:cxnSp>
          <p:nvCxnSpPr>
            <p:cNvPr id="13" name="Straight Connector 19"/>
            <p:cNvCxnSpPr/>
            <p:nvPr/>
          </p:nvCxnSpPr>
          <p:spPr>
            <a:xfrm flipH="1">
              <a:off x="5568840" y="3681360"/>
              <a:ext cx="3573720" cy="3177000"/>
            </a:xfrm>
            <a:prstGeom prst="straightConnector1">
              <a:avLst/>
            </a:prstGeom>
            <a:ln w="9525">
              <a:solidFill>
                <a:srgbClr val="4f81bd">
                  <a:alpha val="70000"/>
                </a:srgbClr>
              </a:solidFill>
              <a:round/>
            </a:ln>
          </p:spPr>
        </p:cxnSp>
        <p:sp>
          <p:nvSpPr>
            <p:cNvPr id="14" name="Rectangle 23"/>
            <p:cNvSpPr/>
            <p:nvPr/>
          </p:nvSpPr>
          <p:spPr>
            <a:xfrm>
              <a:off x="6886440" y="-7920"/>
              <a:ext cx="2255400" cy="6865560"/>
            </a:xfrm>
            <a:custGeom>
              <a:avLst/>
              <a:gdLst>
                <a:gd name="textAreaLeft" fmla="*/ 0 w 2255400"/>
                <a:gd name="textAreaRight" fmla="*/ 2255760 w 2255400"/>
                <a:gd name="textAreaTop" fmla="*/ 0 h 6865560"/>
                <a:gd name="textAreaBottom" fmla="*/ 6865920 h 686556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6000"/>
              </a:schemeClr>
            </a:solidFill>
            <a:ln>
              <a:noFill/>
            </a:ln>
            <a:effectLst>
              <a:softEdge rad="12600"/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25"/>
            <p:cNvSpPr/>
            <p:nvPr/>
          </p:nvSpPr>
          <p:spPr>
            <a:xfrm>
              <a:off x="7202520" y="-7920"/>
              <a:ext cx="1941120" cy="6865560"/>
            </a:xfrm>
            <a:custGeom>
              <a:avLst/>
              <a:gdLst>
                <a:gd name="textAreaLeft" fmla="*/ 0 w 1941120"/>
                <a:gd name="textAreaRight" fmla="*/ 1941480 w 1941120"/>
                <a:gd name="textAreaTop" fmla="*/ 0 h 6865560"/>
                <a:gd name="textAreaBottom" fmla="*/ 6865920 h 686556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softEdge rad="12600"/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Isosceles Triangle 22"/>
            <p:cNvSpPr/>
            <p:nvPr/>
          </p:nvSpPr>
          <p:spPr>
            <a:xfrm>
              <a:off x="6699240" y="3048120"/>
              <a:ext cx="2444400" cy="38095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alpha val="72000"/>
              </a:schemeClr>
            </a:solidFill>
            <a:ln>
              <a:noFill/>
            </a:ln>
            <a:effectLst>
              <a:softEdge rad="12600"/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27"/>
            <p:cNvSpPr/>
            <p:nvPr/>
          </p:nvSpPr>
          <p:spPr>
            <a:xfrm>
              <a:off x="7000920" y="-7920"/>
              <a:ext cx="2141280" cy="6865560"/>
            </a:xfrm>
            <a:custGeom>
              <a:avLst/>
              <a:gdLst>
                <a:gd name="textAreaLeft" fmla="*/ 0 w 2141280"/>
                <a:gd name="textAreaRight" fmla="*/ 2141640 w 2141280"/>
                <a:gd name="textAreaTop" fmla="*/ 0 h 6865560"/>
                <a:gd name="textAreaBottom" fmla="*/ 6865920 h 686556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lumMod val="75000"/>
                <a:alpha val="50000"/>
              </a:schemeClr>
            </a:solidFill>
            <a:ln>
              <a:noFill/>
            </a:ln>
            <a:effectLst>
              <a:softEdge rad="12600"/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8"/>
            <p:cNvSpPr/>
            <p:nvPr/>
          </p:nvSpPr>
          <p:spPr>
            <a:xfrm>
              <a:off x="8174160" y="-7920"/>
              <a:ext cx="966600" cy="6865560"/>
            </a:xfrm>
            <a:custGeom>
              <a:avLst/>
              <a:gdLst>
                <a:gd name="textAreaLeft" fmla="*/ 0 w 966600"/>
                <a:gd name="textAreaRight" fmla="*/ 966960 w 966600"/>
                <a:gd name="textAreaTop" fmla="*/ 0 h 6865560"/>
                <a:gd name="textAreaBottom" fmla="*/ 6865920 h 686556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1">
                <a:lumMod val="75000"/>
                <a:alpha val="70000"/>
              </a:schemeClr>
            </a:solidFill>
            <a:ln>
              <a:noFill/>
            </a:ln>
            <a:effectLst>
              <a:softEdge rad="12600"/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9"/>
            <p:cNvSpPr/>
            <p:nvPr/>
          </p:nvSpPr>
          <p:spPr>
            <a:xfrm>
              <a:off x="8204040" y="-7920"/>
              <a:ext cx="936360" cy="6865560"/>
            </a:xfrm>
            <a:custGeom>
              <a:avLst/>
              <a:gdLst>
                <a:gd name="textAreaLeft" fmla="*/ 0 w 936360"/>
                <a:gd name="textAreaRight" fmla="*/ 936720 w 936360"/>
                <a:gd name="textAreaTop" fmla="*/ 0 h 6865560"/>
                <a:gd name="textAreaBottom" fmla="*/ 6865920 h 686556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lumMod val="50000"/>
                <a:alpha val="80000"/>
              </a:schemeClr>
            </a:solidFill>
            <a:ln>
              <a:noFill/>
            </a:ln>
            <a:effectLst>
              <a:softEdge rad="12600"/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Isosceles Triangle 26"/>
            <p:cNvSpPr/>
            <p:nvPr/>
          </p:nvSpPr>
          <p:spPr>
            <a:xfrm>
              <a:off x="7778880" y="3589200"/>
              <a:ext cx="1363320" cy="326844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lumMod val="50000"/>
                <a:alpha val="66000"/>
              </a:schemeClr>
            </a:solidFill>
            <a:ln>
              <a:noFill/>
            </a:ln>
            <a:effectLst>
              <a:softEdge rad="12600"/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Isosceles Triangle 28"/>
            <p:cNvSpPr/>
            <p:nvPr/>
          </p:nvSpPr>
          <p:spPr>
            <a:xfrm rot="10800000">
              <a:off x="360" y="360"/>
              <a:ext cx="631440" cy="56653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lumMod val="75000"/>
                <a:alpha val="70000"/>
              </a:schemeClr>
            </a:solidFill>
            <a:ln>
              <a:noFill/>
            </a:ln>
            <a:effectLst>
              <a:softEdge rad="12600"/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30400" y="2404440"/>
            <a:ext cx="5824800" cy="164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chemeClr val="accent1">
                    <a:lumMod val="75000"/>
                  </a:schemeClr>
                </a:solidFill>
                <a:latin typeface="Franklin Gothic Medium"/>
              </a:rPr>
              <a:t>Образец заголовка</a:t>
            </a:r>
            <a:endParaRPr b="0" lang="ru-RU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dt" idx="1"/>
          </p:nvPr>
        </p:nvSpPr>
        <p:spPr>
          <a:xfrm>
            <a:off x="5403960" y="6041880"/>
            <a:ext cx="6840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2"/>
          </p:nvPr>
        </p:nvSpPr>
        <p:spPr>
          <a:xfrm>
            <a:off x="507960" y="6041880"/>
            <a:ext cx="4722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3"/>
          </p:nvPr>
        </p:nvSpPr>
        <p:spPr>
          <a:xfrm>
            <a:off x="6443640" y="6041880"/>
            <a:ext cx="5108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37609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A5E6EE1-1578-4C9F-9288-417C331C69A9}" type="slidenum">
              <a:rPr b="0" lang="ru-RU" sz="900" spc="-1" strike="noStrike">
                <a:solidFill>
                  <a:srgbClr val="37609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04040"/>
                </a:solidFill>
                <a:latin typeface="Franklin Gothic Book"/>
              </a:rPr>
              <a:t>Click to edit the outline text format</a:t>
            </a: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404040"/>
                </a:solidFill>
                <a:latin typeface="Franklin Gothic Book"/>
              </a:rPr>
              <a:t>Second Outline Level</a:t>
            </a:r>
            <a:endParaRPr b="0" lang="ru-RU" sz="1400" spc="-1" strike="noStrike">
              <a:solidFill>
                <a:srgbClr val="40404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200" spc="-1" strike="noStrike">
                <a:solidFill>
                  <a:srgbClr val="404040"/>
                </a:solidFill>
                <a:latin typeface="Franklin Gothic Book"/>
              </a:rPr>
              <a:t>Third Outline Level</a:t>
            </a:r>
            <a:endParaRPr b="0" lang="ru-RU" sz="1200" spc="-1" strike="noStrike">
              <a:solidFill>
                <a:srgbClr val="40404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200" spc="-1" strike="noStrike">
                <a:solidFill>
                  <a:srgbClr val="404040"/>
                </a:solidFill>
                <a:latin typeface="Franklin Gothic Book"/>
              </a:rPr>
              <a:t>Fourth Outline Level</a:t>
            </a:r>
            <a:endParaRPr b="0" lang="ru-RU" sz="1200" spc="-1" strike="noStrike">
              <a:solidFill>
                <a:srgbClr val="40404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8"/>
          <p:cNvGrpSpPr/>
          <p:nvPr/>
        </p:nvGrpSpPr>
        <p:grpSpPr>
          <a:xfrm>
            <a:off x="0" y="-7920"/>
            <a:ext cx="9143640" cy="6865920"/>
            <a:chOff x="0" y="-7920"/>
            <a:chExt cx="9143640" cy="6865920"/>
          </a:xfrm>
        </p:grpSpPr>
        <p:cxnSp>
          <p:nvCxnSpPr>
            <p:cNvPr id="64" name="Straight Connector 18"/>
            <p:cNvCxnSpPr/>
            <p:nvPr/>
          </p:nvCxnSpPr>
          <p:spPr>
            <a:xfrm>
              <a:off x="7027560" y="0"/>
              <a:ext cx="914760" cy="6858360"/>
            </a:xfrm>
            <a:prstGeom prst="straightConnector1">
              <a:avLst/>
            </a:prstGeom>
            <a:ln w="9525">
              <a:solidFill>
                <a:srgbClr val="4f81bd">
                  <a:alpha val="70000"/>
                </a:srgbClr>
              </a:solidFill>
              <a:round/>
            </a:ln>
          </p:spPr>
        </p:cxnSp>
        <p:cxnSp>
          <p:nvCxnSpPr>
            <p:cNvPr id="65" name="Straight Connector 19"/>
            <p:cNvCxnSpPr/>
            <p:nvPr/>
          </p:nvCxnSpPr>
          <p:spPr>
            <a:xfrm flipH="1">
              <a:off x="5568840" y="3681360"/>
              <a:ext cx="3573720" cy="3177000"/>
            </a:xfrm>
            <a:prstGeom prst="straightConnector1">
              <a:avLst/>
            </a:prstGeom>
            <a:ln w="9525">
              <a:solidFill>
                <a:srgbClr val="4f81bd">
                  <a:alpha val="70000"/>
                </a:srgbClr>
              </a:solidFill>
              <a:round/>
            </a:ln>
          </p:spPr>
        </p:cxnSp>
        <p:sp>
          <p:nvSpPr>
            <p:cNvPr id="66" name="Rectangle 23"/>
            <p:cNvSpPr/>
            <p:nvPr/>
          </p:nvSpPr>
          <p:spPr>
            <a:xfrm>
              <a:off x="6886440" y="-7920"/>
              <a:ext cx="2255400" cy="6865560"/>
            </a:xfrm>
            <a:custGeom>
              <a:avLst/>
              <a:gdLst>
                <a:gd name="textAreaLeft" fmla="*/ 0 w 2255400"/>
                <a:gd name="textAreaRight" fmla="*/ 2255760 w 2255400"/>
                <a:gd name="textAreaTop" fmla="*/ 0 h 6865560"/>
                <a:gd name="textAreaBottom" fmla="*/ 6865920 h 686556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6000"/>
              </a:schemeClr>
            </a:solidFill>
            <a:ln>
              <a:noFill/>
            </a:ln>
            <a:effectLst>
              <a:softEdge rad="12600"/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25"/>
            <p:cNvSpPr/>
            <p:nvPr/>
          </p:nvSpPr>
          <p:spPr>
            <a:xfrm>
              <a:off x="7202520" y="-7920"/>
              <a:ext cx="1941120" cy="6865560"/>
            </a:xfrm>
            <a:custGeom>
              <a:avLst/>
              <a:gdLst>
                <a:gd name="textAreaLeft" fmla="*/ 0 w 1941120"/>
                <a:gd name="textAreaRight" fmla="*/ 1941480 w 1941120"/>
                <a:gd name="textAreaTop" fmla="*/ 0 h 6865560"/>
                <a:gd name="textAreaBottom" fmla="*/ 6865920 h 686556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softEdge rad="12600"/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Isosceles Triangle 22"/>
            <p:cNvSpPr/>
            <p:nvPr/>
          </p:nvSpPr>
          <p:spPr>
            <a:xfrm>
              <a:off x="6699240" y="3048120"/>
              <a:ext cx="2444400" cy="38095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alpha val="72000"/>
              </a:schemeClr>
            </a:solidFill>
            <a:ln>
              <a:noFill/>
            </a:ln>
            <a:effectLst>
              <a:softEdge rad="12600"/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27"/>
            <p:cNvSpPr/>
            <p:nvPr/>
          </p:nvSpPr>
          <p:spPr>
            <a:xfrm>
              <a:off x="7000920" y="-7920"/>
              <a:ext cx="2141280" cy="6865560"/>
            </a:xfrm>
            <a:custGeom>
              <a:avLst/>
              <a:gdLst>
                <a:gd name="textAreaLeft" fmla="*/ 0 w 2141280"/>
                <a:gd name="textAreaRight" fmla="*/ 2141640 w 2141280"/>
                <a:gd name="textAreaTop" fmla="*/ 0 h 6865560"/>
                <a:gd name="textAreaBottom" fmla="*/ 6865920 h 686556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lumMod val="75000"/>
                <a:alpha val="50000"/>
              </a:schemeClr>
            </a:solidFill>
            <a:ln>
              <a:noFill/>
            </a:ln>
            <a:effectLst>
              <a:softEdge rad="12600"/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28"/>
            <p:cNvSpPr/>
            <p:nvPr/>
          </p:nvSpPr>
          <p:spPr>
            <a:xfrm>
              <a:off x="8174160" y="-7920"/>
              <a:ext cx="966600" cy="6865560"/>
            </a:xfrm>
            <a:custGeom>
              <a:avLst/>
              <a:gdLst>
                <a:gd name="textAreaLeft" fmla="*/ 0 w 966600"/>
                <a:gd name="textAreaRight" fmla="*/ 966960 w 966600"/>
                <a:gd name="textAreaTop" fmla="*/ 0 h 6865560"/>
                <a:gd name="textAreaBottom" fmla="*/ 6865920 h 686556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1">
                <a:lumMod val="75000"/>
                <a:alpha val="70000"/>
              </a:schemeClr>
            </a:solidFill>
            <a:ln>
              <a:noFill/>
            </a:ln>
            <a:effectLst>
              <a:softEdge rad="12600"/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29"/>
            <p:cNvSpPr/>
            <p:nvPr/>
          </p:nvSpPr>
          <p:spPr>
            <a:xfrm>
              <a:off x="8204040" y="-7920"/>
              <a:ext cx="936360" cy="6865560"/>
            </a:xfrm>
            <a:custGeom>
              <a:avLst/>
              <a:gdLst>
                <a:gd name="textAreaLeft" fmla="*/ 0 w 936360"/>
                <a:gd name="textAreaRight" fmla="*/ 936720 w 936360"/>
                <a:gd name="textAreaTop" fmla="*/ 0 h 6865560"/>
                <a:gd name="textAreaBottom" fmla="*/ 6865920 h 686556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lumMod val="50000"/>
                <a:alpha val="80000"/>
              </a:schemeClr>
            </a:solidFill>
            <a:ln>
              <a:noFill/>
            </a:ln>
            <a:effectLst>
              <a:softEdge rad="12600"/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Isosceles Triangle 26"/>
            <p:cNvSpPr/>
            <p:nvPr/>
          </p:nvSpPr>
          <p:spPr>
            <a:xfrm>
              <a:off x="7778880" y="3589200"/>
              <a:ext cx="1363320" cy="326844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lumMod val="50000"/>
                <a:alpha val="66000"/>
              </a:schemeClr>
            </a:solidFill>
            <a:ln>
              <a:noFill/>
            </a:ln>
            <a:effectLst>
              <a:softEdge rad="12600"/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Isosceles Triangle 27"/>
            <p:cNvSpPr/>
            <p:nvPr/>
          </p:nvSpPr>
          <p:spPr>
            <a:xfrm>
              <a:off x="0" y="4013280"/>
              <a:ext cx="336240" cy="2844360"/>
            </a:xfrm>
            <a:prstGeom prst="triangle">
              <a:avLst>
                <a:gd name="adj" fmla="val 0"/>
              </a:avLst>
            </a:prstGeom>
            <a:solidFill>
              <a:schemeClr val="accent1">
                <a:lumMod val="75000"/>
                <a:alpha val="70000"/>
              </a:schemeClr>
            </a:solidFill>
            <a:ln>
              <a:noFill/>
            </a:ln>
            <a:effectLst>
              <a:softEdge rad="12600"/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7960" y="609480"/>
            <a:ext cx="6446520" cy="1320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376092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507960" y="2160720"/>
            <a:ext cx="3137760" cy="3880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76092"/>
              </a:buClr>
              <a:buSzPct val="80000"/>
              <a:buFont typeface="Wingdings 3" charset="2"/>
              <a:buChar char=""/>
            </a:pPr>
            <a:r>
              <a:rPr b="0" lang="ru-RU" sz="3200" spc="-1" strike="noStrike">
                <a:solidFill>
                  <a:srgbClr val="404040"/>
                </a:solidFill>
                <a:latin typeface="Franklin Gothic Book"/>
              </a:rPr>
              <a:t>Образец текста</a:t>
            </a: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376092"/>
              </a:buClr>
              <a:buSzPct val="80000"/>
              <a:buFont typeface="Wingdings 3" charset="2"/>
              <a:buChar char=""/>
            </a:pPr>
            <a:r>
              <a:rPr b="0" lang="ru-RU" sz="1600" spc="-1" strike="noStrike">
                <a:solidFill>
                  <a:srgbClr val="404040"/>
                </a:solidFill>
                <a:latin typeface="Franklin Gothic Book"/>
              </a:rPr>
              <a:t>Второй уровень</a:t>
            </a:r>
            <a:endParaRPr b="0" lang="ru-RU" sz="1600" spc="-1" strike="noStrike">
              <a:solidFill>
                <a:srgbClr val="404040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376092"/>
              </a:buClr>
              <a:buSzPct val="80000"/>
              <a:buFont typeface="Wingdings 3" charset="2"/>
              <a:buChar char=""/>
            </a:pPr>
            <a:r>
              <a:rPr b="0" lang="ru-RU" sz="1400" spc="-1" strike="noStrike">
                <a:solidFill>
                  <a:srgbClr val="404040"/>
                </a:solidFill>
                <a:latin typeface="Franklin Gothic Book"/>
              </a:rPr>
              <a:t>Третий уровень</a:t>
            </a:r>
            <a:endParaRPr b="0" lang="ru-RU" sz="1400" spc="-1" strike="noStrike">
              <a:solidFill>
                <a:srgbClr val="40404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376092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Franklin Gothic Book"/>
              </a:rPr>
              <a:t>Четвертый уровень</a:t>
            </a:r>
            <a:endParaRPr b="0" lang="ru-RU" sz="1200" spc="-1" strike="noStrike">
              <a:solidFill>
                <a:srgbClr val="40404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376092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Franklin Gothic Book"/>
              </a:rPr>
              <a:t>Пятый уровень</a:t>
            </a:r>
            <a:endParaRPr b="0" lang="ru-RU" sz="1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body"/>
          </p:nvPr>
        </p:nvSpPr>
        <p:spPr>
          <a:xfrm>
            <a:off x="3817440" y="2160720"/>
            <a:ext cx="3137760" cy="3880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76092"/>
              </a:buClr>
              <a:buSzPct val="80000"/>
              <a:buFont typeface="Wingdings 3" charset="2"/>
              <a:buChar char=""/>
            </a:pPr>
            <a:r>
              <a:rPr b="0" lang="ru-RU" sz="3200" spc="-1" strike="noStrike">
                <a:solidFill>
                  <a:srgbClr val="404040"/>
                </a:solidFill>
                <a:latin typeface="Franklin Gothic Book"/>
              </a:rPr>
              <a:t>Образец текста</a:t>
            </a: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376092"/>
              </a:buClr>
              <a:buSzPct val="80000"/>
              <a:buFont typeface="Wingdings 3" charset="2"/>
              <a:buChar char=""/>
            </a:pPr>
            <a:r>
              <a:rPr b="0" lang="ru-RU" sz="1600" spc="-1" strike="noStrike">
                <a:solidFill>
                  <a:srgbClr val="404040"/>
                </a:solidFill>
                <a:latin typeface="Franklin Gothic Book"/>
              </a:rPr>
              <a:t>Второй уровень</a:t>
            </a:r>
            <a:endParaRPr b="0" lang="ru-RU" sz="1600" spc="-1" strike="noStrike">
              <a:solidFill>
                <a:srgbClr val="404040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376092"/>
              </a:buClr>
              <a:buSzPct val="80000"/>
              <a:buFont typeface="Wingdings 3" charset="2"/>
              <a:buChar char=""/>
            </a:pPr>
            <a:r>
              <a:rPr b="0" lang="ru-RU" sz="1400" spc="-1" strike="noStrike">
                <a:solidFill>
                  <a:srgbClr val="404040"/>
                </a:solidFill>
                <a:latin typeface="Franklin Gothic Book"/>
              </a:rPr>
              <a:t>Третий уровень</a:t>
            </a:r>
            <a:endParaRPr b="0" lang="ru-RU" sz="1400" spc="-1" strike="noStrike">
              <a:solidFill>
                <a:srgbClr val="40404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376092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Franklin Gothic Book"/>
              </a:rPr>
              <a:t>Четвертый уровень</a:t>
            </a:r>
            <a:endParaRPr b="0" lang="ru-RU" sz="1200" spc="-1" strike="noStrike">
              <a:solidFill>
                <a:srgbClr val="40404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376092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Franklin Gothic Book"/>
              </a:rPr>
              <a:t>Пятый уровень</a:t>
            </a:r>
            <a:endParaRPr b="0" lang="ru-RU" sz="1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dt" idx="4"/>
          </p:nvPr>
        </p:nvSpPr>
        <p:spPr>
          <a:xfrm>
            <a:off x="5403960" y="6041880"/>
            <a:ext cx="6840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ftr" idx="5"/>
          </p:nvPr>
        </p:nvSpPr>
        <p:spPr>
          <a:xfrm>
            <a:off x="507960" y="6041880"/>
            <a:ext cx="4722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 type="sldNum" idx="6"/>
          </p:nvPr>
        </p:nvSpPr>
        <p:spPr>
          <a:xfrm>
            <a:off x="6443640" y="6041880"/>
            <a:ext cx="5108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37609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9617433-E21A-4B70-AE23-CA49A022A645}" type="slidenum">
              <a:rPr b="0" lang="ru-RU" sz="900" spc="-1" strike="noStrike">
                <a:solidFill>
                  <a:srgbClr val="37609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8"/>
          <p:cNvGrpSpPr/>
          <p:nvPr/>
        </p:nvGrpSpPr>
        <p:grpSpPr>
          <a:xfrm>
            <a:off x="0" y="-7920"/>
            <a:ext cx="9143640" cy="6865920"/>
            <a:chOff x="0" y="-7920"/>
            <a:chExt cx="9143640" cy="6865920"/>
          </a:xfrm>
        </p:grpSpPr>
        <p:cxnSp>
          <p:nvCxnSpPr>
            <p:cNvPr id="117" name="Straight Connector 18"/>
            <p:cNvCxnSpPr/>
            <p:nvPr/>
          </p:nvCxnSpPr>
          <p:spPr>
            <a:xfrm>
              <a:off x="7027560" y="0"/>
              <a:ext cx="914760" cy="6858360"/>
            </a:xfrm>
            <a:prstGeom prst="straightConnector1">
              <a:avLst/>
            </a:prstGeom>
            <a:ln w="9525">
              <a:solidFill>
                <a:srgbClr val="4f81bd">
                  <a:alpha val="70000"/>
                </a:srgbClr>
              </a:solidFill>
              <a:round/>
            </a:ln>
          </p:spPr>
        </p:cxnSp>
        <p:cxnSp>
          <p:nvCxnSpPr>
            <p:cNvPr id="118" name="Straight Connector 19"/>
            <p:cNvCxnSpPr/>
            <p:nvPr/>
          </p:nvCxnSpPr>
          <p:spPr>
            <a:xfrm flipH="1">
              <a:off x="5568840" y="3681360"/>
              <a:ext cx="3573720" cy="3177000"/>
            </a:xfrm>
            <a:prstGeom prst="straightConnector1">
              <a:avLst/>
            </a:prstGeom>
            <a:ln w="9525">
              <a:solidFill>
                <a:srgbClr val="4f81bd">
                  <a:alpha val="70000"/>
                </a:srgbClr>
              </a:solidFill>
              <a:round/>
            </a:ln>
          </p:spPr>
        </p:cxnSp>
        <p:sp>
          <p:nvSpPr>
            <p:cNvPr id="119" name="Rectangle 23"/>
            <p:cNvSpPr/>
            <p:nvPr/>
          </p:nvSpPr>
          <p:spPr>
            <a:xfrm>
              <a:off x="6886440" y="-7920"/>
              <a:ext cx="2255400" cy="6865560"/>
            </a:xfrm>
            <a:custGeom>
              <a:avLst/>
              <a:gdLst>
                <a:gd name="textAreaLeft" fmla="*/ 0 w 2255400"/>
                <a:gd name="textAreaRight" fmla="*/ 2255760 w 2255400"/>
                <a:gd name="textAreaTop" fmla="*/ 0 h 6865560"/>
                <a:gd name="textAreaBottom" fmla="*/ 6865920 h 686556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6000"/>
              </a:schemeClr>
            </a:solidFill>
            <a:ln>
              <a:noFill/>
            </a:ln>
            <a:effectLst>
              <a:softEdge rad="12600"/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25"/>
            <p:cNvSpPr/>
            <p:nvPr/>
          </p:nvSpPr>
          <p:spPr>
            <a:xfrm>
              <a:off x="7202520" y="-7920"/>
              <a:ext cx="1941120" cy="6865560"/>
            </a:xfrm>
            <a:custGeom>
              <a:avLst/>
              <a:gdLst>
                <a:gd name="textAreaLeft" fmla="*/ 0 w 1941120"/>
                <a:gd name="textAreaRight" fmla="*/ 1941480 w 1941120"/>
                <a:gd name="textAreaTop" fmla="*/ 0 h 6865560"/>
                <a:gd name="textAreaBottom" fmla="*/ 6865920 h 686556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softEdge rad="12600"/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Isosceles Triangle 22"/>
            <p:cNvSpPr/>
            <p:nvPr/>
          </p:nvSpPr>
          <p:spPr>
            <a:xfrm>
              <a:off x="6699240" y="3048120"/>
              <a:ext cx="2444400" cy="38095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alpha val="72000"/>
              </a:schemeClr>
            </a:solidFill>
            <a:ln>
              <a:noFill/>
            </a:ln>
            <a:effectLst>
              <a:softEdge rad="12600"/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7"/>
            <p:cNvSpPr/>
            <p:nvPr/>
          </p:nvSpPr>
          <p:spPr>
            <a:xfrm>
              <a:off x="7000920" y="-7920"/>
              <a:ext cx="2141280" cy="6865560"/>
            </a:xfrm>
            <a:custGeom>
              <a:avLst/>
              <a:gdLst>
                <a:gd name="textAreaLeft" fmla="*/ 0 w 2141280"/>
                <a:gd name="textAreaRight" fmla="*/ 2141640 w 2141280"/>
                <a:gd name="textAreaTop" fmla="*/ 0 h 6865560"/>
                <a:gd name="textAreaBottom" fmla="*/ 6865920 h 686556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lumMod val="75000"/>
                <a:alpha val="50000"/>
              </a:schemeClr>
            </a:solidFill>
            <a:ln>
              <a:noFill/>
            </a:ln>
            <a:effectLst>
              <a:softEdge rad="12600"/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28"/>
            <p:cNvSpPr/>
            <p:nvPr/>
          </p:nvSpPr>
          <p:spPr>
            <a:xfrm>
              <a:off x="8174160" y="-7920"/>
              <a:ext cx="966600" cy="6865560"/>
            </a:xfrm>
            <a:custGeom>
              <a:avLst/>
              <a:gdLst>
                <a:gd name="textAreaLeft" fmla="*/ 0 w 966600"/>
                <a:gd name="textAreaRight" fmla="*/ 966960 w 966600"/>
                <a:gd name="textAreaTop" fmla="*/ 0 h 6865560"/>
                <a:gd name="textAreaBottom" fmla="*/ 6865920 h 686556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1">
                <a:lumMod val="75000"/>
                <a:alpha val="70000"/>
              </a:schemeClr>
            </a:solidFill>
            <a:ln>
              <a:noFill/>
            </a:ln>
            <a:effectLst>
              <a:softEdge rad="12600"/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9"/>
            <p:cNvSpPr/>
            <p:nvPr/>
          </p:nvSpPr>
          <p:spPr>
            <a:xfrm>
              <a:off x="8204040" y="-7920"/>
              <a:ext cx="936360" cy="6865560"/>
            </a:xfrm>
            <a:custGeom>
              <a:avLst/>
              <a:gdLst>
                <a:gd name="textAreaLeft" fmla="*/ 0 w 936360"/>
                <a:gd name="textAreaRight" fmla="*/ 936720 w 936360"/>
                <a:gd name="textAreaTop" fmla="*/ 0 h 6865560"/>
                <a:gd name="textAreaBottom" fmla="*/ 6865920 h 686556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lumMod val="50000"/>
                <a:alpha val="80000"/>
              </a:schemeClr>
            </a:solidFill>
            <a:ln>
              <a:noFill/>
            </a:ln>
            <a:effectLst>
              <a:softEdge rad="12600"/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Isosceles Triangle 26"/>
            <p:cNvSpPr/>
            <p:nvPr/>
          </p:nvSpPr>
          <p:spPr>
            <a:xfrm>
              <a:off x="7778880" y="3589200"/>
              <a:ext cx="1363320" cy="326844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lumMod val="50000"/>
                <a:alpha val="66000"/>
              </a:schemeClr>
            </a:solidFill>
            <a:ln>
              <a:noFill/>
            </a:ln>
            <a:effectLst>
              <a:softEdge rad="12600"/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Isosceles Triangle 27"/>
            <p:cNvSpPr/>
            <p:nvPr/>
          </p:nvSpPr>
          <p:spPr>
            <a:xfrm>
              <a:off x="0" y="4013280"/>
              <a:ext cx="336240" cy="2844360"/>
            </a:xfrm>
            <a:prstGeom prst="triangle">
              <a:avLst>
                <a:gd name="adj" fmla="val 0"/>
              </a:avLst>
            </a:prstGeom>
            <a:solidFill>
              <a:schemeClr val="accent1">
                <a:lumMod val="75000"/>
                <a:alpha val="70000"/>
              </a:schemeClr>
            </a:solidFill>
            <a:ln>
              <a:noFill/>
            </a:ln>
            <a:effectLst>
              <a:softEdge rad="12600"/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376092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380952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76092"/>
              </a:buClr>
              <a:buSzPct val="80000"/>
              <a:buFont typeface="Wingdings 3" charset="2"/>
              <a:buChar char=""/>
            </a:pPr>
            <a:r>
              <a:rPr b="0" lang="ru-RU" sz="3200" spc="-1" strike="noStrike">
                <a:solidFill>
                  <a:srgbClr val="404040"/>
                </a:solidFill>
                <a:latin typeface="Franklin Gothic Book"/>
              </a:rPr>
              <a:t>Образец текста</a:t>
            </a: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376092"/>
              </a:buClr>
              <a:buSzPct val="80000"/>
              <a:buFont typeface="Wingdings 3" charset="2"/>
              <a:buChar char=""/>
            </a:pPr>
            <a:r>
              <a:rPr b="0" lang="ru-RU" sz="1600" spc="-1" strike="noStrike">
                <a:solidFill>
                  <a:srgbClr val="404040"/>
                </a:solidFill>
                <a:latin typeface="Franklin Gothic Book"/>
              </a:rPr>
              <a:t>Второй уровень</a:t>
            </a:r>
            <a:endParaRPr b="0" lang="ru-RU" sz="1600" spc="-1" strike="noStrike">
              <a:solidFill>
                <a:srgbClr val="404040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376092"/>
              </a:buClr>
              <a:buSzPct val="80000"/>
              <a:buFont typeface="Wingdings 3" charset="2"/>
              <a:buChar char=""/>
            </a:pPr>
            <a:r>
              <a:rPr b="0" lang="ru-RU" sz="1400" spc="-1" strike="noStrike">
                <a:solidFill>
                  <a:srgbClr val="404040"/>
                </a:solidFill>
                <a:latin typeface="Franklin Gothic Book"/>
              </a:rPr>
              <a:t>Третий уровень</a:t>
            </a:r>
            <a:endParaRPr b="0" lang="ru-RU" sz="1400" spc="-1" strike="noStrike">
              <a:solidFill>
                <a:srgbClr val="40404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376092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Franklin Gothic Book"/>
              </a:rPr>
              <a:t>Четвертый уровень</a:t>
            </a:r>
            <a:endParaRPr b="0" lang="ru-RU" sz="1200" spc="-1" strike="noStrike">
              <a:solidFill>
                <a:srgbClr val="40404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376092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Franklin Gothic Book"/>
              </a:rPr>
              <a:t>Пятый уровень</a:t>
            </a:r>
            <a:endParaRPr b="0" lang="ru-RU" sz="1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body"/>
          </p:nvPr>
        </p:nvSpPr>
        <p:spPr>
          <a:xfrm>
            <a:off x="5145120" y="2017800"/>
            <a:ext cx="380952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76092"/>
              </a:buClr>
              <a:buSzPct val="80000"/>
              <a:buFont typeface="Wingdings 3" charset="2"/>
              <a:buChar char=""/>
            </a:pPr>
            <a:r>
              <a:rPr b="0" lang="ru-RU" sz="3200" spc="-1" strike="noStrike">
                <a:solidFill>
                  <a:srgbClr val="404040"/>
                </a:solidFill>
                <a:latin typeface="Franklin Gothic Book"/>
              </a:rPr>
              <a:t>Образец текста</a:t>
            </a: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376092"/>
              </a:buClr>
              <a:buSzPct val="80000"/>
              <a:buFont typeface="Wingdings 3" charset="2"/>
              <a:buChar char=""/>
            </a:pPr>
            <a:r>
              <a:rPr b="0" lang="ru-RU" sz="1600" spc="-1" strike="noStrike">
                <a:solidFill>
                  <a:srgbClr val="404040"/>
                </a:solidFill>
                <a:latin typeface="Franklin Gothic Book"/>
              </a:rPr>
              <a:t>Второй уровень</a:t>
            </a:r>
            <a:endParaRPr b="0" lang="ru-RU" sz="1600" spc="-1" strike="noStrike">
              <a:solidFill>
                <a:srgbClr val="404040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376092"/>
              </a:buClr>
              <a:buSzPct val="80000"/>
              <a:buFont typeface="Wingdings 3" charset="2"/>
              <a:buChar char=""/>
            </a:pPr>
            <a:r>
              <a:rPr b="0" lang="ru-RU" sz="1400" spc="-1" strike="noStrike">
                <a:solidFill>
                  <a:srgbClr val="404040"/>
                </a:solidFill>
                <a:latin typeface="Franklin Gothic Book"/>
              </a:rPr>
              <a:t>Третий уровень</a:t>
            </a:r>
            <a:endParaRPr b="0" lang="ru-RU" sz="1400" spc="-1" strike="noStrike">
              <a:solidFill>
                <a:srgbClr val="40404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376092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Franklin Gothic Book"/>
              </a:rPr>
              <a:t>Четвертый уровень</a:t>
            </a:r>
            <a:endParaRPr b="0" lang="ru-RU" sz="1200" spc="-1" strike="noStrike">
              <a:solidFill>
                <a:srgbClr val="40404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376092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Franklin Gothic Book"/>
              </a:rPr>
              <a:t>Пятый уровень</a:t>
            </a:r>
            <a:endParaRPr b="0" lang="ru-RU" sz="1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dt" idx="7"/>
          </p:nvPr>
        </p:nvSpPr>
        <p:spPr>
          <a:xfrm>
            <a:off x="5403960" y="6041880"/>
            <a:ext cx="6840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507960" y="6041880"/>
            <a:ext cx="4722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6443640" y="6041880"/>
            <a:ext cx="5108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37609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231DFD5-A788-4B88-914E-5268EFF891B1}" type="slidenum">
              <a:rPr b="0" lang="ru-RU" sz="900" spc="-1" strike="noStrike">
                <a:solidFill>
                  <a:srgbClr val="37609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28"/>
          <p:cNvGrpSpPr/>
          <p:nvPr/>
        </p:nvGrpSpPr>
        <p:grpSpPr>
          <a:xfrm>
            <a:off x="0" y="-7920"/>
            <a:ext cx="9143640" cy="6865920"/>
            <a:chOff x="0" y="-7920"/>
            <a:chExt cx="9143640" cy="6865920"/>
          </a:xfrm>
        </p:grpSpPr>
        <p:cxnSp>
          <p:nvCxnSpPr>
            <p:cNvPr id="170" name="Straight Connector 18"/>
            <p:cNvCxnSpPr/>
            <p:nvPr/>
          </p:nvCxnSpPr>
          <p:spPr>
            <a:xfrm>
              <a:off x="7027560" y="0"/>
              <a:ext cx="914760" cy="6858360"/>
            </a:xfrm>
            <a:prstGeom prst="straightConnector1">
              <a:avLst/>
            </a:prstGeom>
            <a:ln w="9525">
              <a:solidFill>
                <a:srgbClr val="4f81bd">
                  <a:alpha val="70000"/>
                </a:srgbClr>
              </a:solidFill>
              <a:round/>
            </a:ln>
          </p:spPr>
        </p:cxnSp>
        <p:cxnSp>
          <p:nvCxnSpPr>
            <p:cNvPr id="171" name="Straight Connector 19"/>
            <p:cNvCxnSpPr/>
            <p:nvPr/>
          </p:nvCxnSpPr>
          <p:spPr>
            <a:xfrm flipH="1">
              <a:off x="5568840" y="3681360"/>
              <a:ext cx="3573720" cy="3177000"/>
            </a:xfrm>
            <a:prstGeom prst="straightConnector1">
              <a:avLst/>
            </a:prstGeom>
            <a:ln w="9525">
              <a:solidFill>
                <a:srgbClr val="4f81bd">
                  <a:alpha val="70000"/>
                </a:srgbClr>
              </a:solidFill>
              <a:round/>
            </a:ln>
          </p:spPr>
        </p:cxnSp>
        <p:sp>
          <p:nvSpPr>
            <p:cNvPr id="172" name="Rectangle 23"/>
            <p:cNvSpPr/>
            <p:nvPr/>
          </p:nvSpPr>
          <p:spPr>
            <a:xfrm>
              <a:off x="6886440" y="-7920"/>
              <a:ext cx="2255400" cy="6865560"/>
            </a:xfrm>
            <a:custGeom>
              <a:avLst/>
              <a:gdLst>
                <a:gd name="textAreaLeft" fmla="*/ 0 w 2255400"/>
                <a:gd name="textAreaRight" fmla="*/ 2255760 w 2255400"/>
                <a:gd name="textAreaTop" fmla="*/ 0 h 6865560"/>
                <a:gd name="textAreaBottom" fmla="*/ 6865920 h 686556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6000"/>
              </a:schemeClr>
            </a:solidFill>
            <a:ln>
              <a:noFill/>
            </a:ln>
            <a:effectLst>
              <a:softEdge rad="12600"/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25"/>
            <p:cNvSpPr/>
            <p:nvPr/>
          </p:nvSpPr>
          <p:spPr>
            <a:xfrm>
              <a:off x="7202520" y="-7920"/>
              <a:ext cx="1941120" cy="6865560"/>
            </a:xfrm>
            <a:custGeom>
              <a:avLst/>
              <a:gdLst>
                <a:gd name="textAreaLeft" fmla="*/ 0 w 1941120"/>
                <a:gd name="textAreaRight" fmla="*/ 1941480 w 1941120"/>
                <a:gd name="textAreaTop" fmla="*/ 0 h 6865560"/>
                <a:gd name="textAreaBottom" fmla="*/ 6865920 h 686556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softEdge rad="12600"/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Isosceles Triangle 22"/>
            <p:cNvSpPr/>
            <p:nvPr/>
          </p:nvSpPr>
          <p:spPr>
            <a:xfrm>
              <a:off x="6699240" y="3048120"/>
              <a:ext cx="2444400" cy="38095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alpha val="72000"/>
              </a:schemeClr>
            </a:solidFill>
            <a:ln>
              <a:noFill/>
            </a:ln>
            <a:effectLst>
              <a:softEdge rad="12600"/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27"/>
            <p:cNvSpPr/>
            <p:nvPr/>
          </p:nvSpPr>
          <p:spPr>
            <a:xfrm>
              <a:off x="7000920" y="-7920"/>
              <a:ext cx="2141280" cy="6865560"/>
            </a:xfrm>
            <a:custGeom>
              <a:avLst/>
              <a:gdLst>
                <a:gd name="textAreaLeft" fmla="*/ 0 w 2141280"/>
                <a:gd name="textAreaRight" fmla="*/ 2141640 w 2141280"/>
                <a:gd name="textAreaTop" fmla="*/ 0 h 6865560"/>
                <a:gd name="textAreaBottom" fmla="*/ 6865920 h 686556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lumMod val="75000"/>
                <a:alpha val="50000"/>
              </a:schemeClr>
            </a:solidFill>
            <a:ln>
              <a:noFill/>
            </a:ln>
            <a:effectLst>
              <a:softEdge rad="12600"/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28"/>
            <p:cNvSpPr/>
            <p:nvPr/>
          </p:nvSpPr>
          <p:spPr>
            <a:xfrm>
              <a:off x="8174160" y="-7920"/>
              <a:ext cx="966600" cy="6865560"/>
            </a:xfrm>
            <a:custGeom>
              <a:avLst/>
              <a:gdLst>
                <a:gd name="textAreaLeft" fmla="*/ 0 w 966600"/>
                <a:gd name="textAreaRight" fmla="*/ 966960 w 966600"/>
                <a:gd name="textAreaTop" fmla="*/ 0 h 6865560"/>
                <a:gd name="textAreaBottom" fmla="*/ 6865920 h 686556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1">
                <a:lumMod val="75000"/>
                <a:alpha val="70000"/>
              </a:schemeClr>
            </a:solidFill>
            <a:ln>
              <a:noFill/>
            </a:ln>
            <a:effectLst>
              <a:softEdge rad="12600"/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9"/>
            <p:cNvSpPr/>
            <p:nvPr/>
          </p:nvSpPr>
          <p:spPr>
            <a:xfrm>
              <a:off x="8204040" y="-7920"/>
              <a:ext cx="936360" cy="6865560"/>
            </a:xfrm>
            <a:custGeom>
              <a:avLst/>
              <a:gdLst>
                <a:gd name="textAreaLeft" fmla="*/ 0 w 936360"/>
                <a:gd name="textAreaRight" fmla="*/ 936720 w 936360"/>
                <a:gd name="textAreaTop" fmla="*/ 0 h 6865560"/>
                <a:gd name="textAreaBottom" fmla="*/ 6865920 h 686556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lumMod val="50000"/>
                <a:alpha val="80000"/>
              </a:schemeClr>
            </a:solidFill>
            <a:ln>
              <a:noFill/>
            </a:ln>
            <a:effectLst>
              <a:softEdge rad="12600"/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Isosceles Triangle 26"/>
            <p:cNvSpPr/>
            <p:nvPr/>
          </p:nvSpPr>
          <p:spPr>
            <a:xfrm>
              <a:off x="7778880" y="3589200"/>
              <a:ext cx="1363320" cy="326844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lumMod val="50000"/>
                <a:alpha val="66000"/>
              </a:schemeClr>
            </a:solidFill>
            <a:ln>
              <a:noFill/>
            </a:ln>
            <a:effectLst>
              <a:softEdge rad="12600"/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Isosceles Triangle 27"/>
            <p:cNvSpPr/>
            <p:nvPr/>
          </p:nvSpPr>
          <p:spPr>
            <a:xfrm>
              <a:off x="0" y="4013280"/>
              <a:ext cx="336240" cy="2844360"/>
            </a:xfrm>
            <a:prstGeom prst="triangle">
              <a:avLst>
                <a:gd name="adj" fmla="val 0"/>
              </a:avLst>
            </a:prstGeom>
            <a:solidFill>
              <a:schemeClr val="accent1">
                <a:lumMod val="75000"/>
                <a:alpha val="70000"/>
              </a:schemeClr>
            </a:solidFill>
            <a:ln>
              <a:noFill/>
            </a:ln>
            <a:effectLst>
              <a:softEdge rad="12600"/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7960" y="609480"/>
            <a:ext cx="6446520" cy="1320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376092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507960" y="2160720"/>
            <a:ext cx="6446520" cy="3881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76092"/>
              </a:buClr>
              <a:buSzPct val="80000"/>
              <a:buFont typeface="Wingdings 3" charset="2"/>
              <a:buChar char=""/>
            </a:pPr>
            <a:r>
              <a:rPr b="0" lang="ru-RU" sz="3200" spc="-1" strike="noStrike">
                <a:solidFill>
                  <a:srgbClr val="404040"/>
                </a:solidFill>
                <a:latin typeface="Franklin Gothic Book"/>
              </a:rPr>
              <a:t>Образец текста</a:t>
            </a: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376092"/>
              </a:buClr>
              <a:buSzPct val="80000"/>
              <a:buFont typeface="Wingdings 3" charset="2"/>
              <a:buChar char=""/>
            </a:pPr>
            <a:r>
              <a:rPr b="0" lang="ru-RU" sz="1600" spc="-1" strike="noStrike">
                <a:solidFill>
                  <a:srgbClr val="404040"/>
                </a:solidFill>
                <a:latin typeface="Franklin Gothic Book"/>
              </a:rPr>
              <a:t>Второй уровень</a:t>
            </a:r>
            <a:endParaRPr b="0" lang="ru-RU" sz="1600" spc="-1" strike="noStrike">
              <a:solidFill>
                <a:srgbClr val="404040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376092"/>
              </a:buClr>
              <a:buSzPct val="80000"/>
              <a:buFont typeface="Wingdings 3" charset="2"/>
              <a:buChar char=""/>
            </a:pPr>
            <a:r>
              <a:rPr b="0" lang="ru-RU" sz="1400" spc="-1" strike="noStrike">
                <a:solidFill>
                  <a:srgbClr val="404040"/>
                </a:solidFill>
                <a:latin typeface="Franklin Gothic Book"/>
              </a:rPr>
              <a:t>Третий уровень</a:t>
            </a:r>
            <a:endParaRPr b="0" lang="ru-RU" sz="1400" spc="-1" strike="noStrike">
              <a:solidFill>
                <a:srgbClr val="40404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376092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Franklin Gothic Book"/>
              </a:rPr>
              <a:t>Четвертый уровень</a:t>
            </a:r>
            <a:endParaRPr b="0" lang="ru-RU" sz="1200" spc="-1" strike="noStrike">
              <a:solidFill>
                <a:srgbClr val="40404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376092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Franklin Gothic Book"/>
              </a:rPr>
              <a:t>Пятый уровень</a:t>
            </a:r>
            <a:endParaRPr b="0" lang="ru-RU" sz="1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0"/>
          </p:nvPr>
        </p:nvSpPr>
        <p:spPr>
          <a:xfrm>
            <a:off x="5403960" y="6041880"/>
            <a:ext cx="6840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1"/>
          </p:nvPr>
        </p:nvSpPr>
        <p:spPr>
          <a:xfrm>
            <a:off x="507960" y="6041880"/>
            <a:ext cx="4722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2"/>
          </p:nvPr>
        </p:nvSpPr>
        <p:spPr>
          <a:xfrm>
            <a:off x="6443640" y="6041880"/>
            <a:ext cx="5108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37609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D140998-8D4C-46AD-A1FC-03393310BF06}" type="slidenum">
              <a:rPr b="0" lang="ru-RU" sz="900" spc="-1" strike="noStrike">
                <a:solidFill>
                  <a:srgbClr val="37609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077.radikal.ru/0907/57/134b77bcbe13.jpg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b.foto.radikal.ru/0603/0eff1b6e7343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tihi.ru/pics/2009/05/19/4215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6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08.radikal.ru/i181/0909/de/d76a5b472743.jpg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30400" y="404640"/>
            <a:ext cx="5824800" cy="1367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chemeClr val="accent1">
                    <a:lumMod val="75000"/>
                  </a:schemeClr>
                </a:solidFill>
                <a:latin typeface="Franklin Gothic Medium"/>
              </a:rPr>
              <a:t>Старинные танцы</a:t>
            </a:r>
            <a:endParaRPr b="0" lang="ru-RU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130400" y="2493000"/>
            <a:ext cx="5824800" cy="2654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808080"/>
                </a:solidFill>
                <a:latin typeface="Franklin Gothic Book"/>
              </a:rPr>
              <a:t>Составил: преподаватель Нижневартовского социально-гуманитарного колледжа Харченко Э.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250920" y="14400"/>
            <a:ext cx="8686440" cy="91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1f497d"/>
                </a:solidFill>
                <a:latin typeface="Times New Roman"/>
              </a:rPr>
              <a:t>Аргентинский валь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257040" y="1181160"/>
            <a:ext cx="4819320" cy="55051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76092"/>
              </a:buClr>
              <a:buSzPct val="80000"/>
              <a:buFont typeface="Wingdings 3" charset="2"/>
              <a:buChar char=""/>
            </a:pPr>
            <a:r>
              <a:rPr b="0" lang="ru-RU" sz="2400" spc="-1" strike="noStrike">
                <a:solidFill>
                  <a:srgbClr val="404040"/>
                </a:solidFill>
                <a:latin typeface="Franklin Gothic Book"/>
              </a:rPr>
              <a:t>Танго-Вальс или Аргентинский Вальс – согласно названию несут в себе элементы и Танго, и Вальса. Танцуется Аргентинский Вальс на 3/4, однако движения используются, в основном, те же, что и в Танго.Известные Вальсы</a:t>
            </a:r>
            <a:endParaRPr b="0" lang="ru-RU" sz="2400" spc="-1" strike="noStrike">
              <a:solidFill>
                <a:srgbClr val="40404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0" y="123516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440" y="5052240"/>
            <a:ext cx="18108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10" descr="Картинка 34 из 18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92720" y="1268280"/>
            <a:ext cx="36446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250920" y="14400"/>
            <a:ext cx="8686440" cy="91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1f497d"/>
                </a:solidFill>
                <a:latin typeface="Times New Roman"/>
              </a:rPr>
              <a:t>Вальс-босто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257040" y="1181160"/>
            <a:ext cx="4819320" cy="55051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76092"/>
              </a:buClr>
              <a:buSzPct val="80000"/>
              <a:buFont typeface="Wingdings 3" charset="2"/>
              <a:buChar char=""/>
            </a:pPr>
            <a:r>
              <a:rPr b="0" lang="ru-RU" sz="2400" spc="-1" strike="noStrike">
                <a:solidFill>
                  <a:srgbClr val="404040"/>
                </a:solidFill>
                <a:latin typeface="Franklin Gothic Book"/>
              </a:rPr>
              <a:t>Салонный и народный танец начала XX века, родившийся из медленного исполнения венского вальса. Характер исполнения достаточно свободный. Схема движения произвольная. Музыка умеренно медленная, 40 т/мин и менее.</a:t>
            </a:r>
            <a:endParaRPr b="0" lang="ru-RU" sz="2400" spc="-1" strike="noStrike">
              <a:solidFill>
                <a:srgbClr val="40404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0" y="123516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5"/>
          <p:cNvSpPr/>
          <p:nvPr/>
        </p:nvSpPr>
        <p:spPr>
          <a:xfrm>
            <a:off x="1440" y="5052240"/>
            <a:ext cx="18108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8" descr="Картинка 75 из 170">
            <a:hlinkClick r:id="rId1"/>
          </p:cNvPr>
          <p:cNvPicPr/>
          <p:nvPr/>
        </p:nvPicPr>
        <p:blipFill>
          <a:blip r:embed="rId2"/>
          <a:srcRect l="12188" t="10290" r="12188" b="15997"/>
          <a:stretch/>
        </p:blipFill>
        <p:spPr>
          <a:xfrm>
            <a:off x="5292720" y="1268280"/>
            <a:ext cx="3723840" cy="45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Прямоугольник 11"/>
          <p:cNvSpPr/>
          <p:nvPr/>
        </p:nvSpPr>
        <p:spPr>
          <a:xfrm>
            <a:off x="0" y="476280"/>
            <a:ext cx="9143640" cy="6381360"/>
          </a:xfrm>
          <a:prstGeom prst="rect">
            <a:avLst/>
          </a:prstGeom>
          <a:gradFill rotWithShape="0">
            <a:gsLst>
              <a:gs pos="0">
                <a:srgbClr val="9ab4e4"/>
              </a:gs>
              <a:gs pos="100000">
                <a:srgbClr val="e0e8f5"/>
              </a:gs>
            </a:gsLst>
            <a:path path="rect">
              <a:fillToRect l="100000" t="100000" r="0" b="0"/>
            </a:path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8" name="Заголовок 2"/>
          <p:cNvSpPr/>
          <p:nvPr/>
        </p:nvSpPr>
        <p:spPr>
          <a:xfrm>
            <a:off x="0" y="-27000"/>
            <a:ext cx="9143640" cy="1062000"/>
          </a:xfrm>
          <a:prstGeom prst="rect">
            <a:avLst/>
          </a:prstGeom>
          <a:gradFill rotWithShape="0">
            <a:gsLst>
              <a:gs pos="0">
                <a:srgbClr val="9ab4e4"/>
              </a:gs>
              <a:gs pos="100000">
                <a:srgbClr val="e0e8f5"/>
              </a:gs>
            </a:gsLst>
            <a:path path="rect">
              <a:fillToRect l="100000" t="100000" r="0" b="0"/>
            </a:path>
          </a:gra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62856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Times New Roman"/>
              </a:rPr>
              <a:t>Как научиться танцевать валь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8"/>
          <p:cNvSpPr/>
          <p:nvPr/>
        </p:nvSpPr>
        <p:spPr>
          <a:xfrm>
            <a:off x="1449360" y="1268280"/>
            <a:ext cx="4059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1449360" y="1268280"/>
            <a:ext cx="4059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хема ша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10" descr="waltz_box_step"/>
          <p:cNvPicPr/>
          <p:nvPr/>
        </p:nvPicPr>
        <p:blipFill>
          <a:blip r:embed="rId1"/>
          <a:stretch/>
        </p:blipFill>
        <p:spPr>
          <a:xfrm>
            <a:off x="3137040" y="981000"/>
            <a:ext cx="5673240" cy="56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Прямоугольник 11"/>
          <p:cNvSpPr/>
          <p:nvPr/>
        </p:nvSpPr>
        <p:spPr>
          <a:xfrm>
            <a:off x="0" y="476280"/>
            <a:ext cx="9143640" cy="6381360"/>
          </a:xfrm>
          <a:prstGeom prst="rect">
            <a:avLst/>
          </a:prstGeom>
          <a:gradFill rotWithShape="0">
            <a:gsLst>
              <a:gs pos="0">
                <a:srgbClr val="9ab4e4"/>
              </a:gs>
              <a:gs pos="100000">
                <a:srgbClr val="e0e8f5"/>
              </a:gs>
            </a:gsLst>
            <a:path path="rect">
              <a:fillToRect l="100000" t="100000" r="0" b="0"/>
            </a:path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3" name="Заголовок 2"/>
          <p:cNvSpPr/>
          <p:nvPr/>
        </p:nvSpPr>
        <p:spPr>
          <a:xfrm>
            <a:off x="0" y="-27000"/>
            <a:ext cx="9143640" cy="1062000"/>
          </a:xfrm>
          <a:prstGeom prst="rect">
            <a:avLst/>
          </a:prstGeom>
          <a:gradFill rotWithShape="0">
            <a:gsLst>
              <a:gs pos="0">
                <a:srgbClr val="9ab4e4"/>
              </a:gs>
              <a:gs pos="100000">
                <a:srgbClr val="e0e8f5"/>
              </a:gs>
            </a:gsLst>
            <a:path path="rect">
              <a:fillToRect l="100000" t="100000" r="0" b="0"/>
            </a:path>
          </a:gra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62856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Times New Roman"/>
              </a:rPr>
              <a:t>Как научиться танцевать валь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9"/>
          <p:cNvSpPr/>
          <p:nvPr/>
        </p:nvSpPr>
        <p:spPr>
          <a:xfrm>
            <a:off x="1449360" y="1268280"/>
            <a:ext cx="4059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1"/>
          <p:cNvSpPr/>
          <p:nvPr/>
        </p:nvSpPr>
        <p:spPr>
          <a:xfrm>
            <a:off x="611280" y="1052640"/>
            <a:ext cx="540036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струк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 должны представить себе квадрат. По нему во время нашего обучения и нужно Вам будет скользи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сновной шаг данного танца – это приставной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Он очень прост в исполнении. На раз – правой ногой делаем шаг вперед, на два – левую ногу приставляем и на месте, далее на три – снова наша правая нога – на месте. Вы должны запомнить, что лишь первый шаг большой, а все остальные маленькие, они едва уловим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 время движения наши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шаги должны быть скользящими и легкими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Обязательно стоит помнить об эт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Прямоугольник 11"/>
          <p:cNvSpPr/>
          <p:nvPr/>
        </p:nvSpPr>
        <p:spPr>
          <a:xfrm>
            <a:off x="0" y="476280"/>
            <a:ext cx="9143640" cy="6381360"/>
          </a:xfrm>
          <a:prstGeom prst="rect">
            <a:avLst/>
          </a:prstGeom>
          <a:gradFill rotWithShape="0">
            <a:gsLst>
              <a:gs pos="0">
                <a:srgbClr val="9ab4e4"/>
              </a:gs>
              <a:gs pos="100000">
                <a:srgbClr val="e0e8f5"/>
              </a:gs>
            </a:gsLst>
            <a:path path="rect">
              <a:fillToRect l="100000" t="100000" r="0" b="0"/>
            </a:path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7" name="Заголовок 2"/>
          <p:cNvSpPr/>
          <p:nvPr/>
        </p:nvSpPr>
        <p:spPr>
          <a:xfrm>
            <a:off x="0" y="-27000"/>
            <a:ext cx="9143640" cy="1062000"/>
          </a:xfrm>
          <a:prstGeom prst="rect">
            <a:avLst/>
          </a:prstGeom>
          <a:gradFill rotWithShape="0">
            <a:gsLst>
              <a:gs pos="0">
                <a:srgbClr val="9ab4e4"/>
              </a:gs>
              <a:gs pos="100000">
                <a:srgbClr val="e0e8f5"/>
              </a:gs>
            </a:gsLst>
            <a:path path="rect">
              <a:fillToRect l="100000" t="100000" r="0" b="0"/>
            </a:path>
          </a:gra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62856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Times New Roman"/>
              </a:rPr>
              <a:t>Как научиться танцевать валь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8"/>
          <p:cNvSpPr/>
          <p:nvPr/>
        </p:nvSpPr>
        <p:spPr>
          <a:xfrm>
            <a:off x="1449360" y="1268280"/>
            <a:ext cx="4059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9"/>
          <p:cNvSpPr/>
          <p:nvPr/>
        </p:nvSpPr>
        <p:spPr>
          <a:xfrm>
            <a:off x="611280" y="1052640"/>
            <a:ext cx="568908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начала нужно скользить подушечкой ноги, затем уже переходим на носок, а после снова подушечкой и на всю ступн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вижение в данном танце начинается непосредственно с правой ноги, а потом вперед и заканчивается уже левой ного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ужчина в танце кладет свою левую руку на талию партнерши, а правой он берет ее за руку. Партнерша кладет левую руку на плечо мужчины. Не забывайте о том, что нужно держать спину прямо, а не стоять, как вопросительный знак. Также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необходимо быть максимально расслабленным и улыбаться обязатель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921440" cy="1728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i="1" lang="ru-RU" sz="6000" spc="-1" strike="noStrike">
                <a:solidFill>
                  <a:schemeClr val="accent1">
                    <a:lumMod val="75000"/>
                  </a:schemeClr>
                </a:solidFill>
                <a:latin typeface="Franklin Gothic Medium"/>
              </a:rPr>
              <a:t>«Вальс»</a:t>
            </a:r>
            <a:endParaRPr b="0" lang="ru-RU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130400" y="4051440"/>
            <a:ext cx="5824080" cy="109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08080"/>
              </a:solidFill>
              <a:latin typeface="Franklin Gothic Book"/>
            </a:endParaRPr>
          </a:p>
        </p:txBody>
      </p:sp>
      <p:pic>
        <p:nvPicPr>
          <p:cNvPr id="231" name="Picture 7" descr="Картинка 10 из 5007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00360" y="2227320"/>
            <a:ext cx="5182920" cy="38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7960" y="609480"/>
            <a:ext cx="6446520" cy="1320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2004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1f497d"/>
                </a:solidFill>
                <a:latin typeface="Franklin Gothic Medium"/>
              </a:rPr>
              <a:t>История возникновения вальса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2120" y="1773360"/>
            <a:ext cx="5285880" cy="3879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Родиной вальса считают сразу</a:t>
            </a:r>
            <a:r>
              <a:rPr b="0" lang="en-US" sz="2000" spc="-1" strike="noStrike">
                <a:solidFill>
                  <a:srgbClr val="404040"/>
                </a:solidFill>
                <a:latin typeface="Times New Roman"/>
              </a:rPr>
              <a:t> </a:t>
            </a:r>
            <a:endParaRPr b="0" lang="ru-RU" sz="2000" spc="-1" strike="noStrike">
              <a:solidFill>
                <a:srgbClr val="404040"/>
              </a:solidFill>
              <a:latin typeface="Franklin Gothic Book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три страны: Францию, Чехию и Австрию</a:t>
            </a:r>
            <a:endParaRPr b="0" lang="ru-RU" sz="2000" spc="-1" strike="noStrike">
              <a:solidFill>
                <a:srgbClr val="40404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Вальс (от немецкого </a:t>
            </a:r>
            <a:r>
              <a:rPr b="0" lang="en-US" sz="2000" spc="-1" strike="noStrike">
                <a:solidFill>
                  <a:srgbClr val="404040"/>
                </a:solidFill>
                <a:latin typeface="Times New Roman"/>
              </a:rPr>
              <a:t>walzer,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 бальный танец) вобрал черты народного танца лендлера. Крестьяне на праздничных вечерах весело кружились парами. Постепенно движения становились плавными, кругообразными – рождался вальс.   </a:t>
            </a:r>
            <a:endParaRPr b="0" lang="ru-RU" sz="20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250920" y="19080"/>
            <a:ext cx="8686440" cy="918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40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35" name="Picture 6" descr=""/>
          <p:cNvPicPr/>
          <p:nvPr/>
        </p:nvPicPr>
        <p:blipFill>
          <a:blip r:embed="rId1"/>
          <a:stretch/>
        </p:blipFill>
        <p:spPr>
          <a:xfrm>
            <a:off x="5796000" y="1773360"/>
            <a:ext cx="264276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250920" y="31680"/>
            <a:ext cx="8686440" cy="91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1f497d"/>
                </a:solidFill>
                <a:latin typeface="Times New Roman"/>
              </a:rPr>
              <a:t>История возникновения валь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3"/>
          <p:cNvSpPr/>
          <p:nvPr/>
        </p:nvSpPr>
        <p:spPr>
          <a:xfrm>
            <a:off x="272880" y="981000"/>
            <a:ext cx="854676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85000"/>
              </a:lnSpc>
              <a:spcBef>
                <a:spcPts val="561"/>
              </a:spcBef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ередине ХVII столетия во Франции бытова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народный танец  ВОЛЬ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154080" y="1844640"/>
            <a:ext cx="540036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льт - провансальский танец. Это танец – парный и танцевался под музыку в размере ¾. В вольте в начале преобладали прыжки, а затем появились и быстрые повороты и вращения. Во Франции вольт запрещалось исполнять при дворе, а кардинал Ришелье усматривал в нем подрыв устоев религии и общества. (Это нетрудно себе представить – в начале XVIII в., когда в моду входил чинный и галантный менуэт, то, что кавалер берет руку дамы, считалось невиданным нарушением приличий!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17" descr="Аллеманда"/>
          <p:cNvPicPr/>
          <p:nvPr/>
        </p:nvPicPr>
        <p:blipFill>
          <a:blip r:embed="rId1"/>
          <a:stretch/>
        </p:blipFill>
        <p:spPr>
          <a:xfrm>
            <a:off x="5651640" y="2060640"/>
            <a:ext cx="294588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/>
          <p:cNvSpPr/>
          <p:nvPr/>
        </p:nvSpPr>
        <p:spPr>
          <a:xfrm>
            <a:off x="250920" y="31680"/>
            <a:ext cx="8686440" cy="91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1f497d"/>
                </a:solidFill>
                <a:latin typeface="Times New Roman"/>
              </a:rPr>
              <a:t>История возникновения валь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272880" y="1181160"/>
            <a:ext cx="8870760" cy="518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85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Чехии в это же время был популярен веселый танец фурман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154080" y="1944720"/>
            <a:ext cx="4608000" cy="411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58920" indent="-358920">
              <a:lnSpc>
                <a:spcPct val="10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урмант означает «франт», «гордец». Парень, подражая франтоватому богачу, сначала горделиво выступает, шагает, а потом начинает гоняться по кругу за своей партнершей и, поймав ее, обнимает за талию и начинает кружиться в веселом танце под одобрительную песню и притопывание осталь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6" descr=""/>
          <p:cNvPicPr/>
          <p:nvPr/>
        </p:nvPicPr>
        <p:blipFill>
          <a:blip r:embed="rId1"/>
          <a:srcRect l="17300" t="9142" r="61479" b="38499"/>
          <a:stretch/>
        </p:blipFill>
        <p:spPr>
          <a:xfrm>
            <a:off x="5651640" y="2060640"/>
            <a:ext cx="2917440" cy="44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0"/>
          <p:cNvSpPr/>
          <p:nvPr/>
        </p:nvSpPr>
        <p:spPr>
          <a:xfrm>
            <a:off x="250920" y="14400"/>
            <a:ext cx="8686440" cy="91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1f497d"/>
                </a:solidFill>
                <a:latin typeface="Times New Roman"/>
              </a:rPr>
              <a:t>Венский валь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250920" y="1197000"/>
            <a:ext cx="8635680" cy="5256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Franklin Gothic Book"/>
              </a:rPr>
              <a:t>	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Вальс имел огромный успех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и производил настоящий фурор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при многих дворах Европы</a:t>
            </a:r>
            <a:endParaRPr b="0" lang="ru-RU" sz="2000" spc="-1" strike="noStrike">
              <a:solidFill>
                <a:srgbClr val="40404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1815 году после победы над 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Наполеоном в Вене, на конгрессе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союзников-победителей, на всех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балах самозабвенно танцевали 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вальс – чарующий, волшебный, 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блестящий. </a:t>
            </a:r>
            <a:endParaRPr b="0" lang="ru-RU" sz="2000" spc="-1" strike="noStrike">
              <a:solidFill>
                <a:srgbClr val="40404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Именно тогда вальс 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приобрел свою специфическую 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особенность – акцентированный 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ритм, который сделал этот танец 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более элегантным 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и более романтичным. </a:t>
            </a:r>
            <a:endParaRPr b="0" lang="ru-RU" sz="2000" spc="-1" strike="noStrike">
              <a:solidFill>
                <a:srgbClr val="404040"/>
              </a:solidFill>
              <a:latin typeface="Franklin Gothic Book"/>
            </a:endParaRPr>
          </a:p>
        </p:txBody>
      </p:sp>
      <p:pic>
        <p:nvPicPr>
          <p:cNvPr id="246" name="Picture 13" descr="Медленный вальс"/>
          <p:cNvPicPr/>
          <p:nvPr/>
        </p:nvPicPr>
        <p:blipFill>
          <a:blip r:embed="rId1"/>
          <a:stretch/>
        </p:blipFill>
        <p:spPr>
          <a:xfrm>
            <a:off x="5651640" y="1268280"/>
            <a:ext cx="3126960" cy="48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250920" y="19080"/>
            <a:ext cx="8686440" cy="91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1f497d"/>
                </a:solidFill>
                <a:latin typeface="Times New Roman"/>
              </a:rPr>
              <a:t>Венский валь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250920" y="960480"/>
            <a:ext cx="4819320" cy="55051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Два замечательных композитора, живших в Вене – Иоганн Штраус-отец (1804 – 1849) и еще более знаменитый Иоганн Штраус-сын, написавший такие широко известные и популярные и сегодня шедевры как «Голубой Дунай» и «Сказки Венского леса», способствовали становлению венского вальса, затмившего собой все другие. </a:t>
            </a:r>
            <a:endParaRPr b="0" lang="ru-RU" sz="2000" spc="-1" strike="noStrike">
              <a:solidFill>
                <a:srgbClr val="40404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Вальс, став официальным бальным танцем, как нельзя лучше гармонировал и с тогдашней модой: узкие в талии платья с роскошными пышными юбками с кринолином подчеркивали красоту движений дамы.</a:t>
            </a:r>
            <a:endParaRPr b="0" lang="ru-RU" sz="2000" spc="-1" strike="noStrike">
              <a:solidFill>
                <a:srgbClr val="404040"/>
              </a:solidFill>
              <a:latin typeface="Franklin Gothic Book"/>
            </a:endParaRPr>
          </a:p>
        </p:txBody>
      </p:sp>
      <p:pic>
        <p:nvPicPr>
          <p:cNvPr id="249" name="Picture 8" descr="Johann_Strauss_I_(1)"/>
          <p:cNvPicPr/>
          <p:nvPr/>
        </p:nvPicPr>
        <p:blipFill>
          <a:blip r:embed="rId1"/>
          <a:srcRect l="7874" t="15128" r="5499" b="7370"/>
          <a:stretch/>
        </p:blipFill>
        <p:spPr>
          <a:xfrm>
            <a:off x="5292720" y="1268280"/>
            <a:ext cx="2376000" cy="29523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9" descr="10867107"/>
          <p:cNvPicPr/>
          <p:nvPr/>
        </p:nvPicPr>
        <p:blipFill>
          <a:blip r:embed="rId2"/>
          <a:stretch/>
        </p:blipFill>
        <p:spPr>
          <a:xfrm>
            <a:off x="6588000" y="3068640"/>
            <a:ext cx="2400120" cy="32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10"/>
          <p:cNvSpPr/>
          <p:nvPr/>
        </p:nvSpPr>
        <p:spPr>
          <a:xfrm>
            <a:off x="250920" y="11160"/>
            <a:ext cx="8686440" cy="91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1f497d"/>
                </a:solidFill>
                <a:latin typeface="Times New Roman"/>
              </a:rPr>
              <a:t>Медленный валь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250920" y="1197000"/>
            <a:ext cx="8635680" cy="55051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76092"/>
              </a:buClr>
              <a:buSzPct val="80000"/>
              <a:buFont typeface="Wingdings 3" charset="2"/>
              <a:buChar char=""/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За свою 150-летнюю историю 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существования вальс не раз 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подвергался изменениям. 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Медленный вальс окончательно 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оформился в Англии, и, хотя его 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еще называют вальс-бостон, 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о действительном месте его 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рождения говорить трудно. 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Кто-то считает, что эта форма 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также родилась в Австрии, 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кто-то склонен полагать, что 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она имеет русские корни. 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От классического венского 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этот вальс отличается и 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музыкой, и движениями. </a:t>
            </a:r>
            <a:endParaRPr b="0" lang="ru-RU" sz="2000" spc="-1" strike="noStrike">
              <a:solidFill>
                <a:srgbClr val="404040"/>
              </a:solidFill>
              <a:latin typeface="Franklin Gothic Book"/>
            </a:endParaRPr>
          </a:p>
        </p:txBody>
      </p:sp>
      <p:pic>
        <p:nvPicPr>
          <p:cNvPr id="253" name="Picture 12" descr="Медленный вальс"/>
          <p:cNvPicPr/>
          <p:nvPr/>
        </p:nvPicPr>
        <p:blipFill>
          <a:blip r:embed="rId1"/>
          <a:stretch/>
        </p:blipFill>
        <p:spPr>
          <a:xfrm>
            <a:off x="5292720" y="1268280"/>
            <a:ext cx="2808000" cy="46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250920" y="14400"/>
            <a:ext cx="8686440" cy="91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1f497d"/>
                </a:solidFill>
                <a:latin typeface="Times New Roman"/>
              </a:rPr>
              <a:t>Фигурный валь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257040" y="1181160"/>
            <a:ext cx="4674960" cy="55051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76092"/>
              </a:buClr>
              <a:buSzPct val="80000"/>
              <a:buFont typeface="Wingdings 3" charset="2"/>
              <a:buChar char=""/>
            </a:pPr>
            <a:r>
              <a:rPr b="0" lang="ru-RU" sz="2400" spc="-1" strike="noStrike">
                <a:solidFill>
                  <a:srgbClr val="404040"/>
                </a:solidFill>
                <a:latin typeface="Franklin Gothic Book"/>
              </a:rPr>
              <a:t>Фигурные вальсы исполняются преимущественно по 3-й позиции, по кругу. Начальная позиция - кавалер стоит спиной в центр, дама - лицом. Состоят из фиксированных схем. Характер музыки - средний, хотя можно исполнять и под быструю, и под медленную</a:t>
            </a:r>
            <a:endParaRPr b="0" lang="ru-RU" sz="2400" spc="-1" strike="noStrike">
              <a:solidFill>
                <a:srgbClr val="404040"/>
              </a:solidFill>
              <a:latin typeface="Franklin Gothic Book"/>
            </a:endParaRPr>
          </a:p>
        </p:txBody>
      </p:sp>
      <p:pic>
        <p:nvPicPr>
          <p:cNvPr id="256" name="Picture 6" descr="Картинка 27 из 75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92720" y="1268280"/>
            <a:ext cx="3660480" cy="48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19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19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19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ма19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Тема19</Template>
  <TotalTime>4226</TotalTime>
  <Application>LibreOffice/7.4.7.2$Linux_X86_64 LibreOffice_project/40$Build-2</Application>
  <AppVersion>15.0000</AppVersion>
  <Words>827</Words>
  <Paragraphs>57</Paragraphs>
  <Company>Home Sweet Hom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4T18:16:47Z</dcterms:created>
  <dc:creator>User PC</dc:creator>
  <dc:description/>
  <dc:language>en-US</dc:language>
  <cp:lastModifiedBy>Артём</cp:lastModifiedBy>
  <dcterms:modified xsi:type="dcterms:W3CDTF">2023-05-17T17:19:35Z</dcterms:modified>
  <cp:revision>64</cp:revision>
  <dc:subject/>
  <dc:title>Проект по предмету музыка: «Где живет вальс?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0</vt:r8>
  </property>
  <property fmtid="{D5CDD505-2E9C-101B-9397-08002B2CF9AE}" pid="3" name="PresentationFormat">
    <vt:lpwstr>Экран (4:3)</vt:lpwstr>
  </property>
  <property fmtid="{D5CDD505-2E9C-101B-9397-08002B2CF9AE}" pid="4" name="Slides">
    <vt:r8>14</vt:r8>
  </property>
</Properties>
</file>