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32.png" ContentType="image/png"/>
  <Override PartName="/ppt/media/image22.jpeg" ContentType="image/jpeg"/>
  <Override PartName="/ppt/media/image13.jpeg" ContentType="image/jpeg"/>
  <Override PartName="/ppt/media/image33.png" ContentType="image/png"/>
  <Override PartName="/ppt/media/image34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27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094-5B36-4F9E-8BC3-7A3E59A6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73E-1310-4B13-AD2F-540B5EAB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2DF-CFD2-4DE7-A373-E173878D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C73-7875-430D-B172-107B00F0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8F2-9006-4903-8102-831A4036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B38-0AD6-46C4-9D57-88749C1D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606-2B68-4B65-8999-7DF75DE8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056-4727-41A2-8B52-3819D478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6E3-CE65-443E-BCA1-A25417AD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34A-B41D-4642-A226-3788210F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4F5-371D-47DE-BF0E-35E3DCF4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C52-03A2-4ED5-9D13-BA644F63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F31F-02D2-4B3E-B346-D732A5F1C4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Заполярье – Родина мо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1254240" y="1676520"/>
            <a:ext cx="66355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Кировск-центр горнолыжного спор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907920"/>
            <a:ext cx="884232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Два трамплин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13 подъёмник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натно-кресе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доро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6" descr="tn_42"/>
          <p:cNvPicPr/>
          <p:nvPr/>
        </p:nvPicPr>
        <p:blipFill>
          <a:blip r:embed="rId1"/>
          <a:stretch/>
        </p:blipFill>
        <p:spPr>
          <a:xfrm>
            <a:off x="179280" y="3860640"/>
            <a:ext cx="4032360" cy="2837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P1010081"/>
          <p:cNvPicPr/>
          <p:nvPr/>
        </p:nvPicPr>
        <p:blipFill>
          <a:blip r:embed="rId2"/>
          <a:stretch/>
        </p:blipFill>
        <p:spPr>
          <a:xfrm>
            <a:off x="4859280" y="765000"/>
            <a:ext cx="3743280" cy="288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kirovsk"/>
          <p:cNvPicPr/>
          <p:nvPr/>
        </p:nvPicPr>
        <p:blipFill>
          <a:blip r:embed="rId3"/>
          <a:stretch/>
        </p:blipFill>
        <p:spPr>
          <a:xfrm>
            <a:off x="5003640" y="3933720"/>
            <a:ext cx="3816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Ковдо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асположен в 373 км к юго-запад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т Мурманс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аселение- 23,9 тыс. чело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ыл основан в 1953 году в связи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своением месторождений железной ру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Градообразующее предприятие – гор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огатительный комбинат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«Ковдор – это единственное место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России, где на совсем маленьком клочке  земли успешно добывающ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такие совершенно разнород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полезные ископаемые,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магнетит, апатит, флогопит и другие»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герб Ковдор"/>
          <p:cNvPicPr/>
          <p:nvPr/>
        </p:nvPicPr>
        <p:blipFill>
          <a:blip r:embed="rId1"/>
          <a:stretch/>
        </p:blipFill>
        <p:spPr>
          <a:xfrm>
            <a:off x="7812000" y="0"/>
            <a:ext cx="1187640" cy="1628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kovdor"/>
          <p:cNvPicPr/>
          <p:nvPr/>
        </p:nvPicPr>
        <p:blipFill>
          <a:blip r:embed="rId2"/>
          <a:stretch/>
        </p:blipFill>
        <p:spPr>
          <a:xfrm>
            <a:off x="179280" y="3716280"/>
            <a:ext cx="3961080" cy="2952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275414fee9a378f35fa2a2a09b0b925a"/>
          <p:cNvPicPr/>
          <p:nvPr/>
        </p:nvPicPr>
        <p:blipFill>
          <a:blip r:embed="rId3"/>
          <a:stretch/>
        </p:blipFill>
        <p:spPr>
          <a:xfrm>
            <a:off x="250920" y="836640"/>
            <a:ext cx="381636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5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1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7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5" dur="1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1" dur="10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3" dur="10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8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Полярные Зо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4436640"/>
            <a:ext cx="6121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Город расположен на берегу реки Нива и озера Пинозеро, в 224 км от Мурманс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ProximaNova"/>
              </a:rPr>
              <a:t>Полярные Зори это атомоград, то есть город при атомной электростанции, Градообразующим предприятием является Кольская АЭС, на которой работают около 2000 человек. На работе в муниципальных предприятиях занято около тысячи челов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ProximaNova"/>
              </a:rPr>
              <a:t>Полярные Зори это самый северный город, в котором не наблюдается полноценная полярная ноч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" descr="герб Полярные Зори"/>
          <p:cNvPicPr/>
          <p:nvPr/>
        </p:nvPicPr>
        <p:blipFill>
          <a:blip r:embed="rId1"/>
          <a:stretch/>
        </p:blipFill>
        <p:spPr>
          <a:xfrm>
            <a:off x="7812000" y="115920"/>
            <a:ext cx="1081080" cy="1392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Полярные зори"/>
          <p:cNvPicPr/>
          <p:nvPr/>
        </p:nvPicPr>
        <p:blipFill>
          <a:blip r:embed="rId2"/>
          <a:stretch/>
        </p:blipFill>
        <p:spPr>
          <a:xfrm>
            <a:off x="6838920" y="3213000"/>
            <a:ext cx="2305080" cy="273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Безымянныйыыыы"/>
          <p:cNvPicPr/>
          <p:nvPr/>
        </p:nvPicPr>
        <p:blipFill>
          <a:blip r:embed="rId3"/>
          <a:stretch/>
        </p:blipFill>
        <p:spPr>
          <a:xfrm>
            <a:off x="179280" y="1316160"/>
            <a:ext cx="2197080" cy="2836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Безымянный"/>
          <p:cNvPicPr/>
          <p:nvPr/>
        </p:nvPicPr>
        <p:blipFill>
          <a:blip r:embed="rId4"/>
          <a:stretch/>
        </p:blipFill>
        <p:spPr>
          <a:xfrm>
            <a:off x="2484360" y="1197000"/>
            <a:ext cx="3960720" cy="230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Безымянныйччч"/>
          <p:cNvPicPr/>
          <p:nvPr/>
        </p:nvPicPr>
        <p:blipFill>
          <a:blip r:embed="rId5"/>
          <a:stretch/>
        </p:blipFill>
        <p:spPr>
          <a:xfrm>
            <a:off x="6659640" y="1523880"/>
            <a:ext cx="172404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0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Североморс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                                             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76160"/>
            <a:ext cx="419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Североморск</a:t>
            </a: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 — город в 25 км к северо-востоку от Мурманска. Морской порт на восточном берегу незамерзающего Кольского залива Баренцева моря. Шестой по величине город за северным полярным круг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Население — 43 327 чел. 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Посёлок Ваенга основан в 1896 го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8 апреля 1951 года получил новый статус и новое имя — город Североморс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Главная военно-морская база северного фло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В Североморске имеется множество памятников, посвященных героям - морякам, артиллеристам, авиаторам. Памятник Героям-Североморцам является символом города, и находится на Приморской площади. При въезде в город на гранитном постаменте установлен памятник авиаторам-североморцам – это «Самолет ИЛ-4». «Торпедный катер ТКА-12» - это исторический памятник, который установлен на площади Мужества. «Подводная лодка К-21» - это музей, который посвящен истории данной подводной лодки и памяти всем субмаринам, участвовавшим в боевых действиях, во время войны 1941-1945 г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7786800" y="7920"/>
            <a:ext cx="1347840" cy="15019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"/>
          <p:cNvPicPr/>
          <p:nvPr/>
        </p:nvPicPr>
        <p:blipFill>
          <a:blip r:embed="rId2"/>
          <a:stretch/>
        </p:blipFill>
        <p:spPr>
          <a:xfrm>
            <a:off x="331920" y="1413000"/>
            <a:ext cx="4062240" cy="22809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"/>
          <p:cNvPicPr/>
          <p:nvPr/>
        </p:nvPicPr>
        <p:blipFill>
          <a:blip r:embed="rId3"/>
          <a:stretch/>
        </p:blipFill>
        <p:spPr>
          <a:xfrm>
            <a:off x="276120" y="3989520"/>
            <a:ext cx="41115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0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Murmanskaya_Obl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-316440"/>
            <a:ext cx="8785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Мурманская  обла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692280"/>
            <a:ext cx="8540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бразована 28 мая 1938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сположена на северо-западе европейской части России, её площадь 144,9 тысячи километ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еверные берега омываются Баренцевым морем, южные- Белым мор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Граничит с Норвегией, Финляндией, на юге – с республикой Карел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ключает в себя 5 административных районов,12 городов, 16 посёлков городского тип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лимат арктически – умеренный, морс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7" descr="Мончегорск"/>
          <p:cNvPicPr/>
          <p:nvPr/>
        </p:nvPicPr>
        <p:blipFill>
          <a:blip r:embed="rId1"/>
          <a:stretch/>
        </p:blipFill>
        <p:spPr>
          <a:xfrm>
            <a:off x="324000" y="4221000"/>
            <a:ext cx="3960720" cy="2421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reg51m"/>
          <p:cNvPicPr/>
          <p:nvPr/>
        </p:nvPicPr>
        <p:blipFill>
          <a:blip r:embed="rId2"/>
          <a:stretch/>
        </p:blipFill>
        <p:spPr>
          <a:xfrm>
            <a:off x="5148360" y="4221000"/>
            <a:ext cx="381636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Мурманс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сположен в 1967 км от Моск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ходится за северным полярн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ругом на скалистом восточном берег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ольского залива Баренцевого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рупнейший незамерзающий пор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арктического побережья Росс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селение – 370,7 тысяч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снован 4 октября 1916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городе находится крупнейший в Росс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ыболовный флот и главная база рыб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мышле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герб мурманска"/>
          <p:cNvPicPr/>
          <p:nvPr/>
        </p:nvPicPr>
        <p:blipFill>
          <a:blip r:embed="rId1"/>
          <a:stretch/>
        </p:blipFill>
        <p:spPr>
          <a:xfrm>
            <a:off x="250920" y="189000"/>
            <a:ext cx="952560" cy="122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мурманск"/>
          <p:cNvPicPr/>
          <p:nvPr/>
        </p:nvPicPr>
        <p:blipFill>
          <a:blip r:embed="rId2"/>
          <a:stretch/>
        </p:blipFill>
        <p:spPr>
          <a:xfrm>
            <a:off x="2556000" y="5084640"/>
            <a:ext cx="2087280" cy="177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P0000528"/>
          <p:cNvPicPr/>
          <p:nvPr/>
        </p:nvPicPr>
        <p:blipFill>
          <a:blip r:embed="rId3"/>
          <a:stretch/>
        </p:blipFill>
        <p:spPr>
          <a:xfrm>
            <a:off x="5651640" y="2852640"/>
            <a:ext cx="3132000" cy="4005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0000516"/>
          <p:cNvPicPr/>
          <p:nvPr/>
        </p:nvPicPr>
        <p:blipFill>
          <a:blip r:embed="rId4"/>
          <a:stretch/>
        </p:blipFill>
        <p:spPr>
          <a:xfrm>
            <a:off x="4751280" y="189000"/>
            <a:ext cx="4392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99"/>
                </a:solidFill>
                <a:latin typeface="Arial"/>
              </a:rPr>
              <a:t>Ко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герб кола"/>
          <p:cNvPicPr/>
          <p:nvPr/>
        </p:nvPicPr>
        <p:blipFill>
          <a:blip r:embed="rId1"/>
          <a:stretch/>
        </p:blipFill>
        <p:spPr>
          <a:xfrm>
            <a:off x="7812000" y="189000"/>
            <a:ext cx="1150920" cy="1412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8423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Центр Кольского района Мурманск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сположен южнее Мурманс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снован в месте впадения рек Колы и Туломы в Кольский залив Баренцевого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селение 11,5 тысяч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Здесь сохранилось одно из первых каменных здание-Благовещенский соб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ольшой интерес вызыва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Музей поморского бы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Кольском районе сосредоточе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ольшинство сельскохозяйствен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едприятий 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ботают предприятия пище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мышленности (макаронная фабр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0" descr="kola"/>
          <p:cNvPicPr/>
          <p:nvPr/>
        </p:nvPicPr>
        <p:blipFill>
          <a:blip r:embed="rId2"/>
          <a:stretch/>
        </p:blipFill>
        <p:spPr>
          <a:xfrm>
            <a:off x="5364000" y="3573360"/>
            <a:ext cx="35290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Оленегорс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сположен в центре Кольского полуостр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ыл заложен в августе 1947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селение 38,3 тыс.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Центр железорудной  промышленности в Заполяр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 подведомственной территории расположены 8 сельских населённых пунк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ленегорское железорудное мес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ождение открыто в 1932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 базе разработки этой зале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оздан горно-обогатитель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омбинат, ставший градообразую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щим предприят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ботает механический зав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лажено произ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тройматериа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герб Оленегорск"/>
          <p:cNvPicPr/>
          <p:nvPr/>
        </p:nvPicPr>
        <p:blipFill>
          <a:blip r:embed="rId1"/>
          <a:stretch/>
        </p:blipFill>
        <p:spPr>
          <a:xfrm>
            <a:off x="7667640" y="11592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ol001w"/>
          <p:cNvPicPr/>
          <p:nvPr/>
        </p:nvPicPr>
        <p:blipFill>
          <a:blip r:embed="rId2"/>
          <a:stretch/>
        </p:blipFill>
        <p:spPr>
          <a:xfrm>
            <a:off x="4643280" y="3429000"/>
            <a:ext cx="4248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68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844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112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232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336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444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552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672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736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844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928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9960"/>
                            </p:stCondLst>
                            <p:childTnLst>
                              <p:par>
                                <p:cTn id="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               </a:t>
            </a: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Мончегорс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gerb_mon"/>
          <p:cNvPicPr/>
          <p:nvPr/>
        </p:nvPicPr>
        <p:blipFill>
          <a:blip r:embed="rId1"/>
          <a:stretch/>
        </p:blipFill>
        <p:spPr>
          <a:xfrm>
            <a:off x="395280" y="115920"/>
            <a:ext cx="952560" cy="122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Мончегорск"/>
          <p:cNvPicPr/>
          <p:nvPr/>
        </p:nvPicPr>
        <p:blipFill>
          <a:blip r:embed="rId2"/>
          <a:stretch/>
        </p:blipFill>
        <p:spPr>
          <a:xfrm>
            <a:off x="5003640" y="3933720"/>
            <a:ext cx="3961080" cy="2735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сположен в 145 км к югу от Мурманска, на берегу озе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Имандра, в предгорьях горного массива Монче-тунд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селение – 62,2 тысячи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озник в 1937 году в связи с разработкой медно-никелевых руд, стал центром медно-никелевой промышле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едущее предприятие- комбинат «Североникел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звита пищевая и лёгкая промышле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окрестностях города в 1930 го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снован Лапландский заповед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изнан одним из лучших город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ольского полуострова по планировк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и застрой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12" descr="Лапландский заповедник"/>
          <p:cNvPicPr/>
          <p:nvPr/>
        </p:nvPicPr>
        <p:blipFill>
          <a:blip r:embed="rId3"/>
          <a:stretch/>
        </p:blipFill>
        <p:spPr>
          <a:xfrm>
            <a:off x="7704000" y="0"/>
            <a:ext cx="1440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                  </a:t>
            </a:r>
            <a:r>
              <a:rPr b="0" lang="ru-RU" sz="4800" spc="-1" strike="noStrike">
                <a:solidFill>
                  <a:srgbClr val="990099"/>
                </a:solidFill>
                <a:latin typeface="Arial"/>
              </a:rPr>
              <a:t>Апати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сположен в центре Мурманск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осёлок Апатиты образовался в 1935 году, в город преобразов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7 июля 1966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селение – 68,8 тысяч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ельеф разнообразен- от горных Хибинских массивов на севере д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внин на ю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Является центром науки Заполяр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Здесь расположен Коль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Академии наук, в составе котор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10 институтов, многие находя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епосредственно в гор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и Международном центре нау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ультуры и образования откры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Музей истории и осво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Европейского Сев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gerb_ap"/>
          <p:cNvPicPr/>
          <p:nvPr/>
        </p:nvPicPr>
        <p:blipFill>
          <a:blip r:embed="rId1"/>
          <a:stretch/>
        </p:blipFill>
        <p:spPr>
          <a:xfrm>
            <a:off x="468360" y="115920"/>
            <a:ext cx="1150920" cy="148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апатиты"/>
          <p:cNvPicPr/>
          <p:nvPr/>
        </p:nvPicPr>
        <p:blipFill>
          <a:blip r:embed="rId2"/>
          <a:stretch/>
        </p:blipFill>
        <p:spPr>
          <a:xfrm>
            <a:off x="6516720" y="189000"/>
            <a:ext cx="2376360" cy="1439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e__158"/>
          <p:cNvPicPr/>
          <p:nvPr/>
        </p:nvPicPr>
        <p:blipFill>
          <a:blip r:embed="rId3"/>
          <a:stretch/>
        </p:blipFill>
        <p:spPr>
          <a:xfrm>
            <a:off x="4716360" y="3284640"/>
            <a:ext cx="428652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Кировс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ходиться на берегу озера Большой Вудъявр в 175 км к югу от Мурманс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селение – 37,7 тыс.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1920 годах в Хибинах были открыты богатые месторождения апатит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ефелиновых ру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Кировске находится ОАО «Апатит»( 4 рудника, 3 фабрики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едприятия лёгкой и пище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мышленности,мебельная фабр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городе действует противолавин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лужба Юкспорская метеорологическ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тан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Здесь находится Полярно-альпий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отанический сад – институт (в е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оллекции   2,5 тысячи растений со все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онтинентов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герб Кировск"/>
          <p:cNvPicPr/>
          <p:nvPr/>
        </p:nvPicPr>
        <p:blipFill>
          <a:blip r:embed="rId1"/>
          <a:stretch/>
        </p:blipFill>
        <p:spPr>
          <a:xfrm>
            <a:off x="7740720" y="115920"/>
            <a:ext cx="1152360" cy="1557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tn_tn_31"/>
          <p:cNvPicPr/>
          <p:nvPr/>
        </p:nvPicPr>
        <p:blipFill>
          <a:blip r:embed="rId2"/>
          <a:stretch/>
        </p:blipFill>
        <p:spPr>
          <a:xfrm>
            <a:off x="324000" y="189000"/>
            <a:ext cx="1223640" cy="1439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tn_45"/>
          <p:cNvPicPr/>
          <p:nvPr/>
        </p:nvPicPr>
        <p:blipFill>
          <a:blip r:embed="rId3"/>
          <a:stretch/>
        </p:blipFill>
        <p:spPr>
          <a:xfrm>
            <a:off x="5003640" y="3789360"/>
            <a:ext cx="41403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6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9440"/>
                            </p:stCondLst>
                            <p:childTnLst>
                              <p:par>
                                <p:cTn id="6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1720"/>
                            </p:stCondLst>
                            <p:childTnLst>
                              <p:par>
                                <p:cTn id="6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2360"/>
                            </p:stCondLst>
                            <p:childTnLst>
                              <p:par>
                                <p:cTn id="6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4360"/>
                            </p:stCondLst>
                            <p:childTnLst>
                              <p:par>
                                <p:cTn id="7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7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6720"/>
                            </p:stCondLst>
                            <p:childTnLst>
                              <p:par>
                                <p:cTn id="7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936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9720"/>
                            </p:stCondLst>
                            <p:childTnLst>
                              <p:par>
                                <p:cTn id="7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2104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2240"/>
                            </p:stCondLst>
                            <p:childTnLst>
                              <p:par>
                                <p:cTn id="7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3560"/>
                            </p:stCondLst>
                            <p:childTnLst>
                              <p:par>
                                <p:cTn id="7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4120"/>
                            </p:stCondLst>
                            <p:childTnLst>
                              <p:par>
                                <p:cTn id="7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18:33:43Z</dcterms:created>
  <dc:creator>User</dc:creator>
  <dc:description/>
  <dc:language>en-US</dc:language>
  <cp:lastModifiedBy>Алёна Орлова</cp:lastModifiedBy>
  <dcterms:modified xsi:type="dcterms:W3CDTF">2023-05-16T21:31:38Z</dcterms:modified>
  <cp:revision>16</cp:revision>
  <dc:subject/>
  <dc:title>Мурманская  область.</dc:title>
</cp:coreProperties>
</file>