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69A-015D-456B-BEA3-3BC11D91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82C-A1CB-485C-B065-1ADDD08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62F-8FB3-48C3-92CD-FB35E226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A47-FB5C-4696-A068-182F028E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2C9-3E2D-4BC5-942F-065F999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BCF-10DA-4035-9DA1-A87B63F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E4C-8AEA-4FA9-989E-66D0B1E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3EE-5A43-4A4E-ABE0-41942FF8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A53-D6FB-4AF2-8922-ADA5A07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BD3-CBD1-4444-913D-0E2282D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A6B-3E74-458E-A806-DB8B513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73B-BF3F-4640-97D9-BD13E6E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523-CD52-4765-A0F1-F579D444E4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BADB-6C7D-4515-ABAC-1277D5EB7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ptina-pustin.ru/15&#8230;" TargetMode="External"/><Relationship Id="rId2" Type="http://schemas.openxmlformats.org/officeDocument/2006/relationships/hyperlink" Target="http://dayoflife.ru/sedtour/?contr=rez&amp;que=b%20&#1041;&#1080;&#1090;&#1074;&#1072;%20&#1085;&#1072;%20b%20&#1053;&#1077;&#1074;&#1077;" TargetMode="External"/><Relationship Id="rId3" Type="http://schemas.openxmlformats.org/officeDocument/2006/relationships/hyperlink" Target="http://ggaliba.ucoz.ru/index/jubilejnye_daty_2012_goda/0-66" TargetMode="External"/><Relationship Id="rId4" Type="http://schemas.openxmlformats.org/officeDocument/2006/relationships/hyperlink" Target="http://www.childrenpedia.org/8/page249.html" TargetMode="External"/><Relationship Id="rId5" Type="http://schemas.openxmlformats.org/officeDocument/2006/relationships/hyperlink" Target="http://www.childrenpedia.org/8/page249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143080"/>
            <a:ext cx="8486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вянской азбу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Pictures\d3250fbf3dd1.png"/>
          <p:cNvPicPr/>
          <p:nvPr/>
        </p:nvPicPr>
        <p:blipFill>
          <a:blip r:embed="rId2"/>
          <a:stretch/>
        </p:blipFill>
        <p:spPr>
          <a:xfrm>
            <a:off x="1428840" y="4143240"/>
            <a:ext cx="1577880" cy="1928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619280" y="38926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бука как вид дидактического пос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651640" y="5425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группы НО-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енова А,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57320" cy="428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429160" y="1643040"/>
            <a:ext cx="2141640" cy="42339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4643280" y="5929200"/>
            <a:ext cx="378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 Льв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ор А. Консулов, скульпто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. Борисенко и В. Подо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714240" y="592920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омой 6">
            <a:hlinkClick r:id="rId3" action="ppaction://hlinksldjump"/>
          </p:cNvPr>
          <p:cNvSpPr/>
          <p:nvPr/>
        </p:nvSpPr>
        <p:spPr>
          <a:xfrm>
            <a:off x="828684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tina-pustin.ru/15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oflife.ru/sedtour/?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galiba.ucoz.ru/index/j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orldtemples.ru/fo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hotosight.ru/pho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zamok.pp.ua/Forum/show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school.xvatit.com/index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4500720" y="85716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714920" y="1143000"/>
            <a:ext cx="385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ервый печатный станок сделал тоже Иван. В историю он вошёл как первопечатник Иван Фёдоров, хотя в некоторых напечатанных им книгах подписывался как Иван Фёдорович Москви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3314880" cy="4743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714240" y="586008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Государев Печатный д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781200"/>
            <a:ext cx="4214520" cy="5290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 flipV="1" rot="10800000">
            <a:off x="428400" y="614448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ий Печатный двор в середине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конструкция Румянцева В.Е. Литограф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714920" y="85716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л Печатный двор в Москве, в Китай-городе. Его руководителем и стал церковный дьякон Иван Фёдоров, будущий первопеча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214200" y="6429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щиты от механических повреждений дел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лёт из двух досок, обтянутых кожей и име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1000080" y="2357280"/>
            <a:ext cx="3214800" cy="2183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2286000"/>
            <a:ext cx="3448080" cy="2265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b_stuart2.jpg"/>
          <p:cNvPicPr/>
          <p:nvPr/>
        </p:nvPicPr>
        <p:blipFill>
          <a:blip r:embed="rId3"/>
          <a:stretch/>
        </p:blipFill>
        <p:spPr>
          <a:xfrm>
            <a:off x="1285920" y="4643280"/>
            <a:ext cx="2865240" cy="1874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44.jpg"/>
          <p:cNvPicPr/>
          <p:nvPr/>
        </p:nvPicPr>
        <p:blipFill>
          <a:blip r:embed="rId4"/>
          <a:stretch/>
        </p:blipFill>
        <p:spPr>
          <a:xfrm>
            <a:off x="5072040" y="457200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Русский-язык.jpg"/>
          <p:cNvPicPr/>
          <p:nvPr/>
        </p:nvPicPr>
        <p:blipFill>
          <a:blip r:embed="rId1"/>
          <a:stretch/>
        </p:blipFill>
        <p:spPr>
          <a:xfrm>
            <a:off x="2071800" y="1000080"/>
            <a:ext cx="484956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1280" y="6072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каждая буква азбуки имела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s6254592"/>
          <p:cNvPicPr/>
          <p:nvPr/>
        </p:nvPicPr>
        <p:blipFill>
          <a:blip r:embed="rId1"/>
          <a:stretch/>
        </p:blipFill>
        <p:spPr>
          <a:xfrm>
            <a:off x="428760" y="928800"/>
            <a:ext cx="377028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7120" y="5857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буквы современного и древнерусского алфав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school.xvatit.com/images/thumb/e/ef/24d4cce354ad.jpg/468px-24d4cce354ad.jpg"/>
          <p:cNvPicPr/>
          <p:nvPr/>
        </p:nvPicPr>
        <p:blipFill>
          <a:blip r:embed="rId2"/>
          <a:stretch/>
        </p:blipFill>
        <p:spPr>
          <a:xfrm>
            <a:off x="4714920" y="928800"/>
            <a:ext cx="3643200" cy="467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Ольга</dc:creator>
  <dc:description/>
  <dc:language>en-US</dc:language>
  <cp:lastModifiedBy>Acer</cp:lastModifiedBy>
  <dcterms:modified xsi:type="dcterms:W3CDTF">2023-05-18T14:55:50Z</dcterms:modified>
  <cp:revision>57</cp:revision>
  <dc:subject/>
  <dc:title>Мастера печатных д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40000000000010243100207f6000400038000</vt:lpwstr>
  </property>
</Properties>
</file>