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2416-ABBB-4E8E-9F0F-ADB50652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91F7-436C-418F-895B-F618D513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7859-221D-47D3-83BE-9717D7E0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0B85-33B5-4153-A3BA-4ED2840C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3B81-7260-48DA-B9B7-5C014765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7FA4-90C0-4874-8E06-B1638E64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98E9-C8E6-444C-A07C-D539E105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1909-5962-49FA-9B01-084F2B42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C40-03B1-4B31-A447-0A1ED3BF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4B36-BFE3-4E3A-8C58-A8A644FB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2A7-7BFD-4B14-8AFD-495301D5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292E-97B1-4777-B83E-72767962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BDFC-F551-4C06-85BA-5F847A5F7B4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4847-1896-408E-9BD8-F6B26A68F7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optina-pustin.ru/15&#8230;" TargetMode="External"/><Relationship Id="rId2" Type="http://schemas.openxmlformats.org/officeDocument/2006/relationships/hyperlink" Target="http://dayoflife.ru/sedtour/?contr=rez&amp;que=b%20&#1041;&#1080;&#1090;&#1074;&#1072;%20&#1085;&#1072;%20b%20&#1053;&#1077;&#1074;&#1077;" TargetMode="External"/><Relationship Id="rId3" Type="http://schemas.openxmlformats.org/officeDocument/2006/relationships/hyperlink" Target="http://ggaliba.ucoz.ru/index/jubilejnye_daty_2012_goda/0-66" TargetMode="External"/><Relationship Id="rId4" Type="http://schemas.openxmlformats.org/officeDocument/2006/relationships/hyperlink" Target="http://www.childrenpedia.org/8/page249.html" TargetMode="External"/><Relationship Id="rId5" Type="http://schemas.openxmlformats.org/officeDocument/2006/relationships/hyperlink" Target="http://www.childrenpedia.org/8/page249.html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143080"/>
            <a:ext cx="8486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рия</a:t>
            </a:r>
            <a:br>
              <a:rPr sz="7200"/>
            </a:b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авянской азбук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user\Pictures\d3250fbf3dd1.png"/>
          <p:cNvPicPr/>
          <p:nvPr/>
        </p:nvPicPr>
        <p:blipFill>
          <a:blip r:embed="rId2"/>
          <a:stretch/>
        </p:blipFill>
        <p:spPr>
          <a:xfrm>
            <a:off x="1428840" y="4143240"/>
            <a:ext cx="1577880" cy="192888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1619280" y="38926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збука как вид дидактического пособ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5651640" y="54259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удент группы НО-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чиненова А,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285920" y="1643040"/>
            <a:ext cx="2857320" cy="4287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5429160" y="1643040"/>
            <a:ext cx="2141640" cy="42339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4643280" y="5929200"/>
            <a:ext cx="3786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о Льво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рхитектор А. Консулов, скульпто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. Борисенко и В. Подоль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714240" y="5929200"/>
            <a:ext cx="385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Моск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кульптор С. М. Волнухин, архитектурное оформление И. П. Мош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642960" y="92880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вану Фёдорову был установлен памя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Управляющая кнопка: домой 6">
            <a:hlinkClick r:id="rId3" action="ppaction://hlinksldjump"/>
          </p:cNvPr>
          <p:cNvSpPr/>
          <p:nvPr/>
        </p:nvSpPr>
        <p:spPr>
          <a:xfrm>
            <a:off x="8286840" y="60721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12338" y="3837"/>
                </a:moveTo>
                <a:lnTo>
                  <a:pt x="14915" y="6448"/>
                </a:ln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lnTo>
                  <a:pt x="19301" y="10800"/>
                </a:lnTo>
                <a:lnTo>
                  <a:pt x="17648" y="10800"/>
                </a:lnTo>
                <a:lnTo>
                  <a:pt x="17648" y="17989"/>
                </a:lnTo>
                <a:lnTo>
                  <a:pt x="7029" y="17989"/>
                </a:lnTo>
                <a:lnTo>
                  <a:pt x="7029" y="10800"/>
                </a:lnTo>
                <a:lnTo>
                  <a:pt x="5375" y="10800"/>
                </a:lnTo>
                <a:close/>
              </a:path>
              <a:path fill="darkenLess" w="24677" h="21600">
                <a:moveTo>
                  <a:pt x="14915" y="6448"/>
                </a:move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close/>
              </a:path>
              <a:path fill="darkenLess" w="24677" h="21600">
                <a:moveTo>
                  <a:pt x="11416" y="14299"/>
                </a:moveTo>
                <a:lnTo>
                  <a:pt x="13261" y="14299"/>
                </a:lnTo>
                <a:lnTo>
                  <a:pt x="13261" y="17989"/>
                </a:lnTo>
                <a:lnTo>
                  <a:pt x="17648" y="17989"/>
                </a:lnTo>
                <a:lnTo>
                  <a:pt x="17648" y="10800"/>
                </a:lnTo>
                <a:lnTo>
                  <a:pt x="7029" y="10800"/>
                </a:lnTo>
                <a:lnTo>
                  <a:pt x="7029" y="17989"/>
                </a:lnTo>
                <a:lnTo>
                  <a:pt x="11416" y="17989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4a452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-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optina-pustin.ru/15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dayoflife.ru/sedtour/?c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ggaliba.ucoz.ru/index/j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childrenpedia.org/8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childrenpedia.org/8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worldtemples.ru/fo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photosight.ru/photo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zamok.pp.ua/Forum/show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school.xvatit.com/index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2"/>
          <p:cNvSpPr/>
          <p:nvPr/>
        </p:nvSpPr>
        <p:spPr>
          <a:xfrm>
            <a:off x="4500720" y="857160"/>
            <a:ext cx="4214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9 апреля 1563 год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ван Фёдоро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крыл в Москве первую на Руси "печатню", то есть типографию. Открыл он её по царскому веленью. Печатный станок тогда был делом государственной важности, и без указания царя никто книгопечатанием заняться не сме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3906720" cy="53578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6"/>
          <p:cNvSpPr/>
          <p:nvPr/>
        </p:nvSpPr>
        <p:spPr>
          <a:xfrm>
            <a:off x="500040" y="6143760"/>
            <a:ext cx="385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вов А. В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ван Фёдоров ("Первопечатник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714920" y="1143000"/>
            <a:ext cx="3857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Руси первый печатный станок сделал тоже Иван. В историю он вошёл как первопечатник Иван Фёдоров, хотя в некоторых напечатанных им книгах подписывался как Иван Фёдорович Москвит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14240" y="1000080"/>
            <a:ext cx="3314880" cy="47433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714240" y="5860080"/>
            <a:ext cx="364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разцовый стан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осковского печатного двора XVII 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ый Исторический музей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5143680" y="1000080"/>
            <a:ext cx="3643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авил тогда Иван Грозный — царь страшный и жестокий. Зато значение книги царь понимал. И, решив не отставать от Европы, повелел Иван Грозный построить Государев Печатный дв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1071720" y="6072120"/>
            <a:ext cx="285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ван Грозный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еконструк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4333680" cy="5245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28760" y="781200"/>
            <a:ext cx="4214520" cy="52909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 flipV="1" rot="10800000">
            <a:off x="428400" y="6144480"/>
            <a:ext cx="407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осковский Печатный двор в середине XVII 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еконструкция Румянцева В.Е. Литограф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4714920" y="857160"/>
            <a:ext cx="4071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оял Печатный двор в Москве, в Китай-городе. Его руководителем и стал церковный дьякон Иван Фёдоров, будущий первопечат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4714920" y="785880"/>
            <a:ext cx="4000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ван Фёдоров создал азбуку, используя славянские буквы. Эту азбуку напечатали, и стали по ней учить детей не только из богатых семей, но и из бедных. Чтобы украсить страницы, Иван Фёдоров придумывал и сам вырезал различные заставки, конц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643120" y="3286080"/>
            <a:ext cx="1905120" cy="3114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643040" y="78588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357120" y="3071880"/>
            <a:ext cx="1795680" cy="26431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6"/>
          <p:cNvSpPr/>
          <p:nvPr/>
        </p:nvSpPr>
        <p:spPr>
          <a:xfrm>
            <a:off x="285840" y="5715000"/>
            <a:ext cx="192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раница из первого печатного букваря Ивана Фёдорова 1574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4"/>
          <a:stretch/>
        </p:blipFill>
        <p:spPr>
          <a:xfrm>
            <a:off x="357120" y="1571760"/>
            <a:ext cx="1085760" cy="799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8"/>
          <p:cNvSpPr/>
          <p:nvPr/>
        </p:nvSpPr>
        <p:spPr>
          <a:xfrm>
            <a:off x="285840" y="242892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еталлические литер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3"/>
          <p:cNvSpPr/>
          <p:nvPr/>
        </p:nvSpPr>
        <p:spPr>
          <a:xfrm>
            <a:off x="214200" y="64296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кольку книга стоила дорого, её берег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защиты от механических повреждений дел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плёт из двух досок, обтянутых кожей и имевш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стёжку на боковом сре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переплёты древних рукописных книг.jpg"/>
          <p:cNvPicPr/>
          <p:nvPr/>
        </p:nvPicPr>
        <p:blipFill>
          <a:blip r:embed="rId1"/>
          <a:stretch/>
        </p:blipFill>
        <p:spPr>
          <a:xfrm>
            <a:off x="1000080" y="2357280"/>
            <a:ext cx="3214800" cy="21830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rybuf.jpg"/>
          <p:cNvPicPr/>
          <p:nvPr/>
        </p:nvPicPr>
        <p:blipFill>
          <a:blip r:embed="rId2"/>
          <a:stretch/>
        </p:blipFill>
        <p:spPr>
          <a:xfrm>
            <a:off x="4786200" y="2286000"/>
            <a:ext cx="3448080" cy="2265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b_stuart2.jpg"/>
          <p:cNvPicPr/>
          <p:nvPr/>
        </p:nvPicPr>
        <p:blipFill>
          <a:blip r:embed="rId3"/>
          <a:stretch/>
        </p:blipFill>
        <p:spPr>
          <a:xfrm>
            <a:off x="1285920" y="4643280"/>
            <a:ext cx="2865240" cy="18748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44.jpg"/>
          <p:cNvPicPr/>
          <p:nvPr/>
        </p:nvPicPr>
        <p:blipFill>
          <a:blip r:embed="rId4"/>
          <a:stretch/>
        </p:blipFill>
        <p:spPr>
          <a:xfrm>
            <a:off x="5072040" y="4572000"/>
            <a:ext cx="2643120" cy="1884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Русский-язык.jpg"/>
          <p:cNvPicPr/>
          <p:nvPr/>
        </p:nvPicPr>
        <p:blipFill>
          <a:blip r:embed="rId1"/>
          <a:stretch/>
        </p:blipFill>
        <p:spPr>
          <a:xfrm>
            <a:off x="2071800" y="1000080"/>
            <a:ext cx="4849560" cy="48578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71280" y="6072120"/>
            <a:ext cx="90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ьше каждая буква азбуки имела своё наз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8" descr="s6254592"/>
          <p:cNvPicPr/>
          <p:nvPr/>
        </p:nvPicPr>
        <p:blipFill>
          <a:blip r:embed="rId1"/>
          <a:stretch/>
        </p:blipFill>
        <p:spPr>
          <a:xfrm>
            <a:off x="428760" y="928800"/>
            <a:ext cx="3770280" cy="460836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357120" y="58579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авните буквы современного и древнерусского алфави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http://school.xvatit.com/images/thumb/e/ef/24d4cce354ad.jpg/468px-24d4cce354ad.jpg"/>
          <p:cNvPicPr/>
          <p:nvPr/>
        </p:nvPicPr>
        <p:blipFill>
          <a:blip r:embed="rId2"/>
          <a:stretch/>
        </p:blipFill>
        <p:spPr>
          <a:xfrm>
            <a:off x="4714920" y="928800"/>
            <a:ext cx="3643200" cy="4670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3T12:22:04Z</dcterms:created>
  <dc:creator>Ольга</dc:creator>
  <dc:description/>
  <dc:language>en-US</dc:language>
  <cp:lastModifiedBy>Acer</cp:lastModifiedBy>
  <dcterms:modified xsi:type="dcterms:W3CDTF">2023-05-18T14:55:50Z</dcterms:modified>
  <cp:revision>57</cp:revision>
  <dc:subject/>
  <dc:title>Мастера печатных де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8140000000000010243100207f6000400038000</vt:lpwstr>
  </property>
</Properties>
</file>