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0A7-9FA7-4D96-8598-172D6952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C0C-8BCF-40BE-A76C-7FA4F952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261-ADB0-48C0-B7E5-F0DBE2C1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AC6-1ED4-4F90-8FDB-5507B4C2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A0E1-D307-48FD-ADD9-B90E87AB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5F6-7B39-4C82-888B-C1C9D0D2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179D-D05A-4D2B-A9C4-988EB650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4A0C-0870-4419-BFF8-53E593C7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45D5-5E0B-4C32-9ED5-99E38DDC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5D17-835D-4B1C-B2FE-E32EC966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AF8C-8792-468F-9636-B9426E6A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813-A048-4904-880F-B8EBC886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83F8-4043-4425-842C-B4D2CD8A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B099-07B7-4DFD-BA58-E8C22073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BE43-C372-466C-9522-AD07F91E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B59E-633E-4D38-84AE-73B44CC0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A9BF-CDA8-43F1-A84B-7FDC5CCB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14C04-EED6-41B1-B720-BAD9FB5A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82EF-A644-4AC4-A248-A1A701C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91AC-7E19-4E23-920D-4F690D3C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7E70-B841-489F-8972-55387E6B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1BB4-E806-4F04-8E79-9F558F30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6DF-C08A-4A45-981F-9FA9FE5D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3431-AB0D-4118-8E8B-5470AF9E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DAA7-8B4A-4BEC-AB5D-A7B99DC4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A6DE-3215-4AE4-A32B-AD85429E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9BF5-F9DB-4743-9619-03885804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2901F-58BE-4DD9-8EC9-085E45CA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00B0-D055-4755-AC64-C792BC37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E431-054F-4FA7-BB86-C1E8DA4E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A69-5C16-42DE-A9F0-F0546F48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EF6-0E83-439D-A92E-755BFD0B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3D2-AE68-486A-953F-918A2138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6BB-212B-49F5-ADA9-352CF53C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C09-5862-4AD7-AF07-D1A8A78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323-1BFC-4B90-86A3-BC557ED0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cxnSp>
          <p:nvCxnSpPr>
            <p:cNvPr id="1" name="Straight Connector 6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7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sp>
          <p:nvSpPr>
            <p:cNvPr id="3" name="Freeform 8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50000"/>
                <a:alpha val="7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dt" idx="1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ftr" idx="2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F894D8-7542-437A-8824-CB6BB387AA7A}" type="slidenum">
              <a: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cxnSp>
          <p:nvCxnSpPr>
            <p:cNvPr id="53" name="Straight Connector 6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cxnSp>
          <p:nvCxnSpPr>
            <p:cNvPr id="54" name="Straight Connector 7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sp>
          <p:nvSpPr>
            <p:cNvPr id="55" name="Freeform 8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50000"/>
                <a:alpha val="7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5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143655-67C8-4A55-957D-1835039601FC}" type="slidenum">
              <a: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cxnSp>
          <p:nvCxnSpPr>
            <p:cNvPr id="105" name="Straight Connector 6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cxnSp>
          <p:nvCxnSpPr>
            <p:cNvPr id="106" name="Straight Connector 7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sp>
          <p:nvSpPr>
            <p:cNvPr id="107" name="Freeform 8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50000"/>
                <a:alpha val="7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dt" idx="7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8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7154F8-2C49-4215-856F-EC56E3EAC8A6}" type="slidenum">
              <a: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body"/>
          </p:nvPr>
        </p:nvSpPr>
        <p:spPr>
          <a:xfrm>
            <a:off x="464508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3196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5300"/>
            </a:br>
            <a:br>
              <a:rPr sz="3600"/>
            </a:br>
            <a:br>
              <a:rPr sz="3600"/>
            </a:br>
            <a:br>
              <a:rPr sz="107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503640" y="476640"/>
            <a:ext cx="8136720" cy="14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Круж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70c0"/>
                </a:solidFill>
                <a:latin typeface="Monotype Corsiva"/>
              </a:rPr>
              <a:t>по экспериментированию</a:t>
            </a:r>
            <a:br>
              <a:rPr sz="6600"/>
            </a:br>
            <a:r>
              <a:rPr b="1" lang="ru-RU" sz="9600" spc="-1" strike="noStrike">
                <a:solidFill>
                  <a:srgbClr val="7030a0"/>
                </a:solidFill>
                <a:latin typeface="Monotype Corsiva"/>
              </a:rPr>
              <a:t>«Галилео»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Для детей 5-6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2022 -2023 уч. год</a:t>
            </a:r>
            <a:br>
              <a:rPr sz="3200"/>
            </a:br>
            <a:br>
              <a:rPr sz="3200"/>
            </a:br>
            <a:br>
              <a:rPr sz="6600"/>
            </a:br>
            <a:br>
              <a:rPr sz="10700"/>
            </a:br>
            <a:br>
              <a:rPr sz="10700"/>
            </a:br>
            <a:br>
              <a:rPr sz="107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2924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Занятие «Бумажные секреты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1484640"/>
            <a:ext cx="7128360" cy="43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61" name="Рисунок 8" descr=""/>
          <p:cNvPicPr/>
          <p:nvPr/>
        </p:nvPicPr>
        <p:blipFill>
          <a:blip r:embed="rId1"/>
          <a:stretch/>
        </p:blipFill>
        <p:spPr>
          <a:xfrm>
            <a:off x="216000" y="1015560"/>
            <a:ext cx="4859640" cy="56116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" descr=""/>
          <p:cNvPicPr/>
          <p:nvPr/>
        </p:nvPicPr>
        <p:blipFill>
          <a:blip r:embed="rId2"/>
          <a:stretch/>
        </p:blipFill>
        <p:spPr>
          <a:xfrm>
            <a:off x="5378760" y="1015560"/>
            <a:ext cx="3548880" cy="2493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"/>
          <p:cNvPicPr/>
          <p:nvPr/>
        </p:nvPicPr>
        <p:blipFill>
          <a:blip r:embed="rId3"/>
          <a:stretch/>
        </p:blipFill>
        <p:spPr>
          <a:xfrm>
            <a:off x="5378760" y="3681000"/>
            <a:ext cx="35488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640" y="0"/>
            <a:ext cx="8640720" cy="15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Monotype Corsiva"/>
              </a:rPr>
              <a:t>Занятие  «Имеет ли вода цвет, вкус и запах?»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5" name="Объект 8" descr=""/>
          <p:cNvPicPr/>
          <p:nvPr/>
        </p:nvPicPr>
        <p:blipFill>
          <a:blip r:embed="rId1"/>
          <a:stretch/>
        </p:blipFill>
        <p:spPr>
          <a:xfrm>
            <a:off x="4119120" y="1376280"/>
            <a:ext cx="4917240" cy="53949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"/>
          <p:cNvPicPr/>
          <p:nvPr/>
        </p:nvPicPr>
        <p:blipFill>
          <a:blip r:embed="rId2"/>
          <a:stretch/>
        </p:blipFill>
        <p:spPr>
          <a:xfrm>
            <a:off x="251640" y="1376280"/>
            <a:ext cx="3672000" cy="25786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3"/>
          <a:stretch/>
        </p:blipFill>
        <p:spPr>
          <a:xfrm>
            <a:off x="236880" y="4192200"/>
            <a:ext cx="3686760" cy="25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684720" y="0"/>
            <a:ext cx="7560360" cy="198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Занятие </a:t>
            </a:r>
            <a:r>
              <a:rPr b="1" lang="ru-RU" sz="6600" spc="-1" strike="noStrike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«Послушный ветерок»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9" name="Объект 5" descr=""/>
          <p:cNvPicPr/>
          <p:nvPr/>
        </p:nvPicPr>
        <p:blipFill>
          <a:blip r:embed="rId1"/>
          <a:stretch/>
        </p:blipFill>
        <p:spPr>
          <a:xfrm>
            <a:off x="219600" y="1989000"/>
            <a:ext cx="4320000" cy="4536000"/>
          </a:xfrm>
          <a:prstGeom prst="rect">
            <a:avLst/>
          </a:prstGeom>
          <a:ln w="0">
            <a:noFill/>
          </a:ln>
        </p:spPr>
      </p:pic>
      <p:pic>
        <p:nvPicPr>
          <p:cNvPr id="170" name="Объект 7" descr=""/>
          <p:cNvPicPr/>
          <p:nvPr/>
        </p:nvPicPr>
        <p:blipFill>
          <a:blip r:embed="rId2"/>
          <a:stretch/>
        </p:blipFill>
        <p:spPr>
          <a:xfrm>
            <a:off x="4716000" y="932400"/>
            <a:ext cx="4427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f496cb"/>
      </a:accent1>
      <a:accent2>
        <a:srgbClr val="bc356f"/>
      </a:accent2>
      <a:accent3>
        <a:srgbClr val="e65331"/>
      </a:accent3>
      <a:accent4>
        <a:srgbClr val="f27e19"/>
      </a:accent4>
      <a:accent5>
        <a:srgbClr val="f2ac19"/>
      </a:accent5>
      <a:accent6>
        <a:srgbClr val="bc80e0"/>
      </a:accent6>
      <a:hlink>
        <a:srgbClr val="ef5285"/>
      </a:hlink>
      <a:folHlink>
        <a:srgbClr val="f77f9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f496cb"/>
      </a:accent1>
      <a:accent2>
        <a:srgbClr val="bc356f"/>
      </a:accent2>
      <a:accent3>
        <a:srgbClr val="e65331"/>
      </a:accent3>
      <a:accent4>
        <a:srgbClr val="f27e19"/>
      </a:accent4>
      <a:accent5>
        <a:srgbClr val="f2ac19"/>
      </a:accent5>
      <a:accent6>
        <a:srgbClr val="bc80e0"/>
      </a:accent6>
      <a:hlink>
        <a:srgbClr val="ef5285"/>
      </a:hlink>
      <a:folHlink>
        <a:srgbClr val="f77f9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f496cb"/>
      </a:accent1>
      <a:accent2>
        <a:srgbClr val="bc356f"/>
      </a:accent2>
      <a:accent3>
        <a:srgbClr val="e65331"/>
      </a:accent3>
      <a:accent4>
        <a:srgbClr val="f27e19"/>
      </a:accent4>
      <a:accent5>
        <a:srgbClr val="f2ac19"/>
      </a:accent5>
      <a:accent6>
        <a:srgbClr val="bc80e0"/>
      </a:accent6>
      <a:hlink>
        <a:srgbClr val="ef5285"/>
      </a:hlink>
      <a:folHlink>
        <a:srgbClr val="f77f9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655</TotalTime>
  <Application>LibreOffice/7.4.7.2$Linux_X86_64 LibreOffice_project/40$Build-2</Application>
  <AppVersion>15.0000</AppVersion>
  <Words>24</Words>
  <Paragraphs>9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1:40:36Z</dcterms:created>
  <dc:creator>UserXP</dc:creator>
  <dc:description/>
  <dc:language>en-US</dc:language>
  <cp:lastModifiedBy>Lyubov</cp:lastModifiedBy>
  <dcterms:modified xsi:type="dcterms:W3CDTF">2023-05-18T10:58:59Z</dcterms:modified>
  <cp:revision>87</cp:revision>
  <dc:subject/>
  <dc:title>   Проект  «В гостях у сказ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</vt:r8>
  </property>
</Properties>
</file>