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588-7DF6-4EF4-8BE0-0B181AE0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383-5690-4401-B9D1-28AA523B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D46-409E-4447-835C-3D393C0B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A54-6DA2-4E76-8BCB-BF13807D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7F63-6C6B-4D10-A309-793891A4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0B51-5164-4622-99E2-8E2B22DB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8A9D-DAE6-49B0-A5A7-4735A40C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B4D2-7144-423C-90BF-103A084E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BE25-D4CF-4078-9782-FBF68DED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F1ED-050F-40D7-8E86-C6A77811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925A-02AC-4C52-A6F5-CE8EFCEA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198-B313-400E-A6B1-527322BD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B06E-2FAC-45A8-81A9-C772F02D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F519-F833-4E6E-9895-BACB771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A93A-3E80-494C-9397-30224C77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0C1F-061E-4190-912D-EA94DD12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4AB8-48FC-4DA2-A085-A9663C25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6C67-04F0-4567-8D1D-A934C850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7DDA-75BA-45E2-BB76-A56D796E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DB0E-1F0D-4E8A-8B12-5E9C2D3C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A8E1-CB22-439B-BC05-1CAD14A3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E358-EA9F-4EA7-8916-BB72BADB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063-91A1-4ADE-AF3B-C38A7608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3AB1-7A55-4D00-888D-FD88B654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BAFF-1A67-47A4-BB9B-FBFDB025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B49F-4EA6-4280-BFE0-69E2E796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7308-C4EB-4CCB-8199-F5A4078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981C-F9AF-4BDC-A695-95881DC5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1722-BEDC-47B8-A44F-B5AF7A7A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80DBA-93C0-4EBA-BCFE-3B3A3624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8C9-16E6-4B94-9AF2-CB468710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2C9-CEDB-4C5F-8348-D32F2D3D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67D-8131-411C-BCF9-1218616A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26B-7048-4877-9954-AA513830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D7A-1050-467F-B292-012DB786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A5A-C03B-44D6-B83F-0792F0F7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cxnSp>
          <p:nvCxnSpPr>
            <p:cNvPr id="1" name="Straight Connector 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sp>
          <p:nvSpPr>
            <p:cNvPr id="3" name="Freeform 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50000"/>
                <a:alpha val="7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dt" idx="1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ftr" idx="2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41A2F2-BF90-4079-A31D-0641C1619BB7}" type="slidenum">
              <a: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cxnSp>
          <p:nvCxnSpPr>
            <p:cNvPr id="53" name="Straight Connector 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cxnSp>
          <p:nvCxnSpPr>
            <p:cNvPr id="54" name="Straight Connector 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sp>
          <p:nvSpPr>
            <p:cNvPr id="55" name="Freeform 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50000"/>
                <a:alpha val="7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5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D2740F-0961-403B-B5F7-A0C6CDCC2C91}" type="slidenum">
              <a: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cxnSp>
          <p:nvCxnSpPr>
            <p:cNvPr id="105" name="Straight Connector 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cxnSp>
          <p:nvCxnSpPr>
            <p:cNvPr id="106" name="Straight Connector 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496cb">
                  <a:alpha val="70000"/>
                </a:srgbClr>
              </a:solidFill>
              <a:round/>
            </a:ln>
          </p:spPr>
        </p:cxnSp>
        <p:sp>
          <p:nvSpPr>
            <p:cNvPr id="107" name="Freeform 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50000"/>
                <a:alpha val="7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dt" idx="7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8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6D6E0F-F52C-49CA-B7ED-8491EB65B88A}" type="slidenum">
              <a:rPr b="0" lang="ru-RU" sz="9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75000"/>
                  </a:schemeClr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body"/>
          </p:nvPr>
        </p:nvSpPr>
        <p:spPr>
          <a:xfrm>
            <a:off x="464508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3196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5300"/>
            </a:br>
            <a:br>
              <a:rPr sz="3600"/>
            </a:br>
            <a:br>
              <a:rPr sz="3600"/>
            </a:br>
            <a:br>
              <a:rPr sz="107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503640" y="476640"/>
            <a:ext cx="8136720" cy="14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Круж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70c0"/>
                </a:solidFill>
                <a:latin typeface="Monotype Corsiva"/>
              </a:rPr>
              <a:t>по экспериментированию</a:t>
            </a:r>
            <a:br>
              <a:rPr sz="6600"/>
            </a:br>
            <a:r>
              <a:rPr b="1" lang="ru-RU" sz="9600" spc="-1" strike="noStrike">
                <a:solidFill>
                  <a:srgbClr val="7030a0"/>
                </a:solidFill>
                <a:latin typeface="Monotype Corsiva"/>
              </a:rPr>
              <a:t>«Галилео»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Для детей 5-6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2022 -2023 уч. год</a:t>
            </a:r>
            <a:br>
              <a:rPr sz="3200"/>
            </a:br>
            <a:br>
              <a:rPr sz="3200"/>
            </a:br>
            <a:br>
              <a:rPr sz="6600"/>
            </a:br>
            <a:br>
              <a:rPr sz="10700"/>
            </a:br>
            <a:br>
              <a:rPr sz="10700"/>
            </a:br>
            <a:br>
              <a:rPr sz="107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Занятие «Бумажные секреты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484640"/>
            <a:ext cx="7128360" cy="43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61" name="Рисунок 8" descr=""/>
          <p:cNvPicPr/>
          <p:nvPr/>
        </p:nvPicPr>
        <p:blipFill>
          <a:blip r:embed="rId1"/>
          <a:stretch/>
        </p:blipFill>
        <p:spPr>
          <a:xfrm>
            <a:off x="216000" y="1015560"/>
            <a:ext cx="4859640" cy="56116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" descr=""/>
          <p:cNvPicPr/>
          <p:nvPr/>
        </p:nvPicPr>
        <p:blipFill>
          <a:blip r:embed="rId2"/>
          <a:stretch/>
        </p:blipFill>
        <p:spPr>
          <a:xfrm>
            <a:off x="5378760" y="1015560"/>
            <a:ext cx="3548880" cy="2493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"/>
          <p:cNvPicPr/>
          <p:nvPr/>
        </p:nvPicPr>
        <p:blipFill>
          <a:blip r:embed="rId3"/>
          <a:stretch/>
        </p:blipFill>
        <p:spPr>
          <a:xfrm>
            <a:off x="5378760" y="3681000"/>
            <a:ext cx="35488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640" y="0"/>
            <a:ext cx="8640720" cy="15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Monotype Corsiva"/>
              </a:rPr>
              <a:t>Занятие  «Имеет ли вода цвет, вкус и запах?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5" name="Объект 8" descr=""/>
          <p:cNvPicPr/>
          <p:nvPr/>
        </p:nvPicPr>
        <p:blipFill>
          <a:blip r:embed="rId1"/>
          <a:stretch/>
        </p:blipFill>
        <p:spPr>
          <a:xfrm>
            <a:off x="4119120" y="1376280"/>
            <a:ext cx="4917240" cy="53949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"/>
          <p:cNvPicPr/>
          <p:nvPr/>
        </p:nvPicPr>
        <p:blipFill>
          <a:blip r:embed="rId2"/>
          <a:stretch/>
        </p:blipFill>
        <p:spPr>
          <a:xfrm>
            <a:off x="251640" y="1376280"/>
            <a:ext cx="3672000" cy="25786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3"/>
          <a:stretch/>
        </p:blipFill>
        <p:spPr>
          <a:xfrm>
            <a:off x="236880" y="4192200"/>
            <a:ext cx="3686760" cy="25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684720" y="0"/>
            <a:ext cx="7560360" cy="198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Занятие </a:t>
            </a:r>
            <a:r>
              <a:rPr b="1" lang="ru-RU" sz="6600" spc="-1" strike="noStrike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«Послушный ветерок»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9" name="Объект 5" descr=""/>
          <p:cNvPicPr/>
          <p:nvPr/>
        </p:nvPicPr>
        <p:blipFill>
          <a:blip r:embed="rId1"/>
          <a:stretch/>
        </p:blipFill>
        <p:spPr>
          <a:xfrm>
            <a:off x="219600" y="1989000"/>
            <a:ext cx="4320000" cy="4536000"/>
          </a:xfrm>
          <a:prstGeom prst="rect">
            <a:avLst/>
          </a:prstGeom>
          <a:ln w="0">
            <a:noFill/>
          </a:ln>
        </p:spPr>
      </p:pic>
      <p:pic>
        <p:nvPicPr>
          <p:cNvPr id="170" name="Объект 7" descr=""/>
          <p:cNvPicPr/>
          <p:nvPr/>
        </p:nvPicPr>
        <p:blipFill>
          <a:blip r:embed="rId2"/>
          <a:stretch/>
        </p:blipFill>
        <p:spPr>
          <a:xfrm>
            <a:off x="4716000" y="932400"/>
            <a:ext cx="4427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f496cb"/>
      </a:accent1>
      <a:accent2>
        <a:srgbClr val="bc356f"/>
      </a:accent2>
      <a:accent3>
        <a:srgbClr val="e65331"/>
      </a:accent3>
      <a:accent4>
        <a:srgbClr val="f27e19"/>
      </a:accent4>
      <a:accent5>
        <a:srgbClr val="f2ac19"/>
      </a:accent5>
      <a:accent6>
        <a:srgbClr val="bc80e0"/>
      </a:accent6>
      <a:hlink>
        <a:srgbClr val="ef5285"/>
      </a:hlink>
      <a:folHlink>
        <a:srgbClr val="f77f9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f496cb"/>
      </a:accent1>
      <a:accent2>
        <a:srgbClr val="bc356f"/>
      </a:accent2>
      <a:accent3>
        <a:srgbClr val="e65331"/>
      </a:accent3>
      <a:accent4>
        <a:srgbClr val="f27e19"/>
      </a:accent4>
      <a:accent5>
        <a:srgbClr val="f2ac19"/>
      </a:accent5>
      <a:accent6>
        <a:srgbClr val="bc80e0"/>
      </a:accent6>
      <a:hlink>
        <a:srgbClr val="ef5285"/>
      </a:hlink>
      <a:folHlink>
        <a:srgbClr val="f77f9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f496cb"/>
      </a:accent1>
      <a:accent2>
        <a:srgbClr val="bc356f"/>
      </a:accent2>
      <a:accent3>
        <a:srgbClr val="e65331"/>
      </a:accent3>
      <a:accent4>
        <a:srgbClr val="f27e19"/>
      </a:accent4>
      <a:accent5>
        <a:srgbClr val="f2ac19"/>
      </a:accent5>
      <a:accent6>
        <a:srgbClr val="bc80e0"/>
      </a:accent6>
      <a:hlink>
        <a:srgbClr val="ef5285"/>
      </a:hlink>
      <a:folHlink>
        <a:srgbClr val="f77f9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655</TotalTime>
  <Application>LibreOffice/7.4.7.2$Linux_X86_64 LibreOffice_project/40$Build-2</Application>
  <AppVersion>15.0000</AppVersion>
  <Words>24</Words>
  <Paragraphs>9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1:40:36Z</dcterms:created>
  <dc:creator>UserXP</dc:creator>
  <dc:description/>
  <dc:language>en-US</dc:language>
  <cp:lastModifiedBy>Lyubov</cp:lastModifiedBy>
  <dcterms:modified xsi:type="dcterms:W3CDTF">2023-05-18T10:58:59Z</dcterms:modified>
  <cp:revision>87</cp:revision>
  <dc:subject/>
  <dc:title>   Проект  «В гостях у сказ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</vt:r8>
  </property>
</Properties>
</file>