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58D-47B6-4062-B301-AD4B647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BBA-A352-4359-B5AD-BAFF8DD1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260-8BE3-4831-B657-BC5F75D3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8DB-CC58-4C06-80B0-356A1628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480-F1A5-41FC-8BCF-59E20CF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099-1959-43C9-8FAD-60D429BC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E0A-9D96-4128-BA8F-E4BC32D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9F7-C1B4-41BC-ACFA-D8CD235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AEB-2DA1-4013-9A7A-3B0B0C10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B24-4F93-4DBB-9CF0-56C70F9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0C6-60FC-45F3-B39B-2C9BA59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7D5-33A9-44F2-BEE8-CB7BF1A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8ED6-3A8C-4B30-8551-C57D24E37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лайд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школа весной 2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817560" y="395280"/>
            <a:ext cx="735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сылки на разработки мероприятий</a:t>
            </a:r>
            <a:endParaRPr b="1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533520" y="9144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льс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457200" y="1828800"/>
            <a:ext cx="40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ча Памяти и Скорб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nsportal.ru/sites/default/files/2023/05/18/stsenariy_svecha_pamyati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457200" y="32004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ень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533520" y="6019920"/>
            <a:ext cx="358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расстанусь с комсом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554400" y="5181480"/>
            <a:ext cx="3465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знавате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nsportal.ru/node/6094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457200" y="419112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атриотом быть м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nsportal.ru/node/5588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лай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Слайд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Слайд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лайд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Слайд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Слайд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лайд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лайд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нцелярия</cp:lastModifiedBy>
  <dcterms:modified xsi:type="dcterms:W3CDTF">2023-05-18T16:06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