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597-D69D-4067-AEA4-6E843A5F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791-0CF3-46A5-B891-214A4F4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3ED-D7B3-4BB1-A64F-4571CBF3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DA6-6CBA-4AA2-ADF3-263E0262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386-09C7-484A-A12E-F7C423DF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906-1764-435A-AB42-42B191BC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350-0C51-4AA2-A0D0-DE648F7C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5C4-AD74-4EB3-936B-671A542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4EF-FC94-46C2-B4EA-3133181F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184-AA42-430F-8B4F-115CB8F6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306-4993-450B-81E6-3129CDC9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439-72BF-46C2-A371-53C212B5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57CB-F94D-4E48-B68D-B2234700C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лайд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школа весной 2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817560" y="395280"/>
            <a:ext cx="7354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сылки на разработки мероприятий</a:t>
            </a:r>
            <a:endParaRPr b="1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533520" y="914400"/>
            <a:ext cx="3962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льс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s://nsportal.ru/node/6094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0"/>
          <p:cNvSpPr/>
          <p:nvPr/>
        </p:nvSpPr>
        <p:spPr>
          <a:xfrm>
            <a:off x="457200" y="1828800"/>
            <a:ext cx="403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ча Памяти и Скорб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nsportal.ru/sites/default/files/2023/05/18/stsenariy_svecha_pamyati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457200" y="320040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ень Поэ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s://nsportal.ru/node/6094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2"/>
          <p:cNvSpPr/>
          <p:nvPr/>
        </p:nvSpPr>
        <p:spPr>
          <a:xfrm>
            <a:off x="533520" y="6019920"/>
            <a:ext cx="358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расстанусь с комсомо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s://nsportal.ru/node/6094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3"/>
          <p:cNvSpPr/>
          <p:nvPr/>
        </p:nvSpPr>
        <p:spPr>
          <a:xfrm>
            <a:off x="554400" y="5181480"/>
            <a:ext cx="3465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знавате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s://nsportal.ru/node/6094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4"/>
          <p:cNvSpPr/>
          <p:nvPr/>
        </p:nvSpPr>
        <p:spPr>
          <a:xfrm>
            <a:off x="457200" y="419112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атриотом быть м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s://nsportal.ru/node/5588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Слайд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Слайд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Слайд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Слайд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Слайд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Слайд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Слайд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лайд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нцелярия</cp:lastModifiedBy>
  <dcterms:modified xsi:type="dcterms:W3CDTF">2023-05-18T16:06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