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3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13.png" ContentType="image/png"/>
  <Override PartName="/ppt/media/image41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53.gif" ContentType="image/gif"/>
  <Override PartName="/ppt/media/image36.png" ContentType="image/png"/>
  <Override PartName="/ppt/media/image49.png" ContentType="image/png"/>
  <Override PartName="/ppt/media/image51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8.jpeg" ContentType="image/jpeg"/>
  <Override PartName="/ppt/media/image5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5E6-FBC1-4F26-A694-9A785005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299-B46C-4B10-AE73-9E9F0D6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597-17D1-4B07-82C3-09F7A737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5F9-0AD5-4732-A664-20C96720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610-2BBA-43D4-809E-F8F0D9C9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395-DD50-4D51-88A3-F00845DB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CC5A-D837-496D-8D88-EDB844C1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0F8-7B99-4910-A2DE-0C46C894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6836-C717-48D7-A0CB-2C5AF4BD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E98-DFE7-4AAD-AA8D-ABC09E84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8679-3663-4D8E-97DD-B61B1B2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D2F-4F09-4E11-AB6B-6EF749A3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F5B-4178-4DF5-815D-C7701FC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3D9-C8A7-428B-88F6-69468B4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E755-B731-4750-A92F-3D764464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4A6-CF35-47EF-B0FE-D00279A9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3F68-A29C-4855-860B-B086BBBA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6A8-F6AC-484B-9A1E-35125944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11F-8A6D-4EA2-804D-55AE371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F07-E456-4A38-A170-4A6F7E1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768-969D-4FC8-A13C-388A922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BA3-234F-41AE-98F3-3C4A101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275-AE54-4913-80B0-E2D75A59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ABC-17F1-43F4-B212-1BBF34A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ABCB-5422-486B-AE15-DD7893B5AEC2}" type="slidenum"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7DE-A73F-4D61-A460-BCE2516DFD91}" type="slidenum"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3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6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Выноска-облако 3"/>
          <p:cNvSpPr/>
          <p:nvPr/>
        </p:nvSpPr>
        <p:spPr>
          <a:xfrm>
            <a:off x="142920" y="714240"/>
            <a:ext cx="6072120" cy="2857680"/>
          </a:xfrm>
          <a:prstGeom prst="cloudCallout">
            <a:avLst>
              <a:gd name="adj1" fmla="val -25314"/>
              <a:gd name="adj2" fmla="val 105074"/>
            </a:avLst>
          </a:prstGeom>
          <a:solidFill>
            <a:srgbClr val="e7dec9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нится ночью пау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удо – юдо на су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инный клюв и два крыла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летит – плохи д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кого паук бои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гадали? Это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142920" y="4572000"/>
            <a:ext cx="1407960" cy="213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>
            <a:off x="4722840" y="3500280"/>
            <a:ext cx="421020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Картинка 11 из 16823"/>
          <p:cNvPicPr/>
          <p:nvPr/>
        </p:nvPicPr>
        <p:blipFill>
          <a:blip r:embed="rId1"/>
          <a:stretch/>
        </p:blipFill>
        <p:spPr>
          <a:xfrm>
            <a:off x="1643040" y="2041560"/>
            <a:ext cx="6019920" cy="4316400"/>
          </a:xfrm>
          <a:prstGeom prst="rect">
            <a:avLst/>
          </a:prstGeom>
          <a:ln w="0">
            <a:noFill/>
          </a:ln>
        </p:spPr>
      </p:pic>
      <p:pic>
        <p:nvPicPr>
          <p:cNvPr id="125" name="Заголовок 4" descr=""/>
          <p:cNvPicPr/>
          <p:nvPr/>
        </p:nvPicPr>
        <p:blipFill>
          <a:blip r:embed="rId2"/>
          <a:stretch/>
        </p:blipFill>
        <p:spPr>
          <a:xfrm>
            <a:off x="450720" y="585720"/>
            <a:ext cx="8321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Зяблик</a:t>
            </a:r>
            <a:endParaRPr b="0" lang="en-US" sz="6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27" name="Picture 4" descr="D:\ИРИНА\Перелетные птицы\Рисунок6.jpg"/>
          <p:cNvPicPr/>
          <p:nvPr/>
        </p:nvPicPr>
        <p:blipFill>
          <a:blip r:embed="rId1"/>
          <a:stretch/>
        </p:blipFill>
        <p:spPr>
          <a:xfrm>
            <a:off x="2211480" y="1733400"/>
            <a:ext cx="443232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14200" y="464328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129" name="Выноска-облако 2"/>
          <p:cNvSpPr/>
          <p:nvPr/>
        </p:nvSpPr>
        <p:spPr>
          <a:xfrm>
            <a:off x="2286000" y="857160"/>
            <a:ext cx="6572160" cy="2786040"/>
          </a:xfrm>
          <a:prstGeom prst="cloudCallout">
            <a:avLst>
              <a:gd name="adj1" fmla="val -33916"/>
              <a:gd name="adj2" fmla="val 93995"/>
            </a:avLst>
          </a:prstGeom>
          <a:solidFill>
            <a:srgbClr val="ffe39d"/>
          </a:solidFill>
          <a:ln w="1908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57720" y="1714680"/>
          <a:ext cx="5310000" cy="1385640"/>
        </p:xfrm>
        <a:graphic>
          <a:graphicData uri="http://schemas.openxmlformats.org/drawingml/2006/table">
            <a:tbl>
              <a:tblPr/>
              <a:tblGrid>
                <a:gridCol w="5310000"/>
              </a:tblGrid>
              <a:tr h="13856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одни птицы вынуждены улетать в теплые края, а другие остаются зимовать в родных краях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14200" y="464328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132" name="Выноска-облако 2"/>
          <p:cNvSpPr/>
          <p:nvPr/>
        </p:nvSpPr>
        <p:spPr>
          <a:xfrm>
            <a:off x="0" y="428760"/>
            <a:ext cx="8929800" cy="3000240"/>
          </a:xfrm>
          <a:prstGeom prst="cloudCallout">
            <a:avLst>
              <a:gd name="adj1" fmla="val -23606"/>
              <a:gd name="adj2" fmla="val 120412"/>
            </a:avLst>
          </a:prstGeom>
          <a:solidFill>
            <a:srgbClr val="ffe39d"/>
          </a:solidFill>
          <a:ln w="1908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Осенью многие птицы покидают свои родные места и летят зимовать на юг. Большинство из них хорошо переносит зимнюю стужу, но зимой под снегом и льдом они не могут найти себе пищу, поэтому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е холод, а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заставляет их отправится в дальнее путешествие. </a:t>
            </a:r>
            <a:r>
              <a:rPr b="1" lang="ru-RU" sz="1800" spc="-1" strike="noStrike">
                <a:solidFill>
                  <a:srgbClr val="611617"/>
                </a:solidFill>
                <a:latin typeface="Constantia"/>
              </a:rPr>
              <a:t>. В родных местах остаются те  птицы, которые могут и зимой находить себе пропитание. </a:t>
            </a: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Картинка 11 из 16823"/>
          <p:cNvPicPr/>
          <p:nvPr/>
        </p:nvPicPr>
        <p:blipFill>
          <a:blip r:embed="rId2"/>
          <a:stretch/>
        </p:blipFill>
        <p:spPr>
          <a:xfrm>
            <a:off x="3143160" y="3500280"/>
            <a:ext cx="60008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кольцо.jpg"/>
          <p:cNvPicPr/>
          <p:nvPr/>
        </p:nvPicPr>
        <p:blipFill>
          <a:blip r:embed="rId1"/>
          <a:stretch/>
        </p:blipFill>
        <p:spPr>
          <a:xfrm>
            <a:off x="0" y="0"/>
            <a:ext cx="3890880" cy="314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Admin\Рабочий стол\кольцевание  птенцов.jpg"/>
          <p:cNvPicPr/>
          <p:nvPr/>
        </p:nvPicPr>
        <p:blipFill>
          <a:blip r:embed="rId2"/>
          <a:stretch/>
        </p:blipFill>
        <p:spPr>
          <a:xfrm>
            <a:off x="0" y="3643200"/>
            <a:ext cx="406404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Documents and Settings\Admin\Рабочий стол\ROG-2009-45--20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478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Admin\Рабочий стол\i.jpg"/>
          <p:cNvPicPr/>
          <p:nvPr/>
        </p:nvPicPr>
        <p:blipFill>
          <a:blip r:embed="rId4"/>
          <a:stretch/>
        </p:blipFill>
        <p:spPr>
          <a:xfrm>
            <a:off x="3857760" y="2571840"/>
            <a:ext cx="1643040" cy="12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Admin\Рабочий стол\кольцо развернутое.jpg"/>
          <p:cNvPicPr/>
          <p:nvPr/>
        </p:nvPicPr>
        <p:blipFill>
          <a:blip r:embed="rId5"/>
          <a:stretch/>
        </p:blipFill>
        <p:spPr>
          <a:xfrm>
            <a:off x="4143240" y="4714920"/>
            <a:ext cx="4643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Картинка 126 из 2197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40" y="571680"/>
            <a:ext cx="271476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rot="594600">
            <a:off x="6563880" y="4024080"/>
            <a:ext cx="2644920" cy="262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ртинка 620 из 4818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786040" y="4500720"/>
            <a:ext cx="307512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Картинка 65 из 484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143760" y="285840"/>
            <a:ext cx="3000240" cy="2400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Картинка 39 из 839"/>
          <p:cNvPicPr/>
          <p:nvPr/>
        </p:nvPicPr>
        <p:blipFill>
          <a:blip r:embed="rId5"/>
          <a:stretch/>
        </p:blipFill>
        <p:spPr>
          <a:xfrm>
            <a:off x="285840" y="3643200"/>
            <a:ext cx="1571400" cy="2845080"/>
          </a:xfrm>
          <a:prstGeom prst="rect">
            <a:avLst/>
          </a:prstGeom>
          <a:ln w="0">
            <a:noFill/>
          </a:ln>
        </p:spPr>
      </p:pic>
      <p:grpSp>
        <p:nvGrpSpPr>
          <p:cNvPr id="144" name="Облако 9"/>
          <p:cNvGrpSpPr/>
          <p:nvPr/>
        </p:nvGrpSpPr>
        <p:grpSpPr>
          <a:xfrm>
            <a:off x="1755720" y="2554200"/>
            <a:ext cx="7205760" cy="1835280"/>
            <a:chOff x="1755720" y="2554200"/>
            <a:chExt cx="7205760" cy="1835280"/>
          </a:xfrm>
        </p:grpSpPr>
        <p:pic>
          <p:nvPicPr>
            <p:cNvPr id="145" name="Облако 9" descr=""/>
            <p:cNvPicPr/>
            <p:nvPr/>
          </p:nvPicPr>
          <p:blipFill>
            <a:blip r:embed="rId6"/>
            <a:stretch/>
          </p:blipFill>
          <p:spPr>
            <a:xfrm>
              <a:off x="1755720" y="2554200"/>
              <a:ext cx="72057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22400" y="2890800"/>
              <a:ext cx="45738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КАКИЕ ИЗ ЭТИХ ПТИЦ ЖИВУТ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У НАС КРУГЛЫЙ ГОД?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А КАКИЕ – ПРИЛЕТАЮТ НА ЗИМУ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Картинка 2 из 68"/>
          <p:cNvPicPr/>
          <p:nvPr/>
        </p:nvPicPr>
        <p:blipFill>
          <a:blip r:embed="rId1"/>
          <a:stretch/>
        </p:blipFill>
        <p:spPr>
          <a:xfrm>
            <a:off x="0" y="0"/>
            <a:ext cx="450072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2"/>
          <a:stretch/>
        </p:blipFill>
        <p:spPr>
          <a:xfrm>
            <a:off x="5000760" y="3639960"/>
            <a:ext cx="4143240" cy="321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Admin\Рабочий стол\урок\фото птиц\голубь.jpg"/>
          <p:cNvPicPr/>
          <p:nvPr/>
        </p:nvPicPr>
        <p:blipFill>
          <a:blip r:embed="rId3"/>
          <a:stretch/>
        </p:blipFill>
        <p:spPr>
          <a:xfrm>
            <a:off x="5000760" y="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Картинка 255 из 34352"/>
          <p:cNvPicPr/>
          <p:nvPr/>
        </p:nvPicPr>
        <p:blipFill>
          <a:blip r:embed="rId4"/>
          <a:stretch/>
        </p:blipFill>
        <p:spPr>
          <a:xfrm>
            <a:off x="0" y="3589200"/>
            <a:ext cx="4500720" cy="326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Admin\Рабочий стол\урок\фото птиц\5cb42b7a5654[1].jpg"/>
          <p:cNvPicPr/>
          <p:nvPr/>
        </p:nvPicPr>
        <p:blipFill>
          <a:blip r:embed="rId5"/>
          <a:stretch/>
        </p:blipFill>
        <p:spPr>
          <a:xfrm>
            <a:off x="2532240" y="1785960"/>
            <a:ext cx="3314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Картинка 1 из 1252"/>
          <p:cNvPicPr/>
          <p:nvPr/>
        </p:nvPicPr>
        <p:blipFill>
          <a:blip r:embed="rId1"/>
          <a:stretch/>
        </p:blipFill>
        <p:spPr>
          <a:xfrm>
            <a:off x="1714680" y="3857760"/>
            <a:ext cx="4000320" cy="278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4" descr="Картинка 13 из 1252"/>
          <p:cNvPicPr/>
          <p:nvPr/>
        </p:nvPicPr>
        <p:blipFill>
          <a:blip r:embed="rId2"/>
          <a:stretch/>
        </p:blipFill>
        <p:spPr>
          <a:xfrm>
            <a:off x="785880" y="857160"/>
            <a:ext cx="3894120" cy="25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10" descr="Картинка 13 из 1252"/>
          <p:cNvPicPr/>
          <p:nvPr/>
        </p:nvPicPr>
        <p:blipFill>
          <a:blip r:embed="rId3"/>
          <a:stretch/>
        </p:blipFill>
        <p:spPr>
          <a:xfrm>
            <a:off x="6143760" y="1428840"/>
            <a:ext cx="2643120" cy="35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Облако 19"/>
          <p:cNvGrpSpPr/>
          <p:nvPr/>
        </p:nvGrpSpPr>
        <p:grpSpPr>
          <a:xfrm>
            <a:off x="2255760" y="768240"/>
            <a:ext cx="6851880" cy="2481480"/>
            <a:chOff x="2255760" y="768240"/>
            <a:chExt cx="6851880" cy="2481480"/>
          </a:xfrm>
        </p:grpSpPr>
        <p:pic>
          <p:nvPicPr>
            <p:cNvPr id="156" name="Облако 19" descr=""/>
            <p:cNvPicPr/>
            <p:nvPr/>
          </p:nvPicPr>
          <p:blipFill>
            <a:blip r:embed="rId1"/>
            <a:stretch/>
          </p:blipFill>
          <p:spPr>
            <a:xfrm>
              <a:off x="2255760" y="768240"/>
              <a:ext cx="685188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73480" y="1201680"/>
              <a:ext cx="434016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Подсолнечник – особенно мелкий, но не жареный, - лучший корм для снегирей, синиц, поползней и воробьёв. Перед засыпкой в кормушку их лучше слегка подавить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rot="20565600">
            <a:off x="5244840" y="4533480"/>
            <a:ext cx="253836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Картинка 1 из 624"/>
          <p:cNvPicPr/>
          <p:nvPr/>
        </p:nvPicPr>
        <p:blipFill>
          <a:blip r:embed="rId3"/>
          <a:stretch/>
        </p:blipFill>
        <p:spPr>
          <a:xfrm rot="7965600">
            <a:off x="-49680" y="891720"/>
            <a:ext cx="3048120" cy="211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674 из 5322"/>
          <p:cNvPicPr/>
          <p:nvPr/>
        </p:nvPicPr>
        <p:blipFill>
          <a:blip r:embed="rId4"/>
          <a:stretch/>
        </p:blipFill>
        <p:spPr>
          <a:xfrm>
            <a:off x="0" y="4543560"/>
            <a:ext cx="3214800" cy="231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Картинка 65 из 484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2357280" y="2857680"/>
            <a:ext cx="3000600" cy="2400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Картинка 126 из 21973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715080" y="3071880"/>
            <a:ext cx="22906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Облако 19"/>
          <p:cNvGrpSpPr/>
          <p:nvPr/>
        </p:nvGrpSpPr>
        <p:grpSpPr>
          <a:xfrm>
            <a:off x="1968480" y="695160"/>
            <a:ext cx="7139160" cy="1908360"/>
            <a:chOff x="1968480" y="695160"/>
            <a:chExt cx="7139160" cy="1908360"/>
          </a:xfrm>
        </p:grpSpPr>
        <p:pic>
          <p:nvPicPr>
            <p:cNvPr id="164" name="Облако 19" descr=""/>
            <p:cNvPicPr/>
            <p:nvPr/>
          </p:nvPicPr>
          <p:blipFill>
            <a:blip r:embed="rId1"/>
            <a:stretch/>
          </p:blipFill>
          <p:spPr>
            <a:xfrm>
              <a:off x="1968480" y="695160"/>
              <a:ext cx="713916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27240" y="1044720"/>
              <a:ext cx="45259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Кусочки сала годятся не всем птицам. Сало любят синички. Только сало не должно быть солёным.  Овёс охотно съедят синицы, воробьи и чечёт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flipH="1" rot="1034400">
            <a:off x="318600" y="4250880"/>
            <a:ext cx="2563920" cy="2545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Картинка 275 из 103497"/>
          <p:cNvPicPr/>
          <p:nvPr/>
        </p:nvPicPr>
        <p:blipFill>
          <a:blip r:embed="rId3"/>
          <a:stretch/>
        </p:blipFill>
        <p:spPr>
          <a:xfrm rot="6800400">
            <a:off x="-587520" y="1585800"/>
            <a:ext cx="3038400" cy="149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а 55 из 137"/>
          <p:cNvPicPr/>
          <p:nvPr/>
        </p:nvPicPr>
        <p:blipFill>
          <a:blip r:embed="rId4"/>
          <a:stretch/>
        </p:blipFill>
        <p:spPr>
          <a:xfrm>
            <a:off x="2428920" y="1857240"/>
            <a:ext cx="3048120" cy="424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Картинка 126 из 21973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5072040" y="4929120"/>
            <a:ext cx="2290680" cy="192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Картинка 7 из 5998"/>
          <p:cNvPicPr/>
          <p:nvPr/>
        </p:nvPicPr>
        <p:blipFill>
          <a:blip r:embed="rId6"/>
          <a:stretch/>
        </p:blipFill>
        <p:spPr>
          <a:xfrm>
            <a:off x="5769000" y="2357280"/>
            <a:ext cx="33750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dmin\Рабочий стол\птиц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214280" y="3143160"/>
          <a:ext cx="6967800" cy="2171880"/>
        </p:xfrm>
        <a:graphic>
          <a:graphicData uri="http://schemas.openxmlformats.org/drawingml/2006/table">
            <a:tbl>
              <a:tblPr/>
              <a:tblGrid>
                <a:gridCol w="2322720"/>
                <a:gridCol w="2322360"/>
                <a:gridCol w="232272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вор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ябл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лзен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б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те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равл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72" name="Прямоугольник 4"/>
          <p:cNvSpPr/>
          <p:nvPr/>
        </p:nvSpPr>
        <p:spPr>
          <a:xfrm>
            <a:off x="1643040" y="15001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Трети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хема 1" descr=""/>
          <p:cNvPicPr/>
          <p:nvPr/>
        </p:nvPicPr>
        <p:blipFill>
          <a:blip r:embed="rId1"/>
          <a:stretch/>
        </p:blipFill>
        <p:spPr>
          <a:xfrm>
            <a:off x="189000" y="1066680"/>
            <a:ext cx="4595760" cy="4724640"/>
          </a:xfrm>
          <a:prstGeom prst="rect">
            <a:avLst/>
          </a:prstGeom>
          <a:ln w="0">
            <a:noFill/>
          </a:ln>
        </p:spPr>
      </p:pic>
      <p:pic>
        <p:nvPicPr>
          <p:cNvPr id="174" name="Схема 2" descr=""/>
          <p:cNvPicPr/>
          <p:nvPr/>
        </p:nvPicPr>
        <p:blipFill>
          <a:blip r:embed="rId2"/>
          <a:stretch/>
        </p:blipFill>
        <p:spPr>
          <a:xfrm>
            <a:off x="4352760" y="993600"/>
            <a:ext cx="4578480" cy="494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ртинка 28 из 79264"/>
          <p:cNvPicPr/>
          <p:nvPr/>
        </p:nvPicPr>
        <p:blipFill>
          <a:blip r:embed="rId1"/>
          <a:stretch/>
        </p:blipFill>
        <p:spPr>
          <a:xfrm>
            <a:off x="0" y="714240"/>
            <a:ext cx="488484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Рабочий стол\ПРЕЗЕНТАЦИИ\Муравей Вопросик.jpg"/>
          <p:cNvPicPr/>
          <p:nvPr/>
        </p:nvPicPr>
        <p:blipFill>
          <a:blip r:embed="rId2"/>
          <a:stretch/>
        </p:blipFill>
        <p:spPr>
          <a:xfrm>
            <a:off x="214200" y="4500720"/>
            <a:ext cx="1408320" cy="213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Documents and Settings\Admin\Рабочий стол\ПРЕЗЕНТАЦИИ\Мудрая Черепаха.jpg"/>
          <p:cNvPicPr/>
          <p:nvPr/>
        </p:nvPicPr>
        <p:blipFill>
          <a:blip r:embed="rId3"/>
          <a:stretch/>
        </p:blipFill>
        <p:spPr>
          <a:xfrm>
            <a:off x="6715080" y="4643280"/>
            <a:ext cx="228600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02" name="Выноска-облако 5"/>
          <p:cNvGrpSpPr/>
          <p:nvPr/>
        </p:nvGrpSpPr>
        <p:grpSpPr>
          <a:xfrm>
            <a:off x="1432080" y="4492800"/>
            <a:ext cx="4724280" cy="2170080"/>
            <a:chOff x="1432080" y="4492800"/>
            <a:chExt cx="4724280" cy="2170080"/>
          </a:xfrm>
        </p:grpSpPr>
        <p:pic>
          <p:nvPicPr>
            <p:cNvPr id="103" name="Выноска-облако 5" descr=""/>
            <p:cNvPicPr/>
            <p:nvPr/>
          </p:nvPicPr>
          <p:blipFill>
            <a:blip r:embed="rId4"/>
            <a:stretch/>
          </p:blipFill>
          <p:spPr>
            <a:xfrm>
              <a:off x="1432080" y="4492800"/>
              <a:ext cx="47242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684520" y="4873680"/>
              <a:ext cx="256680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 случайно птиц часто называют „пернатые“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Выноска-облако 6"/>
          <p:cNvGrpSpPr/>
          <p:nvPr/>
        </p:nvGrpSpPr>
        <p:grpSpPr>
          <a:xfrm>
            <a:off x="4267080" y="1133640"/>
            <a:ext cx="4694400" cy="3646440"/>
            <a:chOff x="4267080" y="1133640"/>
            <a:chExt cx="4694400" cy="3646440"/>
          </a:xfrm>
        </p:grpSpPr>
        <p:pic>
          <p:nvPicPr>
            <p:cNvPr id="106" name="Выноска-облако 6" descr=""/>
            <p:cNvPicPr/>
            <p:nvPr/>
          </p:nvPicPr>
          <p:blipFill>
            <a:blip r:embed="rId5"/>
            <a:stretch/>
          </p:blipFill>
          <p:spPr>
            <a:xfrm>
              <a:off x="4267080" y="1133640"/>
              <a:ext cx="469440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979880" y="1530360"/>
              <a:ext cx="295272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тицы - это животные, тело которых покрыто перья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Рабочий стол\строение птицы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9" descr=""/>
          <p:cNvPicPr/>
          <p:nvPr/>
        </p:nvPicPr>
        <p:blipFill>
          <a:blip r:embed="rId2"/>
          <a:stretch/>
        </p:blipFill>
        <p:spPr>
          <a:xfrm>
            <a:off x="566640" y="1292400"/>
            <a:ext cx="8156520" cy="294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Мои документы\Мои рисунки\смаилики\Roses.gif"/>
          <p:cNvPicPr/>
          <p:nvPr/>
        </p:nvPicPr>
        <p:blipFill>
          <a:blip r:embed="rId3"/>
          <a:stretch/>
        </p:blipFill>
        <p:spPr>
          <a:xfrm>
            <a:off x="642960" y="5857920"/>
            <a:ext cx="7572240" cy="6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а 298 из 3939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499080" y="3929040"/>
            <a:ext cx="2644920" cy="262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Картинка 126 из 21973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0" y="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Картинка 39 из 839"/>
          <p:cNvPicPr/>
          <p:nvPr/>
        </p:nvPicPr>
        <p:blipFill>
          <a:blip r:embed="rId6"/>
          <a:stretch/>
        </p:blipFill>
        <p:spPr>
          <a:xfrm>
            <a:off x="285840" y="3643200"/>
            <a:ext cx="1571400" cy="28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2214720" y="2500200"/>
            <a:ext cx="4357440" cy="41436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000080" y="7142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a1300"/>
                </a:solidFill>
                <a:latin typeface="Constantia"/>
              </a:rPr>
              <a:t>Увидал скворца – знай: весна у крыльца.</a:t>
            </a:r>
            <a:r>
              <a:rPr b="0" lang="ru-RU" sz="4400" spc="-1" strike="noStrike">
                <a:solidFill>
                  <a:srgbClr val="1a13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1a1300"/>
                </a:solidFill>
                <a:latin typeface="Calibri"/>
              </a:rPr>
              <a:t>Вслед за скворцами прилетают жаворонки</a:t>
            </a:r>
            <a:endParaRPr b="0" lang="en-US" sz="4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17" name="Picture 4" descr="D:\ИРИНА\Перелетные птицы\Рисунок5.jpg"/>
          <p:cNvPicPr/>
          <p:nvPr/>
        </p:nvPicPr>
        <p:blipFill>
          <a:blip r:embed="rId1"/>
          <a:stretch/>
        </p:blipFill>
        <p:spPr>
          <a:xfrm>
            <a:off x="1571760" y="2357280"/>
            <a:ext cx="5786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Картинка 35 из 17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Выноска-облако 2"/>
          <p:cNvGrpSpPr/>
          <p:nvPr/>
        </p:nvGrpSpPr>
        <p:grpSpPr>
          <a:xfrm>
            <a:off x="55440" y="5205240"/>
            <a:ext cx="2389320" cy="1622520"/>
            <a:chOff x="55440" y="5205240"/>
            <a:chExt cx="2389320" cy="1622520"/>
          </a:xfrm>
        </p:grpSpPr>
        <p:pic>
          <p:nvPicPr>
            <p:cNvPr id="120" name="Выноска-облако 2" descr=""/>
            <p:cNvPicPr/>
            <p:nvPr/>
          </p:nvPicPr>
          <p:blipFill>
            <a:blip r:embed="rId2"/>
            <a:stretch/>
          </p:blipFill>
          <p:spPr>
            <a:xfrm>
              <a:off x="55440" y="5205240"/>
              <a:ext cx="2389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47840" y="5502240"/>
              <a:ext cx="144756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alibri"/>
              </a:rPr>
              <a:t>Соловей</a:t>
            </a:r>
            <a:endParaRPr b="0" lang="en-US" sz="5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23" name="Picture 4" descr="D:\ИРИНА\Перелетные птицы\Рисунок7.jpg"/>
          <p:cNvPicPr/>
          <p:nvPr/>
        </p:nvPicPr>
        <p:blipFill>
          <a:blip r:embed="rId1"/>
          <a:stretch/>
        </p:blipFill>
        <p:spPr>
          <a:xfrm>
            <a:off x="2428920" y="2063880"/>
            <a:ext cx="38577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09:33Z</dcterms:created>
  <dc:creator>Admin</dc:creator>
  <dc:description/>
  <dc:language>en-US</dc:language>
  <cp:lastModifiedBy>Admin</cp:lastModifiedBy>
  <dcterms:modified xsi:type="dcterms:W3CDTF">2010-02-25T14:16:07Z</dcterms:modified>
  <cp:revision>78</cp:revision>
  <dc:subject/>
  <dc:title>Слайд 1</dc:title>
</cp:coreProperties>
</file>