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20.jpeg" ContentType="image/jpeg"/>
  <Override PartName="/ppt/media/image49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51.jpeg" ContentType="image/jpeg"/>
  <Override PartName="/ppt/media/image9.jpeg" ContentType="image/jpeg"/>
  <Override PartName="/ppt/media/image11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38.png" ContentType="image/png"/>
  <Override PartName="/ppt/media/image8.jpeg" ContentType="image/jpeg"/>
  <Override PartName="/ppt/media/image52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6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FAD38-A729-4F14-B6F1-EE520E0D3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D8200-CAA5-45D3-86C6-5E24D0980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47862-6C10-41C8-BA93-153CFE2A0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457EE-1942-4B45-A836-E48BA89A3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5B3E0-1838-49FC-90D6-5E757FBB4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35B3B-CD75-4DC6-A2DE-CD8526CA4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0B82C-8B90-4CDB-96F3-CBD31F336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C5B5F-2DC0-4FFA-B4AF-7085E2CAE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AC4CF-2FDA-4C00-9920-9A406A330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1DA91-19A3-446F-89B4-4432455C5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7FF18-E15C-4408-9B64-BBC054D49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2B98F-9205-49CF-9BD2-F3CE8DD6D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2DF75-3563-4AAD-90C9-D9EA3A2BD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196CD-E5B8-4E43-B24C-1785FBABD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A2B56-D8F2-41A1-9386-83A446930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D10E5-592A-48F9-8D64-8BE0DE346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FE047-DF5B-48AC-97DC-DA9ECD0B5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E5BB5-7DF3-4770-9636-2F876DB3B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E40E6-B806-413B-94FA-9DE0D9E37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E270C-3FAE-43B8-B87F-6344FBB13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image" Target="../media/image29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jpeg"/><Relationship Id="rId16" Type="http://schemas.openxmlformats.org/officeDocument/2006/relationships/image" Target="../media/image41.jpeg"/><Relationship Id="rId17" Type="http://schemas.openxmlformats.org/officeDocument/2006/relationships/image" Target="../media/image4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s://kipmu.ru/pticy-urala/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kipmu.ru/pticy-urala/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s://kipmu.ru/pticy-urala/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s://kipmu.ru/pticy-urala/" TargetMode="External"/><Relationship Id="rId2" Type="http://schemas.openxmlformats.org/officeDocument/2006/relationships/hyperlink" Target="https://kipmu.ru/pticy-urala/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s://kipmu.ru/pticy-urala/" TargetMode="External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395280" y="2862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6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Виктор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ерелетные птицы» (водоплавающие) подготовительная групп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627280" y="49417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Учитель-логопед: Орлова Е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vgltu.ru/images/15.01.21/u5kbvx3mxsg.jpg"/>
          <p:cNvPicPr/>
          <p:nvPr/>
        </p:nvPicPr>
        <p:blipFill>
          <a:blip r:embed="rId1"/>
          <a:stretch/>
        </p:blipFill>
        <p:spPr>
          <a:xfrm>
            <a:off x="5219640" y="260280"/>
            <a:ext cx="360036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myslide.ru/documents_7/8f15c2a0506ae4a876cc0cd5f5199911/img14.jpg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i2.wp.com/babyben.ru/images/babyben/2017/10/009.jpg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826920" y="2276640"/>
            <a:ext cx="66978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итание водоплавающих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mixnews.lv/wp-content/uploads/2021/02/12/2021-02-12-mixnews-duck-3198183_960_720.jpg"/>
          <p:cNvPicPr/>
          <p:nvPr/>
        </p:nvPicPr>
        <p:blipFill>
          <a:blip r:embed="rId1"/>
          <a:stretch/>
        </p:blipFill>
        <p:spPr>
          <a:xfrm>
            <a:off x="4191120" y="412920"/>
            <a:ext cx="390528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cf.ppt-online.org/files/slide/c/cYT01XDSvGtZawJK2ENy5bUPpmBqnALHM6kogh/slide-4.jpg"/>
          <p:cNvPicPr/>
          <p:nvPr/>
        </p:nvPicPr>
        <p:blipFill>
          <a:blip r:embed="rId1"/>
          <a:stretch/>
        </p:blipFill>
        <p:spPr>
          <a:xfrm>
            <a:off x="985680" y="395280"/>
            <a:ext cx="700884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1346040" y="5157720"/>
            <a:ext cx="66484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YS Text"/>
              </a:rPr>
              <a:t>Питаются </a:t>
            </a:r>
            <a:r>
              <a:rPr b="1" lang="ru-RU" sz="1800" spc="-1" strike="noStrike">
                <a:solidFill>
                  <a:srgbClr val="ff0000"/>
                </a:solidFill>
                <a:latin typeface="YS Text"/>
              </a:rPr>
              <a:t>рыбой, лягушками, моллюсками, рачками и личинками насекомых, а также водной растительностью</a:t>
            </a:r>
            <a:r>
              <a:rPr b="0" lang="ru-RU" sz="1800" spc="-1" strike="noStrike">
                <a:solidFill>
                  <a:srgbClr val="ff0000"/>
                </a:solidFill>
                <a:latin typeface="YS Text"/>
              </a:rPr>
              <a:t>. На самих водоплавающих птиц нападают хищные птицы, крокодилы, крупные рыбы и т. д., даже в редких случаях осьмин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619280" y="2637000"/>
            <a:ext cx="67690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«ПОСЧИТАЙ-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image.shutterstock.com/shutterstock/photos/275253005/display_1500/stock-vector-find-the-correct-shadow-duck-275253005.jpg"/>
          <p:cNvPicPr/>
          <p:nvPr/>
        </p:nvPicPr>
        <p:blipFill>
          <a:blip r:embed="rId1"/>
          <a:stretch/>
        </p:blipFill>
        <p:spPr>
          <a:xfrm>
            <a:off x="1116000" y="333360"/>
            <a:ext cx="71420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thumbs.dreamstime.com/b/%D0%B8%D0%B3%D1%80%D0%B0-%D1%82%D0%B5%D0%BD%D0%B8-%D0%BB%D0%B5%D0%B1%D0%B5%D0%B4%D1%8F-101359915.jpg"/>
          <p:cNvPicPr/>
          <p:nvPr/>
        </p:nvPicPr>
        <p:blipFill>
          <a:blip r:embed="rId1"/>
          <a:stretch/>
        </p:blipFill>
        <p:spPr>
          <a:xfrm>
            <a:off x="1835280" y="1557360"/>
            <a:ext cx="432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45720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5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Я проворна, легкокрыла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Хвост раздвоен, словно вилы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Если я летаю низко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Значит дождик где-то близк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120760" y="2419200"/>
            <a:ext cx="471816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а шесте дворец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о дворце певец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А зовут его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3480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457200" y="476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4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ерный, проворный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ричит: “Крак”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ервякам вра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024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684360" y="692280"/>
            <a:ext cx="799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ится ночью пау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удо-юдо на су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линный клюв и два крыл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ит - плохи дел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кого паук бо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гадали? Это..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457200" y="620640"/>
            <a:ext cx="82296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Это старый наш знакомый: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н живет на крыше дома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Длинноногий, длинноносый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Длинношеий, безголосы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500200" y="2349360"/>
            <a:ext cx="3571920" cy="4508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244000" y="6207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457200" y="0"/>
            <a:ext cx="82296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то без нот и без свирели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Лучше всех выводит трели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Голосистее, нежней? Кто же это?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400480" y="1933560"/>
            <a:ext cx="4343400" cy="3859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457200" y="62064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4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щет корма по пути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Ему с ходулей не сойти.</a:t>
            </a:r>
            <a:br>
              <a:rPr sz="1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8172360" y="6093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то на ёлке, на суку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чёт ведёт:  «Ку-ку, ку-ку?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58280" cy="566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поле он живет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сю весну и лето песенки по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181160" y="1600200"/>
            <a:ext cx="67816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Захват, бросок лягушки, ап-ля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Жонглёр, по-видимому,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187280" y="1601640"/>
            <a:ext cx="5761080" cy="47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476360" y="4208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Червячок дождя боится,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Вылезти наверх стремится,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Там он может стать закуской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ля проворной …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476360" y="2332080"/>
            <a:ext cx="60721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250920" y="1012680"/>
            <a:ext cx="457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роде эту птицу называют «ледоломкой». (трясогузка) Объясните почему? (птичка бегает по льдинам, ищет вмерзших в лед жучков, трясет хвостико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жёлтых пёрышках она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ак щебечет весело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 птенцах заботится – 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ветвях гнездо повесил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457200" y="274680"/>
            <a:ext cx="82296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от так птица – какова!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 не спутаешь с другой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Может, это цифра «два»?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Шея выгнута д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214280" y="2286000"/>
            <a:ext cx="6500880" cy="457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831708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457200" y="40464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н украшен хохолком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Дом его – в дупле сухом.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Знает весь лесной народ,</a:t>
            </a:r>
            <a:br>
              <a:rPr sz="18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то зовут его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3547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685800" y="14292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ПЕРЕЛЁТНЫЕ ПТИЦ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371600" y="1785960"/>
            <a:ext cx="6400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2296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3008160" cy="2320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71640" y="2120760"/>
            <a:ext cx="6121440" cy="4746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476360" y="404640"/>
            <a:ext cx="502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Arial"/>
              </a:rPr>
              <a:t>Из семейства воробьиных.</a:t>
            </a:r>
            <a:br>
              <a:rPr sz="1800"/>
            </a:br>
            <a:r>
              <a:rPr b="1" lang="ru-RU" sz="2400" spc="-1" strike="noStrike">
                <a:solidFill>
                  <a:srgbClr val="031f43"/>
                </a:solidFill>
                <a:latin typeface="Arial"/>
              </a:rPr>
              <a:t>Буро-жёлтый, видом прост. </a:t>
            </a:r>
            <a:br>
              <a:rPr sz="1800"/>
            </a:br>
            <a:r>
              <a:rPr b="1" lang="ru-RU" sz="2400" spc="-1" strike="noStrike">
                <a:solidFill>
                  <a:srgbClr val="031f43"/>
                </a:solidFill>
                <a:latin typeface="Arial"/>
              </a:rPr>
              <a:t>Насекомых ест, рябину</a:t>
            </a:r>
            <a:br>
              <a:rPr sz="1800"/>
            </a:br>
            <a:r>
              <a:rPr b="1" lang="ru-RU" sz="2400" spc="-1" strike="noStrike">
                <a:solidFill>
                  <a:srgbClr val="031f43"/>
                </a:solidFill>
                <a:latin typeface="Arial"/>
              </a:rPr>
              <a:t>Небольшой, но певчий…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795672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619280" y="333360"/>
          <a:ext cx="6002280" cy="1395360"/>
        </p:xfrm>
        <a:graphic>
          <a:graphicData uri="http://schemas.openxmlformats.org/drawingml/2006/table">
            <a:tbl>
              <a:tblPr/>
              <a:tblGrid>
                <a:gridCol w="1500120"/>
                <a:gridCol w="1501920"/>
                <a:gridCol w="1500120"/>
                <a:gridCol w="1500120"/>
              </a:tblGrid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619280" y="1916280"/>
          <a:ext cx="6097680" cy="1368360"/>
        </p:xfrm>
        <a:graphic>
          <a:graphicData uri="http://schemas.openxmlformats.org/drawingml/2006/table">
            <a:tbl>
              <a:tblPr/>
              <a:tblGrid>
                <a:gridCol w="1523880"/>
                <a:gridCol w="1525680"/>
                <a:gridCol w="1523880"/>
                <a:gridCol w="152424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547640" y="3500280"/>
          <a:ext cx="6242400" cy="1513080"/>
        </p:xfrm>
        <a:graphic>
          <a:graphicData uri="http://schemas.openxmlformats.org/drawingml/2006/table">
            <a:tbl>
              <a:tblPr/>
              <a:tblGrid>
                <a:gridCol w="1560600"/>
                <a:gridCol w="1562040"/>
                <a:gridCol w="1559160"/>
                <a:gridCol w="1560600"/>
              </a:tblGrid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116000" y="5157720"/>
          <a:ext cx="7561440" cy="151128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512720"/>
                <a:gridCol w="1512720"/>
                <a:gridCol w="151164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pic>
        <p:nvPicPr>
          <p:cNvPr id="111" name="Picture 77" descr=""/>
          <p:cNvPicPr/>
          <p:nvPr/>
        </p:nvPicPr>
        <p:blipFill>
          <a:blip r:embed="rId1"/>
          <a:stretch/>
        </p:blipFill>
        <p:spPr>
          <a:xfrm>
            <a:off x="1701720" y="404640"/>
            <a:ext cx="1285920" cy="12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8" descr=""/>
          <p:cNvPicPr/>
          <p:nvPr/>
        </p:nvPicPr>
        <p:blipFill>
          <a:blip r:embed="rId2"/>
          <a:stretch/>
        </p:blipFill>
        <p:spPr>
          <a:xfrm>
            <a:off x="3235320" y="433440"/>
            <a:ext cx="1241280" cy="1195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9" descr=""/>
          <p:cNvPicPr/>
          <p:nvPr/>
        </p:nvPicPr>
        <p:blipFill>
          <a:blip r:embed="rId3"/>
          <a:stretch/>
        </p:blipFill>
        <p:spPr>
          <a:xfrm>
            <a:off x="4730760" y="404640"/>
            <a:ext cx="1281240" cy="115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0" descr=""/>
          <p:cNvPicPr/>
          <p:nvPr/>
        </p:nvPicPr>
        <p:blipFill>
          <a:blip r:embed="rId4"/>
          <a:stretch/>
        </p:blipFill>
        <p:spPr>
          <a:xfrm>
            <a:off x="6299280" y="512640"/>
            <a:ext cx="1152360" cy="104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1" descr=""/>
          <p:cNvPicPr/>
          <p:nvPr/>
        </p:nvPicPr>
        <p:blipFill>
          <a:blip r:embed="rId5"/>
          <a:stretch/>
        </p:blipFill>
        <p:spPr>
          <a:xfrm>
            <a:off x="1701720" y="3645000"/>
            <a:ext cx="1285920" cy="115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2" descr=""/>
          <p:cNvPicPr/>
          <p:nvPr/>
        </p:nvPicPr>
        <p:blipFill>
          <a:blip r:embed="rId6"/>
          <a:stretch/>
        </p:blipFill>
        <p:spPr>
          <a:xfrm>
            <a:off x="3235320" y="3645000"/>
            <a:ext cx="127476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3" descr=""/>
          <p:cNvPicPr/>
          <p:nvPr/>
        </p:nvPicPr>
        <p:blipFill>
          <a:blip r:embed="rId7"/>
          <a:stretch/>
        </p:blipFill>
        <p:spPr>
          <a:xfrm>
            <a:off x="4859280" y="3645000"/>
            <a:ext cx="122544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4" descr=""/>
          <p:cNvPicPr/>
          <p:nvPr/>
        </p:nvPicPr>
        <p:blipFill>
          <a:blip r:embed="rId8"/>
          <a:stretch/>
        </p:blipFill>
        <p:spPr>
          <a:xfrm>
            <a:off x="6324480" y="3645000"/>
            <a:ext cx="1271880" cy="122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5" descr=""/>
          <p:cNvPicPr/>
          <p:nvPr/>
        </p:nvPicPr>
        <p:blipFill>
          <a:blip r:embed="rId9"/>
          <a:stretch/>
        </p:blipFill>
        <p:spPr>
          <a:xfrm>
            <a:off x="1847880" y="2060640"/>
            <a:ext cx="1139760" cy="1081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6" descr=""/>
          <p:cNvPicPr/>
          <p:nvPr/>
        </p:nvPicPr>
        <p:blipFill>
          <a:blip r:embed="rId10"/>
          <a:stretch/>
        </p:blipFill>
        <p:spPr>
          <a:xfrm>
            <a:off x="3268800" y="2060640"/>
            <a:ext cx="1207800" cy="108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7" descr=""/>
          <p:cNvPicPr/>
          <p:nvPr/>
        </p:nvPicPr>
        <p:blipFill>
          <a:blip r:embed="rId11"/>
          <a:stretch/>
        </p:blipFill>
        <p:spPr>
          <a:xfrm>
            <a:off x="4859280" y="2060640"/>
            <a:ext cx="1152720" cy="108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8" descr=""/>
          <p:cNvPicPr/>
          <p:nvPr/>
        </p:nvPicPr>
        <p:blipFill>
          <a:blip r:embed="rId12"/>
          <a:stretch/>
        </p:blipFill>
        <p:spPr>
          <a:xfrm>
            <a:off x="6324480" y="2060640"/>
            <a:ext cx="1271880" cy="1081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9" descr=""/>
          <p:cNvPicPr/>
          <p:nvPr/>
        </p:nvPicPr>
        <p:blipFill>
          <a:blip r:embed="rId13"/>
          <a:srcRect l="20051" t="1784" r="10960" b="0"/>
          <a:stretch/>
        </p:blipFill>
        <p:spPr>
          <a:xfrm>
            <a:off x="1332000" y="5373720"/>
            <a:ext cx="108576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0" descr=""/>
          <p:cNvPicPr/>
          <p:nvPr/>
        </p:nvPicPr>
        <p:blipFill>
          <a:blip r:embed="rId14"/>
          <a:stretch/>
        </p:blipFill>
        <p:spPr>
          <a:xfrm>
            <a:off x="2771640" y="5373720"/>
            <a:ext cx="1295640" cy="122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1" descr=""/>
          <p:cNvPicPr/>
          <p:nvPr/>
        </p:nvPicPr>
        <p:blipFill>
          <a:blip r:embed="rId15"/>
          <a:stretch/>
        </p:blipFill>
        <p:spPr>
          <a:xfrm>
            <a:off x="4356000" y="5373720"/>
            <a:ext cx="1116000" cy="1130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2" descr=""/>
          <p:cNvPicPr/>
          <p:nvPr/>
        </p:nvPicPr>
        <p:blipFill>
          <a:blip r:embed="rId16"/>
          <a:stretch/>
        </p:blipFill>
        <p:spPr>
          <a:xfrm>
            <a:off x="5867280" y="5373720"/>
            <a:ext cx="1094040" cy="1130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3" descr=""/>
          <p:cNvPicPr/>
          <p:nvPr/>
        </p:nvPicPr>
        <p:blipFill>
          <a:blip r:embed="rId17"/>
          <a:stretch/>
        </p:blipFill>
        <p:spPr>
          <a:xfrm>
            <a:off x="7308720" y="5373720"/>
            <a:ext cx="1224000" cy="11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403280" y="189000"/>
          <a:ext cx="7016760" cy="3017880"/>
        </p:xfrm>
        <a:graphic>
          <a:graphicData uri="http://schemas.openxmlformats.org/drawingml/2006/table">
            <a:tbl>
              <a:tblPr/>
              <a:tblGrid>
                <a:gridCol w="7016760"/>
              </a:tblGrid>
              <a:tr h="30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А</a:t>
                      </a: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 ЧКА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547640" y="1844640"/>
          <a:ext cx="6043680" cy="1728720"/>
        </p:xfrm>
        <a:graphic>
          <a:graphicData uri="http://schemas.openxmlformats.org/drawingml/2006/table">
            <a:tbl>
              <a:tblPr/>
              <a:tblGrid>
                <a:gridCol w="604368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1739880" y="2060640"/>
            <a:ext cx="568980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897200" y="3664080"/>
          <a:ext cx="4105080" cy="1368360"/>
        </p:xfrm>
        <a:graphic>
          <a:graphicData uri="http://schemas.openxmlformats.org/drawingml/2006/table">
            <a:tbl>
              <a:tblPr/>
              <a:tblGrid>
                <a:gridCol w="410508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19280" y="5172120"/>
          <a:ext cx="4970520" cy="2754360"/>
        </p:xfrm>
        <a:graphic>
          <a:graphicData uri="http://schemas.openxmlformats.org/drawingml/2006/table">
            <a:tbl>
              <a:tblPr/>
              <a:tblGrid>
                <a:gridCol w="4970520"/>
              </a:tblGrid>
              <a:tr h="27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8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 </a:t>
                      </a: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К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26" descr=""/>
          <p:cNvPicPr/>
          <p:nvPr/>
        </p:nvPicPr>
        <p:blipFill>
          <a:blip r:embed="rId2"/>
          <a:srcRect l="77262" t="70551" r="0" b="0"/>
          <a:stretch/>
        </p:blipFill>
        <p:spPr>
          <a:xfrm>
            <a:off x="2112840" y="3789360"/>
            <a:ext cx="3672000" cy="111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"/>
          <p:cNvPicPr/>
          <p:nvPr/>
        </p:nvPicPr>
        <p:blipFill>
          <a:blip r:embed="rId3"/>
          <a:stretch/>
        </p:blipFill>
        <p:spPr>
          <a:xfrm>
            <a:off x="2773440" y="5354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"/>
          <p:cNvPicPr/>
          <p:nvPr/>
        </p:nvPicPr>
        <p:blipFill>
          <a:blip r:embed="rId4"/>
          <a:srcRect l="52574" t="15325" r="35808" b="69369"/>
          <a:stretch/>
        </p:blipFill>
        <p:spPr>
          <a:xfrm>
            <a:off x="3949560" y="5354640"/>
            <a:ext cx="71928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764720" y="1628640"/>
            <a:ext cx="57920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ДОПЛАВАЮЩ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ТИЦЫ ЮЖНОГО УР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s://mtdata.ru/u1/photo9474/20287035975-0/original.jpeg"/>
          <p:cNvPicPr/>
          <p:nvPr/>
        </p:nvPicPr>
        <p:blipFill>
          <a:blip r:embed="rId1"/>
          <a:stretch/>
        </p:blipFill>
        <p:spPr>
          <a:xfrm>
            <a:off x="3851280" y="3141720"/>
            <a:ext cx="50655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468360" y="189000"/>
            <a:ext cx="457200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tserrat"/>
              </a:rPr>
              <a:t>Луток</a:t>
            </a: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 </a:t>
            </a: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Утка небольшого размера с плотным телосложением, характерным хохолком на голове, коротким клювом. Наблюдаются отличия между самцами и самками. Самки более пестрые независимо от времени года. У самцов есть несколько элементов черного цвета на теле. Источник: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Montserrat"/>
                <a:hlinkClick r:id="rId1"/>
              </a:rPr>
              <a:t>https://kipmu.ru/pticy-ural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Луток"/>
          <p:cNvPicPr/>
          <p:nvPr/>
        </p:nvPicPr>
        <p:blipFill>
          <a:blip r:embed="rId2"/>
          <a:stretch/>
        </p:blipFill>
        <p:spPr>
          <a:xfrm>
            <a:off x="3995640" y="2616120"/>
            <a:ext cx="44863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50920" y="333360"/>
            <a:ext cx="2808360" cy="65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Серый гусь Один из самых крупных гусей. Половой диморфизм не выражен. Некоторые особи мигрируют, а некоторые – ведут оседлый образ жизни. Яйца высиживает самка. Новорожденные птенцы уже через несколько часов после рождения покидают гнездо. Гуси не живут поодиночке, они сбиваются в большие стаи. Так же отправляются и на зимовку – в составе клина или шеренги. Питается птица только растительной пищей. Источник: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Montserrat"/>
                <a:hlinkClick r:id="rId1"/>
              </a:rPr>
              <a:t>https://kipmu.ru/pticy-ural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Серый гусь"/>
          <p:cNvPicPr/>
          <p:nvPr/>
        </p:nvPicPr>
        <p:blipFill>
          <a:blip r:embed="rId2"/>
          <a:stretch/>
        </p:blipFill>
        <p:spPr>
          <a:xfrm>
            <a:off x="3203640" y="2781360"/>
            <a:ext cx="562284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95280" y="333360"/>
            <a:ext cx="45720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tserrat"/>
              </a:rPr>
              <a:t>Кря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 </a:t>
            </a: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Наиболее известный представитель диких уток. Самцы крупнее самок (около 62 см длиной) и существенно отличаются внешне. У кряквы-самца серое тело, коричневая грудь и спина, голова и шея зеленоватого оттенка с затемнениям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ки могут есть растительную пищу, насекомых, небольшую рыбу и т.п. Живут кряквы парами или немногочисленными стаями. Источник: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kipmu.ru/pticy-ural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Кряква"/>
          <p:cNvPicPr/>
          <p:nvPr/>
        </p:nvPicPr>
        <p:blipFill>
          <a:blip r:embed="rId2"/>
          <a:stretch/>
        </p:blipFill>
        <p:spPr>
          <a:xfrm>
            <a:off x="3059280" y="2743200"/>
            <a:ext cx="52974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755640" y="476280"/>
            <a:ext cx="45720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tserrat"/>
              </a:rPr>
              <a:t>Красноголовый нырок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Montserrat"/>
                <a:hlinkClick r:id="rId1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395280" y="1052640"/>
            <a:ext cx="457200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Самец отличается от других видов ярко-каштановой головой. Также у него черного цвета грудь, серая спина с рисунком, темный клюв. Самки максимально похожи на уток других видов. Нырки предпочитают вести стайный образ жизни. Они отлично летают и ныряют. Красноголовые нырки всеядные. Источник: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Montserrat"/>
                <a:hlinkClick r:id="rId2"/>
              </a:rPr>
              <a:t>https://kipmu.ru/pticy-ural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Красноголовый нырок"/>
          <p:cNvPicPr/>
          <p:nvPr/>
        </p:nvPicPr>
        <p:blipFill>
          <a:blip r:embed="rId3"/>
          <a:stretch/>
        </p:blipFill>
        <p:spPr>
          <a:xfrm>
            <a:off x="3995640" y="3213000"/>
            <a:ext cx="445464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684360" y="620640"/>
            <a:ext cx="45720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Чирок-свистунок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Montserrat"/>
                <a:hlinkClick r:id="rId1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250920" y="966960"/>
            <a:ext cx="457200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Montserrat"/>
              </a:rPr>
              <a:t>Миниатюрная утка весом не более 450 г. По сравнению с другими видами, у чирка очень острые и узкие крылья. Летает быстро, не издавая звуков. Занимает небольшие водоемы, неподходящие для других птиц. В холодное время года питается растениями, в теплое – животными кор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Чирок-свистунок"/>
          <p:cNvPicPr/>
          <p:nvPr/>
        </p:nvPicPr>
        <p:blipFill>
          <a:blip r:embed="rId2"/>
          <a:stretch/>
        </p:blipFill>
        <p:spPr>
          <a:xfrm>
            <a:off x="3635280" y="3141720"/>
            <a:ext cx="4508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979640" y="1628640"/>
            <a:ext cx="590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332000" y="765000"/>
            <a:ext cx="72007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Какие </a:t>
            </a:r>
            <a:r>
              <a:rPr b="1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перелётные птицы вам знакомы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1. Какая основная причина </a:t>
            </a:r>
            <a:r>
              <a:rPr b="1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перелета птиц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 в теплые края с приходом осени? (Только из-за отсутствия пищи. Холод не является причиной </a:t>
            </a:r>
            <a:r>
              <a:rPr b="1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перелета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. Голодная </a:t>
            </a:r>
            <a:r>
              <a:rPr b="1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птица замерзает</a:t>
            </a:r>
            <a:r>
              <a:rPr b="0" lang="ru-RU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, сытая — никогд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547640" y="1341360"/>
            <a:ext cx="64090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гра «Закончи предложени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2241720" y="3933720"/>
            <a:ext cx="50209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Я начну, а вы договорите. Закончите предложение, начатое мной. Каждой из команд я предлагаю договорить по два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539640" y="765000"/>
            <a:ext cx="756144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1.</a:t>
            </a:r>
            <a:r>
              <a:rPr b="0" i="1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«Птиц называют перелётными, потому что…»(они улетают в тёплые кр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2.</a:t>
            </a:r>
            <a:r>
              <a:rPr b="0" i="1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«Осенью птицу улетают в тёплые края, потому что…»(трудно прокормиться зи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3.«Раньше всех улетают в тёплые края птицы, которые питаются </a:t>
            </a:r>
            <a:r>
              <a:rPr b="0" i="1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(насекомы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4.«Водоплавающие птицы улетают последними, потому что </a:t>
            </a:r>
            <a:r>
              <a:rPr b="0" i="1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(водоёмы замерзают поздней осень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cf2.ppt-online.org/files2/slide/8/8bC5ARwmTUzJ1NekplKPXZVEcOLQGty42aWYrg/slide-14.jpg"/>
          <p:cNvPicPr/>
          <p:nvPr/>
        </p:nvPicPr>
        <p:blipFill>
          <a:blip r:embed="rId1"/>
          <a:stretch/>
        </p:blipFill>
        <p:spPr>
          <a:xfrm>
            <a:off x="1692360" y="2205000"/>
            <a:ext cx="5580000" cy="4179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2340000" y="981000"/>
            <a:ext cx="4464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летают пт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kirgizskaski.ru/wp-content/uploads/f/2/d/f2d71fddfc47d7a723aabf6a0a79fcfc.jpeg"/>
          <p:cNvPicPr/>
          <p:nvPr/>
        </p:nvPicPr>
        <p:blipFill>
          <a:blip r:embed="rId1"/>
          <a:stretch/>
        </p:blipFill>
        <p:spPr>
          <a:xfrm>
            <a:off x="826920" y="4762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Пользователь</cp:lastModifiedBy>
  <dcterms:modified xsi:type="dcterms:W3CDTF">2023-05-18T11:24:59Z</dcterms:modified>
  <cp:revision>53</cp:revision>
  <dc:subject/>
  <dc:title>ПРЕЗЕНТАЦИЯ ПО ТЕМЕ «ПЕРЕЛЁТНЫЕ ПТИЦЫ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