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20.jpeg" ContentType="image/jpeg"/>
  <Override PartName="/ppt/media/image49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51.jpeg" ContentType="image/jpeg"/>
  <Override PartName="/ppt/media/image9.jpeg" ContentType="image/jpeg"/>
  <Override PartName="/ppt/media/image11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38.png" ContentType="image/png"/>
  <Override PartName="/ppt/media/image8.jpeg" ContentType="image/jpeg"/>
  <Override PartName="/ppt/media/image5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6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ECB0C-A721-4EE2-B0FD-0E159561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7967-D00F-4324-A12B-F0D17AABE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21F27-1B19-43C2-B290-6610A45A7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D5F7-02BF-4C08-BA4B-E967A7253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9C40A-69BC-4CF4-A64F-B7EA18A92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F980-239C-46E6-9D24-5252D35F1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5C89-8530-44C3-AB02-8FD198D7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70DD5-F00C-4583-9E71-908EA0985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200C6-6ADF-452A-A8B8-1154A4ED9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4AD14-53EF-42FC-9635-58517AE56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387AD-0720-4F29-A8F6-081506452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B2C40-3008-4A66-BB48-2367782DF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0B4D-DCFC-4D4D-98C7-5E8D8B991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0AB70-4822-42EE-A176-74389378D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86EE-01B1-41FB-AFE3-B432ECD50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EC3C-9B69-43A4-94AB-923A68E71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49571-5DF7-4798-A2C9-1C995FA7D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77D6A-1064-4218-8B62-DBD2A4051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FEEB7-46C2-4EE3-B0D2-097D9CD06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C2BF-CE47-48A3-843C-9616C5D76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29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jpeg"/><Relationship Id="rId16" Type="http://schemas.openxmlformats.org/officeDocument/2006/relationships/image" Target="../media/image41.jpeg"/><Relationship Id="rId17" Type="http://schemas.openxmlformats.org/officeDocument/2006/relationships/image" Target="../media/image4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hyperlink" Target="https://kipmu.ru/pticy-urala/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95280" y="2862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Виктор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ерелетные птицы» (водоплавающие) подготовительная групп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627280" y="4941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Учитель-логопед: Орлова Е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vgltu.ru/images/15.01.21/u5kbvx3mxsg.jpg"/>
          <p:cNvPicPr/>
          <p:nvPr/>
        </p:nvPicPr>
        <p:blipFill>
          <a:blip r:embed="rId1"/>
          <a:stretch/>
        </p:blipFill>
        <p:spPr>
          <a:xfrm>
            <a:off x="5219640" y="260280"/>
            <a:ext cx="360036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myslide.ru/documents_7/8f15c2a0506ae4a876cc0cd5f5199911/img14.jpg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i2.wp.com/babyben.ru/images/babyben/2017/10/009.jpg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26920" y="2276640"/>
            <a:ext cx="6697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итание водоплавающих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mixnews.lv/wp-content/uploads/2021/02/12/2021-02-12-mixnews-duck-3198183_960_720.jpg"/>
          <p:cNvPicPr/>
          <p:nvPr/>
        </p:nvPicPr>
        <p:blipFill>
          <a:blip r:embed="rId1"/>
          <a:stretch/>
        </p:blipFill>
        <p:spPr>
          <a:xfrm>
            <a:off x="4191120" y="412920"/>
            <a:ext cx="3905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f.ppt-online.org/files/slide/c/cYT01XDSvGtZawJK2ENy5bUPpmBqnALHM6kogh/slide-4.jpg"/>
          <p:cNvPicPr/>
          <p:nvPr/>
        </p:nvPicPr>
        <p:blipFill>
          <a:blip r:embed="rId1"/>
          <a:stretch/>
        </p:blipFill>
        <p:spPr>
          <a:xfrm>
            <a:off x="985680" y="395280"/>
            <a:ext cx="700884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1346040" y="5157720"/>
            <a:ext cx="6648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YS Text"/>
              </a:rPr>
              <a:t>Питаются </a:t>
            </a:r>
            <a:r>
              <a:rPr b="1" lang="ru-RU" sz="1800" spc="-1" strike="noStrike">
                <a:solidFill>
                  <a:srgbClr val="ff0000"/>
                </a:solidFill>
                <a:latin typeface="YS Text"/>
              </a:rPr>
              <a:t>рыбой, лягушками, моллюсками, рачками и личинками насекомых, а также водной растительностью</a:t>
            </a:r>
            <a:r>
              <a:rPr b="0" lang="ru-RU" sz="1800" spc="-1" strike="noStrike">
                <a:solidFill>
                  <a:srgbClr val="ff0000"/>
                </a:solidFill>
                <a:latin typeface="YS Text"/>
              </a:rPr>
              <a:t>. На самих водоплавающих птиц нападают хищные птицы, крокодилы, крупные рыбы и т. д., даже в редких случаях осьми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619280" y="2637000"/>
            <a:ext cx="6769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«ПОСЧИТАЙ-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image.shutterstock.com/shutterstock/photos/275253005/display_1500/stock-vector-find-the-correct-shadow-duck-275253005.jpg"/>
          <p:cNvPicPr/>
          <p:nvPr/>
        </p:nvPicPr>
        <p:blipFill>
          <a:blip r:embed="rId1"/>
          <a:stretch/>
        </p:blipFill>
        <p:spPr>
          <a:xfrm>
            <a:off x="1116000" y="333360"/>
            <a:ext cx="7142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thumbs.dreamstime.com/b/%D0%B8%D0%B3%D1%80%D0%B0-%D1%82%D0%B5%D0%BD%D0%B8-%D0%BB%D0%B5%D0%B1%D0%B5%D0%B4%D1%8F-101359915.jpg"/>
          <p:cNvPicPr/>
          <p:nvPr/>
        </p:nvPicPr>
        <p:blipFill>
          <a:blip r:embed="rId1"/>
          <a:stretch/>
        </p:blipFill>
        <p:spPr>
          <a:xfrm>
            <a:off x="1835280" y="1557360"/>
            <a:ext cx="432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5720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Я проворна, легкокрыла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Хвост раздвоен, словно вилы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Если я летаю низко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начит дождик где-то близк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20760" y="2419200"/>
            <a:ext cx="471816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шесте дворец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 дворце певец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 зовут ег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3480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457200" y="476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рный, проворный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ричит: “Крак”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рвякам вра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024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684360" y="69228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ится ночью пау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о-юдо на су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инный клюв и два кры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ит - плохи де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кого паук бо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адали? Это..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62064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 старый наш знакомый: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н живет на крыше дома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инноногий, длинноносый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инношеий, безголосы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500200" y="2349360"/>
            <a:ext cx="3571920" cy="450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244000" y="6207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57200" y="0"/>
            <a:ext cx="82296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то без нот и без свирели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учше всех выводит трели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олосистее, нежней? Кто же это?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400480" y="1933560"/>
            <a:ext cx="4343400" cy="385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57200" y="620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щет корма по пути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Ему с ходулей не сойти.</a:t>
            </a: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172360" y="609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то на ёлке, на суку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чёт ведёт:  «Ку-ку, ку-ку?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58280" cy="566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поле он живет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сю весну и лето песенки по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181160" y="1600200"/>
            <a:ext cx="6781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ахват, бросок лягушки, ап-ля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Жонглёр, по-видимому,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87280" y="1601640"/>
            <a:ext cx="576108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476360" y="4208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Червячок дождя боится,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ылезти наверх стремится,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Там он может стать закуско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ля проворной …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76360" y="2332080"/>
            <a:ext cx="60721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250920" y="101268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роде эту птицу называют «ледоломкой». (трясогузка) Объясните почему? (птичка бегает по льдинам, ищет вмерзших в лед жучков, трясет хвостик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жёлтых пёрышках она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ак щебечет весело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 птенцах заботится – 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ветвях гнездо повеси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57200" y="274680"/>
            <a:ext cx="8229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т так птица – какова!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 не спутаешь с другой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ожет, это цифра «два»?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Шея выгнута д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650088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831708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57200" y="40464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н украшен хохолком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ом его – в дупле сухом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нает весь лесной народ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зовут его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354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14292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ЕРЕЛЁТНЫЕ 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371600" y="1785960"/>
            <a:ext cx="6400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296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3008160" cy="232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2120760"/>
            <a:ext cx="6121440" cy="4746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476360" y="404640"/>
            <a:ext cx="502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Из семейства воробьиных.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Буро-жёлтый, видом прост. 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Насекомых ест, рябину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Небольшой, но певчий…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7956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19280" y="333360"/>
          <a:ext cx="6002280" cy="139536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012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19280" y="1916280"/>
          <a:ext cx="6097680" cy="136836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424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47640" y="3500280"/>
          <a:ext cx="6242400" cy="1513080"/>
        </p:xfrm>
        <a:graphic>
          <a:graphicData uri="http://schemas.openxmlformats.org/drawingml/2006/table">
            <a:tbl>
              <a:tblPr/>
              <a:tblGrid>
                <a:gridCol w="1560600"/>
                <a:gridCol w="1562040"/>
                <a:gridCol w="1559160"/>
                <a:gridCol w="156060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16000" y="5157720"/>
          <a:ext cx="7561440" cy="15112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512720"/>
                <a:gridCol w="1512720"/>
                <a:gridCol w="1511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77" descr=""/>
          <p:cNvPicPr/>
          <p:nvPr/>
        </p:nvPicPr>
        <p:blipFill>
          <a:blip r:embed="rId1"/>
          <a:stretch/>
        </p:blipFill>
        <p:spPr>
          <a:xfrm>
            <a:off x="1701720" y="404640"/>
            <a:ext cx="12859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8" descr=""/>
          <p:cNvPicPr/>
          <p:nvPr/>
        </p:nvPicPr>
        <p:blipFill>
          <a:blip r:embed="rId2"/>
          <a:stretch/>
        </p:blipFill>
        <p:spPr>
          <a:xfrm>
            <a:off x="3235320" y="433440"/>
            <a:ext cx="1241280" cy="119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9" descr=""/>
          <p:cNvPicPr/>
          <p:nvPr/>
        </p:nvPicPr>
        <p:blipFill>
          <a:blip r:embed="rId3"/>
          <a:stretch/>
        </p:blipFill>
        <p:spPr>
          <a:xfrm>
            <a:off x="4730760" y="404640"/>
            <a:ext cx="1281240" cy="11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0" descr=""/>
          <p:cNvPicPr/>
          <p:nvPr/>
        </p:nvPicPr>
        <p:blipFill>
          <a:blip r:embed="rId4"/>
          <a:stretch/>
        </p:blipFill>
        <p:spPr>
          <a:xfrm>
            <a:off x="6299280" y="512640"/>
            <a:ext cx="1152360" cy="10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1" descr=""/>
          <p:cNvPicPr/>
          <p:nvPr/>
        </p:nvPicPr>
        <p:blipFill>
          <a:blip r:embed="rId5"/>
          <a:stretch/>
        </p:blipFill>
        <p:spPr>
          <a:xfrm>
            <a:off x="1701720" y="3645000"/>
            <a:ext cx="128592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2" descr=""/>
          <p:cNvPicPr/>
          <p:nvPr/>
        </p:nvPicPr>
        <p:blipFill>
          <a:blip r:embed="rId6"/>
          <a:stretch/>
        </p:blipFill>
        <p:spPr>
          <a:xfrm>
            <a:off x="3235320" y="3645000"/>
            <a:ext cx="12747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3" descr=""/>
          <p:cNvPicPr/>
          <p:nvPr/>
        </p:nvPicPr>
        <p:blipFill>
          <a:blip r:embed="rId7"/>
          <a:stretch/>
        </p:blipFill>
        <p:spPr>
          <a:xfrm>
            <a:off x="4859280" y="364500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4" descr=""/>
          <p:cNvPicPr/>
          <p:nvPr/>
        </p:nvPicPr>
        <p:blipFill>
          <a:blip r:embed="rId8"/>
          <a:stretch/>
        </p:blipFill>
        <p:spPr>
          <a:xfrm>
            <a:off x="6324480" y="3645000"/>
            <a:ext cx="127188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5" descr=""/>
          <p:cNvPicPr/>
          <p:nvPr/>
        </p:nvPicPr>
        <p:blipFill>
          <a:blip r:embed="rId9"/>
          <a:stretch/>
        </p:blipFill>
        <p:spPr>
          <a:xfrm>
            <a:off x="1847880" y="2060640"/>
            <a:ext cx="1139760" cy="10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6" descr=""/>
          <p:cNvPicPr/>
          <p:nvPr/>
        </p:nvPicPr>
        <p:blipFill>
          <a:blip r:embed="rId10"/>
          <a:stretch/>
        </p:blipFill>
        <p:spPr>
          <a:xfrm>
            <a:off x="3268800" y="2060640"/>
            <a:ext cx="1207800" cy="10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7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115272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8" descr=""/>
          <p:cNvPicPr/>
          <p:nvPr/>
        </p:nvPicPr>
        <p:blipFill>
          <a:blip r:embed="rId12"/>
          <a:stretch/>
        </p:blipFill>
        <p:spPr>
          <a:xfrm>
            <a:off x="6324480" y="2060640"/>
            <a:ext cx="1271880" cy="10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9" descr=""/>
          <p:cNvPicPr/>
          <p:nvPr/>
        </p:nvPicPr>
        <p:blipFill>
          <a:blip r:embed="rId13"/>
          <a:srcRect l="20051" t="1784" r="10960" b="0"/>
          <a:stretch/>
        </p:blipFill>
        <p:spPr>
          <a:xfrm>
            <a:off x="1332000" y="5373720"/>
            <a:ext cx="10857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0" descr=""/>
          <p:cNvPicPr/>
          <p:nvPr/>
        </p:nvPicPr>
        <p:blipFill>
          <a:blip r:embed="rId14"/>
          <a:stretch/>
        </p:blipFill>
        <p:spPr>
          <a:xfrm>
            <a:off x="2771640" y="537372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1" descr=""/>
          <p:cNvPicPr/>
          <p:nvPr/>
        </p:nvPicPr>
        <p:blipFill>
          <a:blip r:embed="rId15"/>
          <a:stretch/>
        </p:blipFill>
        <p:spPr>
          <a:xfrm>
            <a:off x="4356000" y="5373720"/>
            <a:ext cx="1116000" cy="113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2" descr=""/>
          <p:cNvPicPr/>
          <p:nvPr/>
        </p:nvPicPr>
        <p:blipFill>
          <a:blip r:embed="rId16"/>
          <a:stretch/>
        </p:blipFill>
        <p:spPr>
          <a:xfrm>
            <a:off x="5867280" y="5373720"/>
            <a:ext cx="1094040" cy="1130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3" descr=""/>
          <p:cNvPicPr/>
          <p:nvPr/>
        </p:nvPicPr>
        <p:blipFill>
          <a:blip r:embed="rId17"/>
          <a:stretch/>
        </p:blipFill>
        <p:spPr>
          <a:xfrm>
            <a:off x="7308720" y="5373720"/>
            <a:ext cx="12240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03280" y="189000"/>
          <a:ext cx="7016760" cy="3017880"/>
        </p:xfrm>
        <a:graphic>
          <a:graphicData uri="http://schemas.openxmlformats.org/drawingml/2006/table">
            <a:tbl>
              <a:tblPr/>
              <a:tblGrid>
                <a:gridCol w="7016760"/>
              </a:tblGrid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ЧКА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47640" y="1844640"/>
          <a:ext cx="6043680" cy="1728720"/>
        </p:xfrm>
        <a:graphic>
          <a:graphicData uri="http://schemas.openxmlformats.org/drawingml/2006/table">
            <a:tbl>
              <a:tblPr/>
              <a:tblGrid>
                <a:gridCol w="60436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1739880" y="2060640"/>
            <a:ext cx="568980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897200" y="3664080"/>
          <a:ext cx="4105080" cy="136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19280" y="5172120"/>
          <a:ext cx="4970520" cy="2754360"/>
        </p:xfrm>
        <a:graphic>
          <a:graphicData uri="http://schemas.openxmlformats.org/drawingml/2006/table">
            <a:tbl>
              <a:tblPr/>
              <a:tblGrid>
                <a:gridCol w="4970520"/>
              </a:tblGrid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 </a:t>
                      </a: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6" descr=""/>
          <p:cNvPicPr/>
          <p:nvPr/>
        </p:nvPicPr>
        <p:blipFill>
          <a:blip r:embed="rId2"/>
          <a:srcRect l="77262" t="70551" r="0" b="0"/>
          <a:stretch/>
        </p:blipFill>
        <p:spPr>
          <a:xfrm>
            <a:off x="2112840" y="3789360"/>
            <a:ext cx="3672000" cy="111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3"/>
          <a:stretch/>
        </p:blipFill>
        <p:spPr>
          <a:xfrm>
            <a:off x="2773440" y="5354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4"/>
          <a:srcRect l="52574" t="15325" r="35808" b="69369"/>
          <a:stretch/>
        </p:blipFill>
        <p:spPr>
          <a:xfrm>
            <a:off x="3949560" y="5354640"/>
            <a:ext cx="7192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64720" y="1628640"/>
            <a:ext cx="57920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ДОПЛАВАЮЩ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ТИЦЫ ЮЖНОГО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s://mtdata.ru/u1/photo9474/20287035975-0/original.jpeg"/>
          <p:cNvPicPr/>
          <p:nvPr/>
        </p:nvPicPr>
        <p:blipFill>
          <a:blip r:embed="rId1"/>
          <a:stretch/>
        </p:blipFill>
        <p:spPr>
          <a:xfrm>
            <a:off x="3851280" y="3141720"/>
            <a:ext cx="5065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68360" y="189000"/>
            <a:ext cx="4572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tserrat"/>
              </a:rPr>
              <a:t>Луток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 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Утка небольшого размера с плотным телосложением, характерным хохолком на голове, коротким клювом. Наблюдаются отличия между самцами и самками. Самки более пестрые независимо от времени года. У самцов есть несколько элементов черного цвета на теле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Луток"/>
          <p:cNvPicPr/>
          <p:nvPr/>
        </p:nvPicPr>
        <p:blipFill>
          <a:blip r:embed="rId2"/>
          <a:stretch/>
        </p:blipFill>
        <p:spPr>
          <a:xfrm>
            <a:off x="3995640" y="2616120"/>
            <a:ext cx="44863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50920" y="333360"/>
            <a:ext cx="2808360" cy="65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Серый гусь Один из самых крупных гусей. Половой диморфизм не выражен. Некоторые особи мигрируют, а некоторые – ведут оседлый образ жизни. Яйца высиживает самка. Новорожденные птенцы уже через несколько часов после рождения покидают гнездо. Гуси не живут поодиночке, они сбиваются в большие стаи. Так же отправляются и на зимовку – в составе клина или шеренги. Питается птица только растительной пищей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Серый гусь"/>
          <p:cNvPicPr/>
          <p:nvPr/>
        </p:nvPicPr>
        <p:blipFill>
          <a:blip r:embed="rId2"/>
          <a:stretch/>
        </p:blipFill>
        <p:spPr>
          <a:xfrm>
            <a:off x="3203640" y="2781360"/>
            <a:ext cx="56228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95280" y="333360"/>
            <a:ext cx="4572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tserrat"/>
              </a:rPr>
              <a:t>Кря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 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Наиболее известный представитель диких уток. Самцы крупнее самок (около 62 см длиной) и существенно отличаются внешне. У кряквы-самца серое тело, коричневая грудь и спина, голова и шея зеленоватого оттенка с затемнения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и могут есть растительную пищу, насекомых, небольшую рыбу и т.п. Живут кряквы парами или немногочисленными стаями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Кряква"/>
          <p:cNvPicPr/>
          <p:nvPr/>
        </p:nvPicPr>
        <p:blipFill>
          <a:blip r:embed="rId2"/>
          <a:stretch/>
        </p:blipFill>
        <p:spPr>
          <a:xfrm>
            <a:off x="3059280" y="2743200"/>
            <a:ext cx="52974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755640" y="476280"/>
            <a:ext cx="4572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tserrat"/>
              </a:rPr>
              <a:t>Красноголовый нырок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95280" y="1052640"/>
            <a:ext cx="4572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Самец отличается от других видов ярко-каштановой головой. Также у него черного цвета грудь, серая спина с рисунком, темный клюв. Самки максимально похожи на уток других видов. Нырки предпочитают вести стайный образ жизни. Они отлично летают и ныряют. Красноголовые нырки всеядные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2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Красноголовый нырок"/>
          <p:cNvPicPr/>
          <p:nvPr/>
        </p:nvPicPr>
        <p:blipFill>
          <a:blip r:embed="rId3"/>
          <a:stretch/>
        </p:blipFill>
        <p:spPr>
          <a:xfrm>
            <a:off x="3995640" y="3213000"/>
            <a:ext cx="44546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84360" y="620640"/>
            <a:ext cx="4572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Чирок-свистунок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966960"/>
            <a:ext cx="4572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Миниатюрная утка весом не более 450 г. По сравнению с другими видами, у чирка очень острые и узкие крылья. Летает быстро, не издавая звуков. Занимает небольшие водоемы, неподходящие для других птиц. В холодное время года питается растениями, в теплое – животными к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Чирок-свистунок"/>
          <p:cNvPicPr/>
          <p:nvPr/>
        </p:nvPicPr>
        <p:blipFill>
          <a:blip r:embed="rId2"/>
          <a:stretch/>
        </p:blipFill>
        <p:spPr>
          <a:xfrm>
            <a:off x="3635280" y="3141720"/>
            <a:ext cx="4508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979640" y="1628640"/>
            <a:ext cx="590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332000" y="765000"/>
            <a:ext cx="7200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Какие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ётные птицы вам знакомы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1. Какая основная причина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ета птиц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 в теплые края с приходом осени? (Только из-за отсутствия пищи. Холод не является причиной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ета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. Голодная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тица замерзает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, сытая — никогд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47640" y="1341360"/>
            <a:ext cx="6409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гра «Закончи предлож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241720" y="3933720"/>
            <a:ext cx="5020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Я начну, а вы договорите. Закончите предложение, начатое мной. Каждой из команд я предлагаю договорить по два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539640" y="765000"/>
            <a:ext cx="756144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1.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«Птиц называют перелётными, потому что…»(они улетают в тёплые кр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2.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«Осенью птицу улетают в тёплые края, потому что…»(трудно прокормиться зи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3.«Раньше всех улетают в тёплые края птицы, которые питаются 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(насеком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4.«Водоплавающие птицы улетают последними, потому что 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(водоёмы замерзают поздней осен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cf2.ppt-online.org/files2/slide/8/8bC5ARwmTUzJ1NekplKPXZVEcOLQGty42aWYrg/slide-14.jpg"/>
          <p:cNvPicPr/>
          <p:nvPr/>
        </p:nvPicPr>
        <p:blipFill>
          <a:blip r:embed="rId1"/>
          <a:stretch/>
        </p:blipFill>
        <p:spPr>
          <a:xfrm>
            <a:off x="1692360" y="2205000"/>
            <a:ext cx="5580000" cy="41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340000" y="981000"/>
            <a:ext cx="446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летают 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kirgizskaski.ru/wp-content/uploads/f/2/d/f2d71fddfc47d7a723aabf6a0a79fcfc.jpeg"/>
          <p:cNvPicPr/>
          <p:nvPr/>
        </p:nvPicPr>
        <p:blipFill>
          <a:blip r:embed="rId1"/>
          <a:stretch/>
        </p:blipFill>
        <p:spPr>
          <a:xfrm>
            <a:off x="82692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Пользователь</cp:lastModifiedBy>
  <dcterms:modified xsi:type="dcterms:W3CDTF">2023-05-18T11:24:59Z</dcterms:modified>
  <cp:revision>53</cp:revision>
  <dc:subject/>
  <dc:title>ПРЕЗЕНТАЦИЯ ПО ТЕМЕ «ПЕРЕЛЁТНЫЕ ПТИЦ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