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23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5.jpeg" ContentType="image/jpeg"/>
  <Override PartName="/ppt/media/image33.jpeg" ContentType="image/jpeg"/>
  <Override PartName="/ppt/media/image35.png" ContentType="image/png"/>
  <Override PartName="/ppt/media/image37.jpeg" ContentType="image/jpeg"/>
  <Override PartName="/ppt/media/image42.jpeg" ContentType="image/jpeg"/>
  <Override PartName="/ppt/media/image51.png" ContentType="image/png"/>
  <Override PartName="/ppt/media/image45.png" ContentType="image/png"/>
  <Override PartName="/ppt/media/image44.jpeg" ContentType="image/jpeg"/>
  <Override PartName="/ppt/media/image9.png" ContentType="image/png"/>
  <Override PartName="/ppt/media/image46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31.jpeg" ContentType="image/jpeg"/>
  <Override PartName="/ppt/media/image41.png" ContentType="image/png"/>
  <Override PartName="/ppt/media/image30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54.png" ContentType="image/png"/>
  <Override PartName="/ppt/media/image14.jpeg" ContentType="image/jpeg"/>
  <Override PartName="/ppt/media/image29.jpeg" ContentType="image/jpeg"/>
  <Override PartName="/ppt/media/image52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48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2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23D3-2743-44F2-B2D3-EBCFDF48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8AFB-6637-48EC-BD43-2BD32A43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A8F9-C408-4EBF-AF1A-A4B4F30A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0A5A-7CB8-4C7C-AB09-990E584D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5146-C555-480B-B611-06C21B88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6F16-EE36-4070-8AD8-532A9AFF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0B7B-DAD3-4CEF-AF03-3E5E7A2F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2B73-7E64-41BD-8E8C-D3FEAB33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5D06-B7F6-42CD-A8B5-182B0065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97CF-51D1-415B-8591-81947AEB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962B-DCE0-4E72-B599-9C5CF0F6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F54A-C135-4026-9FCB-7EE0329C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4CD3-2F5A-4876-9BCA-C73BD8AC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F95D-7A8C-436E-AAB3-AB0D46AA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582C-F05F-4D0D-B494-CD0D256C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E12D-025E-46A4-B003-1DE3DEC6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15A3-85EC-4A78-A5C5-3833FC39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04154-75C2-4D0A-8B31-F8DC848F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C8158-BE6D-44B5-9E37-4A0F3ACB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CE9AD-703F-443D-B714-A77BD000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D2F09-4ADD-4C37-8476-E8AB940A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AD2D9-E82E-43E2-9136-DBA7CEE1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5DE-59BD-4672-8879-AF534885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FF61B-24B0-4720-8D0E-B79E17EC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F1634-8D9E-42F9-ACE6-B00BD528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73DD4-4758-4894-BB64-C4AE3471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2C7E6-6010-479E-B601-EC484AAD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63FAB-950B-4751-ADBD-73C2D9A7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4615E-0482-47D7-B779-3E979038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4B4FC-9542-4798-8318-73262CF72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6064-1919-4DDA-B023-6AE923B4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73C4-ECA3-4490-8F43-5AE1C1B0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4C52-D066-4315-9213-46AFAB44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52E-CACF-42E0-97EB-7731EEA3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16DF-F710-49B4-87E6-E0F7841C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FB7-7AC4-4A43-BCB9-11878AF0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4e5d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4e5d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4e5d1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6666-827D-483B-8427-4CF7F8D652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4e5d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4e5d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4e5d1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FD9D-50D2-4DC6-9EFA-C52BDD7BB2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4e5d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4e5d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4e5d1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d1f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58D1-E12C-4F2C-A9DF-538D098E0B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682560" y="365040"/>
            <a:ext cx="7839000" cy="4998960"/>
          </a:xfrm>
          <a:prstGeom prst="rect">
            <a:avLst/>
          </a:prstGeom>
          <a:ln w="0">
            <a:noFill/>
          </a:ln>
        </p:spPr>
      </p:pic>
      <p:pic>
        <p:nvPicPr>
          <p:cNvPr id="124" name="Подзаголовок 2" descr=""/>
          <p:cNvPicPr/>
          <p:nvPr/>
        </p:nvPicPr>
        <p:blipFill>
          <a:blip r:embed="rId2"/>
          <a:stretch/>
        </p:blipFill>
        <p:spPr>
          <a:xfrm>
            <a:off x="5425920" y="5334120"/>
            <a:ext cx="355932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1"/>
          <a:stretch/>
        </p:blipFill>
        <p:spPr>
          <a:xfrm>
            <a:off x="450720" y="-115920"/>
            <a:ext cx="8255160" cy="2273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приводят к истощению нервной системы, 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снижению работоспособности, 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ослаблению защитных сил организма.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4286160" y="1857240"/>
            <a:ext cx="46198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2335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продолжительность сна зависит от возраста, состояния здоровья и индивидуальных особенностей человека. 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4500720" y="1643040"/>
            <a:ext cx="43830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Заголовок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1536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работоспособность и сопротивляемость различным заболеваниям во многом зависят от состояния кожных покровов.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167" name="Picture 2" descr="Личная Гигиена - основа Здорового Образа Жизни"/>
          <p:cNvPicPr/>
          <p:nvPr/>
        </p:nvPicPr>
        <p:blipFill>
          <a:blip r:embed="rId2"/>
          <a:stretch/>
        </p:blipFill>
        <p:spPr>
          <a:xfrm>
            <a:off x="4429080" y="2286000"/>
            <a:ext cx="407196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e5d1f"/>
                </a:solidFill>
                <a:latin typeface="Constantia"/>
              </a:rPr>
              <a:t>регулярное мытье тела горячей водой с мылом и мочалкой</a:t>
            </a: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.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171" name="Picture 4" descr="Инфекционные заболевания - Фото 7166/10"/>
          <p:cNvPicPr/>
          <p:nvPr/>
        </p:nvPicPr>
        <p:blipFill>
          <a:blip r:embed="rId2"/>
          <a:stretch/>
        </p:blipFill>
        <p:spPr>
          <a:xfrm>
            <a:off x="4214880" y="1857240"/>
            <a:ext cx="456552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781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5d1f"/>
                </a:solidFill>
                <a:latin typeface="Constantia"/>
              </a:rPr>
              <a:t>Менять нательное белье после мытья обязательно.</a:t>
            </a:r>
            <a:endParaRPr b="1" lang="en-US" sz="36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175" name="Picture 4" descr="Союз покупателей - Иркутск - СП : Каталог Детская пижама"/>
          <p:cNvPicPr/>
          <p:nvPr/>
        </p:nvPicPr>
        <p:blipFill>
          <a:blip r:embed="rId2"/>
          <a:stretch/>
        </p:blipFill>
        <p:spPr>
          <a:xfrm>
            <a:off x="4714920" y="1643040"/>
            <a:ext cx="2441520" cy="292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Світанак Р1213756 Белье Нательное Фуфайки Трикотажные"/>
          <p:cNvPicPr/>
          <p:nvPr/>
        </p:nvPicPr>
        <p:blipFill>
          <a:blip r:embed="rId3"/>
          <a:stretch/>
        </p:blipFill>
        <p:spPr>
          <a:xfrm>
            <a:off x="7143840" y="4000680"/>
            <a:ext cx="1490400" cy="2149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Майка - Летняя коллекция - Фабрика детской одежды &quot;Юлла&quot;"/>
          <p:cNvPicPr/>
          <p:nvPr/>
        </p:nvPicPr>
        <p:blipFill>
          <a:blip r:embed="rId4"/>
          <a:stretch/>
        </p:blipFill>
        <p:spPr>
          <a:xfrm>
            <a:off x="1285920" y="4286160"/>
            <a:ext cx="30002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1536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5d1f"/>
                </a:solidFill>
                <a:latin typeface="Constantia"/>
              </a:rPr>
              <a:t>(лицо, шею, верхнюю часть туловища) необходимо мыть каждый день утром и вечером.</a:t>
            </a:r>
            <a:endParaRPr b="1" lang="en-US" sz="36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181" name="Picture 2" descr="Personal Hygiene: What's Harmful, What's Helpful Reader's Digest"/>
          <p:cNvPicPr/>
          <p:nvPr/>
        </p:nvPicPr>
        <p:blipFill>
          <a:blip r:embed="rId2"/>
          <a:stretch/>
        </p:blipFill>
        <p:spPr>
          <a:xfrm>
            <a:off x="4071960" y="1428840"/>
            <a:ext cx="3143160" cy="2417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http://im2-tub-ru.yandex.net/i?id=ac63c4d4fb48840ea69f9d15b12f6040-59-144&amp;n=21"/>
          <p:cNvPicPr/>
          <p:nvPr/>
        </p:nvPicPr>
        <p:blipFill>
          <a:blip r:embed="rId3"/>
          <a:stretch/>
        </p:blipFill>
        <p:spPr>
          <a:xfrm>
            <a:off x="4071960" y="4143240"/>
            <a:ext cx="47815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781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5d1f"/>
                </a:solidFill>
                <a:latin typeface="Constantia"/>
              </a:rPr>
              <a:t>Полезная гигиеническая процедура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186" name="Picture 4" descr="NI influenced: русские бани стерлитамак с фото"/>
          <p:cNvPicPr/>
          <p:nvPr/>
        </p:nvPicPr>
        <p:blipFill>
          <a:blip r:embed="rId2"/>
          <a:stretch/>
        </p:blipFill>
        <p:spPr>
          <a:xfrm>
            <a:off x="2286000" y="3286080"/>
            <a:ext cx="5286240" cy="3432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БАНЯ - Термины на букву Б - Словарь архитектурных терминов - Регент Декор"/>
          <p:cNvPicPr/>
          <p:nvPr/>
        </p:nvPicPr>
        <p:blipFill>
          <a:blip r:embed="rId3"/>
          <a:stretch/>
        </p:blipFill>
        <p:spPr>
          <a:xfrm>
            <a:off x="4572000" y="135720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378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5d1f"/>
                </a:solidFill>
                <a:latin typeface="Constantia"/>
              </a:rPr>
              <a:t>поддержанию чистоты тела, </a:t>
            </a:r>
            <a:endParaRPr b="1" lang="en-US" sz="3600" spc="-1" strike="noStrike">
              <a:solidFill>
                <a:srgbClr val="4e5d1f"/>
              </a:solidFill>
              <a:latin typeface="Constantia"/>
            </a:endParaRPr>
          </a:p>
          <a:p>
            <a:pPr marL="343080" indent="-343080">
              <a:spcBef>
                <a:spcPts val="901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5d1f"/>
                </a:solidFill>
                <a:latin typeface="Constantia"/>
              </a:rPr>
              <a:t>улучшает функции кожи и укрепляет здоровье.</a:t>
            </a:r>
            <a:br>
              <a:rPr sz="3600"/>
            </a:br>
            <a:r>
              <a:rPr b="0" lang="ru-RU" sz="3600" spc="-1" strike="noStrike">
                <a:solidFill>
                  <a:srgbClr val="4e5d1f"/>
                </a:solidFill>
                <a:latin typeface="Constantia"/>
              </a:rPr>
              <a:t> </a:t>
            </a:r>
            <a:endParaRPr b="1" lang="en-US" sz="36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191" name="Picture 2" descr="СПА-КОТТЕДЖ &quot;ТЕТ-а-ТЕТ&quot; - это 400 квадратных метров двухэтажный комплекс ПРЕМИУМ КЛАССА с широким спектром услуг и безупречным о"/>
          <p:cNvPicPr/>
          <p:nvPr/>
        </p:nvPicPr>
        <p:blipFill>
          <a:blip r:embed="rId2"/>
          <a:stretch/>
        </p:blipFill>
        <p:spPr>
          <a:xfrm>
            <a:off x="4429080" y="1428840"/>
            <a:ext cx="4286160" cy="2862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Sv-sauna, ООО - Москва - Бани и сауны, Аксессуары для бани, Стельки, Покраска автомобилей солнечногорск, Б/у запчасти для иномар"/>
          <p:cNvPicPr/>
          <p:nvPr/>
        </p:nvPicPr>
        <p:blipFill>
          <a:blip r:embed="rId3"/>
          <a:stretch/>
        </p:blipFill>
        <p:spPr>
          <a:xfrm>
            <a:off x="3357720" y="4071960"/>
            <a:ext cx="34290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781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4e5d1f"/>
                </a:solidFill>
                <a:uFillTx/>
                <a:latin typeface="Constantia"/>
              </a:rPr>
              <a:t>должна быть легкой</a:t>
            </a:r>
            <a:r>
              <a:rPr b="0" lang="ru-RU" sz="2600" spc="-1" strike="noStrike">
                <a:solidFill>
                  <a:srgbClr val="4e5d1f"/>
                </a:solidFill>
                <a:latin typeface="Constantia"/>
              </a:rPr>
              <a:t>, чтобы не утомлять человека при ходьбе и не вызывать непроизводительной траты энергии, чтобы не препятствовать дыханию, кровообращению и пищеварению и быть удобной для бытовой и профессиональной деятельности.</a:t>
            </a:r>
            <a:endParaRPr b="1" lang="en-US" sz="26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196" name="Picture 4" descr="Белорусская детская одежда - Интернет магазин белорусской одежды"/>
          <p:cNvPicPr/>
          <p:nvPr/>
        </p:nvPicPr>
        <p:blipFill>
          <a:blip r:embed="rId2"/>
          <a:stretch/>
        </p:blipFill>
        <p:spPr>
          <a:xfrm>
            <a:off x="4714920" y="1357200"/>
            <a:ext cx="328608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37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200" name="Picture 4" descr="Одежда должна быть легкой, удобной, не стеснять движений и не нарушать - Фото 18126/5"/>
          <p:cNvPicPr/>
          <p:nvPr/>
        </p:nvPicPr>
        <p:blipFill>
          <a:blip r:embed="rId2"/>
          <a:stretch/>
        </p:blipFill>
        <p:spPr>
          <a:xfrm>
            <a:off x="1214280" y="1339920"/>
            <a:ext cx="692964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2335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рациональный суточный режим, 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уход за телом и полостью рта,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отказ от вредных привычек, 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гигиену одежды и обуви.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127" name="Picture 6" descr="Good Personal Hygiene In The Kitchen"/>
          <p:cNvPicPr/>
          <p:nvPr/>
        </p:nvPicPr>
        <p:blipFill>
          <a:blip r:embed="rId2"/>
          <a:stretch/>
        </p:blipFill>
        <p:spPr>
          <a:xfrm>
            <a:off x="3952800" y="1785960"/>
            <a:ext cx="4853160" cy="3643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781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Одежда должна обладать свойствами, обеспечивающими надежную защиту от неблагоприятных влияний окружающей среды и способствующими созданию здорового микроклимата под одеждой. 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204" name="Picture 2" descr="Чистить одежду практичнее утром, при дневном свете (лучше видны - Фото 18127/4"/>
          <p:cNvPicPr/>
          <p:nvPr/>
        </p:nvPicPr>
        <p:blipFill>
          <a:blip r:embed="rId2"/>
          <a:stretch/>
        </p:blipFill>
        <p:spPr>
          <a:xfrm>
            <a:off x="4500720" y="1357200"/>
            <a:ext cx="2766960" cy="2643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Pair Of Black Shoes, New Shirt And Bow-tie Isolated On White Фотография, картинки, изображения и сток-фотография без роялти. Ima"/>
          <p:cNvPicPr/>
          <p:nvPr/>
        </p:nvPicPr>
        <p:blipFill>
          <a:blip r:embed="rId3"/>
          <a:stretch/>
        </p:blipFill>
        <p:spPr>
          <a:xfrm>
            <a:off x="4714920" y="407196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1536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142560" y="1600200"/>
            <a:ext cx="4352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5d1f"/>
                </a:solidFill>
                <a:latin typeface="Constantia"/>
              </a:rPr>
              <a:t>Теплопроводность материалов </a:t>
            </a:r>
            <a:endParaRPr b="1" lang="en-US" sz="2400" spc="-1" strike="noStrike">
              <a:solidFill>
                <a:srgbClr val="4e5d1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5d1f"/>
                </a:solidFill>
                <a:latin typeface="Constantia"/>
              </a:rPr>
              <a:t>Воздухопроницаемость </a:t>
            </a:r>
            <a:endParaRPr b="1" lang="en-US" sz="2400" spc="-1" strike="noStrike">
              <a:solidFill>
                <a:srgbClr val="4e5d1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5d1f"/>
                </a:solidFill>
                <a:latin typeface="Constantia"/>
              </a:rPr>
              <a:t>Водоемкость. </a:t>
            </a:r>
            <a:endParaRPr b="1" lang="en-US" sz="2400" spc="-1" strike="noStrike">
              <a:solidFill>
                <a:srgbClr val="4e5d1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5d1f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4e5d1f"/>
                </a:solidFill>
                <a:latin typeface="Constantia"/>
              </a:rPr>
              <a:t>Гигроскопичность.</a:t>
            </a:r>
            <a:endParaRPr b="1" lang="en-US" sz="24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209" name="Picture 4" descr="ХВАСТЫ взрослых шапок от компании N E W L E V E L - Совместные покупки SECOND.BY"/>
          <p:cNvPicPr/>
          <p:nvPr/>
        </p:nvPicPr>
        <p:blipFill>
          <a:blip r:embed="rId2"/>
          <a:stretch/>
        </p:blipFill>
        <p:spPr>
          <a:xfrm>
            <a:off x="4429080" y="1500120"/>
            <a:ext cx="3286080" cy="1933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Фотографии альбома Основной альбом"/>
          <p:cNvPicPr/>
          <p:nvPr/>
        </p:nvPicPr>
        <p:blipFill>
          <a:blip r:embed="rId3"/>
          <a:stretch/>
        </p:blipFill>
        <p:spPr>
          <a:xfrm>
            <a:off x="4000680" y="3571920"/>
            <a:ext cx="42861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291960" y="212760"/>
            <a:ext cx="8560080" cy="17812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5d1f"/>
                </a:solidFill>
                <a:latin typeface="Constantia"/>
              </a:rPr>
              <a:t>Материалы, из которых шьется обувь, должны быть прочными, достаточно мягкими, обладать хорошей воздухопроницаемостью, защищать от охлаждения, сырости, механических воздействий. </a:t>
            </a:r>
            <a:endParaRPr b="1" lang="en-US" sz="26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214" name="Picture 2" descr="Сменная обувь - Фото 2704/23"/>
          <p:cNvPicPr/>
          <p:nvPr/>
        </p:nvPicPr>
        <p:blipFill>
          <a:blip r:embed="rId2"/>
          <a:stretch/>
        </p:blipFill>
        <p:spPr>
          <a:xfrm>
            <a:off x="4500720" y="1500120"/>
            <a:ext cx="3214440" cy="2060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Бесплатные фото (Страница 1) - MyStockPhoto.com"/>
          <p:cNvPicPr/>
          <p:nvPr/>
        </p:nvPicPr>
        <p:blipFill>
          <a:blip r:embed="rId3"/>
          <a:stretch/>
        </p:blipFill>
        <p:spPr>
          <a:xfrm>
            <a:off x="4857840" y="3643200"/>
            <a:ext cx="37148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7812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5d1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4e5d1f"/>
                </a:solidFill>
                <a:latin typeface="Constantia"/>
              </a:rPr>
              <a:t>сдавливает сосуды, </a:t>
            </a:r>
            <a:endParaRPr b="1" lang="en-US" sz="2600" spc="-1" strike="noStrike">
              <a:solidFill>
                <a:srgbClr val="4e5d1f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5d1f"/>
                </a:solidFill>
                <a:latin typeface="Constantia"/>
              </a:rPr>
              <a:t>затрудняет кровообращение, </a:t>
            </a:r>
            <a:endParaRPr b="1" lang="en-US" sz="2600" spc="-1" strike="noStrike">
              <a:solidFill>
                <a:srgbClr val="4e5d1f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5d1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4e5d1f"/>
                </a:solidFill>
                <a:latin typeface="Constantia"/>
              </a:rPr>
              <a:t>способствует быстрому охлаждению и отморожению ног в холодное время года, </a:t>
            </a:r>
            <a:endParaRPr b="1" lang="en-US" sz="2600" spc="-1" strike="noStrike">
              <a:solidFill>
                <a:srgbClr val="4e5d1f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5d1f"/>
                </a:solidFill>
                <a:latin typeface="Constantia"/>
              </a:rPr>
              <a:t>развивается повышенная  потливость, </a:t>
            </a:r>
            <a:endParaRPr b="1" lang="en-US" sz="2600" spc="-1" strike="noStrike">
              <a:solidFill>
                <a:srgbClr val="4e5d1f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5d1f"/>
                </a:solidFill>
                <a:latin typeface="Constantia"/>
              </a:rPr>
              <a:t>появляются потертости, мозоли.</a:t>
            </a:r>
            <a:endParaRPr b="1" lang="en-US" sz="26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219" name="Picture 2" descr="Урок на тему &quot;Условия развития и охраны опорно-двигательного аппарата&quot; Пособие для учителей"/>
          <p:cNvPicPr/>
          <p:nvPr/>
        </p:nvPicPr>
        <p:blipFill>
          <a:blip r:embed="rId2"/>
          <a:stretch/>
        </p:blipFill>
        <p:spPr>
          <a:xfrm>
            <a:off x="4643280" y="1643040"/>
            <a:ext cx="4154760" cy="2357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Подбираем первую обувь для ребенка Твой малыш"/>
          <p:cNvPicPr/>
          <p:nvPr/>
        </p:nvPicPr>
        <p:blipFill>
          <a:blip r:embed="rId3"/>
          <a:stretch/>
        </p:blipFill>
        <p:spPr>
          <a:xfrm>
            <a:off x="5572080" y="4071960"/>
            <a:ext cx="22860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2335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5d1f"/>
                </a:solidFill>
                <a:latin typeface="Constantia"/>
              </a:rPr>
              <a:t>необходимо каждому человеку; 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5d1f"/>
                </a:solidFill>
                <a:latin typeface="Constantia"/>
              </a:rPr>
              <a:t>важно для физкультурников и спортсменов;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5d1f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4e5d1f"/>
                </a:solidFill>
                <a:latin typeface="Constantia"/>
              </a:rPr>
              <a:t>строгое соблюдение этих правил способствует укреплению здоровья; 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5d1f"/>
                </a:solidFill>
                <a:latin typeface="Constantia"/>
              </a:rPr>
              <a:t>повышению эффективности тренировочных занятий;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5d1f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4e5d1f"/>
                </a:solidFill>
                <a:latin typeface="Constantia"/>
              </a:rPr>
              <a:t>служит залогом высоких спортивных достижений.</a:t>
            </a: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Заголовок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2335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создает оптимальные условия для деятельности и восстановления организма и способствует повышению работоспособности.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133" name="Picture 4" descr="Ягодны годжи Худеем с ягодами годжи. Похудение - форум"/>
          <p:cNvPicPr/>
          <p:nvPr/>
        </p:nvPicPr>
        <p:blipFill>
          <a:blip r:embed="rId2"/>
          <a:stretch/>
        </p:blipFill>
        <p:spPr>
          <a:xfrm>
            <a:off x="4648320" y="1652760"/>
            <a:ext cx="403848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4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791920" cy="1609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при правильном и строго соблюдаемом суточном режиме дня вырабатывается определенный ритм функционирования организма.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137" name="Picture 2" descr="Школьные проблемы в Белоруссии. Обсуждение на LiveInternet - Российский Сервис Онлайн-Дневников"/>
          <p:cNvPicPr/>
          <p:nvPr/>
        </p:nvPicPr>
        <p:blipFill>
          <a:blip r:embed="rId2"/>
          <a:stretch/>
        </p:blipFill>
        <p:spPr>
          <a:xfrm>
            <a:off x="4572000" y="1643040"/>
            <a:ext cx="41432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Заголовок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2335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помогает также лучше планировать время и успешнее трудиться. </a:t>
            </a:r>
            <a:br>
              <a:rPr sz="2800"/>
            </a:b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 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141" name="Picture 4" descr="Береги глаз смолоду. Гигиена чтения для школьника - Дети и родители - Здоровье - Аргументы и Факты"/>
          <p:cNvPicPr/>
          <p:nvPr/>
        </p:nvPicPr>
        <p:blipFill>
          <a:blip r:embed="rId2"/>
          <a:stretch/>
        </p:blipFill>
        <p:spPr>
          <a:xfrm>
            <a:off x="4572000" y="1500120"/>
            <a:ext cx="4170240" cy="3143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Здоровье школьника: правильный режим и гигиена."/>
          <p:cNvPicPr/>
          <p:nvPr/>
        </p:nvPicPr>
        <p:blipFill>
          <a:blip r:embed="rId3"/>
          <a:stretch/>
        </p:blipFill>
        <p:spPr>
          <a:xfrm>
            <a:off x="1285920" y="4000680"/>
            <a:ext cx="39290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головок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2335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57200" y="2143080"/>
            <a:ext cx="403848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Неуклонное соблюдение режима дня помогает воспитывать организованность, силу воли, приучать к сознательной дисциплине.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146" name="Picture 2" descr="PANDA KIDS - 01680 - Каталог интернет магазина"/>
          <p:cNvPicPr/>
          <p:nvPr/>
        </p:nvPicPr>
        <p:blipFill>
          <a:blip r:embed="rId2"/>
          <a:stretch/>
        </p:blipFill>
        <p:spPr>
          <a:xfrm>
            <a:off x="4929120" y="1714680"/>
            <a:ext cx="3171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781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Особое внимание в суточном режиме следует уделять сну.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429080" y="1571760"/>
            <a:ext cx="4429080" cy="3322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3"/>
          <a:stretch/>
        </p:blipFill>
        <p:spPr>
          <a:xfrm>
            <a:off x="214200" y="3643200"/>
            <a:ext cx="413244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781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d1f"/>
                </a:solidFill>
                <a:latin typeface="Constantia"/>
              </a:rPr>
              <a:t>Нормальный, здоровый сон помогает сохранить здоровье и высокую работоспособность. </a:t>
            </a:r>
            <a:endParaRPr b="1" lang="en-US" sz="2800" spc="-1" strike="noStrike">
              <a:solidFill>
                <a:srgbClr val="4e5d1f"/>
              </a:solidFill>
              <a:latin typeface="Constanti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5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5d1f"/>
              </a:solidFill>
              <a:latin typeface="Constanti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4500720" y="1928880"/>
            <a:ext cx="44067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09:58:29Z</dcterms:created>
  <dc:creator>Сергей</dc:creator>
  <dc:description/>
  <dc:language>en-US</dc:language>
  <cp:lastModifiedBy>Валентина</cp:lastModifiedBy>
  <dcterms:modified xsi:type="dcterms:W3CDTF">2016-11-04T13:35:47Z</dcterms:modified>
  <cp:revision>23</cp:revision>
  <dc:subject/>
  <dc:title>Презентация PowerPoint</dc:title>
</cp:coreProperties>
</file>