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5.jpeg" ContentType="image/jpeg"/>
  <Override PartName="/ppt/media/image33.jpeg" ContentType="image/jpeg"/>
  <Override PartName="/ppt/media/image35.png" ContentType="image/png"/>
  <Override PartName="/ppt/media/image37.jpeg" ContentType="image/jpeg"/>
  <Override PartName="/ppt/media/image42.jpeg" ContentType="image/jpeg"/>
  <Override PartName="/ppt/media/image51.png" ContentType="image/png"/>
  <Override PartName="/ppt/media/image45.png" ContentType="image/png"/>
  <Override PartName="/ppt/media/image44.jpeg" ContentType="image/jpeg"/>
  <Override PartName="/ppt/media/image9.png" ContentType="image/pn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54.png" ContentType="image/png"/>
  <Override PartName="/ppt/media/image14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A17-8FBD-46D5-AB68-3B8E1FB5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78D-1C63-4E5F-9BE2-65E61684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AD6-2173-48BF-B79E-31DD6DAF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7D9-B114-49C5-8408-D321110E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BBC-C160-4462-B010-17225D0F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0084-2313-4657-AD82-1AA6E334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4820-BB51-47F9-8E36-A69D6213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C153-3AF9-43BC-AE9C-DF30EF6C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1AAC-82EE-40DF-9D9E-3F54DF89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F28B-F687-4395-B33F-0B3B5A94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F9BE-9CBE-450D-AF0C-E10083E1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EA5-F630-43E3-A4BE-896A8508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7F45-0992-49CA-9E1C-1CB9D97C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C7D2-37F9-4E17-A3B9-C2C0B34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147C-5D38-4537-8999-68A2DDFB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BCD3-5B7C-41C6-9786-CE5241E8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2213-845C-4943-91D5-CD0431B9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26FE-9281-4C66-B477-B2624D07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882E-9173-4962-BB25-9BE41910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7E55-DCF1-44E3-AC57-BEEDE518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1038-A7B5-45D5-A255-7C628765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502F-FFF8-4147-A539-DC35A0CB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580-C637-4452-9A9E-B3701F89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D91E-D563-4034-B973-7E6E8DC2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BEBB-844A-48A1-9703-6BB924D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121F-C9BA-45F1-83E0-595EB70D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1ECA-837C-457D-8577-F5DC5B7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E533-779E-464C-838A-F6A0AF2F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82EEA-167D-4E50-9EA5-79007F87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1A01-2CF3-46F8-A79D-B2ECB1FA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2E9-A1B1-4790-9B5B-B7CE31F8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984-C9F1-4F5B-840E-843233C6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779-BD6B-4B71-ACEC-53B5004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A25-FF17-48A5-BBD4-F809134F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B4F-3D42-4BD9-9E7E-D700B11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DDD-8C1B-40B6-88DA-FFCE51C1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e5d1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0796-62AF-412D-BA42-44AEFF58E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e5d1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5579-6C50-4DCB-9F37-8FCE6F8E2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e5d1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DCA1-5EC6-4F96-9E88-D774424CD9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82560" y="365040"/>
            <a:ext cx="7839000" cy="4998960"/>
          </a:xfrm>
          <a:prstGeom prst="rect">
            <a:avLst/>
          </a:prstGeom>
          <a:ln w="0">
            <a:noFill/>
          </a:ln>
        </p:spPr>
      </p:pic>
      <p:pic>
        <p:nvPicPr>
          <p:cNvPr id="124" name="Подзаголовок 2" descr=""/>
          <p:cNvPicPr/>
          <p:nvPr/>
        </p:nvPicPr>
        <p:blipFill>
          <a:blip r:embed="rId2"/>
          <a:stretch/>
        </p:blipFill>
        <p:spPr>
          <a:xfrm>
            <a:off x="5425920" y="5334120"/>
            <a:ext cx="35593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255160" cy="227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приводят к истощению нервной системы,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снижению работоспособности,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ослаблению защитных сил организма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286160" y="1857240"/>
            <a:ext cx="4619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продолжительность сна зависит от возраста, состояния здоровья и индивидуальных особенностей человека.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500720" y="1643040"/>
            <a:ext cx="4383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работоспособность и сопротивляемость различным заболеваниям во многом зависят от состояния кожных покровов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67" name="Picture 2" descr="Личная Гигиена - основа Здорового Образа Жизни"/>
          <p:cNvPicPr/>
          <p:nvPr/>
        </p:nvPicPr>
        <p:blipFill>
          <a:blip r:embed="rId2"/>
          <a:stretch/>
        </p:blipFill>
        <p:spPr>
          <a:xfrm>
            <a:off x="4429080" y="2286000"/>
            <a:ext cx="40719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5d1f"/>
                </a:solidFill>
                <a:latin typeface="Constantia"/>
              </a:rPr>
              <a:t>регулярное мытье тела горячей водой с мылом и мочалкой</a:t>
            </a: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71" name="Picture 4" descr="Инфекционные заболевания - Фото 7166/10"/>
          <p:cNvPicPr/>
          <p:nvPr/>
        </p:nvPicPr>
        <p:blipFill>
          <a:blip r:embed="rId2"/>
          <a:stretch/>
        </p:blipFill>
        <p:spPr>
          <a:xfrm>
            <a:off x="4214880" y="1857240"/>
            <a:ext cx="4565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Менять нательное белье после мытья обязательно.</a:t>
            </a:r>
            <a:endParaRPr b="1" lang="en-US" sz="3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75" name="Picture 4" descr="Союз покупателей - Иркутск - СП : Каталог Детская пижама"/>
          <p:cNvPicPr/>
          <p:nvPr/>
        </p:nvPicPr>
        <p:blipFill>
          <a:blip r:embed="rId2"/>
          <a:stretch/>
        </p:blipFill>
        <p:spPr>
          <a:xfrm>
            <a:off x="4714920" y="1643040"/>
            <a:ext cx="2441520" cy="29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Світанак Р1213756 Белье Нательное Фуфайки Трикотажные"/>
          <p:cNvPicPr/>
          <p:nvPr/>
        </p:nvPicPr>
        <p:blipFill>
          <a:blip r:embed="rId3"/>
          <a:stretch/>
        </p:blipFill>
        <p:spPr>
          <a:xfrm>
            <a:off x="7143840" y="4000680"/>
            <a:ext cx="1490400" cy="2149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Майка - Летняя коллекция - Фабрика детской одежды &quot;Юлла&quot;"/>
          <p:cNvPicPr/>
          <p:nvPr/>
        </p:nvPicPr>
        <p:blipFill>
          <a:blip r:embed="rId4"/>
          <a:stretch/>
        </p:blipFill>
        <p:spPr>
          <a:xfrm>
            <a:off x="1285920" y="4286160"/>
            <a:ext cx="3000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(лицо, шею, верхнюю часть туловища) необходимо мыть каждый день утром и вечером.</a:t>
            </a:r>
            <a:endParaRPr b="1" lang="en-US" sz="3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81" name="Picture 2" descr="Personal Hygiene: What's Harmful, What's Helpful Reader's Digest"/>
          <p:cNvPicPr/>
          <p:nvPr/>
        </p:nvPicPr>
        <p:blipFill>
          <a:blip r:embed="rId2"/>
          <a:stretch/>
        </p:blipFill>
        <p:spPr>
          <a:xfrm>
            <a:off x="4071960" y="1428840"/>
            <a:ext cx="3143160" cy="2417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im2-tub-ru.yandex.net/i?id=ac63c4d4fb48840ea69f9d15b12f6040-59-144&amp;n=21"/>
          <p:cNvPicPr/>
          <p:nvPr/>
        </p:nvPicPr>
        <p:blipFill>
          <a:blip r:embed="rId3"/>
          <a:stretch/>
        </p:blipFill>
        <p:spPr>
          <a:xfrm>
            <a:off x="4071960" y="4143240"/>
            <a:ext cx="4781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Полезная гигиеническая процедура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86" name="Picture 4" descr="NI influenced: русские бани стерлитамак с фото"/>
          <p:cNvPicPr/>
          <p:nvPr/>
        </p:nvPicPr>
        <p:blipFill>
          <a:blip r:embed="rId2"/>
          <a:stretch/>
        </p:blipFill>
        <p:spPr>
          <a:xfrm>
            <a:off x="2286000" y="3286080"/>
            <a:ext cx="5286240" cy="3432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БАНЯ - Термины на букву Б - Словарь архитектурных терминов - Регент Декор"/>
          <p:cNvPicPr/>
          <p:nvPr/>
        </p:nvPicPr>
        <p:blipFill>
          <a:blip r:embed="rId3"/>
          <a:stretch/>
        </p:blipFill>
        <p:spPr>
          <a:xfrm>
            <a:off x="4572000" y="135720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78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поддержанию чистоты тела, </a:t>
            </a:r>
            <a:endParaRPr b="1" lang="en-US" sz="36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улучшает функции кожи и укрепляет здоровье.</a:t>
            </a:r>
            <a:br>
              <a:rPr sz="3600"/>
            </a:b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 </a:t>
            </a:r>
            <a:endParaRPr b="1" lang="en-US" sz="3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91" name="Picture 2" descr="СПА-КОТТЕДЖ &quot;ТЕТ-а-ТЕТ&quot; - это 400 квадратных метров двухэтажный комплекс ПРЕМИУМ КЛАССА с широким спектром услуг и безупречным о"/>
          <p:cNvPicPr/>
          <p:nvPr/>
        </p:nvPicPr>
        <p:blipFill>
          <a:blip r:embed="rId2"/>
          <a:stretch/>
        </p:blipFill>
        <p:spPr>
          <a:xfrm>
            <a:off x="4429080" y="1428840"/>
            <a:ext cx="4286160" cy="28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Sv-sauna, ООО - Москва - Бани и сауны, Аксессуары для бани, Стельки, Покраска автомобилей солнечногорск, Б/у запчасти для иномар"/>
          <p:cNvPicPr/>
          <p:nvPr/>
        </p:nvPicPr>
        <p:blipFill>
          <a:blip r:embed="rId3"/>
          <a:stretch/>
        </p:blipFill>
        <p:spPr>
          <a:xfrm>
            <a:off x="3357720" y="4071960"/>
            <a:ext cx="3429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4e5d1f"/>
                </a:solidFill>
                <a:uFillTx/>
                <a:latin typeface="Constantia"/>
              </a:rPr>
              <a:t>должна быть легкой</a:t>
            </a: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, чтобы не утомлять человека при ходьбе и не вызывать непроизводительной траты энергии, чтобы не препятствовать дыханию, кровообращению и пищеварению и быть удобной для бытовой и профессиональной деятельности.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96" name="Picture 4" descr="Белорусская детская одежда - Интернет магазин белорусской одежды"/>
          <p:cNvPicPr/>
          <p:nvPr/>
        </p:nvPicPr>
        <p:blipFill>
          <a:blip r:embed="rId2"/>
          <a:stretch/>
        </p:blipFill>
        <p:spPr>
          <a:xfrm>
            <a:off x="4714920" y="1357200"/>
            <a:ext cx="32860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7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00" name="Picture 4" descr="Одежда должна быть легкой, удобной, не стеснять движений и не нарушать - Фото 18126/5"/>
          <p:cNvPicPr/>
          <p:nvPr/>
        </p:nvPicPr>
        <p:blipFill>
          <a:blip r:embed="rId2"/>
          <a:stretch/>
        </p:blipFill>
        <p:spPr>
          <a:xfrm>
            <a:off x="1214280" y="1339920"/>
            <a:ext cx="69296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рациональный суточный режим,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уход за телом и полостью рта,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отказ от вредных привычек,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гигиену одежды и обуви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27" name="Picture 6" descr="Good Personal Hygiene In The Kitchen"/>
          <p:cNvPicPr/>
          <p:nvPr/>
        </p:nvPicPr>
        <p:blipFill>
          <a:blip r:embed="rId2"/>
          <a:stretch/>
        </p:blipFill>
        <p:spPr>
          <a:xfrm>
            <a:off x="3952800" y="1785960"/>
            <a:ext cx="4853160" cy="36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Одежда должна обладать свойствами, обеспечивающими надежную защиту от неблагоприятных влияний окружающей среды и способствующими созданию здорового микроклимата под одеждой. 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04" name="Picture 2" descr="Чистить одежду практичнее утром, при дневном свете (лучше видны - Фото 18127/4"/>
          <p:cNvPicPr/>
          <p:nvPr/>
        </p:nvPicPr>
        <p:blipFill>
          <a:blip r:embed="rId2"/>
          <a:stretch/>
        </p:blipFill>
        <p:spPr>
          <a:xfrm>
            <a:off x="4500720" y="1357200"/>
            <a:ext cx="2766960" cy="2643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Pair Of Black Shoes, New Shirt And Bow-tie Isolated On White Фотография, картинки, изображения и сток-фотография без роялти. Ima"/>
          <p:cNvPicPr/>
          <p:nvPr/>
        </p:nvPicPr>
        <p:blipFill>
          <a:blip r:embed="rId3"/>
          <a:stretch/>
        </p:blipFill>
        <p:spPr>
          <a:xfrm>
            <a:off x="4714920" y="40719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42560" y="160020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Теплопроводность материалов </a:t>
            </a:r>
            <a:endParaRPr b="1" lang="en-US" sz="24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Воздухопроницаемость </a:t>
            </a:r>
            <a:endParaRPr b="1" lang="en-US" sz="24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Водоемкость. </a:t>
            </a:r>
            <a:endParaRPr b="1" lang="en-US" sz="24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Гигроскопичность.</a:t>
            </a:r>
            <a:endParaRPr b="1" lang="en-US" sz="24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09" name="Picture 4" descr="ХВАСТЫ взрослых шапок от компании N E W L E V E L - Совместные покупки SECOND.BY"/>
          <p:cNvPicPr/>
          <p:nvPr/>
        </p:nvPicPr>
        <p:blipFill>
          <a:blip r:embed="rId2"/>
          <a:stretch/>
        </p:blipFill>
        <p:spPr>
          <a:xfrm>
            <a:off x="4429080" y="1500120"/>
            <a:ext cx="3286080" cy="1933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Фотографии альбома Основной альбом"/>
          <p:cNvPicPr/>
          <p:nvPr/>
        </p:nvPicPr>
        <p:blipFill>
          <a:blip r:embed="rId3"/>
          <a:stretch/>
        </p:blipFill>
        <p:spPr>
          <a:xfrm>
            <a:off x="4000680" y="357192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560080" cy="1781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Материалы, из которых шьется обувь, должны быть прочными, достаточно мягкими, обладать хорошей воздухопроницаемостью, защищать от охлаждения, сырости, механических воздействий. 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14" name="Picture 2" descr="Сменная обувь - Фото 2704/23"/>
          <p:cNvPicPr/>
          <p:nvPr/>
        </p:nvPicPr>
        <p:blipFill>
          <a:blip r:embed="rId2"/>
          <a:stretch/>
        </p:blipFill>
        <p:spPr>
          <a:xfrm>
            <a:off x="4500720" y="1500120"/>
            <a:ext cx="3214440" cy="2060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Бесплатные фото (Страница 1) - MyStockPhoto.com"/>
          <p:cNvPicPr/>
          <p:nvPr/>
        </p:nvPicPr>
        <p:blipFill>
          <a:blip r:embed="rId3"/>
          <a:stretch/>
        </p:blipFill>
        <p:spPr>
          <a:xfrm>
            <a:off x="4857840" y="3643200"/>
            <a:ext cx="37148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сдавливает сосуды, 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затрудняет кровообращение, 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способствует быстрому охлаждению и отморожению ног в холодное время года, 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развивается повышенная  потливость, 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появляются потертости, мозоли.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19" name="Picture 2" descr="Урок на тему &quot;Условия развития и охраны опорно-двигательного аппарата&quot; Пособие для учителей"/>
          <p:cNvPicPr/>
          <p:nvPr/>
        </p:nvPicPr>
        <p:blipFill>
          <a:blip r:embed="rId2"/>
          <a:stretch/>
        </p:blipFill>
        <p:spPr>
          <a:xfrm>
            <a:off x="4643280" y="1643040"/>
            <a:ext cx="4154760" cy="235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Подбираем первую обувь для ребенка Твой малыш"/>
          <p:cNvPicPr/>
          <p:nvPr/>
        </p:nvPicPr>
        <p:blipFill>
          <a:blip r:embed="rId3"/>
          <a:stretch/>
        </p:blipFill>
        <p:spPr>
          <a:xfrm>
            <a:off x="5572080" y="4071960"/>
            <a:ext cx="2286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необходимо каждому человеку; 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важно для физкультурников и спортсменов;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строгое соблюдение этих правил способствует укреплению здоровья; 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повышению эффективности тренировочных занятий;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служит залогом высоких спортивных достижений.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создает оптимальные условия для деятельности и восстановления организма и способствует повышению работоспособности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33" name="Picture 4" descr="Ягодны годжи Худеем с ягодами годжи. Похудение - форум"/>
          <p:cNvPicPr/>
          <p:nvPr/>
        </p:nvPicPr>
        <p:blipFill>
          <a:blip r:embed="rId2"/>
          <a:stretch/>
        </p:blipFill>
        <p:spPr>
          <a:xfrm>
            <a:off x="4648320" y="1652760"/>
            <a:ext cx="40384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4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791920" cy="1609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при правильном и строго соблюдаемом суточном режиме дня вырабатывается определенный ритм функционирования организма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37" name="Picture 2" descr="Школьные проблемы в Белоруссии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572000" y="1643040"/>
            <a:ext cx="4143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помогает также лучше планировать время и успешнее трудиться. </a:t>
            </a:r>
            <a:br>
              <a:rPr sz="2800"/>
            </a:b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41" name="Picture 4" descr="Береги глаз смолоду. Гигиена чтения для школьника - Дети и родители - Здоровье - Аргументы и Факты"/>
          <p:cNvPicPr/>
          <p:nvPr/>
        </p:nvPicPr>
        <p:blipFill>
          <a:blip r:embed="rId2"/>
          <a:stretch/>
        </p:blipFill>
        <p:spPr>
          <a:xfrm>
            <a:off x="4572000" y="1500120"/>
            <a:ext cx="4170240" cy="314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Здоровье школьника: правильный режим и гигиена."/>
          <p:cNvPicPr/>
          <p:nvPr/>
        </p:nvPicPr>
        <p:blipFill>
          <a:blip r:embed="rId3"/>
          <a:stretch/>
        </p:blipFill>
        <p:spPr>
          <a:xfrm>
            <a:off x="1285920" y="4000680"/>
            <a:ext cx="3929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2143080"/>
            <a:ext cx="4038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Неуклонное соблюдение режима дня помогает воспитывать организованность, силу воли, приучать к сознательной дисциплине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46" name="Picture 2" descr="PANDA KIDS - 01680 - Каталог интернет магазина"/>
          <p:cNvPicPr/>
          <p:nvPr/>
        </p:nvPicPr>
        <p:blipFill>
          <a:blip r:embed="rId2"/>
          <a:stretch/>
        </p:blipFill>
        <p:spPr>
          <a:xfrm>
            <a:off x="4929120" y="1714680"/>
            <a:ext cx="3171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Особое внимание в суточном режиме следует уделять сну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214200" y="3643200"/>
            <a:ext cx="41324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Нормальный, здоровый сон помогает сохранить здоровье и высокую работоспособность. 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500720" y="1928880"/>
            <a:ext cx="44067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9:58:29Z</dcterms:created>
  <dc:creator>Сергей</dc:creator>
  <dc:description/>
  <dc:language>en-US</dc:language>
  <cp:lastModifiedBy>Валентина</cp:lastModifiedBy>
  <dcterms:modified xsi:type="dcterms:W3CDTF">2016-11-04T13:35:47Z</dcterms:modified>
  <cp:revision>23</cp:revision>
  <dc:subject/>
  <dc:title>Презентация PowerPoint</dc:title>
</cp:coreProperties>
</file>