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E49-AE98-47DF-9EB4-EEF568F4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D65-9656-45C1-972D-EE651641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008-A191-4ED3-BC3F-E0F2361A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ED0-7B03-4375-9265-77165700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5F5-10D4-4967-A2EB-2273F958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30A-5773-4FED-A96C-9D4475C3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466-EE40-4E89-8F99-3EF38532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006-D3FC-4712-ACD1-58EADCB3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BC3-E9C5-4562-B790-CF76E8D5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E3A-5221-4851-8EED-C7381C87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837-6715-4939-832D-5810AC37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61E-B2EA-4B7B-B1B9-F328F4FE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28FF-1A67-45A1-AC4A-865688E1D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762120" y="533520"/>
            <a:ext cx="77040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Урок по окружающему миру и математик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3 класс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Arial"/>
              </a:rPr>
              <a:t>     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Учитель начальных класс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Шелопугина Е. А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ГРУППОВАЯ РАБОТА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Ролев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66320" y="4952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ninos11.jpg"/>
          <p:cNvPicPr/>
          <p:nvPr/>
        </p:nvPicPr>
        <p:blipFill>
          <a:blip r:embed="rId1"/>
          <a:stretch/>
        </p:blipFill>
        <p:spPr>
          <a:xfrm>
            <a:off x="2438280" y="2133720"/>
            <a:ext cx="41148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9080" y="24379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авила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емья должна быть дружной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принятии решения учитываются мнения каждого члена семь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се вопросы решаются с учетом большинства голосов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В семье при обсуждении следует соблюдать правила поведения, чтобы не мешать шумом соседям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В семье у каждого есть свои обяз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ninos11.jpg"/>
          <p:cNvPicPr/>
          <p:nvPr/>
        </p:nvPicPr>
        <p:blipFill>
          <a:blip r:embed="rId1"/>
          <a:stretch/>
        </p:blipFill>
        <p:spPr>
          <a:xfrm>
            <a:off x="7315200" y="5334120"/>
            <a:ext cx="116676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емейные дохо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5" descr="400_F_28785242_zBcikmsGNp97NrF0rwkKP63Ec1YSN05C.jpg"/>
          <p:cNvPicPr/>
          <p:nvPr/>
        </p:nvPicPr>
        <p:blipFill>
          <a:blip r:embed="rId1"/>
          <a:stretch/>
        </p:blipFill>
        <p:spPr>
          <a:xfrm>
            <a:off x="5562720" y="1219320"/>
            <a:ext cx="2663640" cy="2369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d49c743101cc.jpg"/>
          <p:cNvPicPr/>
          <p:nvPr/>
        </p:nvPicPr>
        <p:blipFill>
          <a:blip r:embed="rId2"/>
          <a:stretch/>
        </p:blipFill>
        <p:spPr>
          <a:xfrm>
            <a:off x="762120" y="3809880"/>
            <a:ext cx="293688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troe.iz.prostokvashino.0-02-22.jpg"/>
          <p:cNvPicPr/>
          <p:nvPr/>
        </p:nvPicPr>
        <p:blipFill>
          <a:blip r:embed="rId3"/>
          <a:stretch/>
        </p:blipFill>
        <p:spPr>
          <a:xfrm>
            <a:off x="106668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6.jpg"/>
          <p:cNvPicPr/>
          <p:nvPr/>
        </p:nvPicPr>
        <p:blipFill>
          <a:blip r:embed="rId4"/>
          <a:stretch/>
        </p:blipFill>
        <p:spPr>
          <a:xfrm>
            <a:off x="4876920" y="4191120"/>
            <a:ext cx="2571480" cy="20271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2438280" y="3429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рплата родител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638680" y="35053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514600" y="4952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типенд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867280" y="6172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Пособ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ил(а) всё без ошибо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ил(а) всё без ошибок, но    испытвал(а) труд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бал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 решении допустил(а)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3" descr="1329705630_184b7cb84d7b456c96a0bdfbbeaa5f14_XL_1.jpg"/>
          <p:cNvPicPr/>
          <p:nvPr/>
        </p:nvPicPr>
        <p:blipFill>
          <a:blip r:embed="rId1"/>
          <a:stretch/>
        </p:blipFill>
        <p:spPr>
          <a:xfrm>
            <a:off x="914400" y="609480"/>
            <a:ext cx="4191120" cy="2787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0006-008-Semejnyj-bjudzhet.jpg"/>
          <p:cNvPicPr/>
          <p:nvPr/>
        </p:nvPicPr>
        <p:blipFill>
          <a:blip r:embed="rId2"/>
          <a:stretch/>
        </p:blipFill>
        <p:spPr>
          <a:xfrm>
            <a:off x="5029200" y="2251080"/>
            <a:ext cx="3365640" cy="4011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20744_640.jpg"/>
          <p:cNvPicPr/>
          <p:nvPr/>
        </p:nvPicPr>
        <p:blipFill>
          <a:blip r:embed="rId3"/>
          <a:stretch/>
        </p:blipFill>
        <p:spPr>
          <a:xfrm>
            <a:off x="4952880" y="380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kalkulyator.jpg"/>
          <p:cNvPicPr/>
          <p:nvPr/>
        </p:nvPicPr>
        <p:blipFill>
          <a:blip r:embed="rId4"/>
          <a:stretch/>
        </p:blipFill>
        <p:spPr>
          <a:xfrm>
            <a:off x="990720" y="3809880"/>
            <a:ext cx="41148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2120" y="38052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шил(а) все две задачи, составил(а) задачи обратные данным. В вычислениях не допустил(а) ошиб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л(а) все две задачи, составил(а) задачи обратные данным. В вычислениях допустил(а) ошиб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a49c8"/>
                </a:solidFill>
                <a:latin typeface="Times New Roman"/>
                <a:ea typeface="Times New Roman"/>
              </a:rPr>
              <a:t>2 балла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л(а) все две задачи, не  составил(а) задачи обратные да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балл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ил(а) одну задачу, не  составил(а) задачи обратные да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1127772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120" y="1371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5 - 6 верных отве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б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4 верных отв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бал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 3 верных отв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балл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0 – 2 верных отв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879"/>
          <p:cNvSpPr txBox="1"/>
          <p:nvPr/>
        </p:nvSpPr>
        <p:spPr>
          <a:xfrm rot="20512200">
            <a:off x="1219320" y="2286000"/>
            <a:ext cx="716256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торим изученное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995040" y="1479240"/>
            <a:ext cx="8038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Я узнал…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 Я научился…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 Я испытывал трудности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 Мне понравилось…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 Я бы хотел…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* Новые знания мне пригодятся…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900" spc="-1" strike="noStrike">
                <a:solidFill>
                  <a:srgbClr val="cc6600"/>
                </a:solidFill>
                <a:latin typeface="Georgia"/>
              </a:rPr>
              <a:t>Вывод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Georgia"/>
              </a:rPr>
              <a:t>   </a:t>
            </a:r>
            <a:r>
              <a:rPr b="1" lang="ru-RU" sz="4000" spc="-1" strike="noStrike">
                <a:solidFill>
                  <a:srgbClr val="009999"/>
                </a:solidFill>
                <a:latin typeface="Georgia"/>
              </a:rPr>
              <a:t>Для того, чтобы правиль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Georgia"/>
              </a:rPr>
              <a:t>вести домашнее хозяйст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Georgia"/>
              </a:rPr>
              <a:t>нужен план доходов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Georgia"/>
              </a:rPr>
              <a:t>расходов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6600"/>
                </a:solidFill>
                <a:latin typeface="Georgia"/>
              </a:rPr>
              <a:t>СЕМЕЙНЫЙ   БЮДЖЕТ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planirovanie.jpg"/>
          <p:cNvPicPr/>
          <p:nvPr/>
        </p:nvPicPr>
        <p:blipFill>
          <a:blip r:embed="rId1"/>
          <a:stretch/>
        </p:blipFill>
        <p:spPr>
          <a:xfrm>
            <a:off x="3276720" y="3581280"/>
            <a:ext cx="32623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304776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ак называется вещь для ношения и хранения денег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упля-продажа – это обмен, в котором участвуют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Деньги, поступающие в казну государства…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Как называются платежи граждан, установленные государством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Деньги, которые тратятся из казны государства, называются…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Один из важных государственных расходов, участниками которого мы являемся, это расход на…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990720" y="1752480"/>
            <a:ext cx="198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2025720" y="1281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кошелек) Б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819520" y="2019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деньги) Е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1030320" y="27590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доходы) Т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5791320" y="3497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налоги) Д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5181480" y="4229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расходы) Ж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1708200" y="53341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образование) Ю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97144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БЮДЖЕТ</a:t>
            </a:r>
            <a:br>
              <a:rPr sz="32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66290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990720" y="1752480"/>
            <a:ext cx="198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Разгадайте реб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c40cba9e8d.jpg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368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276720" y="48006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3300"/>
                </a:solidFill>
                <a:latin typeface="Arial"/>
              </a:rPr>
              <a:t>семья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Palatino Linotype"/>
              </a:rPr>
              <a:t>Тема  урока:</a:t>
            </a:r>
            <a:br>
              <a:rPr sz="4000"/>
            </a:br>
            <a:br>
              <a:rPr sz="1600"/>
            </a:br>
            <a:r>
              <a:rPr b="1" lang="ru-RU" sz="4000" spc="-1" strike="noStrike">
                <a:solidFill>
                  <a:srgbClr val="c00000"/>
                </a:solidFill>
                <a:latin typeface="Palatino Linotype"/>
              </a:rPr>
              <a:t>«СЕМЕЙНЫЙ БЮДЖЕ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kakie-knigi-nughno-chitat"/>
          <p:cNvPicPr/>
          <p:nvPr/>
        </p:nvPicPr>
        <p:blipFill>
          <a:blip r:embed="rId1"/>
          <a:stretch/>
        </p:blipFill>
        <p:spPr>
          <a:xfrm>
            <a:off x="2743200" y="2209680"/>
            <a:ext cx="378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Узнать…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аучиться…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крепи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лан: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. Изучим, что такое семейный бюдже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. Научимся планировать семейный бюдже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. Будем решать задачи и пример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. Сделаем 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123.gif"/>
          <p:cNvPicPr/>
          <p:nvPr/>
        </p:nvPicPr>
        <p:blipFill>
          <a:blip r:embed="rId1"/>
          <a:stretch/>
        </p:blipFill>
        <p:spPr>
          <a:xfrm>
            <a:off x="5791320" y="365760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sm_full.png"/>
          <p:cNvPicPr/>
          <p:nvPr/>
        </p:nvPicPr>
        <p:blipFill>
          <a:blip r:embed="rId2"/>
          <a:stretch/>
        </p:blipFill>
        <p:spPr>
          <a:xfrm>
            <a:off x="1447920" y="4040280"/>
            <a:ext cx="2985840" cy="22064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123.gif"/>
          <p:cNvPicPr/>
          <p:nvPr/>
        </p:nvPicPr>
        <p:blipFill>
          <a:blip r:embed="rId3"/>
          <a:stretch/>
        </p:blipFill>
        <p:spPr>
          <a:xfrm>
            <a:off x="5638680" y="3657600"/>
            <a:ext cx="266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7"/>
          <p:cNvSpPr/>
          <p:nvPr/>
        </p:nvSpPr>
        <p:spPr>
          <a:xfrm>
            <a:off x="2286000" y="2286000"/>
            <a:ext cx="5761080" cy="1873080"/>
          </a:xfrm>
          <a:prstGeom prst="wedgeEllipseCallout">
            <a:avLst>
              <a:gd name="adj1" fmla="val -35837"/>
              <a:gd name="adj2" fmla="val 56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2971800" y="2590920"/>
            <a:ext cx="456732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мейный бюдж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AutoShape 5"/>
          <p:cNvSpPr/>
          <p:nvPr/>
        </p:nvSpPr>
        <p:spPr>
          <a:xfrm rot="1143000">
            <a:off x="3962520" y="457200"/>
            <a:ext cx="2952720" cy="1584360"/>
          </a:xfrm>
          <a:custGeom>
            <a:avLst/>
            <a:gdLst>
              <a:gd name="textAreaLeft" fmla="*/ 516600 w 2952720"/>
              <a:gd name="textAreaRight" fmla="*/ 2140920 w 2952720"/>
              <a:gd name="textAreaTop" fmla="*/ 212040 h 1584360"/>
              <a:gd name="textAreaBottom" fmla="*/ 1372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153800">
            <a:off x="4716000" y="4581360"/>
            <a:ext cx="3456000" cy="1657440"/>
          </a:xfrm>
          <a:custGeom>
            <a:avLst/>
            <a:gdLst>
              <a:gd name="textAreaLeft" fmla="*/ 604800 w 3456000"/>
              <a:gd name="textAreaRight" fmla="*/ 2505600 w 3456000"/>
              <a:gd name="textAreaTop" fmla="*/ 221760 h 1657440"/>
              <a:gd name="textAreaBottom" fmla="*/ 14356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6588000" y="4149720"/>
            <a:ext cx="2287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1676520" y="1219320"/>
            <a:ext cx="23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льдорадо</dc:creator>
  <dc:description/>
  <dc:language>en-US</dc:language>
  <cp:lastModifiedBy>СвиридоваОИ</cp:lastModifiedBy>
  <dcterms:modified xsi:type="dcterms:W3CDTF">2023-05-19T03:14:56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