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0E71-7939-43DD-9301-882597E6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911B-31EB-40DF-AF39-C2176714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565-B58D-415A-9280-54FDE356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AAC-880D-49EE-A392-21B38E4C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AFEE-4F60-4FE5-8463-69BE17D6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5F83-1B29-422B-B8B9-A672062A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8403-7310-4B51-9135-0842D776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05CE-AE31-4795-B481-3BB084A6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47D9-1B67-4540-97E3-99E94D3A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AEDD-4EA8-42AC-ADEC-5721E480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312F-CC59-4C3D-9340-D58A4D28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DAD4-7954-4FC5-AA96-D811EC41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F9AF-E795-4207-BF22-131A9A89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3222-6536-4163-95CB-03B0CA21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8BBD-8649-4FFC-B69C-0C19355A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45FA-ABC5-4A3E-B090-51DF7280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CDC9-E7FC-4CF6-ADB9-F790AE9C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7CE-09EC-48C6-BF40-E2096BCB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DC2-B74A-43B2-A6CB-D543BF23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7028-7256-4E4A-82BB-E6C1CF54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3BA-BE9D-47CD-9C7D-33A4144A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7461-5D15-40C2-A1FD-20D373CE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E05-1121-41D9-BB09-5BDC9CC6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C23-447C-4F26-9870-BC2E924F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7D84-5E1E-4C68-B29D-CADEEC6397F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8593-53FF-43B6-BEAE-CEAFE9D72EB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6665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ПРОФЕССИОНАЛЬНЫЙ СТАНДАРТ ПЕДАГОГ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держание профессионального стандарта в области РАЗВИТ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Готовность принять всех дет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ыявлять разнообразные проблемы детей, оказывать адресную помощ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Готовность к взаимодействию с другими специалиста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меть отслеживать динамику развития ребенк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ФЕССИОНАЛЬНЫЕ </a:t>
            </a: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КОМПЕТЕНЦИИ ВОСПИТАТЕЛЯ, ОТРАЖАЮЩИЕ СПЕЦИФИКУ РАБОТЫ НА ДОШКОЛЬНОМ УРОВНЕ ОБРАЗОВАНИЯ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едагог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Times New Roman"/>
              </a:rPr>
              <a:t>должен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Знать специфику дошкольного образования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Знать общие закономерности развития дет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ть организовывать ведущие виды деятель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ладеть теорией и методиками развития детей дошкольного возраст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ть планировать, реализовывать и анализировать образовательную работу с детьм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ть планировать и корректировать образовательные задачи по результатам мониторинг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ладеть методами и средствами психолого-педагогического просвещения родител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ладеть ИКТ-компетенциям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етоды оценки выполнения требований профессионального стандарта педагог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82736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офессиональная деятельность воспитателя оценивается только комплексно. Высокая оценка включает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очетание показателей динамики развития интегративных качеств ребенк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оложительное отношение к детскому сад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ысокой степени активности и вовлеченности родителей  в жизнь детского сад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1904760"/>
            <a:ext cx="7313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инструмент реализации стратегии образования в меняющемся ми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инструмент повышения качества образования и выхода отечественного образования на международный уровен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бъективный измеритель квалификации педагог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редство отбора педагогических кадров в учреждения образ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снова для формирования трудового договора, фиксирующего отношения между работником и работодате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тандарт должен: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Соответствовать структуре профессиональной деятельности педагога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Не регламентировать деятельность педагога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Избавить педагога от несвойственных функци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Побуждать к поиску нестандартных решени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Соответствовать международным нормам и регламентам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Соотносится с требованиями профильных министерств и ведомств, от которых зависят исчисление трудового стажа, и т.д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ХАРАКТЕРИСТИКА СТАНДАРТ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99776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нем определяютс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требования к квалификации педагог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ет дополнятся региональными требованиям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ет быть дополнен внутренним стандартом образовательного учрежд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Является уровневым, учитывающим специфику работы педагогов дошкольного учреждения и школ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ражает структуру профессиональной деятельности педагог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двигает требования к личностным качествам педагог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ФУНКЦИИ ПРОФЕССИОНАЛЬНОГО СТАНДАРТА ПЕДАГОГ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еодоление технократического подхода в оценке труда педагог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беспечение координированный рост свободы и ответственности педагога за результаты труд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Мотивация педагога на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остоянное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повышение квалифик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ОБЛАСТЬ ПРИМЕНЕНИЯ ПРОФЕССИОНАЛЬНОГО СТАНДАРТА ПЕДАГОГ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 приеме на работу в образовательное учреждение на должность «педагог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 проведении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аттестации региональными органами исполнительной власти, осуществляющими управление в сфере образова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 проведении аттестации педагогов самими образовательными организациями, в случае предоставления им соответствующих полномочи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ль применения профессионального стандарт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пределять необходимую квалификацию педагог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беспечить подготовку педагога для получения высоких результатов его труд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беспечить осведомленность педагога о предъявляемых к нему требования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одействовать вовлечению педагогов в решение задачи повышения качества образов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держание профессионального стандарта в области ОБУЧЕ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меть высшее образовани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Знать программы обуче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ть планировать и анализировать работ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ладеть формами и методами обучения – стандартными и инновационным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спользовать специальные подходы, чтобы охватить всех дет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ть объективно оценивать возможности детей, используя разные формы и методы контрол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ладеть ИКТ-компетенциям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держание профессионального стандарта в области ВОСПИТА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ладеть формами 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методами воспитательной работ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ладеть организационными формами и метода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меть общаться с детьми, защищать их интересы и достоинств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оддерживать уклад, атмосферу и традиции учреждения, внося в них свой положительный вклад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da</dc:creator>
  <dc:description/>
  <dc:language>en-US</dc:language>
  <cp:lastModifiedBy>Luda</cp:lastModifiedBy>
  <dcterms:modified xsi:type="dcterms:W3CDTF">2016-01-11T14:31:0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