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2A0-9CB4-4926-A90C-6EAC4A2A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C1E-2023-4F11-99A4-DC5DBDBB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E47-B23A-4FA9-9426-3E43C658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782-D064-4A27-8A49-0BA9F125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E3D2-C7B8-47EC-B0C8-E711526E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B3A-1022-4B17-87CC-5C87DCC1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7678-34ED-4149-B808-EA14958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616F-6638-4529-8815-6DF8787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89F-39FF-429D-AE8C-F63CE00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817-679D-4AEB-8382-E81AF6B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814D-5C83-4041-80FC-55CD1A87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A4A-E048-48C8-9D1F-A0FFF06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4A9-CFF2-4E48-9942-EB921D0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479-B032-42CB-B7FD-81888F2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6D5-0666-4A66-BC6F-92BAB45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F49-E5BA-4619-B98F-BD29EA71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371E-25D8-479B-BD0F-A83A6D04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216-D08B-42BC-8D9A-F7FE08E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1FA-5B4C-4826-8986-F9EAACC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1F0-37FC-4AE5-99F4-799EC7E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FC4-FF47-4F63-8789-6BCE54B4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33C-638B-4299-8F5A-94696C0C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5B1-69F7-4F52-B3D3-40E6EB6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F1C-2401-4269-BDB8-87D820F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3B0-A0AB-47C6-9DA8-F0FB3C668A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FDC-6676-4C7E-9CAE-874FC39272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ОФЕССИОНАЛЬНЫЙ СТАНДАРТ ПЕДАГОГ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РАЗВИТ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Готовность принять всех де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ФЕССИОНАЛЬНЫЕ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тандарт должен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ветствовать структуре профессиональной деятельности педагога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Не регламентировать деятельность педагог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Избавить педагога от несвойственных функци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обуждать к поиску нестандартных решени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ветствовать международным нормам и регламентам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носится с требованиями профильных министерств и ведомств, от которых зависят исчисление трудового стажа, и т.д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ХАРАКТЕРИСТИКА СТАНДАР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9977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нем определяю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ребования к квалификации педагог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дополнятся региональными требования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жает структуру профессиональной деятельности педаго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двигает требования к личностным качествам педаго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УНКЦИИ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еодоление технократического подхода в оценке труда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ение координированный рост свободы и ответственности педагога за результаты тру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отивация педагога н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стоянно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повышение квалифик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ЛАСТЬ ПРИМЕНЕНИЯ ПРОФЕССИОНАЛЬНОГО СТАНДАРТА ПЕДАГОГ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ль применения профессионального стандар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ОБУ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меть высшее образо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программы обуч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ВОСПИТ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еть формами 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етодами воспитательной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da</dc:creator>
  <dc:description/>
  <dc:language>en-US</dc:language>
  <cp:lastModifiedBy>Luda</cp:lastModifiedBy>
  <dcterms:modified xsi:type="dcterms:W3CDTF">2016-01-11T14:31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