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B36-BF6A-4E34-8157-BD81F4AE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454-6AE2-4CC8-9D57-4452A9C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06C-B3F6-4640-8C75-7BB2B261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DB1-4742-459D-A7FE-D518B727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4624-C446-4DF1-90D4-719D0D9F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E0B2-0EB6-49D6-AAE4-5DF5770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FC8-4AEF-4C04-819C-A9A4A19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CE32-7EFC-42E8-834F-EB90A51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F40-DC5F-4242-9B0D-175C8C78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CE9-0956-4371-98AC-0E1E282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2DC-FE3A-4B60-A63E-7E26B99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C06-5DA3-49CE-8EF4-FEA69923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55E-D811-4D28-BD4E-F168009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724-AC4E-4AE2-BF27-C2B6CDD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E12-6001-4CBA-B038-C929C433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D613-D5DC-416E-B113-01E1BCD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47D-C2E9-497F-AEF4-1C740CBA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7AD-586C-4CDA-8B36-DC2F7FF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510-E3A9-41D0-B0C6-A9596A2B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9EC-5A77-4C30-9AA3-1E0BA6F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60A-81A8-47F0-87F4-C27091F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CED-02B9-4C4A-B1A5-61B93601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557-B956-4257-8D54-D2E09E0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E13-8E0C-403C-B949-F9FA737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12E-1926-4CFD-9AAD-97C2165B0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AF45-51C3-4DFD-A33B-76DD08217B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ЕСТ ДЛЯ ПЕДАГОГОВ «ФГОС ДО»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600200" y="3200400"/>
            <a:ext cx="7238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заданий построено на материале Приказа Министерства образования и науки РФ от 17 октября 2013 г. № 1155 «Об утверждении ФГОС Д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9. Укажите лишние компоненты требований к условиям реализации Программы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олого-педагог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др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освоения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нанс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ющая предметно-пространственная сре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0. Из каких образовательных областей состоит содержание ООП ДО?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з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узыка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1. Оценка индивидуального развития детей при реализации ООП ДО может проводиться в форм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даг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ней коррекционной помощи детям с ОВ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ол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лексного обследования медицинских специалис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2. Требования Стандарта к результатам освоения Программы представлены в вид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евых ориенти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ативных качеств личности до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овней освоения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3. Целевые ориентиры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а объективной оценки соответствия установленным требованиям образовательной деятельности и подготовки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циально-нормативные возрастные характеристики возможных достижений ребенка на этапе завершения уровня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качества профессиональной деятельности педагогов Д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Освоение основной образовательной программы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опровождается проведением промежуточных и итоговой аттестаций воспитанник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лежит непосредственной оценке с последующим вручением диплома выпускника установленного образц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рантирует развитие приоритетного направления деятельности Орган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55440" y="2133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Федеральный государственный образовательный стандарт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90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1. Расшифруйте аббревиатуру ФГОС Д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112760" y="2590920"/>
            <a:ext cx="7696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Норма, эталон, образ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3000" y="48744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2. Дайте определение понятию «стандарт»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1523880" y="2133720"/>
            <a:ext cx="7086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Основная образовательная программа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066680" y="4572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96666"/>
                </a:solidFill>
                <a:latin typeface="Verdana"/>
              </a:rPr>
              <a:t>3. Расшифруйте аббревиатуру ООП Д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4. Укажите лишний компонент в структуре Приказа Министерства образования и науки РФ от 17 октября 2013 г. № 1155 «Об утверждении ФГОС ДО»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77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общие поло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структуре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нормативная база ФГОС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требования 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1. Расшифруйте аббревиатуру ФГОС ДО_ _ _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35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5. Какую цель не преследует стандарт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повышение социального статуса дошкольного образ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обеспечение государством равенства возможностей для каждого ребёнка в получении качественного дошкольного образов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1900" spc="-1" strike="noStrike">
                <a:solidFill>
                  <a:srgbClr val="c00000"/>
                </a:solidFill>
                <a:latin typeface="Verdana"/>
              </a:rPr>
              <a:t>решение вопросов, связанных с регулированием трудовых отношений, обеспечением эффективной системы управления персоналом образовательных учреждений и организаций независимо от их организационно-правовых форм и форм собствен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1900" spc="-1" strike="noStrike">
                <a:solidFill>
                  <a:srgbClr val="004d4d"/>
                </a:solidFill>
                <a:latin typeface="Verdana"/>
              </a:rPr>
              <a:t>сохранение единства образовательного пространства Российской Федерации относительно уровня дошкольного образова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6. Основная образовательная программа дошкольного образования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программа психолого-педагогической поддержки позитивной социализации и индивидуализации развития детей дошкольного возраста;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, организационно-педагогические услов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4d4d"/>
                </a:solidFill>
                <a:latin typeface="Verdana"/>
              </a:rPr>
              <a:t>система мероприятий по организации познавательно-исследовательской деятельности дошкольников, включающая цель, задачи, методы, формы организации и результат данн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4d4d"/>
                </a:solidFill>
                <a:latin typeface="Verdana"/>
              </a:rPr>
              <a:t>структурированное описание педагогического опыта (мастер-классы, открытые мероприятия, тексты выступлений на научно-практических конференциях, публикации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7. Укажите требования Стандарта, обязательные при реализации ООП ДО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0102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 внешнему виду, грамотному и техническому оформлению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структуре ООП ДО и ее объему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условиям реализации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к результатам осво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12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8. Укажите соотношение обязательной части Программа и части, формируемой участниками образовательных отношени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80960" y="2362320"/>
            <a:ext cx="7229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80% и 2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60% и 4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50% и 50% соответствен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9. Укажите лишние компоненты требований к условиям реализации Программы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сихолого-педагог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адр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результаты освоения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материально-технически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финансовые услов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развивающая предметно-пространственная сре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0. Из каких образовательных областей состоит содержание ООП ДО?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22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социально-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художественно-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физическ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е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музыкальное развит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ж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1. Оценка индивидуального развития детей при реализации ООП ДО может проводиться в форм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едаг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ранней коррекционной помощи детям с ОВЗ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психологической диагно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комплексного обследования медицинских специалис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2. Требования Стандарта к результатам освоения Программы представлены в виде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целевых ориенти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интегративных качеств личности до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уровней освоения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13. Целевые ориентиры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основа объективной оценки соответствия установленным требованиям образовательной деятельности и подготовки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социально-нормативные возрастные характеристики возможных достижений ребенка на этапе завершения уровня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оказатель качества профессиональной деятельности педагогов Д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71228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Освоение основной образовательной программы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не сопровождается проведением промежуточных и итоговой аттестаций воспитанников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подлежит непосредственной оценке с последующим вручением диплома выпускника установленного образц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4d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гарантирует развитие приоритетного направления деятельности Орган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143000" y="2133720"/>
            <a:ext cx="7696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2. Дайте определение понятию «стандарт»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066680" y="2133720"/>
            <a:ext cx="76964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3. Расшифруйте аббревиатуру ООП ДО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4. Укажите лишний компонент в структуре Приказа Министерства образования и науки РФ от 17 октября 2013 г. № 1155 «Об утверждении ФГОС ДО»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77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поло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структуре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рмативная база ФГОС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условиям реализации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результатам освоения ООП Д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35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5. Какую цель не преследует стандарт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вышение социального статуса дошкольного образ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еспечение государством равенства возможностей для каждого ребёнка в получении качественного дошкольного образов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 вопросов, связанных с регулированием трудовых отношений, обеспечением эффективной системы управления персоналом образовательных учреждений и организаций независимо от их организационно-правовых форм и форм собствен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охранение единства образовательного пространства Российской Федерации относительно уровня дошкольного образова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6. Основная образовательная программа дошкольного образования – это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508040"/>
            <a:ext cx="83818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психолого-педагогической поддержки позитивной социализации и индивидуализации развития детей дошкольного возраста;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, организационно-педагогические услов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мероприятий по организации познавательно-исследовательской деятельности дошкольников, включающая цель, задачи, методы, формы организации и результат данн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ированное описание педагогического опыта (мастер-классы, открытые мероприятия, тексты выступлений на научно-практических конференциях, публикаци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7122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7. Укажите требования Стандарта, обязательные при реализации ООП ДО: 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внешнему виду, грамотному и техническому оформлению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структуре ООП ДО и ее объему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словиям реализации ООП Д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результатам осво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12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8. Укажите соотношение обязательной части Программа и части, формируемой участниками образовательных отношени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80960" y="2362320"/>
            <a:ext cx="7229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% и 2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0% и 40% соответствен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0% и 50% соответствен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da</dc:creator>
  <dc:description/>
  <dc:language>en-US</dc:language>
  <cp:lastModifiedBy>Luda</cp:lastModifiedBy>
  <dcterms:modified xsi:type="dcterms:W3CDTF">2016-01-17T14:21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