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998-EA6A-4BA2-B255-DDE7D4B5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714-FC50-4E8C-8BDE-C31A24BA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BCF-8E82-424E-866A-E496DC96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B7A-401E-4432-B262-835B0FAA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DDDD-40FB-44FB-88C7-F83E6E2C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1A4E-A89D-440F-9D30-1A9F6B10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E0C7-107B-4A37-AD2F-F0975D7A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80D8-F979-41DC-9887-1C314B78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F77D-639E-415E-8CA5-918EDF09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A1FC-D62A-473E-871B-DEBA2FBB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06ED-08F0-485C-96BB-4305D173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89A-5A97-4BE7-B14F-D061D103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8090-3C10-47B3-9D3F-EAF3FF34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41CD-B1E7-4C14-A37E-A7238EAB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14CF-34DA-4050-9312-A914EFD2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0153-8E1E-4708-9547-B9C19810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F3B0-9DDE-457B-9F73-F4000334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0D7C-AA79-46DA-8E91-CB8A2EB5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D3F-D3F7-4730-A699-8B7BDA78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0F3-5FD8-4E21-ADA0-37EF3CED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4A4-E62B-43A4-9B52-A0247F28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A5F-F70A-4B75-B5E2-636A2143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04F-7BF5-4C0D-9998-93BE7B49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5EF-6D79-459C-8C92-4DAB6C3E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BA4E-C6F3-4EE1-8849-461FEDA932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1AD1-3C6A-4DF1-AF1B-5FFA65057D3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ТЕСТ ДЛЯ ПЕДАГОГОВ «ФГОС ДО»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600200" y="3200400"/>
            <a:ext cx="7238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держание заданий построено на материале Приказа Министерства образования и науки РФ от 17 октября 2013 г. № 1155 «Об утверждении ФГОС ДО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9. Укажите лишние компоненты требований к условиям реализации Программы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229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сихолого-педагогические услов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дровые услов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освоения ООП Д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ие услов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инансовые услов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вающая предметно-пространственная сред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10. Из каких образовательных областей состоит содержание ООП ДО? 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229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циально-коммуникативн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знавательн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чев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удожественно-эстетическ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изическ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узыкальн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11. Оценка индивидуального развития детей при реализации ООП ДО может проводиться в форме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дагогической диагности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нней коррекционной помощи детям с ОВЗ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сихологической диагности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лексного обследования медицинских специалис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12. Требования Стандарта к результатам освоения Программы представлены в виде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евых ориентир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гративных качеств личности дошкольник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ровней освоения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13. Целевые ориентиры – это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а объективной оценки соответствия установленным требованиям образовательной деятельности и подготовки де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циально-нормативные возрастные характеристики возможных достижений ребенка на этапе завершения уровня Д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ь качества профессиональной деятельности педагогов Д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4. Освоение основной образовательной программы: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опровождается проведением промежуточных и итоговой аттестаций воспитанников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лежит непосредственной оценке с последующим вручением диплома выпускника установленного образц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арантирует развитие приоритетного направления деятельности Орган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55440" y="21337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Федеральный государственный образовательный стандарт дошкольного образо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907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96666"/>
                </a:solidFill>
                <a:latin typeface="Verdana"/>
              </a:rPr>
              <a:t>1. Расшифруйте аббревиатуру ФГОС Д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1112760" y="2590920"/>
            <a:ext cx="7696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Норма, эталон, образе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143000" y="48744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96666"/>
                </a:solidFill>
                <a:latin typeface="Verdana"/>
              </a:rPr>
              <a:t>2. Дайте определение понятию «стандарт»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1523880" y="2133720"/>
            <a:ext cx="7086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Основная образовательная программа дошкольного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066680" y="45720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96666"/>
                </a:solidFill>
                <a:latin typeface="Verdana"/>
              </a:rPr>
              <a:t>3. Расшифруйте аббревиатуру ООП Д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30592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4. Укажите лишний компонент в структуре Приказа Министерства образования и науки РФ от 17 октября 2013 г. № 1155 «Об утверждении ФГОС ДО»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07720" y="20570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общие полож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требования к структуре ООП Д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нормативная база ФГОС Д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требования к условиям реализации ООП Д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д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требования к результатам освоения ООП Д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Verdana"/>
              </a:rPr>
              <a:t>1. Расшифруйте аббревиатуру ФГОС ДО_ _ _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63560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5. Какую цель не преследует стандарт: 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508040"/>
            <a:ext cx="838188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4d4d"/>
                </a:solidFill>
                <a:latin typeface="Verdana"/>
              </a:rPr>
              <a:t>а) </a:t>
            </a:r>
            <a:r>
              <a:rPr b="0" lang="ru-RU" sz="1900" spc="-1" strike="noStrike">
                <a:solidFill>
                  <a:srgbClr val="004d4d"/>
                </a:solidFill>
                <a:latin typeface="Verdana"/>
              </a:rPr>
              <a:t>повышение социального статуса дошкольного образова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4d4d"/>
                </a:solidFill>
                <a:latin typeface="Verdana"/>
              </a:rPr>
              <a:t>б) </a:t>
            </a:r>
            <a:r>
              <a:rPr b="0" lang="ru-RU" sz="1900" spc="-1" strike="noStrike">
                <a:solidFill>
                  <a:srgbClr val="004d4d"/>
                </a:solidFill>
                <a:latin typeface="Verdana"/>
              </a:rPr>
              <a:t>обеспечение государством равенства возможностей для каждого ребёнка в получении качественного дошкольного образова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4d4d"/>
                </a:solidFill>
                <a:latin typeface="Verdana"/>
              </a:rPr>
              <a:t>в) </a:t>
            </a:r>
            <a:r>
              <a:rPr b="0" lang="ru-RU" sz="1900" spc="-1" strike="noStrike">
                <a:solidFill>
                  <a:srgbClr val="004d4d"/>
                </a:solidFill>
                <a:latin typeface="Verdana"/>
              </a:rPr>
              <a:t>обеспечение государственных гарантий уровня и качества образования на основе единства обязательных требований к условиям реализации основных образовательных программ, их структуре и результатам их освое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г) </a:t>
            </a:r>
            <a:r>
              <a:rPr b="0" lang="ru-RU" sz="1900" spc="-1" strike="noStrike">
                <a:solidFill>
                  <a:srgbClr val="c00000"/>
                </a:solidFill>
                <a:latin typeface="Verdana"/>
              </a:rPr>
              <a:t>решение вопросов, связанных с регулированием трудовых отношений, обеспечением эффективной системы управления персоналом образовательных учреждений и организаций независимо от их организационно-правовых форм и форм собственност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4d4d"/>
                </a:solidFill>
                <a:latin typeface="Verdana"/>
              </a:rPr>
              <a:t>д) </a:t>
            </a:r>
            <a:r>
              <a:rPr b="0" lang="ru-RU" sz="1900" spc="-1" strike="noStrike">
                <a:solidFill>
                  <a:srgbClr val="004d4d"/>
                </a:solidFill>
                <a:latin typeface="Verdana"/>
              </a:rPr>
              <a:t>сохранение единства образовательного пространства Российской Федерации относительно уровня дошкольного образовани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71228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6. Основная образовательная программа дошкольного образования – это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508040"/>
            <a:ext cx="838188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c00000"/>
                </a:solidFill>
                <a:latin typeface="Verdana"/>
              </a:rPr>
              <a:t>программа психолого-педагогической поддержки позитивной социализации и индивидуализации развития детей дошкольного возраста; определяет комплекс основных характеристик дошкольного образования (объём, содержание и планируемые результаты в виде целевых ориентиров дошкольного образования, организационно-педагогические условия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4d"/>
                </a:solidFill>
                <a:latin typeface="Verdana"/>
              </a:rPr>
              <a:t>б) </a:t>
            </a:r>
            <a:r>
              <a:rPr b="0" lang="ru-RU" sz="2000" spc="-1" strike="noStrike">
                <a:solidFill>
                  <a:srgbClr val="004d4d"/>
                </a:solidFill>
                <a:latin typeface="Verdana"/>
              </a:rPr>
              <a:t>система мероприятий по организации познавательно-исследовательской деятельности дошкольников, включающая цель, задачи, методы, формы организации и результат данной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4d"/>
                </a:solidFill>
                <a:latin typeface="Verdana"/>
              </a:rPr>
              <a:t>в) </a:t>
            </a:r>
            <a:r>
              <a:rPr b="0" lang="ru-RU" sz="2000" spc="-1" strike="noStrike">
                <a:solidFill>
                  <a:srgbClr val="004d4d"/>
                </a:solidFill>
                <a:latin typeface="Verdana"/>
              </a:rPr>
              <a:t>структурированное описание педагогического опыта (мастер-классы, открытые мероприятия, тексты выступлений на научно-практических конференциях, публикации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71228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7. Укажите требования Стандарта, обязательные при реализации ООП ДО: 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0102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к внешнему виду, грамотному и техническому оформлению ООП Д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к структуре ООП ДО и ее объему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к условиям реализации ООП Д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к результатам освоения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71228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8. Укажите соотношение обязательной части Программа и части, формируемой участниками образовательных отношений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80960" y="2362320"/>
            <a:ext cx="7229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80% и 20% соответствен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60% и 40% соответствен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50% и 50% соответственн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9. Укажите лишние компоненты требований к условиям реализации Программы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229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психолого-педагогические услов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кадровые услов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результаты освоения ООП Д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материально-технические услов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д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финансовые услов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е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развивающая предметно-пространственная сред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10. Из каких образовательных областей состоит содержание ООП ДО? 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229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социально-коммуникативн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познавательн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речев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художественно-эстетическ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д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физическ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е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музыкальн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ж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11. Оценка индивидуального развития детей при реализации ООП ДО может проводиться в форме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педагогической диагности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ранней коррекционной помощи детям с ОВЗ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психологической диагности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комплексного обследования медицинских специалис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12. Требования Стандарта к результатам освоения Программы представлены в виде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целевых ориентир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интегративных качеств личности дошкольник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уровней освоения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13. Целевые ориентиры – это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основа объективной оценки соответствия установленным требованиям образовательной деятельности и подготовки де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социально-нормативные возрастные характеристики возможных достижений ребенка на этапе завершения уровня Д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показатель качества профессиональной деятельности педагогов Д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4. Освоение основной образовательной программы: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не сопровождается проведением промежуточных и итоговой аттестаций воспитанников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подлежит непосредственной оценке с последующим вручением диплома выпускника установленного образц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гарантирует развитие приоритетного направления деятельности Орган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143000" y="2133720"/>
            <a:ext cx="76960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Verdana"/>
              </a:rPr>
              <a:t>2. Дайте определение понятию «стандарт» _ _ 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1904760"/>
            <a:ext cx="7313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1066680" y="2133720"/>
            <a:ext cx="76964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Verdana"/>
              </a:rPr>
              <a:t>3. Расшифруйте аббревиатуру ООП ДО _ _ 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30592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4. Укажите лишний компонент в структуре Приказа Министерства образования и науки РФ от 17 октября 2013 г. № 1155 «Об утверждении ФГОС ДО»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07720" y="20570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ие полож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структуре ООП Д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рмативная база ФГОС Д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условиям реализации ООП Д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результатам освоения ООП Д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63560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5. Какую цель не преследует стандарт: 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508040"/>
            <a:ext cx="838188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вышение социального статуса дошкольного образова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беспечение государством равенства возможностей для каждого ребёнка в получении качественного дошкольного образова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беспечение государственных гарантий уровня и качества образования на основе единства обязательных требований к условиям реализации основных образовательных программ, их структуре и результатам их освое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шение вопросов, связанных с регулированием трудовых отношений, обеспечением эффективной системы управления персоналом образовательных учреждений и организаций независимо от их организационно-правовых форм и форм собственност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охранение единства образовательного пространства Российской Федерации относительно уровня дошкольного образовани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71228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6. Основная образовательная программа дошкольного образования – это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508040"/>
            <a:ext cx="838188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а психолого-педагогической поддержки позитивной социализации и индивидуализации развития детей дошкольного возраста; определяет комплекс основных характеристик дошкольного образования (объём, содержание и планируемые результаты в виде целевых ориентиров дошкольного образования, организационно-педагогические условия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 мероприятий по организации познавательно-исследовательской деятельности дошкольников, включающая цель, задачи, методы, формы организации и результат данной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уктурированное описание педагогического опыта (мастер-классы, открытые мероприятия, тексты выступлений на научно-практических конференциях, публикации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71228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7. Укажите требования Стандарта, обязательные при реализации ООП ДО: 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внешнему виду, грамотному и техническому оформлению ООП Д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структуре ООП ДО и ее объему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условиям реализации ООП Д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результатам освоения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71228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8. Укажите соотношение обязательной части Программа и части, формируемой участниками образовательных отношений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80960" y="2362320"/>
            <a:ext cx="7229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% и 20% соответствен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0% и 40% соответствен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0% и 50% соответственн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da</dc:creator>
  <dc:description/>
  <dc:language>en-US</dc:language>
  <cp:lastModifiedBy>Luda</cp:lastModifiedBy>
  <dcterms:modified xsi:type="dcterms:W3CDTF">2016-01-17T14:21:4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