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C294-CC41-4D68-BDB0-69106F7D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D2F8-FD00-4888-8C5D-D4B4B70B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4707-31D4-4A9A-AF4A-C2EDDBCD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C904-5C48-48E5-A2D5-6851B5C1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F5C4-C5CE-4909-81FD-0547542F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E909-1AF3-4430-BE2C-C82C5903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1AF1-D12E-4567-853B-3F6741BB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EDEB-828F-428E-A3B5-B22A0F0B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6CC1-6C15-4810-86AC-C4E3ED5B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0B32-BD08-4032-A7E3-22D0803B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2FC8-7BA0-47FB-8C0C-25E3E3AB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DC3B-E74D-4A75-B407-CF0252F6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7F08-7370-44B9-9841-2A7665C0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99FB-D46C-4348-8F7E-B6AD386C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BE83-9DDC-4940-9CC2-94B5FDA1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1AB7-493A-480D-9539-A2309A58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C376-ED5C-42CD-B920-EBCEE25C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1C4E-FD96-4F9F-A7EA-D64FAE2E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2223-8E5E-488E-9862-3947EC71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FF39-69F5-4400-B37D-9F767F95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4C37-EB49-44DC-9F59-02E2C783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81A0-0058-4ADC-843D-34DF8B29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1027-54FB-4CE6-983E-5F59F193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4491-4744-4D44-A7C6-0F0CCADA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92AD-853B-413A-84E2-9B72364368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1d4a4b54241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D94E-F6FA-47A0-8BBF-B527FE2117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88688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Здоров будешь – все добудешь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2:54:59Z</dcterms:created>
  <dc:creator>Helen</dc:creator>
  <dc:description/>
  <dc:language>en-US</dc:language>
  <cp:lastModifiedBy>Knoul Alex</cp:lastModifiedBy>
  <dcterms:modified xsi:type="dcterms:W3CDTF">2021-11-24T10:44:49Z</dcterms:modified>
  <cp:revision>32</cp:revision>
  <dc:subject/>
  <dc:title>Слайд 1</dc:title>
</cp:coreProperties>
</file>