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B11-7E57-4E59-AC81-82DA189C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05E-26B2-41BA-A2D4-4AF0F20B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00D-9405-4C56-8E64-24EE1D6F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092-6A3C-4475-A866-0AF774E7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561D-8E02-4E16-A0EF-C8EFFEB5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249C-A852-49DB-B676-2180AA1C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0E46-E245-49F3-A72F-D506DFE1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6A99-769D-4476-956E-7949A039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79A-41F8-4572-93A2-21A2385F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F186-B6BF-4915-885E-792F226C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35E2-45FD-4CDD-AD47-AB2A5FC3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504-EB43-4F2B-B2BB-41508672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5F27-E8F9-4E4C-8767-9FEC40F8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F0FE-5A7A-4701-B367-671D4B0B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597E-33E8-4557-8CFC-57648096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3267-8409-4403-B871-17A7AA08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5F09-BF5D-4688-938C-2B4D3370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5C4-72A3-4B60-8FC4-701A17A3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BED-D9F4-4BD0-B191-275DC866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6EE-4FD9-4BD5-A527-196AB17C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D3A-F4E9-4D6B-B4F2-4FDFF1D7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E2C-CB06-4D57-BF83-F1BBE92E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549-E2BC-42F9-BF43-E143B1B3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050-03C6-40C9-9E3C-0B13142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7FD2-9DFB-43D5-B7C6-2BAFA2DA0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84BA-5757-496E-8EB7-E2A4CBD0E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8868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доров будешь – все добудешь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Knoul Alex</cp:lastModifiedBy>
  <dcterms:modified xsi:type="dcterms:W3CDTF">2021-11-24T10:44:49Z</dcterms:modified>
  <cp:revision>32</cp:revision>
  <dc:subject/>
  <dc:title>Слайд 1</dc:title>
</cp:coreProperties>
</file>