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BD33-A65B-48F6-AC89-F0B5E4F66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DFE4-8F61-4E97-AD27-F0E8FA20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ABEF-AC87-433D-ADF7-DC99FB01D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ADFB-A073-4123-8B94-2C096D3A1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7DAB-AF44-45EF-8436-442906B4A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6923-86EA-4121-99F3-732747B5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B72C-5206-4A71-A3F5-B582321A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F3A8-4B1B-4355-B4C2-E28F1283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F711-A611-406F-A3DD-198736F9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58FA-51AC-404C-8920-FDB42322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C32B-2B5E-4183-90B9-ED94C47D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5EA0-DFCF-45DD-968E-9DA38DAC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BE6A-F09B-41D5-8577-72D12B3A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94B0-1995-4EB6-B651-052794B1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E0FB-77A9-4E52-9B9C-D4D6969F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1194-C4AB-458C-BB11-BD9D5005A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8C96-9587-4D24-89B8-4C75CD431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8F3A0-D698-42D1-9858-69D5DED0A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B04EA-654F-46B3-8113-9D3B59A9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B3EFC-A1AC-4FBC-B99A-09E08F3C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B1A69-284C-4FCC-8379-5088914E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F150E-8EC5-4396-ADE5-E6FF51EA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FFF6-65E0-478E-9C92-25159990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45E4E-1607-42ED-9B07-4A4166D5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C5B18-93D9-4EE8-B1D0-DC6C59CD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96B00-0960-490A-B80B-E2B7181D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52118-5D80-42B5-8F4D-0ACB81E3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30765-9130-45D0-9418-97E0ACD2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386E5-2B45-4A9B-8276-683ABF826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DF615-B60E-4442-BEB6-FFF96D515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BDB3B-8528-42F1-8C24-BA6F3AD44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015CE-4E1E-4E61-B792-B63EAFFB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1CDAB-20FD-4679-A98C-50CB91B2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1028-4FA3-4BBD-8431-C4F75607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8076B-41E3-4B0F-B0C7-497603EE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86691-BED5-47A3-A4BF-801DB940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BE3EF-9DF2-4517-9BC3-D01C7D72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388E5-CDF0-40A3-967F-D6E60216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5F831-6A08-411B-AB96-4A4FF21D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EA3E6-AA90-4766-8BE0-FD768617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33026-D7AF-4B98-A65A-2137F327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1E76C-739A-4AC1-A467-CA4471A1D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EF0E7-4843-44EB-A393-2702CCB35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1DF3-5BC8-4AFB-961B-C23E8EE1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8E67-0501-4529-B92A-CB4E47F2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AFCA-5A9B-47DE-85BF-07816475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2AEA-0D67-4848-BB0C-79A61F63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8195-15D1-416F-B51E-495A939F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FB16-7C5D-401E-849D-CA22EDD53B0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564F-2B7A-4ADD-8944-939A61A4954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894E-8B96-4D7A-8AFD-3F19372269D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F50C-95BC-4E2B-8BA2-276839C61B1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5"/>
          <p:cNvSpPr txBox="1"/>
          <p:nvPr/>
        </p:nvSpPr>
        <p:spPr>
          <a:xfrm>
            <a:off x="647640" y="2990880"/>
            <a:ext cx="7848720" cy="259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6" name="Прямоугольник 2"/>
          <p:cNvSpPr/>
          <p:nvPr/>
        </p:nvSpPr>
        <p:spPr>
          <a:xfrm flipV="1" rot="10800000">
            <a:off x="499680" y="1283760"/>
            <a:ext cx="8001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Классификация химических элементов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Галогены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57200" y="1214280"/>
          <a:ext cx="8229600" cy="5411880"/>
        </p:xfrm>
        <a:graphic>
          <a:graphicData uri="http://schemas.openxmlformats.org/drawingml/2006/table">
            <a:tbl>
              <a:tblPr/>
              <a:tblGrid>
                <a:gridCol w="900000"/>
                <a:gridCol w="928800"/>
                <a:gridCol w="1500120"/>
                <a:gridCol w="1785960"/>
                <a:gridCol w="1000080"/>
                <a:gridCol w="1071720"/>
                <a:gridCol w="1042920"/>
              </a:tblGrid>
              <a:tr h="1154160"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росто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ещ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Агрегат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остоя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Ц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ки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г/см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51040"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F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газ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с-ж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18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,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52480"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5</a:t>
                      </a: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,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CI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газ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ж-з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3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,5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51040"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8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Br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жидкость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к-б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5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,1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52480"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2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тверд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т-ф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8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4,9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50680"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1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A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тверд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ч-с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1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5,0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32968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alibri"/>
              </a:rPr>
              <a:t>Инертные (благородные газы)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57200" y="1935000"/>
          <a:ext cx="8229600" cy="46371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Химический элеме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з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1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e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гелий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ОЛНЕЧНЫ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e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неон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ОВЫ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аргон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ДЕЯТЕЛЬНЫ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r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криптон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КРЫТЫ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e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ксенон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ЧУЖО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1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n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радон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ДИАКТИВНЫ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http://nskshop.ru/uploads/posts/2009-03/1237830942_mendeleev.jpg"/>
          <p:cNvPicPr/>
          <p:nvPr/>
        </p:nvPicPr>
        <p:blipFill>
          <a:blip r:embed="rId1"/>
          <a:stretch/>
        </p:blipFill>
        <p:spPr>
          <a:xfrm>
            <a:off x="285840" y="857160"/>
            <a:ext cx="850104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http://imc.rkc-74.ru/dlrstore/5/5999af1a-5846-11da-8cd6-0800200c9a66/01.JPG"/>
          <p:cNvPicPr/>
          <p:nvPr/>
        </p:nvPicPr>
        <p:blipFill>
          <a:blip r:embed="rId1"/>
          <a:stretch/>
        </p:blipFill>
        <p:spPr>
          <a:xfrm>
            <a:off x="214200" y="1285920"/>
            <a:ext cx="2643480" cy="2071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http://forum.ixbt.com/post.cgi?id=attach:20:26531:684:1"/>
          <p:cNvPicPr/>
          <p:nvPr/>
        </p:nvPicPr>
        <p:blipFill>
          <a:blip r:embed="rId2"/>
          <a:stretch/>
        </p:blipFill>
        <p:spPr>
          <a:xfrm>
            <a:off x="6215040" y="4071960"/>
            <a:ext cx="2714760" cy="2214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"/>
          <p:cNvPicPr/>
          <p:nvPr/>
        </p:nvPicPr>
        <p:blipFill>
          <a:blip r:embed="rId3"/>
          <a:stretch/>
        </p:blipFill>
        <p:spPr>
          <a:xfrm>
            <a:off x="6143760" y="1285920"/>
            <a:ext cx="2786040" cy="2071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http://censor.net.ua/forum/theme_images/354998.jpg"/>
          <p:cNvPicPr/>
          <p:nvPr/>
        </p:nvPicPr>
        <p:blipFill>
          <a:blip r:embed="rId4"/>
          <a:stretch/>
        </p:blipFill>
        <p:spPr>
          <a:xfrm>
            <a:off x="3214800" y="4071960"/>
            <a:ext cx="2786040" cy="2143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http://www.cniga.com.ua/index.files/image8991.jpg"/>
          <p:cNvPicPr/>
          <p:nvPr/>
        </p:nvPicPr>
        <p:blipFill>
          <a:blip r:embed="rId5"/>
          <a:stretch/>
        </p:blipFill>
        <p:spPr>
          <a:xfrm>
            <a:off x="214200" y="4071960"/>
            <a:ext cx="2786040" cy="2143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1" descr="http://silverinform.ru/wp-content/uploads/2009/02/silver.jpg"/>
          <p:cNvPicPr/>
          <p:nvPr/>
        </p:nvPicPr>
        <p:blipFill>
          <a:blip r:embed="rId6"/>
          <a:stretch/>
        </p:blipFill>
        <p:spPr>
          <a:xfrm>
            <a:off x="3071880" y="1285920"/>
            <a:ext cx="2857320" cy="2071800"/>
          </a:xfrm>
          <a:prstGeom prst="rect">
            <a:avLst/>
          </a:prstGeom>
          <a:ln w="0">
            <a:noFill/>
          </a:ln>
        </p:spPr>
      </p:pic>
      <p:sp>
        <p:nvSpPr>
          <p:cNvPr id="204" name="TextBox 10"/>
          <p:cNvSpPr/>
          <p:nvPr/>
        </p:nvSpPr>
        <p:spPr>
          <a:xfrm>
            <a:off x="285840" y="335772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л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Box 11"/>
          <p:cNvSpPr/>
          <p:nvPr/>
        </p:nvSpPr>
        <p:spPr>
          <a:xfrm>
            <a:off x="3143160" y="335772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еребр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Box 12"/>
          <p:cNvSpPr/>
          <p:nvPr/>
        </p:nvSpPr>
        <p:spPr>
          <a:xfrm>
            <a:off x="6215040" y="335772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люми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Box 13"/>
          <p:cNvSpPr/>
          <p:nvPr/>
        </p:nvSpPr>
        <p:spPr>
          <a:xfrm>
            <a:off x="285840" y="628668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ин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Box 14"/>
          <p:cNvSpPr/>
          <p:nvPr/>
        </p:nvSpPr>
        <p:spPr>
          <a:xfrm>
            <a:off x="3429000" y="6215040"/>
            <a:ext cx="22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олот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Box 15"/>
          <p:cNvSpPr/>
          <p:nvPr/>
        </p:nvSpPr>
        <p:spPr>
          <a:xfrm>
            <a:off x="6215040" y="62150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д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Box 16"/>
          <p:cNvSpPr/>
          <p:nvPr/>
        </p:nvSpPr>
        <p:spPr>
          <a:xfrm>
            <a:off x="428760" y="428760"/>
            <a:ext cx="84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15964"/>
                </a:solidFill>
                <a:latin typeface="Times New Roman"/>
              </a:rPr>
              <a:t>Металл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32968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4617b"/>
                </a:solidFill>
                <a:latin typeface="Calibri"/>
              </a:rPr>
              <a:t>Неметаллы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14200" y="1855800"/>
            <a:ext cx="4283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8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400" spc="-1" strike="noStrike">
                <a:solidFill>
                  <a:srgbClr val="04617b"/>
                </a:solidFill>
                <a:latin typeface="Constantia"/>
              </a:rPr>
              <a:t>Хлор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7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Constantia"/>
              </a:rPr>
              <a:t>Бром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2" descr="http://voda.blox.ua/resource/xlor.jpg"/>
          <p:cNvPicPr/>
          <p:nvPr/>
        </p:nvPicPr>
        <p:blipFill>
          <a:blip r:embed="rId1"/>
          <a:stretch/>
        </p:blipFill>
        <p:spPr>
          <a:xfrm>
            <a:off x="500040" y="2643120"/>
            <a:ext cx="3786120" cy="3571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http://collection.cross-edu.ru/dlrstore/51063fd1-5846-11da-8cd6-0800200c9a66/01.jpg"/>
          <p:cNvPicPr/>
          <p:nvPr/>
        </p:nvPicPr>
        <p:blipFill>
          <a:blip r:embed="rId2"/>
          <a:stretch/>
        </p:blipFill>
        <p:spPr>
          <a:xfrm>
            <a:off x="4929120" y="2643120"/>
            <a:ext cx="392904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30592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Picture 2" descr="http://www.periodictable.ru/005B/slides/B1.jpg"/>
          <p:cNvPicPr/>
          <p:nvPr/>
        </p:nvPicPr>
        <p:blipFill>
          <a:blip r:embed="rId1"/>
          <a:stretch/>
        </p:blipFill>
        <p:spPr>
          <a:xfrm>
            <a:off x="3143160" y="1071720"/>
            <a:ext cx="2786040" cy="2214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2" descr="http://gorod.tomsk.ru/i/u/5212/Almaz-Princessa.jpg"/>
          <p:cNvPicPr/>
          <p:nvPr/>
        </p:nvPicPr>
        <p:blipFill>
          <a:blip r:embed="rId2"/>
          <a:stretch/>
        </p:blipFill>
        <p:spPr>
          <a:xfrm>
            <a:off x="214200" y="1071720"/>
            <a:ext cx="2643480" cy="2214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http://upload.wikimedia.org/wikipedia/commons/2/2e/Sulfur.jpg"/>
          <p:cNvPicPr/>
          <p:nvPr/>
        </p:nvPicPr>
        <p:blipFill>
          <a:blip r:embed="rId3"/>
          <a:stretch/>
        </p:blipFill>
        <p:spPr>
          <a:xfrm>
            <a:off x="285840" y="3929040"/>
            <a:ext cx="4214880" cy="2143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http://www.alhimik.ru/teleclass/pictures/iodine-cryst.jpg"/>
          <p:cNvPicPr/>
          <p:nvPr/>
        </p:nvPicPr>
        <p:blipFill>
          <a:blip r:embed="rId4"/>
          <a:stretch/>
        </p:blipFill>
        <p:spPr>
          <a:xfrm>
            <a:off x="6215040" y="1071720"/>
            <a:ext cx="2714760" cy="2143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http://schools-wikipedia.org/images/262/26240.jpg"/>
          <p:cNvPicPr/>
          <p:nvPr/>
        </p:nvPicPr>
        <p:blipFill>
          <a:blip r:embed="rId5"/>
          <a:stretch/>
        </p:blipFill>
        <p:spPr>
          <a:xfrm>
            <a:off x="4786200" y="3929040"/>
            <a:ext cx="4071960" cy="2214720"/>
          </a:xfrm>
          <a:prstGeom prst="rect">
            <a:avLst/>
          </a:prstGeom>
          <a:ln w="0">
            <a:noFill/>
          </a:ln>
        </p:spPr>
      </p:pic>
      <p:sp>
        <p:nvSpPr>
          <p:cNvPr id="222" name="TextBox 9"/>
          <p:cNvSpPr/>
          <p:nvPr/>
        </p:nvSpPr>
        <p:spPr>
          <a:xfrm>
            <a:off x="214200" y="328608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глер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Box 10"/>
          <p:cNvSpPr/>
          <p:nvPr/>
        </p:nvSpPr>
        <p:spPr>
          <a:xfrm>
            <a:off x="3143160" y="328608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о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11"/>
          <p:cNvSpPr/>
          <p:nvPr/>
        </p:nvSpPr>
        <p:spPr>
          <a:xfrm>
            <a:off x="4786200" y="6143760"/>
            <a:ext cx="40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осфо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12"/>
          <p:cNvSpPr/>
          <p:nvPr/>
        </p:nvSpPr>
        <p:spPr>
          <a:xfrm>
            <a:off x="285840" y="6072120"/>
            <a:ext cx="42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е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13"/>
          <p:cNvSpPr/>
          <p:nvPr/>
        </p:nvSpPr>
        <p:spPr>
          <a:xfrm>
            <a:off x="6215040" y="321480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й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1"/>
          <p:cNvSpPr/>
          <p:nvPr/>
        </p:nvSpPr>
        <p:spPr>
          <a:xfrm>
            <a:off x="785880" y="5716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Сравнение физических свойств металлов и неметал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357120" y="1562040"/>
          <a:ext cx="8501040" cy="5081760"/>
        </p:xfrm>
        <a:graphic>
          <a:graphicData uri="http://schemas.openxmlformats.org/drawingml/2006/table">
            <a:tbl>
              <a:tblPr/>
              <a:tblGrid>
                <a:gridCol w="4143600"/>
                <a:gridCol w="2143080"/>
                <a:gridCol w="2214360"/>
              </a:tblGrid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ое  свой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Метал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еметал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грегатное со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Ц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таллический блес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еплопроводность и электропровод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22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ластич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Сравнение физических свойств металлов и неметаллов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57120" y="1576440"/>
          <a:ext cx="8501040" cy="4997520"/>
        </p:xfrm>
        <a:graphic>
          <a:graphicData uri="http://schemas.openxmlformats.org/drawingml/2006/table">
            <a:tbl>
              <a:tblPr/>
              <a:tblGrid>
                <a:gridCol w="4214880"/>
                <a:gridCol w="2071800"/>
                <a:gridCol w="2214360"/>
              </a:tblGrid>
              <a:tr h="9471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ое  свой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Метал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еметал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грегатное состоя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верд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вердые, жидкие. га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Цв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еребристо-бел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есцветные, окраше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34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таллический блес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─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561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еплопроводность и электропровод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─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31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ласт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─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http://imc.rkc-74.ru/dlrstore/0/0ab8f17e-4185-11db-b0de-0800200c9a66/01.JPG"/>
          <p:cNvPicPr/>
          <p:nvPr/>
        </p:nvPicPr>
        <p:blipFill>
          <a:blip r:embed="rId1"/>
          <a:srcRect l="5959" t="0" r="5959" b="0"/>
          <a:stretch/>
        </p:blipFill>
        <p:spPr>
          <a:xfrm rot="381600">
            <a:off x="5209920" y="1179360"/>
            <a:ext cx="3440160" cy="420552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70725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Щелочные металлы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8400" y="1428840"/>
            <a:ext cx="4714920" cy="45720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5000"/>
          </a:bodyPr>
          <a:p>
            <a:pPr lvl="1" marL="607680" indent="-233280"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onstantia"/>
              </a:rPr>
              <a:t>Мягк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onstantia"/>
              </a:rPr>
              <a:t>Легк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onstantia"/>
              </a:rPr>
              <a:t>Легкоплавк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onstantia"/>
              </a:rPr>
              <a:t>Пластичны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onstantia"/>
              </a:rPr>
              <a:t>С металлическим      блеско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onstantia"/>
              </a:rPr>
              <a:t>Электропроводны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onstantia"/>
              </a:rPr>
              <a:t>Теплопроводны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onstantia"/>
              </a:rPr>
              <a:t>Химически активны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Щелочные металлы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57200" y="1285920"/>
          <a:ext cx="8229600" cy="5315040"/>
        </p:xfrm>
        <a:graphic>
          <a:graphicData uri="http://schemas.openxmlformats.org/drawingml/2006/table">
            <a:tbl>
              <a:tblPr/>
              <a:tblGrid>
                <a:gridCol w="971640"/>
                <a:gridCol w="857160"/>
                <a:gridCol w="1000080"/>
                <a:gridCol w="1357200"/>
                <a:gridCol w="1214640"/>
                <a:gridCol w="1143000"/>
                <a:gridCol w="1685880"/>
              </a:tblGrid>
              <a:tr h="1321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М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г/см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лав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алент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кси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Гидрокси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i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,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Li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Li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,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97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Na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Na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,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63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K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K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b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,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Rb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Rb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,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8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C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Cs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16:35:19Z</dcterms:created>
  <dc:creator>USER</dc:creator>
  <dc:description/>
  <dc:language>en-US</dc:language>
  <cp:lastModifiedBy>Test</cp:lastModifiedBy>
  <dcterms:modified xsi:type="dcterms:W3CDTF">2023-05-21T18:49:23Z</dcterms:modified>
  <cp:revision>61</cp:revision>
  <dc:subject/>
  <dc:title>Слайд 1</dc:title>
</cp:coreProperties>
</file>