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B42-BCA0-4EC3-8306-6EBF9471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642-E8AF-4715-AEFC-DCEEF869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7C2-BCCD-4F36-82A4-123FF26B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0BA-48A9-44B1-8EDA-289D6A4D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2022-195B-4F92-94A5-8E35D047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C618-4917-4389-ABA2-EA45E057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E20F-B428-40C5-BA63-C9216436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043D-84E0-495F-A86B-CC186D21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B2EE-7C23-4B35-B1DA-2754192A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2FC1-C9E2-4DCF-8243-75DD7B98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4428-3D8D-4877-9732-1C0A43DE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CF1-842F-4AA0-A8BA-40C89AE0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85B8-A7E8-4E4C-86D4-AFD2C49E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FFCB-840E-4508-98C1-419685DD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93C5-7662-44AB-9853-331764D1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DB0F-CB61-4728-A072-4D30408C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264C-1406-418F-9CBD-F313FA15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3206-4084-45C3-98DE-FCE26200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7E4D5-EBA8-4253-BED8-6A00AF90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9C28-1DB8-4B7B-8E38-7104CD4A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CBA78-5206-4FE0-B927-53AA91CC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5E4B-485E-4600-9DAC-6E7D8D7E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000-4F17-465D-BD91-9AF72B75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557BC-485D-46B1-AFBC-1F623F1F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37154-D9E4-4222-8D3D-6AA562E3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28500-3260-41B3-B793-149E8793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234C6-DCEE-4D6D-9A28-7479789D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89129-9427-4DBB-8E64-FBAB1C49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18B05-EDB2-4156-ABA4-3475D213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13836-BE17-4480-B2FE-FE7B8221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2449-D596-41E9-B245-F49A7CEB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20681-E571-4ED1-8117-C8A0C401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62DAC-F00F-4D67-9411-BCDF7197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454-8C74-4C0D-8562-F8010F52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54FC4-F751-4E47-8B23-79DAEBC0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9DDF-A83E-4695-B666-0D2347F6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F62D0-9BEE-4828-A454-47BBBAAE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F0FC7-573E-410B-95CF-03CFE3F4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9ABB3-9572-45AE-8E7E-7CA0EBA5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820D4-62BE-4735-B67E-09428DA1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38899-029A-4EFC-BBB7-98C7A7F2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98D7A-3BC1-4082-89BB-6BCC948F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29761-5F8A-481D-B77D-3B73854B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1B7-FDCD-4A02-9C90-31403A42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320-0907-45C2-ABB7-0022A751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419-0FB4-47CA-9056-77AFE10E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691-0B73-4A50-B852-993FFF5E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69B-9F84-4324-ADA6-8D52A7E6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5CDC-0E41-4252-9540-C09B9334B68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0296-93FF-43EA-B6D7-AF5674B3CBF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5EA4-B4B0-451D-BAA1-6C16303C4B4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3693-DDF4-45E0-B59B-E534EEBF584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5"/>
          <p:cNvSpPr txBox="1"/>
          <p:nvPr/>
        </p:nvSpPr>
        <p:spPr>
          <a:xfrm>
            <a:off x="647640" y="2990880"/>
            <a:ext cx="7848720" cy="25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6" name="Прямоугольник 2"/>
          <p:cNvSpPr/>
          <p:nvPr/>
        </p:nvSpPr>
        <p:spPr>
          <a:xfrm flipV="1" rot="10800000">
            <a:off x="499680" y="128376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Классификация химических элементов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Галоген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214280"/>
          <a:ext cx="8229600" cy="5411880"/>
        </p:xfrm>
        <a:graphic>
          <a:graphicData uri="http://schemas.openxmlformats.org/drawingml/2006/table">
            <a:tbl>
              <a:tblPr/>
              <a:tblGrid>
                <a:gridCol w="900000"/>
                <a:gridCol w="928800"/>
                <a:gridCol w="1500120"/>
                <a:gridCol w="1785960"/>
                <a:gridCol w="1000080"/>
                <a:gridCol w="1071720"/>
                <a:gridCol w="1042920"/>
              </a:tblGrid>
              <a:tr h="1154160"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ст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грега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о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ки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/см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51040"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га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-ж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18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,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52480"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5</a:t>
                      </a: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,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га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ж-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,5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51040"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жидкост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-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,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52480"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верд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-ф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8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,9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50680"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верд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ч-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,0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32968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Инертные (благородные газы)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935000"/>
          <a:ext cx="8229600" cy="4637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Химический элем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гелий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ЛНЕЧ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нео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ОВ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арго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ДЕЯТЕ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r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крипто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КРЫТ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e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ксено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УЖ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n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радо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ДИАКТИВ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nskshop.ru/uploads/posts/2009-03/1237830942_mendeleev.jpg"/>
          <p:cNvPicPr/>
          <p:nvPr/>
        </p:nvPicPr>
        <p:blipFill>
          <a:blip r:embed="rId1"/>
          <a:stretch/>
        </p:blipFill>
        <p:spPr>
          <a:xfrm>
            <a:off x="285840" y="857160"/>
            <a:ext cx="85010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imc.rkc-74.ru/dlrstore/5/5999af1a-5846-11da-8cd6-0800200c9a66/01.JPG"/>
          <p:cNvPicPr/>
          <p:nvPr/>
        </p:nvPicPr>
        <p:blipFill>
          <a:blip r:embed="rId1"/>
          <a:stretch/>
        </p:blipFill>
        <p:spPr>
          <a:xfrm>
            <a:off x="214200" y="1285920"/>
            <a:ext cx="2643480" cy="2071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http://forum.ixbt.com/post.cgi?id=attach:20:26531:684:1"/>
          <p:cNvPicPr/>
          <p:nvPr/>
        </p:nvPicPr>
        <p:blipFill>
          <a:blip r:embed="rId2"/>
          <a:stretch/>
        </p:blipFill>
        <p:spPr>
          <a:xfrm>
            <a:off x="6215040" y="4071960"/>
            <a:ext cx="2714760" cy="2214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3"/>
          <a:stretch/>
        </p:blipFill>
        <p:spPr>
          <a:xfrm>
            <a:off x="6143760" y="128592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http://censor.net.ua/forum/theme_images/354998.jpg"/>
          <p:cNvPicPr/>
          <p:nvPr/>
        </p:nvPicPr>
        <p:blipFill>
          <a:blip r:embed="rId4"/>
          <a:stretch/>
        </p:blipFill>
        <p:spPr>
          <a:xfrm>
            <a:off x="3214800" y="4071960"/>
            <a:ext cx="2786040" cy="2143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http://www.cniga.com.ua/index.files/image8991.jpg"/>
          <p:cNvPicPr/>
          <p:nvPr/>
        </p:nvPicPr>
        <p:blipFill>
          <a:blip r:embed="rId5"/>
          <a:stretch/>
        </p:blipFill>
        <p:spPr>
          <a:xfrm>
            <a:off x="214200" y="4071960"/>
            <a:ext cx="2786040" cy="2143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http://silverinform.ru/wp-content/uploads/2009/02/silver.jpg"/>
          <p:cNvPicPr/>
          <p:nvPr/>
        </p:nvPicPr>
        <p:blipFill>
          <a:blip r:embed="rId6"/>
          <a:stretch/>
        </p:blipFill>
        <p:spPr>
          <a:xfrm>
            <a:off x="3071880" y="1285920"/>
            <a:ext cx="2857320" cy="20718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0"/>
          <p:cNvSpPr/>
          <p:nvPr/>
        </p:nvSpPr>
        <p:spPr>
          <a:xfrm>
            <a:off x="285840" y="33577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л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3143160" y="3357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ребр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2"/>
          <p:cNvSpPr/>
          <p:nvPr/>
        </p:nvSpPr>
        <p:spPr>
          <a:xfrm>
            <a:off x="6215040" y="335772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юми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285840" y="62866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ин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3429000" y="62150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оло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15"/>
          <p:cNvSpPr/>
          <p:nvPr/>
        </p:nvSpPr>
        <p:spPr>
          <a:xfrm>
            <a:off x="6215040" y="62150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д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428760" y="428760"/>
            <a:ext cx="84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15964"/>
                </a:solidFill>
                <a:latin typeface="Times New Roman"/>
              </a:rPr>
              <a:t>Металл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32968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Неметалл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14200" y="1855800"/>
            <a:ext cx="4283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8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04617b"/>
                </a:solidFill>
                <a:latin typeface="Constantia"/>
              </a:rPr>
              <a:t>Хлор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7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onstantia"/>
              </a:rPr>
              <a:t>Бро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http://voda.blox.ua/resource/xlor.jpg"/>
          <p:cNvPicPr/>
          <p:nvPr/>
        </p:nvPicPr>
        <p:blipFill>
          <a:blip r:embed="rId1"/>
          <a:stretch/>
        </p:blipFill>
        <p:spPr>
          <a:xfrm>
            <a:off x="500040" y="2643120"/>
            <a:ext cx="3786120" cy="3571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://collection.cross-edu.ru/dlrstore/51063fd1-5846-11da-8cd6-0800200c9a66/01.jpg"/>
          <p:cNvPicPr/>
          <p:nvPr/>
        </p:nvPicPr>
        <p:blipFill>
          <a:blip r:embed="rId2"/>
          <a:stretch/>
        </p:blipFill>
        <p:spPr>
          <a:xfrm>
            <a:off x="4929120" y="2643120"/>
            <a:ext cx="39290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3059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http://www.periodictable.ru/005B/slides/B1.jpg"/>
          <p:cNvPicPr/>
          <p:nvPr/>
        </p:nvPicPr>
        <p:blipFill>
          <a:blip r:embed="rId1"/>
          <a:stretch/>
        </p:blipFill>
        <p:spPr>
          <a:xfrm>
            <a:off x="3143160" y="107172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http://gorod.tomsk.ru/i/u/5212/Almaz-Princessa.jpg"/>
          <p:cNvPicPr/>
          <p:nvPr/>
        </p:nvPicPr>
        <p:blipFill>
          <a:blip r:embed="rId2"/>
          <a:stretch/>
        </p:blipFill>
        <p:spPr>
          <a:xfrm>
            <a:off x="214200" y="1071720"/>
            <a:ext cx="264348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http://upload.wikimedia.org/wikipedia/commons/2/2e/Sulfur.jpg"/>
          <p:cNvPicPr/>
          <p:nvPr/>
        </p:nvPicPr>
        <p:blipFill>
          <a:blip r:embed="rId3"/>
          <a:stretch/>
        </p:blipFill>
        <p:spPr>
          <a:xfrm>
            <a:off x="285840" y="3929040"/>
            <a:ext cx="4214880" cy="2143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http://www.alhimik.ru/teleclass/pictures/iodine-cryst.jpg"/>
          <p:cNvPicPr/>
          <p:nvPr/>
        </p:nvPicPr>
        <p:blipFill>
          <a:blip r:embed="rId4"/>
          <a:stretch/>
        </p:blipFill>
        <p:spPr>
          <a:xfrm>
            <a:off x="6215040" y="1071720"/>
            <a:ext cx="2714760" cy="2143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http://schools-wikipedia.org/images/262/26240.jpg"/>
          <p:cNvPicPr/>
          <p:nvPr/>
        </p:nvPicPr>
        <p:blipFill>
          <a:blip r:embed="rId5"/>
          <a:stretch/>
        </p:blipFill>
        <p:spPr>
          <a:xfrm>
            <a:off x="4786200" y="3929040"/>
            <a:ext cx="4071960" cy="22147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9"/>
          <p:cNvSpPr/>
          <p:nvPr/>
        </p:nvSpPr>
        <p:spPr>
          <a:xfrm>
            <a:off x="214200" y="328608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глер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3143160" y="328608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4786200" y="614376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сф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285840" y="607212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215040" y="321480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й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785880" y="5716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равнение физических свойств металлов и неметал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57120" y="1562040"/>
          <a:ext cx="8501040" cy="5081760"/>
        </p:xfrm>
        <a:graphic>
          <a:graphicData uri="http://schemas.openxmlformats.org/drawingml/2006/table">
            <a:tbl>
              <a:tblPr/>
              <a:tblGrid>
                <a:gridCol w="4143600"/>
                <a:gridCol w="2143080"/>
                <a:gridCol w="221436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ое  сво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етал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еметал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грегатное 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ллический бле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плопроводность и электропровод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2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асти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равнение физических свойств металлов и неметалло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57120" y="1576440"/>
          <a:ext cx="8501040" cy="4997520"/>
        </p:xfrm>
        <a:graphic>
          <a:graphicData uri="http://schemas.openxmlformats.org/drawingml/2006/table">
            <a:tbl>
              <a:tblPr/>
              <a:tblGrid>
                <a:gridCol w="4214880"/>
                <a:gridCol w="2071800"/>
                <a:gridCol w="2214360"/>
              </a:tblGrid>
              <a:tr h="947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ое  сво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етал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еметал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грегатное состоя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верд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вердые, жидкие. га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ебристо-бел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сцветные, окраш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3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ллический бле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56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плопроводность и электропровод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3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ас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http://imc.rkc-74.ru/dlrstore/0/0ab8f17e-4185-11db-b0de-0800200c9a66/01.JPG"/>
          <p:cNvPicPr/>
          <p:nvPr/>
        </p:nvPicPr>
        <p:blipFill>
          <a:blip r:embed="rId1"/>
          <a:srcRect l="5959" t="0" r="5959" b="0"/>
          <a:stretch/>
        </p:blipFill>
        <p:spPr>
          <a:xfrm rot="381600">
            <a:off x="5209920" y="1179360"/>
            <a:ext cx="3440160" cy="420552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0725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Щелочные металлы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8400" y="1428840"/>
            <a:ext cx="4714920" cy="45720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5000"/>
          </a:bodyPr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Мягк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Легк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Легкоплавк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Пластичны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С металлическим      блеск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Электропроводны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Теплопроводны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Химически активны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Щелочные металл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285920"/>
          <a:ext cx="8229600" cy="5315040"/>
        </p:xfrm>
        <a:graphic>
          <a:graphicData uri="http://schemas.openxmlformats.org/drawingml/2006/table">
            <a:tbl>
              <a:tblPr/>
              <a:tblGrid>
                <a:gridCol w="971640"/>
                <a:gridCol w="857160"/>
                <a:gridCol w="1000080"/>
                <a:gridCol w="1357200"/>
                <a:gridCol w="1214640"/>
                <a:gridCol w="1143000"/>
                <a:gridCol w="1685880"/>
              </a:tblGrid>
              <a:tr h="132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/см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лав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алент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кс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идрокс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Li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Li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7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N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Na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63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K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K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,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b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b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,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s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6:35:19Z</dcterms:created>
  <dc:creator>USER</dc:creator>
  <dc:description/>
  <dc:language>en-US</dc:language>
  <cp:lastModifiedBy>Test</cp:lastModifiedBy>
  <dcterms:modified xsi:type="dcterms:W3CDTF">2023-05-21T18:49:23Z</dcterms:modified>
  <cp:revision>61</cp:revision>
  <dc:subject/>
  <dc:title>Слайд 1</dc:title>
</cp:coreProperties>
</file>