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527-33EE-4041-A0BC-FF794D0B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A8E-88F7-4C55-84EE-A1B9EBBB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92C-F071-4004-A704-768D2EC1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37E-2960-48FA-8457-BC18619B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BD9-9E01-4008-8159-BBB8775F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0CA-7728-4095-A3F5-17285078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411-3DDB-44D2-BF08-AF82D97D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6A1-D0AF-4FAD-8CDF-A52C9CED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2F6-8D9C-4514-AE63-67C1F801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B43-0FD7-4777-8125-8D230EA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BE6-4C3A-4081-B0D8-F58B559B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C48-C99C-4296-B0A5-EE7643B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AF54-56E7-49F4-942B-B8543BA22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7" descr=""/>
          <p:cNvPicPr/>
          <p:nvPr/>
        </p:nvPicPr>
        <p:blipFill>
          <a:blip r:embed="rId2"/>
          <a:stretch/>
        </p:blipFill>
        <p:spPr>
          <a:xfrm>
            <a:off x="-500040" y="2286000"/>
            <a:ext cx="9644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2400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Georgia"/>
              </a:rPr>
              <a:t>Как привить ребёнку любовь к чтен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3141720"/>
            <a:ext cx="761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ежде всего, надо развить собственную культуру ч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бббб"/>
          <p:cNvPicPr/>
          <p:nvPr/>
        </p:nvPicPr>
        <p:blipFill>
          <a:blip r:embed="rId2"/>
          <a:stretch/>
        </p:blipFill>
        <p:spPr>
          <a:xfrm>
            <a:off x="6940440" y="4292640"/>
            <a:ext cx="2075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Box 5" descr=""/>
          <p:cNvPicPr/>
          <p:nvPr/>
        </p:nvPicPr>
        <p:blipFill>
          <a:blip r:embed="rId1"/>
          <a:stretch/>
        </p:blipFill>
        <p:spPr>
          <a:xfrm>
            <a:off x="334800" y="1420920"/>
            <a:ext cx="8352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3" descr=""/>
          <p:cNvPicPr/>
          <p:nvPr/>
        </p:nvPicPr>
        <p:blipFill>
          <a:blip r:embed="rId2"/>
          <a:stretch/>
        </p:blipFill>
        <p:spPr>
          <a:xfrm>
            <a:off x="371520" y="165240"/>
            <a:ext cx="8534520" cy="925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116000" y="11253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Определите круг читательских интере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свои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116000" y="19890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Книги, которые вы читаете с детьми, должны соответствовать возрасту ваш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116000" y="2924280"/>
            <a:ext cx="82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Чтение должно быть систематическое. Пользу приносит только постоянное разностороннее чт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116000" y="4149720"/>
            <a:ext cx="82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Старайтесь чаще беседовать с детьми о прочитанных книгах, организуйте совместное чтение всл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1116000" y="5445000"/>
            <a:ext cx="7715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Давайте Вашим детям читать книги по интересующей их тематике. Удивите их книгами, позволяющими получить наиболее полные знания по их интере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1143000" y="1143000"/>
            <a:ext cx="8215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Помогите создать ему небольшую, но хорошо подобранную библиотеку из произведений лучших детских писателей. Это способствует развитию любви к чтению и бережному отношению к кни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1187280" y="2997360"/>
            <a:ext cx="82155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Прививайте детям гигиенические навыки и привычки: не позволяйте им читать лежа, во время еды. Приучайте их по окончании чтения класть книгу на мес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116000" y="4508640"/>
            <a:ext cx="814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Воспитывайте бережное отношение к книге. Ребенок должен твердо усвоить правила обращения с книг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1116000" y="5661000"/>
            <a:ext cx="7792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Ходите вместе в библиотеку. Запишитесь в библиотеку сами, и тогда Вы сможете брать книгу для </a:t>
            </a:r>
            <a:r>
              <a:rPr b="1" lang="ru-RU" sz="2400" spc="-1" strike="noStrike">
                <a:solidFill>
                  <a:srgbClr val="003399"/>
                </a:solidFill>
                <a:latin typeface="Georgia"/>
              </a:rPr>
              <a:t>семейного чтения 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до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042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Georgia"/>
              </a:rPr>
              <a:t>                                   </a:t>
            </a:r>
            <a:r>
              <a:rPr b="0" lang="ru-RU" sz="3600" spc="-1" strike="noStrike">
                <a:solidFill>
                  <a:srgbClr val="660033"/>
                </a:solidFill>
                <a:latin typeface="Georgia"/>
              </a:rPr>
              <a:t>- это лучший вид коллективного 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53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 Black"/>
              </a:rPr>
              <a:t>Возродить забытую традицию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вернуть в дом культ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взаимопо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тепло духо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Samp041"/>
          <p:cNvPicPr/>
          <p:nvPr/>
        </p:nvPicPr>
        <p:blipFill>
          <a:blip r:embed="rId2"/>
          <a:stretch/>
        </p:blipFill>
        <p:spPr>
          <a:xfrm>
            <a:off x="5473800" y="3500280"/>
            <a:ext cx="3670200" cy="3357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Rectangle 7"/>
          <p:cNvSpPr/>
          <p:nvPr/>
        </p:nvSpPr>
        <p:spPr>
          <a:xfrm>
            <a:off x="395280" y="18900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Georgia"/>
              </a:rPr>
              <a:t>Семейное ч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28880" y="115920"/>
            <a:ext cx="54151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</a:rPr>
              <a:t>«Семейное чтение тонкой нитью соединяет одну душу с другой, и тогда рождается родство души»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Georgia"/>
              </a:rPr>
              <a:t>                                       Я. Корч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-181080" y="2779200"/>
            <a:ext cx="921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е ее ценн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дает книга сердцу и уму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чем прелесть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какие эпизоды книги вам запомнились и поч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1000" y="2349360"/>
            <a:ext cx="90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ами прочитайте книгу, которую хотите предложить реб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-181080" y="4291200"/>
            <a:ext cx="77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4240" indent="-26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реподнесите книгу так, чтобы ребёнок захотел        её про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-181080" y="2348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чните читать сами до интересного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250920" y="280548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очереди читайте друг другу кни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делайте семейное чтение непременной частью ваше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50920" y="4221000"/>
            <a:ext cx="849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 прочтения литературного произведения побеседуйте с ребенком. Главное направление беседы – помочь осмыслить содержание произведения, проникнуть в те внутренние связи, которые он еще не мо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ыть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712880"/>
            <a:ext cx="7473960" cy="585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img108"/>
          <p:cNvPicPr/>
          <p:nvPr/>
        </p:nvPicPr>
        <p:blipFill>
          <a:blip r:embed="rId3"/>
          <a:stretch/>
        </p:blipFill>
        <p:spPr>
          <a:xfrm>
            <a:off x="539640" y="189000"/>
            <a:ext cx="1406520" cy="128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lib"/>
          <p:cNvPicPr/>
          <p:nvPr/>
        </p:nvPicPr>
        <p:blipFill>
          <a:blip r:embed="rId4"/>
          <a:stretch/>
        </p:blipFill>
        <p:spPr>
          <a:xfrm>
            <a:off x="8097840" y="4941720"/>
            <a:ext cx="10461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417680"/>
          <a:ext cx="8856720" cy="5251320"/>
        </p:xfrm>
        <a:graphic>
          <a:graphicData uri="http://schemas.openxmlformats.org/drawingml/2006/table">
            <a:tbl>
              <a:tblPr/>
              <a:tblGrid>
                <a:gridCol w="1408320"/>
                <a:gridCol w="1608120"/>
                <a:gridCol w="1536480"/>
                <a:gridCol w="2054520"/>
                <a:gridCol w="2249280"/>
              </a:tblGrid>
              <a:tr h="5251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робл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и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взаимодействия с ребен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чему хотим прийт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E:\картинки с книгами\21de0af24051.png"/>
          <p:cNvPicPr/>
          <p:nvPr/>
        </p:nvPicPr>
        <p:blipFill>
          <a:blip r:embed="rId2"/>
          <a:stretch/>
        </p:blipFill>
        <p:spPr>
          <a:xfrm>
            <a:off x="179280" y="4005360"/>
            <a:ext cx="1671840" cy="2692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250920" y="1268280"/>
            <a:ext cx="8640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обращении с ребенком помнить народную мудрость:     </a:t>
            </a:r>
            <a:r>
              <a:rPr b="0" lang="ru-RU" sz="2400" spc="-1" strike="noStrike">
                <a:solidFill>
                  <a:srgbClr val="993366"/>
                </a:solidFill>
                <a:latin typeface="Georgia"/>
              </a:rPr>
              <a:t>«Кто не возьмет лаской – не возьмет и строгостью».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0920" y="3284640"/>
            <a:ext cx="856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Не всегда спешите сразу отвечать на детские вопросы – посоветуйте поискать ответы в книгах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50920" y="836640"/>
            <a:ext cx="8785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Читать с ребенком каждый день, обсуждать прочита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2014560" y="4005360"/>
            <a:ext cx="7129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обирайте дома словари. Вырабатывайте у ребенка привычку обращаться к словарям и работат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250920" y="1916280"/>
            <a:ext cx="8137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Если ребенок не любит читать, то необходим режим щадящего чтения (</a:t>
            </a:r>
            <a:r>
              <a:rPr b="0" lang="ru-RU" sz="2400" spc="-1" strike="noStrike">
                <a:solidFill>
                  <a:srgbClr val="0e2324"/>
                </a:solidFill>
                <a:latin typeface="Georgia"/>
              </a:rPr>
              <a:t>это означает, что у него при чтении возникают трудности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250920" y="2852640"/>
            <a:ext cx="8137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Хорошие результаты дает чтение перед с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2050920" y="5013360"/>
            <a:ext cx="709308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месте с ребенком создавайте такую библиотеку, чтобы в ней были разные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1763640" y="5805360"/>
            <a:ext cx="7380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Каждая семья найдет время и возможности для семейног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1547640" y="189000"/>
            <a:ext cx="576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ddyup Std"/>
              </a:rPr>
              <a:t> </a:t>
            </a:r>
            <a:r>
              <a:rPr b="1" i="1" lang="ru-RU" sz="3600" spc="-1" strike="noStrike">
                <a:solidFill>
                  <a:srgbClr val="660066"/>
                </a:solidFill>
                <a:latin typeface="Georgia"/>
              </a:rPr>
              <a:t>Итоги  собр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ребёнок"/>
          <p:cNvPicPr/>
          <p:nvPr/>
        </p:nvPicPr>
        <p:blipFill>
          <a:blip r:embed="rId2"/>
          <a:stretch/>
        </p:blipFill>
        <p:spPr>
          <a:xfrm>
            <a:off x="0" y="3857760"/>
            <a:ext cx="3860640" cy="300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Прямоугольник 9" descr=""/>
          <p:cNvPicPr/>
          <p:nvPr/>
        </p:nvPicPr>
        <p:blipFill>
          <a:blip r:embed="rId3"/>
          <a:stretch/>
        </p:blipFill>
        <p:spPr>
          <a:xfrm>
            <a:off x="914400" y="1773360"/>
            <a:ext cx="7315200" cy="1751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35357"/>
                </a:solidFill>
                <a:latin typeface="Georgia"/>
              </a:rPr>
              <a:t>Чтение должно занимать в жизни ребенка важное место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8760" y="321480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56"/>
                </a:solidFill>
                <a:latin typeface="Georgia"/>
              </a:rPr>
              <a:t>Приобщение к книге – одна из основных задач художественно-эстетического воспитан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image546"/>
          <p:cNvPicPr/>
          <p:nvPr/>
        </p:nvPicPr>
        <p:blipFill>
          <a:blip r:embed="rId2"/>
          <a:stretch/>
        </p:blipFill>
        <p:spPr>
          <a:xfrm>
            <a:off x="6659640" y="4221000"/>
            <a:ext cx="2260440" cy="2043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248480" y="1628640"/>
            <a:ext cx="67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66"/>
                </a:solidFill>
                <a:latin typeface="Georgia"/>
              </a:rPr>
              <a:t>Открывая ребенку книгу 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88640" y="227664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Вы открываете ему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83600" y="270828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заставляете его размыш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78560" y="321300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наслаждаться чт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80360" y="37162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узнавать как можно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75680" y="4221000"/>
            <a:ext cx="69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помогаете ему хорошо учиться в шк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-468360" y="4653000"/>
            <a:ext cx="7705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a2b81"/>
                </a:solidFill>
                <a:latin typeface="Georgia"/>
              </a:rPr>
              <a:t>- в будущем найти интересную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50920" y="537372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Вы наслаждаетесь времен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проведенным вместе с ребён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7812000" y="3933720"/>
            <a:ext cx="28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5a2b81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80960" y="1341360"/>
            <a:ext cx="8229600" cy="12859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8" descr=""/>
          <p:cNvPicPr/>
          <p:nvPr/>
        </p:nvPicPr>
        <p:blipFill>
          <a:blip r:embed="rId2"/>
          <a:stretch/>
        </p:blipFill>
        <p:spPr>
          <a:xfrm>
            <a:off x="244440" y="2577960"/>
            <a:ext cx="86137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extBox 5" descr=""/>
          <p:cNvPicPr/>
          <p:nvPr/>
        </p:nvPicPr>
        <p:blipFill>
          <a:blip r:embed="rId1"/>
          <a:stretch/>
        </p:blipFill>
        <p:spPr>
          <a:xfrm>
            <a:off x="274680" y="1316160"/>
            <a:ext cx="841212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extBox 5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8577000" cy="183492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7" descr=""/>
          <p:cNvPicPr/>
          <p:nvPr/>
        </p:nvPicPr>
        <p:blipFill>
          <a:blip r:embed="rId2"/>
          <a:stretch/>
        </p:blipFill>
        <p:spPr>
          <a:xfrm>
            <a:off x="334800" y="3090960"/>
            <a:ext cx="84441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132000" y="3068640"/>
            <a:ext cx="28720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284640" y="3220920"/>
            <a:ext cx="28717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Georgia"/>
              </a:rPr>
              <a:t>Что понимают под техникой чтения?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49280" y="1417680"/>
            <a:ext cx="82375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ение – это сложный психофизиологический процесс, в котором можно выделить две сторо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360360" y="506556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мысловая – понимание, осознание содержания и смысла читаем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398920" y="50292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ехническая – скорость (темп), правильность и выразительность ч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989000"/>
          <a:ext cx="8229600" cy="4527720"/>
        </p:xfrm>
        <a:graphic>
          <a:graphicData uri="http://schemas.openxmlformats.org/drawingml/2006/table">
            <a:tbl>
              <a:tblPr/>
              <a:tblGrid>
                <a:gridCol w="2120760"/>
                <a:gridCol w="1390680"/>
                <a:gridCol w="1208160"/>
                <a:gridCol w="1643040"/>
                <a:gridCol w="1866960"/>
              </a:tblGrid>
              <a:tr h="10432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2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ной 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6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– 8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2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лугод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3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5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– 7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9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986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год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6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– 8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– 11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2" name="Rectangle 1" descr=""/>
          <p:cNvPicPr/>
          <p:nvPr/>
        </p:nvPicPr>
        <p:blipFill>
          <a:blip r:embed="rId1"/>
          <a:stretch/>
        </p:blipFill>
        <p:spPr>
          <a:xfrm>
            <a:off x="457200" y="1311120"/>
            <a:ext cx="82296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2000" y="3068280"/>
            <a:ext cx="287208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Georgia"/>
              </a:rPr>
              <a:t>Преимущества, которые дает умение хорошо читать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3492360" y="1413000"/>
            <a:ext cx="2448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ти, которые хорошо читают, в школе показывают хороши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250920" y="2133720"/>
            <a:ext cx="273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ем больше взрослые читают, разговаривают со своими детьми, тем богаче будет их словарный запас, что поможет ребенку научиться понимать и усваи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156360" y="2349360"/>
            <a:ext cx="28573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сли в течение обучения дети продолжают черпать информацию из книг, то впоследствии выдерживают любые экзамены и те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5219640" y="4869000"/>
            <a:ext cx="3716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 хорошо читающих детей, возникает мысленная картинка прочитанного. Они лучше запоминают детали, с желанием читают. Развивается память, во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395280" y="5229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бенок, который хорошо и много читает - умеет обобщать, делать выводы и пред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05:11Z</dcterms:created>
  <dc:creator>Дмитрий</dc:creator>
  <dc:description/>
  <dc:language>en-US</dc:language>
  <cp:lastModifiedBy> </cp:lastModifiedBy>
  <dcterms:modified xsi:type="dcterms:W3CDTF">2023-04-09T22:44:56Z</dcterms:modified>
  <cp:revision>81</cp:revision>
  <dc:subject/>
  <dc:title>Книга в жизни ребенка семейное чтение рекомендации для родителей</dc:title>
</cp:coreProperties>
</file>