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DFA-7890-47C2-9C7E-E6E41E1D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14B-9727-4CE8-9EC6-B1FB4983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9E7-98F5-43BB-95F7-7C91704B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AED-D6F7-44B0-A369-B95E3E9E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3EE-01AE-4F10-BAEE-2A552B9D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188-5469-479E-B541-0ADF21E0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624-AB46-44F5-83EA-DAC0C081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C2C-FA6C-415D-A958-F4C6CC53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C89-5D00-4F10-B371-68D83DF9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802-D0E4-456E-AB2F-6F0AA26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0D5-3EF6-4855-9764-010C44CB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894-3B75-4407-9064-6EA039D6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AC2B-CD13-418D-8F40-8EE73045673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717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alibri"/>
              </a:rPr>
              <a:t>«ЭМОЦИОНАЛЬНЫЙ   ИНТЕЛЛЕК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76212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Игра - КВ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-20520" y="7632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униципальное бюджетное дошкольное образовательное учреждение г. Иркутска детский сад № 9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4191120" y="5800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автор -  педагог-психоло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ушина Елена Владимиро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37960" y="802800"/>
            <a:ext cx="777240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Что получится, если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2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"/>
          <p:cNvPicPr/>
          <p:nvPr/>
        </p:nvPicPr>
        <p:blipFill>
          <a:blip r:embed="rId3"/>
          <a:stretch/>
        </p:blipFill>
        <p:spPr>
          <a:xfrm>
            <a:off x="7974000" y="246240"/>
            <a:ext cx="816120" cy="1376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"/>
          <p:cNvPicPr/>
          <p:nvPr/>
        </p:nvPicPr>
        <p:blipFill>
          <a:blip r:embed="rId4"/>
          <a:stretch/>
        </p:blipFill>
        <p:spPr>
          <a:xfrm>
            <a:off x="2971800" y="20970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"/>
          <p:cNvPicPr/>
          <p:nvPr/>
        </p:nvPicPr>
        <p:blipFill>
          <a:blip r:embed="rId5"/>
          <a:stretch/>
        </p:blipFill>
        <p:spPr>
          <a:xfrm>
            <a:off x="6473880" y="2082960"/>
            <a:ext cx="1184400" cy="8143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639720" y="2097000"/>
            <a:ext cx="2103480" cy="838440"/>
          </a:xfrm>
          <a:prstGeom prst="rect">
            <a:avLst/>
          </a:prstGeom>
          <a:solidFill>
            <a:srgbClr val="e6e0ec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гн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4124160" y="2087640"/>
            <a:ext cx="2103480" cy="838080"/>
          </a:xfrm>
          <a:prstGeom prst="rect">
            <a:avLst/>
          </a:prstGeom>
          <a:solidFill>
            <a:srgbClr val="e6e0ec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533520" y="3666960"/>
            <a:ext cx="350496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горд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547560" y="4842000"/>
            <a:ext cx="350532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доса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4721400" y="3666960"/>
            <a:ext cx="350496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восхищ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4735440" y="4842000"/>
            <a:ext cx="350532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сты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802800"/>
            <a:ext cx="7772400" cy="8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ОЛНАЯ ВЕРСИЯ ИГРЫ ПО ССЫЛ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2"/>
          <a:stretch/>
        </p:blipFill>
        <p:spPr>
          <a:xfrm>
            <a:off x="2290680" y="1617840"/>
            <a:ext cx="456264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4193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alibri"/>
              </a:rPr>
              <a:t>БЛАГОДАРИМ  ЗА  УЧАСТ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240"/>
            <a:ext cx="777240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ЭМОЦИОНАЛЬНЫЙ ИНТЕЛЛЕКТ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(выберите лишне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706320" y="4253040"/>
            <a:ext cx="744696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Умение вести здоровый образ жиз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706320" y="5548320"/>
            <a:ext cx="478008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Умение сопере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685800" y="2960640"/>
            <a:ext cx="746748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Умение контролировать свои эмо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706320" y="1709640"/>
            <a:ext cx="631044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Умение понимать свои чув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Рисуно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4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онятие «Эмоциональный интеллект» вве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1714680" y="4146480"/>
            <a:ext cx="5489280" cy="838440"/>
          </a:xfrm>
          <a:prstGeom prst="rect">
            <a:avLst/>
          </a:prstGeom>
          <a:solidFill>
            <a:srgbClr val="ccc1da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Дейл Карне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1714680" y="5437080"/>
            <a:ext cx="5489280" cy="838440"/>
          </a:xfrm>
          <a:prstGeom prst="rect">
            <a:avLst/>
          </a:prstGeom>
          <a:solidFill>
            <a:srgbClr val="ccc1da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Владимир Бехтер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1714680" y="2881440"/>
            <a:ext cx="5489280" cy="838080"/>
          </a:xfrm>
          <a:prstGeom prst="rect">
            <a:avLst/>
          </a:prstGeom>
          <a:solidFill>
            <a:srgbClr val="ccc1da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Зигмунд Фрей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1714680" y="1676520"/>
            <a:ext cx="5562360" cy="838080"/>
          </a:xfrm>
          <a:prstGeom prst="rect">
            <a:avLst/>
          </a:prstGeom>
          <a:solidFill>
            <a:srgbClr val="ccc1da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Джон Майе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Рисунок 6" descr=""/>
          <p:cNvPicPr/>
          <p:nvPr/>
        </p:nvPicPr>
        <p:blipFill>
          <a:blip r:embed="rId2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3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15960" y="6015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Страх проявления эмоц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называю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720720" y="3672000"/>
            <a:ext cx="350532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панде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4862520" y="3679920"/>
            <a:ext cx="349092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эфибофоб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4862520" y="2403360"/>
            <a:ext cx="350532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буле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720720" y="2403360"/>
            <a:ext cx="350532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алексит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2"/>
          <a:stretch/>
        </p:blipFill>
        <p:spPr>
          <a:xfrm>
            <a:off x="6973920" y="6072120"/>
            <a:ext cx="2020680" cy="593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"/>
          <p:cNvPicPr/>
          <p:nvPr/>
        </p:nvPicPr>
        <p:blipFill>
          <a:blip r:embed="rId3"/>
          <a:stretch/>
        </p:blipFill>
        <p:spPr>
          <a:xfrm>
            <a:off x="419040" y="5954760"/>
            <a:ext cx="1905120" cy="595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371600" y="552456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6708600" y="5548320"/>
            <a:ext cx="12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Рисунок 9" descr=""/>
          <p:cNvPicPr/>
          <p:nvPr/>
        </p:nvPicPr>
        <p:blipFill>
          <a:blip r:embed="rId4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33520" y="990720"/>
            <a:ext cx="777240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«Определи эмоцию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133720" y="4343400"/>
            <a:ext cx="4975200" cy="838080"/>
          </a:xfrm>
          <a:prstGeom prst="rect">
            <a:avLst/>
          </a:prstGeom>
          <a:solidFill>
            <a:srgbClr val="e6e0ec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ст Пола Эм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2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72" name="Объект 3" descr=""/>
          <p:cNvPicPr/>
          <p:nvPr/>
        </p:nvPicPr>
        <p:blipFill>
          <a:blip r:embed="rId3"/>
          <a:stretch/>
        </p:blipFill>
        <p:spPr>
          <a:xfrm>
            <a:off x="4038480" y="2395440"/>
            <a:ext cx="1312920" cy="127008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3" descr=""/>
          <p:cNvPicPr/>
          <p:nvPr/>
        </p:nvPicPr>
        <p:blipFill>
          <a:blip r:embed="rId4"/>
          <a:stretch/>
        </p:blipFill>
        <p:spPr>
          <a:xfrm>
            <a:off x="2071800" y="2293920"/>
            <a:ext cx="139356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Объект 3" descr=""/>
          <p:cNvPicPr/>
          <p:nvPr/>
        </p:nvPicPr>
        <p:blipFill>
          <a:blip r:embed="rId5"/>
          <a:stretch/>
        </p:blipFill>
        <p:spPr>
          <a:xfrm>
            <a:off x="5924520" y="22604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Объект 2" descr=""/>
          <p:cNvPicPr/>
          <p:nvPr/>
        </p:nvPicPr>
        <p:blipFill>
          <a:blip r:embed="rId2"/>
          <a:stretch/>
        </p:blipFill>
        <p:spPr>
          <a:xfrm>
            <a:off x="942840" y="274680"/>
            <a:ext cx="696924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990720" y="5545080"/>
            <a:ext cx="297180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рад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4475160" y="5545080"/>
            <a:ext cx="313200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гн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510080" y="4437000"/>
            <a:ext cx="314640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през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990720" y="4449600"/>
            <a:ext cx="297180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печа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Рисунок 6" descr=""/>
          <p:cNvPicPr/>
          <p:nvPr/>
        </p:nvPicPr>
        <p:blipFill>
          <a:blip r:embed="rId3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"/>
          <p:cNvPicPr/>
          <p:nvPr/>
        </p:nvPicPr>
        <p:blipFill>
          <a:blip r:embed="rId4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Объект 2" descr=""/>
          <p:cNvPicPr/>
          <p:nvPr/>
        </p:nvPicPr>
        <p:blipFill>
          <a:blip r:embed="rId2"/>
          <a:stretch/>
        </p:blipFill>
        <p:spPr>
          <a:xfrm>
            <a:off x="844560" y="274680"/>
            <a:ext cx="6888240" cy="3886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219320" y="5580000"/>
            <a:ext cx="302076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гн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4592520" y="5627520"/>
            <a:ext cx="297180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уди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4572000" y="4325760"/>
            <a:ext cx="298620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стр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1219320" y="4316400"/>
            <a:ext cx="297792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печа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Рисунок 6" descr=""/>
          <p:cNvPicPr/>
          <p:nvPr/>
        </p:nvPicPr>
        <p:blipFill>
          <a:blip r:embed="rId3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"/>
          <p:cNvPicPr/>
          <p:nvPr/>
        </p:nvPicPr>
        <p:blipFill>
          <a:blip r:embed="rId4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Объект 2" descr=""/>
          <p:cNvPicPr/>
          <p:nvPr/>
        </p:nvPicPr>
        <p:blipFill>
          <a:blip r:embed="rId2"/>
          <a:stretch/>
        </p:blipFill>
        <p:spPr>
          <a:xfrm>
            <a:off x="774720" y="225360"/>
            <a:ext cx="6943680" cy="3962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990720" y="5565600"/>
            <a:ext cx="297180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отвращ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4419720" y="5565600"/>
            <a:ext cx="297324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гн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4435560" y="4367160"/>
            <a:ext cx="295740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рад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952560" y="4367160"/>
            <a:ext cx="297180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удивлен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"/>
          <p:cNvPicPr/>
          <p:nvPr/>
        </p:nvPicPr>
        <p:blipFill>
          <a:blip r:embed="rId4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990720"/>
            <a:ext cx="777240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«Сложные эмоци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533520" y="3016080"/>
            <a:ext cx="8003880" cy="1944720"/>
          </a:xfrm>
          <a:prstGeom prst="rect">
            <a:avLst/>
          </a:prstGeom>
          <a:solidFill>
            <a:srgbClr val="e6e0ec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2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99" name="Объект 3" descr=""/>
          <p:cNvPicPr/>
          <p:nvPr/>
        </p:nvPicPr>
        <p:blipFill>
          <a:blip r:embed="rId3"/>
          <a:stretch/>
        </p:blipFill>
        <p:spPr>
          <a:xfrm>
            <a:off x="958680" y="3376440"/>
            <a:ext cx="1312920" cy="127008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3" descr=""/>
          <p:cNvPicPr/>
          <p:nvPr/>
        </p:nvPicPr>
        <p:blipFill>
          <a:blip r:embed="rId4"/>
          <a:stretch/>
        </p:blipFill>
        <p:spPr>
          <a:xfrm>
            <a:off x="4008600" y="3249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"/>
          <p:cNvPicPr/>
          <p:nvPr/>
        </p:nvPicPr>
        <p:blipFill>
          <a:blip r:embed="rId5"/>
          <a:stretch/>
        </p:blipFill>
        <p:spPr>
          <a:xfrm>
            <a:off x="7175520" y="3273480"/>
            <a:ext cx="814320" cy="1376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"/>
          <p:cNvPicPr/>
          <p:nvPr/>
        </p:nvPicPr>
        <p:blipFill>
          <a:blip r:embed="rId6"/>
          <a:stretch/>
        </p:blipFill>
        <p:spPr>
          <a:xfrm>
            <a:off x="2556000" y="3440160"/>
            <a:ext cx="122688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"/>
          <p:cNvPicPr/>
          <p:nvPr/>
        </p:nvPicPr>
        <p:blipFill>
          <a:blip r:embed="rId7"/>
          <a:stretch/>
        </p:blipFill>
        <p:spPr>
          <a:xfrm>
            <a:off x="5607000" y="3581280"/>
            <a:ext cx="118440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23-05-21T14:11:2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