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92D3-C02A-42B9-B697-E80C00808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6D9-3379-406D-A608-D05FAB8DC3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99A-F236-4A36-B7AA-D640E8E854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D2D-0ED6-418A-B7CD-ABDCD10FA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4DF3-9925-4391-A567-4B551E7B74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871-9E2C-4BAC-B7FB-2E6B12B5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8DF-F7A6-4367-8A51-9B74741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BB628-5D2A-44D5-8565-850B238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5F97C-1FD6-4466-B41C-14D0A02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8A724-C658-4EE9-8887-696DF32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2A596-044A-48C7-99F4-7C06EE1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A8F7-8734-4A18-BAF8-5CEC954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AB506-2C1F-460B-A57C-33A97527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0ECA-35B3-4AAA-A868-4F32015D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9C9E3-5EFD-4C37-A638-DDB8A3A5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AA2A9-E3AE-4440-8F70-020D819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7BC4-C8A3-40CF-8E4D-8E3ECA7E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37F-1A98-410F-99D0-ACCA0B58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F7422-708F-4BC0-BF5B-EE90D86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E1A83-8FC0-4663-AF53-AC77E70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5EC45-2133-4DA2-9210-309C5084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245C9-1B21-4425-8026-7E91614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9F16-A23F-4131-9A61-342B2D2A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FCEF4-A59E-48E2-A5DA-2A87DCB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3190A-E69C-449C-A276-674BBE0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4A2E5-300F-4BB9-9246-EEDCA00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C863-3FAB-4D49-9903-C3555CC3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ADA3-42EC-4C83-91A2-E5E06FAE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ADE-A483-4AD5-B8B4-8A02A9E3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D5183-3A84-4B98-B2DD-DE52701B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EC7C-69F6-4FC1-9938-6B0DF6DE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8F5C-CD90-46DB-B7AF-30317E5C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FBC-4998-419F-ACA9-5314C19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674-6E0F-4398-928C-F5D4CB4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2BF-9364-4F7B-9AC1-DDDE3FB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8992-B3BA-4C4B-9E20-ECDD542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A173-8853-486B-82EA-D8E7718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204-22A3-4156-8856-261EF939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E792-5FB4-498A-B4A9-FACC9A1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7D53-6E13-4E0D-B387-D2618E0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B77C-241F-44D5-B6AC-711B11EA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A1A-7C19-4911-874C-57BD9694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3C99-95F5-4A4B-AD58-33C15776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9E6F-E8DF-46BC-B7CA-68FFB12E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7C93-958D-4FF2-BD82-2A85877D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28E2-803A-4055-B9EE-DF58192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89C9-CE57-4898-99D4-074ACA6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82FF-ADB8-4B7A-B3C8-790206B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146-0E05-437A-8646-F544C5C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3281-3478-4475-85BE-03F4743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6107-FAA3-4096-9FAD-C4C78ED4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BA11-0326-4422-810A-55C19E83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8EF7-440F-455A-93FC-CB95AA4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7F9A-5520-4D35-B738-AC9987C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E8CF-A39D-4EAC-A430-B99DAD87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1477-9789-42AD-B68E-61E607A5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A7D0-EFBC-4AC0-9202-E21F3B43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CC52-9C57-4550-B5B6-9DF57C3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8B7D8-25DC-43EE-95C1-BC39A156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768-F77A-4ECB-B9A2-DD65B61D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FA28-CD33-4E76-9266-5CABABD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1D14-4354-4C10-BDA6-3B3DB30B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3C59-876F-4F45-B133-F95CAA40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10F9-817A-4979-9204-4121579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6B00-1002-4296-BD4E-4816103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4639-9F1B-450A-BFE0-C6F4A81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E24A-1324-4640-944B-7B4D1D2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5156-0AF9-4929-8195-183F0E8D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81FC-91A8-4244-BA60-A487D55B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6FE0-74FB-4C90-9F03-3C14F3FF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42D-6CB3-408D-937C-C7893D1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65CA-139C-406B-8E9C-3600284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3098-3FA8-4AEB-A884-170A8AD4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0FCA-2897-4006-9792-D963B99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6B4C-A1E3-4F48-A7F8-9E9EA81E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A843-46BE-452D-931D-7DCEC178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A778-BA62-45F6-BD25-78991B3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15F4-7D80-47C5-AF4B-BB2C8D9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4A12-AF96-471A-817A-C812910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A3E1-1B75-484C-91D5-B42C3B51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0ABC-9DF1-49F8-8102-5F989A55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222-45C5-44A6-B162-32B5A65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5E3D-BB15-4665-A347-F0789163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AE533-52BE-4E5D-AF4F-29958EFF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3BB57-43CF-4C2D-B6FB-876D6F0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70EE-9AED-4564-B97D-2C1DD95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3361-18E6-42CE-BA3C-2C5FB0F0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08814-01FC-4B0A-9158-CEFE249E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920B-E62C-4BF9-B25C-FF67045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C083-B59F-4DCD-9375-9E48BB3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0988-7688-45C2-80DF-E83B06D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E858-9FE1-4456-9F07-B5138AA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BFD-ACCD-4190-8B0C-5F413C6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8490F-DE98-4305-A915-CEDC1A2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0083-7670-4D61-A1BE-0792D782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E167-6073-4F3B-B236-193F93E2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87BA-5E57-44B8-A82E-29D33345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100B-5A26-4BF9-9F89-905A5E6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30C5-16FA-406B-B3E8-6ECEBC8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12C3-A134-447C-BAC1-3ACD22A6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096C-0575-49EA-880E-E52AEA9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A4FB-B547-4EC2-8A88-741BD10D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E3D3E-4D3A-4DD0-B67C-4A02945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BB3-BC54-44A6-8C01-29F3DBAA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7EA5-F466-440C-AF22-30262722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5432-E0C2-4574-886C-24DC385E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6CA9-026C-444B-8B77-1A21522E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19D9-C43F-47C2-AA12-4FC2B3CB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D8A4D-9405-408A-88B6-A4861128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E412-1BFD-444E-8311-95E3022D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6B31-BA54-4E1A-B867-817864A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2B9D-4368-4301-8782-36C6DA7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53D26-9679-49A2-A547-FFC47143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2BB8C-3264-4069-967A-97E377A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F14-F690-4209-8AB6-6EEC266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198A-008F-4C26-A7FA-37780F0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8705-4BA4-47F0-B71A-91284DB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088C-4BF0-4EEE-817F-D76683D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19E7-F3B7-418B-A6F9-4AFC080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9A81-2765-45A6-B222-CC3A57FF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800E3-DC68-4241-ACC9-64DFF153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FB372-D497-4653-ABD4-FF0C727D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F8E5E-46CF-40BD-8F56-8B7EE23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A922A-F1F8-4DD4-B953-33469203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9A6E2-A1F0-4518-9652-C1A5F60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76C-ED61-4EEF-B5C6-51A5366427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7CEC-9DD1-4DA5-952C-95B4F912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E0F2-D5FB-4E90-90DF-E880A2C3B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25F0-3452-4C6C-A389-4662FC707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670B-6599-4138-9270-A092A9494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B6C4-CB82-4902-B1F0-8E825DC9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FF26-AE07-496B-9BC5-CE773ECC7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2E2-6E52-490F-A470-6D94022B77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EA1-29E5-49C0-A178-BA7AE5EC6E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F4B-EB42-4E4D-B4F8-AB08A4BCE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5806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Коррекция дисграфии при нарушении письменной и связной речи у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35280" y="4652640"/>
            <a:ext cx="5508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читель русского языка и литературы  Ивано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"/>
          <p:cNvSpPr/>
          <p:nvPr/>
        </p:nvSpPr>
        <p:spPr>
          <a:xfrm>
            <a:off x="2124000" y="26028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КУ С(К)ООШ №22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6882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ыки чтения как основа успешной 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5400" y="1267920"/>
            <a:ext cx="84373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– это первый и основной навык, который должен обязательно предшествовать обучению письму. Если ученик плохо читает, у него обязательно будет низкая грамотность. Успешное овладение чтением способствует развитию словаря и грамматического строя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нение, что когда чтению и письму детей учат одновременно и параллельно (то есть в соответствии с программой общеобразовательной школы), то обычно получают стойкую дисграфию (часто вместе с дислексией). Нарушается формирование того и другого навы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A75-FF20-48E2-BDB9-84DAB26345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2090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я связной речи у детей с З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5760" y="1267920"/>
            <a:ext cx="8364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познавательной деятельности детей с ЗПР, их психофизическое развитие изменяют процесс овладения ими речевой функцией и определяют своеобразие их речевого развития: ограниченность словаря, бедность грамматических конструкций, затруднения при развёрнутом связном высказы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формированность связной речи является серьезным препятствием для успешной учёбы. Только обладая хорошо развитой связной речью, учащиеся могут давать развернутые ответы на сложные вопросы школьной программы последовательно и полно, аргументированно и логично излагать свои собственные суждения; воспроизводить содержание текстов из учебников, произведений художественной литературы. Наконец, непременным условием для написания изложений и сочинений является достаточно высокий уровень развития связной речи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643280" y="691920"/>
            <a:ext cx="43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учителя объясняют дисграфические ошибки  личностными качествами учеников: неумением слушать объяснение учителя, невнимательностью при письме, небрежным отношением к работ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учащиеся, имеющие выраженные, по сравнению с другими, особенности вос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ереработки информации, часто остаются один на один со своими трудностями, которые постепенно перерастают в стойкую неуспешность в учебной деятельности, в том числе и в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1"/>
          <a:stretch/>
        </p:blipFill>
        <p:spPr>
          <a:xfrm rot="21221400">
            <a:off x="461880" y="66960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подходы к организации коррекционной работы для детей с З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50560" y="907920"/>
            <a:ext cx="8785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коррекционного обучения с лечебно-оздоровительными мероприя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индивидуальных и личностных особенностей детей. Работоспособность у учащихся с ЗПР на занятии дли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-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заданий, максимально возбуждающих активность ребенка, пробуждающие у него потребность в познавательной деятельности, требующих разнообраз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многократных указаний,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вторное объяснение материала и подбор дополнительных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ый материал должен преподноситься небольшими до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лючение внимание ребенка с одного вида деятельности на другой в процессе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на занятиях красочного дидактического материала и игровых мо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большого такта со стороны учителя. Доброжелательный тон, поощрение его за малейшие усп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моментом в организации системы коррекционно-развивающего обучения является мониторинг, динамическое наблюдение за продвижением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тирующи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2D4-7F77-4FB7-B1F4-BC57310C109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1280" y="1052280"/>
            <a:ext cx="8208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ишем вслу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ё, что пишется, проговаривается пишущим вслух в момент написания и так, как оно пишется, с подчеркиванием, выделением звуков, на которые при произнесении в беглой речи говорящий уделяет наименьшее внимание. Например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стОле стОЯл куВшин С мОлОком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едь на самом деле мы произноси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стале стаял куфшин с малако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гласных звуков это любое безударное положение, для согласных, например, позиция в конце слова, тип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у*п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еред глухим согласным, тип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о*шка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отчетливо проговаривать также конец слова, поскольку для дисграфика дописать слово до конца трудно, и часто по этой причине вырабатывается дописывать в конце слова неопределенное количество закорючек, которые при беглом просмотре можно принять за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, включаемые в учебный процесс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5400" y="1267920"/>
            <a:ext cx="8226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спознавание букв, обозначающих свистящие и шипящ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черкни одной чер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черкни двумя чер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веди в круж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черк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 А С С Ж Ь И Р З Ж Л И Т И Я В А Р Ч С И Л С В Д Л Б М А Л О П М Н Ы Т К Д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Ф С Ю Р А Ш В Ф Ч Я Е Ъ Щ Ч Я Й Г Н Ь Б Ю Э Х Ж П Ч Ц Р С П Н Щ Т В Ш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, включаемые в учебный процесс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5400" y="1341360"/>
            <a:ext cx="822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Инстру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лова с шипящ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и одно слово от друг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други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ШНЯБЛОНЯАПРЕЛЬНИККИПАРИСПАРИНАПЁРСТОКРЕПК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ПУЧИЙОДОММАЛЫШПАЛАНДЫШАНХЩУПАЛЬЦЫЧИСЛОП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 «Корректурная правка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пражнение развивает узнавание и вним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A877-6780-4D43-A077-DAD3D3F8CA5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5400" y="1483920"/>
            <a:ext cx="822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упражнения нужна книжка, скучная и с достаточно крупным шрифтом. Ученик каждый день в течение пяти (не больше) минут работает над следующим заданием: зачеркивает в сплошном тексте заданные буквы. Начать нужно с одной буквы, например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те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о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ше согласные, с которыми есть проблемы, сначала их тоже нужно задавать по одной. Через 5-6 дней таких занятий переходим на две буквы, одна зачеркивается, другая подчеркивается или обводится в кружочек. Буквы должны быть «парными», «похожими» в сознании ребенка. Например, наиболее часто сложности возникают с пара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/т», «п/р», «м/л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ходство написания);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г/д», «у/ю», «д/б»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, если текст не будет прочитан. Все внимание необходимо сконцентрировать на нахождении заданного облика буквы, одной или двух, – и работать только с н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рительного представления о букве. Формирование способности быстрого схватывания одного и даже нескольких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95280" y="159984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Перевёрнутый текст "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траница обычного текста поворачивается на 90,180, 270 градусов. Ученик должен, двигая глазами справа налево, прочита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вать умение видеть слова, написанные раз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Деформированный тек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 выпал идут первый в пушистый школу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. У ребята них вышли в руках на портфели 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084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71320" y="1785960"/>
            <a:ext cx="8032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дисграфии и организация коррекционн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её устранению у учащихся с ЗП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68824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Arial"/>
              </a:rPr>
              <a:t>"Я знаю пять слов".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вать координацию движений; расширять словарный запас; находить нужные сло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Ход игр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бёнок произносит ряд слов, одновременно с каждым словом ударяя мяч об по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8FB-C31A-47DF-8B2A-E936409AABA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08000" y="1773360"/>
          <a:ext cx="8856720" cy="4680000"/>
        </p:xfrm>
        <a:graphic>
          <a:graphicData uri="http://schemas.openxmlformats.org/drawingml/2006/table">
            <a:tbl>
              <a:tblPr/>
              <a:tblGrid>
                <a:gridCol w="2495520"/>
                <a:gridCol w="2008080"/>
                <a:gridCol w="2001960"/>
                <a:gridCol w="2351160"/>
              </a:tblGrid>
              <a:tr h="7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Правой ру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Левой ру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Двумя ру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уками поочеред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четыре слова со звуками «С» и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ю пять слов со звуком «С» и «З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ат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ц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-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бра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-д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ки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езда-т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ёт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т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-четы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ея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бы-пя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пытны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развитие фонематических представлений и воображения, развитие навыков структурирования предложен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д игры: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объясняет суть игры и показывает образец. Выбирается звук, на который будут начинаться слова в предложении. Педагог задаёт вопрос и бросает мяч ребёнку. Учащиеся должны ответить так, чтобы слова ответа начинались с заданного звук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-15840" y="2492280"/>
          <a:ext cx="9112320" cy="3384720"/>
        </p:xfrm>
        <a:graphic>
          <a:graphicData uri="http://schemas.openxmlformats.org/drawingml/2006/table">
            <a:tbl>
              <a:tblPr/>
              <a:tblGrid>
                <a:gridCol w="2568600"/>
                <a:gridCol w="2065320"/>
                <a:gridCol w="2060640"/>
                <a:gridCol w="241776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Что сдел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Ко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9cfc0"/>
                          </a:solidFill>
                          <a:latin typeface="Arial"/>
                        </a:rPr>
                        <a:t>Ч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857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ст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т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99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о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Составь слова из данных букв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л,к,ж,у,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р,ы,б,а,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Лужа, жук, лук, уж, ла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ыба, бык, рак, бак, краб, брак, рыб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Расшифруй слова и назови одним слов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а) п,и,к,а,т, т,ф,и,у,л, б,и,и,т,н,о,к, г,а,о,п,и,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б) ь,о,ч,н, ч,е,е,р,в, у,о,р,т, н,е,д,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а) тапки, туфли, ботинки, сапоги - обув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б)ночь, утро, вечер, день - су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активизировать все анализаторы, принимающие участие в письменной речи; закрепить звукобуквенный анализ слов; различать гласные и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9280" y="2205000"/>
          <a:ext cx="8810640" cy="3600360"/>
        </p:xfrm>
        <a:graphic>
          <a:graphicData uri="http://schemas.openxmlformats.org/drawingml/2006/table">
            <a:tbl>
              <a:tblPr/>
              <a:tblGrid>
                <a:gridCol w="4321440"/>
                <a:gridCol w="4489200"/>
              </a:tblGrid>
              <a:tr h="36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"Арабское письмо".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Записать слова, начиная с правой стороны строчки и наоборот, то есть задом наперёд, при нормальном чтении (слева направо) слова должны читаться в их естественном виде. Начинать с коротких сл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карандаш, окно, книга, домик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школу в идут де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3d49b"/>
                          </a:solidFill>
                          <a:latin typeface="Arial"/>
                        </a:rPr>
                        <a:t>(Дети идут в школу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Путаница"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ожных словах дети часто при чтении и письме пропускают или меняют местами буквы и слоги, укорачивают слово. Выполняя это упражнение, произнося бессмысленные слова, развиваем навык правильного чтения, т.к. это сложнее, чем читать знакомое слово, которое дети могут прочитать по дог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21D1-5238-4D86-8351-4A32C4CAAF7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08000" y="1446120"/>
          <a:ext cx="8928000" cy="5324400"/>
        </p:xfrm>
        <a:graphic>
          <a:graphicData uri="http://schemas.openxmlformats.org/drawingml/2006/table">
            <a:tbl>
              <a:tblPr/>
              <a:tblGrid>
                <a:gridCol w="5618160"/>
                <a:gridCol w="3309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18720">
                      <a:solidFill>
                        <a:srgbClr val="a9cfc0"/>
                      </a:solidFill>
                    </a:lnB>
                    <a:solidFill>
                      <a:srgbClr val="596b2e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 слово ЧЕРЕПАХА на с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-РЕ-ПА-Х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1872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 по слогам, начиная с конц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-ПА-РЕ-Ч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  <a:tr h="153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, пропустив первый или несколько заданных с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-ПА-Х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d1d4cd"/>
                    </a:solidFill>
                  </a:tcPr>
                </a:tc>
              </a:tr>
              <a:tr h="153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й слово по заданной последовательности 2,4,1,3;    4,1,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-ХА-ЧЕ-П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-ЧЕ-ПА-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9cfc0"/>
                      </a:solidFill>
                    </a:lnL>
                    <a:lnR w="5760">
                      <a:solidFill>
                        <a:srgbClr val="a9cfc0"/>
                      </a:solidFill>
                    </a:lnR>
                    <a:lnT w="5760">
                      <a:solidFill>
                        <a:srgbClr val="a9cfc0"/>
                      </a:solidFill>
                    </a:lnT>
                    <a:lnB w="5760">
                      <a:solidFill>
                        <a:srgbClr val="a9cfc0"/>
                      </a:solidFill>
                    </a:lnB>
                    <a:solidFill>
                      <a:srgbClr val="eaeb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B17-487F-4684-9733-E0C8FA68192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8BAF-B26E-4595-992F-478830CEC00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4537080" cy="2735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2"/>
          <a:stretch/>
        </p:blipFill>
        <p:spPr>
          <a:xfrm>
            <a:off x="504720" y="708120"/>
            <a:ext cx="3778200" cy="2666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"/>
          <p:cNvPicPr/>
          <p:nvPr/>
        </p:nvPicPr>
        <p:blipFill>
          <a:blip r:embed="rId3"/>
          <a:stretch/>
        </p:blipFill>
        <p:spPr>
          <a:xfrm>
            <a:off x="4788000" y="698400"/>
            <a:ext cx="3948120" cy="2676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104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ика работы с изограф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5400" y="1341360"/>
            <a:ext cx="81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изографа и нахождение всех букв, «спрятанных»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ьное определение предмета, зашифрованного в изо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ние букв и звуков слова – изо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гласных и согласных букв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редложения со словом-изогра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других слов из слова-изо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39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0920" y="1052640"/>
            <a:ext cx="8281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годы значительно возросло количество детей, встречающихся с различными трудностями обучения в школе. Нарушение письма и чтения-од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амых назревших проблем в школьном обучении. Актуальность связана с необходимостью своевременного проведения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странению дисграфических ошибок, в  особен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с ЗПР, как предотвращение возникновения трудностей в усвоении общеобразовательной программы. В настоящее время является общепризнанным, что между недоразвитием устной речи и нарушениями письма и чтения у детей существует тесная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морской 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ем над ориентацией на плоскости, совершенствуем слоговой анализ и синтез, формируем активный и пассивный словар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предлагается игровое поле, на котором изображены корабли с написанными на них слогами: учитель/родитель называет место на поле, а дети отыскивают его и называют написанный на нем с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рабли называются в определенной последовательности, то из слогов можно составить слова. Для этого названные слоги выписывают и формируют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Речевой матери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Учитель/родитель:                Учащие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1, Д-7, А-9                   ТАН, КА, ПИ = КАПИ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8, Ж-4                          СКОЙ, МОР = МОР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В-8                                  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Б-4, К-7                          РЕГ, БЕ = БЕР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К-5, А-7                          ЯК, МА = МА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З-5, А-1                          ПРО, ЛИВ = ПРОЛ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Ж-7, Г-2, З-3                  РАБ, КО, ЛИ- КОРАБ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Ж-10, И-3                       РОД, ГО-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И-8, Д-3                          СИР, БУК- БУКС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Е-5, Б-6,                          БУХ, ТА- БУХ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Г-10, Б-2                         РОМ, ПА- ПА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И-6, Д-9                          ШТУР, ВАЛ- ШТУР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3F5-6D8B-48EC-A0C0-F0F239C03F2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268880" y="2940120"/>
            <a:ext cx="48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5400" y="764640"/>
            <a:ext cx="822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данные упражнения направлены не только на коррекцию письменной речи, но и на развитие высших психических функций: памяти, внимания, восприятия, мышления, речи, на развитие мелкой моторики, нормализацию эмоциональной сферы. Дидактические упражнения расширяют арсенал педагогических средств. У детей в игровой форме формируются необходимые предпосылки для успешного развития письменной речи, повышения речевой культуры, расширения словарного запаса, развития языкового чу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650-7FD9-48DF-82C6-D577FF06AD1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55640" y="691920"/>
            <a:ext cx="7848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связной речи отрицательно сказывается на организации свободного общения детей, приводит к затруднениям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витии речемыслительной и познавательной деятельности. Своевременная и целенаправленная работа по развитию связной речи будет способствовать развитию мыслительной деятельности, усвоению школьной программы, улучшению межличностного общения и социальной адаптации обучающихся с З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5400" y="1341000"/>
            <a:ext cx="8226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Axутина,  Т. В. Трудности письма и их нейропсихологическая диагностика [Текст] /Т. В.Ахутина –  Москва-Воронеж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Барылкина, Л.П., Матраева, И.П., Обухова, Л.А. Эти трудные согласные: Как помочь ребенку с нарушениями процесса письма и чтения. [Текст] / Л.П. Барылкина, И.П. Матраева, Л.А. Обухова –М.: Методическая библиотека, 2005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Boлкова, Г.А., Илюк, М.А. Методика динамического обследования детей с нарушениями речи [Текст] / Г.А. Волкова. – С.-П., 2002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Корнев А. Н. Нарушения чтения и письма у детей. — СПб., 1997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лаева Р. И. Нарушения чтения и пути их коррекции у младших школьников.— СПб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Лaлaева, Р.И. Логопедическая работа в коррекционных классах: метод. пособие для учителя-логопеда. [Текст] / Р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Лалаева. – М.: Гуманит. изд. центр ВЛАДОС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ешакова, Е.П. Русский язык: коррекционно – развивающие задания и упражнения. [Текст] / Автор-составитель Е.П. Плешакова. – Волгоград: Учитель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Тoкарева, О.А. Расстройства чтения и письма (дислексии и дисграфии) // Расстройства речи у детей и подростков [Текст] / Под ред. С.С. Ляпидевского. – М.: Просвещение, 1999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Плешакова, Е.П. Русский язык: коррекционно – развивающие задания и упражнения. [Текст] / Автор-составитель Е.П. Плешакова. – Волгоград: Учитель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261-C9F1-491D-A91C-08801C8CD5A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44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Arno Pro Display"/>
              </a:rPr>
              <a:t>Благодарю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C15-EE79-4B45-9736-1F1DBB3F38B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2016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85840" y="47592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рафия и дислекс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два родственных заболевания, что видно даже из сходства их названий. Оба образованы от древнегреческих корней («речь» и «письмо») с одинаковой приставкой отрицания. Это неспособность (или сложность) овладеть письмом при нормальном развитии интеллекта. В большинстве случаев дислексия и дисграфия наблюдаются у детей одновременно, хотя у некоторых они могут встречаться и по отдель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 детей с ЗПР наблюдаются следующие виды дисграф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графия на почве нарушения языкового анализа и синтеза; нарушения письма связаны с несформированностью процессов звукового анализа и синтеза, нарушением анализа предложений на слова, анализа текста на составляющие его пред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графия, связанная с нарушением фонематического распознавания; у детей с ЗПР чаще всего затруднена дифференциация свистящих и шипящих, звонких и глухих, твердых и мягких соглас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ческая дисграфия; в основе этого вида дисграфии лежит нарушение зрительно-пространственного анализа графических образов букв, определения их сходства и разли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дис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5760" y="1341360"/>
            <a:ext cx="8508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торно-акус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ка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ка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ус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, зуб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юбит - л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я языкового анализа и синт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оле-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е, наступила - 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амматиче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ка, лет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я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нь, доб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шибки написания зрительно похожих бук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ений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ений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уга-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уг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E2E-E655-4F7C-8769-DAD1CE35E8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688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исграфических ошибок, выявленные в процессе анализа учен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звукового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 гласных букв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анки – снки, молоко – мл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а букв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фрукты – фрутки, Суворов- Суров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а при скоплении соглас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двор – довр, кран – кар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лишней буквы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дружно – дуруж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авление гласной скопления соглас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ноябрь – нояба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фонематического вос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ные звонкие и глухие согласные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зима – с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иализованные гласны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(о – у: ручей – рочей; ё – ю: клюква – клёква, самолёт – самол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норные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 – л (смелый – смерый), (сойка – соль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стящие и шипящие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– ш (шишки – шиски), з – ж (железо – зелезо), с – щ (щенок – се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фрикаты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 – ц (грачи – граци), ц – с (курица – кури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6882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дисграфических ошибок, выявленные в процессе анализа ученичес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на уровне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слов, особенно служебных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… ветки елии сосны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деление в речи два самостоятельных слов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встало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щение границы слов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 деда Мороза. – У дедмо Рз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при самостоятельном словообраз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рука – рукища, хвост медведя – медведий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вык словообразования будет совершенствоваться, если предлагать детям заменять словосочетания одним слово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 голубыми глазами – голубоглазы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аоборот, заменять сложное слово словосочета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самовар – сам вар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на уровне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при согласовании. (большая белая пят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при управлении (на ветки деревь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71A-567E-42ED-A005-2F8A7C57673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13:05:26Z</dcterms:created>
  <dc:creator>7</dc:creator>
  <dc:description/>
  <dc:language>en-US</dc:language>
  <cp:lastModifiedBy>Кирилл</cp:lastModifiedBy>
  <dcterms:modified xsi:type="dcterms:W3CDTF">2022-12-18T01:36:29Z</dcterms:modified>
  <cp:revision>114</cp:revision>
  <dc:subject/>
  <dc:title>Тема урока:</dc:title>
</cp:coreProperties>
</file>