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C4C7-FB61-45ED-93B2-3C044A8379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921-F5B9-48A6-B2A3-FC1A79A3D4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694A-F413-4589-A7B8-91DE00CEF6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0EDE-F580-4E4B-ADA8-05B3915676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1521-ABB6-4D31-A475-85A4A39E1C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297-3B71-49AB-B559-6BD76526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C86-ECE2-4718-9129-9981DD0D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A4A36-39F6-4CBA-AEED-F8C0BC41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235AE-E5CD-48FD-89DE-18AD8D5A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A21BD-C8F7-46A2-8693-85030FB6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1F95D-2CA3-4A21-AA2A-E859B00C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F7778-2181-44AF-B4AE-C7CDBACE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863F6-9DB1-4BEC-B973-2054B3F2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625F4-E2CA-43F6-B743-A0F1D716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6099F-C67E-42FA-9954-CBF4E006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EA1B8-E680-40AD-A8AB-883D0A5C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B3C7E-F0BA-4E8A-9B02-AFA299E7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E6D-105C-4EE6-8927-8912639F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76C4A-3219-4BE1-89EA-EC1A1986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35BA3-B7FD-4615-9D45-193A3528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04365-E613-4BD1-9F95-AEAF067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2C987-8F57-4BDF-8444-8972CEDD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B82F6-6057-459A-A3D1-E5F1FB3B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A9B59-BD79-414D-B445-351AD7B4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94607-5380-4F5E-B29F-EC87B7A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E9508-2A93-48E9-8056-2D4893A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FC776-42FA-48C9-8BD2-1753DAA2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0EE44-90D7-4800-AC20-360427A6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F72-00EB-49EC-B0BF-D9C09E0A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DFA26-83EB-4C59-8710-D0CF19CA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CE7E-16C6-41A2-87BF-5429EF25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C43A-B088-416F-BDED-FF87148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EB9A-019A-41DF-A118-6614FF9D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247F-3D42-4492-BF8C-79431008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0D50-8DAC-410A-AAB4-85BEF354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94C2-53BF-44BD-9DC6-C67227DA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F78-E765-41DF-9E41-BA2CEF7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7C8-6397-4033-8381-3284E1F5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125B-FAEE-476D-A2C8-B15208E0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34B1-BCD3-4A58-8D5B-786A42C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1AC9-B8CC-4D1D-9154-855DA021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DE6E-2E71-488B-A40A-04F8D349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31FA-8128-4BBD-AE37-0F99BF26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AE8F-DF9F-49FE-AA10-2CAE9675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4DDD-9BF5-4A44-9678-E074DAF4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A123-3C7C-416E-BC04-909CC636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43E0-6954-4BF3-B169-1373A394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DA27-3F97-4F08-8B14-756A371F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3BD-CFE7-4464-B630-684B1415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1AB6-A0BC-4A4A-9F4B-E09A919D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9BAA-155D-47D2-82A9-307FA8A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FF35-FBAF-4A79-A8CD-EAFE3D1D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7A44-1958-44C0-9B2A-B87DA713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D91F-2F1B-41EB-A846-1B2D9B9D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AAE77-CAED-442A-9297-C32DDD17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195F-CB98-4F82-B20E-6080D2F0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C60BD-1F4A-42D5-BA3E-D6540876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C15E-6133-4907-8897-9A5CAC63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4969-0AD4-48D9-BF4C-D285D69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B3B-FE45-49A8-BD6E-840E9068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9E6C-9135-4249-BF8F-DF6CA641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BD61-DE7E-4E9A-87D2-4A5B0153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082D-F5BD-4D16-A001-ECE2A988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22933-2BE2-4F7B-92CC-275772A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D9CB-ACAE-4E8D-8512-94085220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A54A5-FA46-4DFD-B37C-C492A742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8749-4661-495E-804C-B335E25D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C306-7A9F-482B-A06D-2AEB4113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A1AD-CDF0-4ACA-B4E0-ADEE2574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CEED2-C363-4141-9473-64C7A0C2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4D8-992A-4063-AE52-BFE3234C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8062-9BF1-40AB-A2EC-70C95FD9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1DAA6-F07E-443F-8561-290B50F1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EC8A-5B15-4566-880E-D319D4D4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62B0C-AC01-48A4-A4CC-15A8FCD2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D20B3-17A2-4FBD-968A-BADC1740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3EE42-92D1-409C-B9DF-FB59146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C1B3C-E037-4864-98F8-6C6CADE7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0224-5BE9-4927-BC29-A8C16E8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C8599-C791-469B-8B89-E41341F5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47001-EBEB-4122-BE84-21667CFB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610-BB04-460D-9649-5E4ED3F1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9F376-86B2-409E-89F1-E2245C78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CCB1-9E1C-45FD-BEAA-0759C2B2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FFC0-8468-4776-B36B-26A2A750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69436-2C5C-4CB9-BCC7-FA8561BA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276D-C8E4-4744-8EF7-98103595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BE5B2-2F8D-4686-BEC9-8DD0BB2D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6180B-6CAD-43C8-9AA4-E2B4DB9E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21594-0F90-43AA-9CA6-B089B07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1BB9B-B959-4173-ABC9-33DD8B3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D5118-0CD7-4648-AF46-A58CC2D0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E6D-3791-470C-872E-93D230B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DCA7-4B7A-4087-99DD-9FF98B2E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3A3FA-8C2F-4ED7-A6B6-37752EA7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C2341-44F9-4F25-A33B-98A506D1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B7C05-C7F4-43E6-8374-686ECBB1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ADF9A-33CF-4948-8788-2FD8420D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A5034-0B0D-4216-B77C-DA184F5A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8FD90-E84A-4F5E-88DA-67C3D966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4FBFD-7538-434A-B43A-C998BD79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97D20-DD58-4F14-A646-AD16513F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A5D91-B5D6-4553-BFB4-17FAEC8C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787-4233-4F29-8729-FAA736B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B6941-C7F4-4761-9403-56EF558D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A2D4E-344F-404A-984B-5160817C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AE3D9-654A-469B-B594-1EC5B40E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AA92-558F-45EA-ADE7-8D9F8881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D185-5EF0-4395-B0D3-9888197A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2E9CE-2EE7-44B9-BEB1-38CA21C4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640C-9C47-4AD6-970C-4D474F8B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5B274-C422-4C36-B153-5FEB06B8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4F66E-9EE0-4EA9-9AA0-793CE15B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276BC-8A37-4DD7-97C9-3A72AC7E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5E0-DE34-43F0-9157-6D50657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AEF99-46B7-4D9B-8C2F-66261264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1CD5E-38A6-410F-B703-710D42B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5395C-6A3E-4025-B691-164B7696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D377C-1369-4FA2-9D08-4B212B5C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38165-F7E6-4D44-89B5-63CC2908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60620-87FA-4042-A91A-2100C043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ED4D9-B474-4F55-AEC0-0C20B451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16751-8B1F-44F1-87D3-EB06BD08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0E9A4-0B25-4252-907E-12B555FE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EFE4E-115F-47AC-BBDE-CD44223A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87F2-D919-4693-9957-03A6A51A61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C18-C43B-43EB-ADB9-EA37AE98C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CB3-762A-4892-BBAF-85932BB0AC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61B1-3A0E-4C0A-9B7F-02A9517BF0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E5B0-2DEE-48E8-B57F-77BDEBC80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6927-2480-4DC3-9372-B209C99C1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1E61-520F-4B25-A746-EC7953A931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88AB-CCF7-40AC-9881-5F624E0E99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C63-1AB6-4569-B20C-CF11C3B655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723A-A16D-4D4D-8E14-0CBA24324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85806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Коррекция дисграфии при нарушении письменной и связной речи у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635280" y="4652640"/>
            <a:ext cx="55087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учитель русского языка и литературы  Иванов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"/>
          <p:cNvSpPr/>
          <p:nvPr/>
        </p:nvSpPr>
        <p:spPr>
          <a:xfrm>
            <a:off x="2124000" y="260280"/>
            <a:ext cx="42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КУ С(К)ООШ №22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и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760" y="188640"/>
            <a:ext cx="86882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выки чтения как основа успешной 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5400" y="1267920"/>
            <a:ext cx="84373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– это первый и основной навык, который должен обязательно предшествовать обучению письму. Если ученик плохо читает, у него обязательно будет низкая грамотность. Успешное овладение чтением способствует развитию словаря и грамматического строя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нение, что когда чтению и письму детей учат одновременно и параллельно (то есть в соответствии с программой общеобразовательной школы), то обычно получают стойкую дисграфию (часто вместе с дислексией). Нарушается формирование того и другого навы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B4CB-1E5F-4A07-847F-E507A3EFE50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2090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я связной речи у детей с З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5760" y="1267920"/>
            <a:ext cx="8364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познавательной деятельности детей с ЗПР, их психофизическое развитие изменяют процесс овладения ими речевой функцией и определяют своеобразие их речевого развития: ограниченность словаря, бедность грамматических конструкций, затруднения при развёрнутом связном высказы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формированность связной речи является серьезным препятствием для успешной учёбы. Только обладая хорошо развитой связной речью, учащиеся могут давать развернутые ответы на сложные вопросы школьной программы последовательно и полно, аргументированно и логично излагать свои собственные суждения; воспроизводить содержание текстов из учебников, произведений художественной литературы. Наконец, непременным условием для написания изложений и сочинений является достаточно высокий уровень развития связной речи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643280" y="691920"/>
            <a:ext cx="43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едко учителя объясняют дисграфические ошибки  личностными качествами учеников: неумением слушать объяснение учителя, невнимательностью при письме, небрежным отношением к работ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учащиеся, имеющие выраженные, по сравнению с другими, особенности вос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ереработки информации, часто остаются один на один со своими трудностями, которые постепенно перерастают в стойкую неуспешность в учебной деятельности, в том числе и в пис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1"/>
          <a:stretch/>
        </p:blipFill>
        <p:spPr>
          <a:xfrm rot="21221400">
            <a:off x="461880" y="669600"/>
            <a:ext cx="3743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подходы к организации коррекционной работы для детей с З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50560" y="907920"/>
            <a:ext cx="8785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ние коррекционного обучения с лечебно-оздоровительными мероприят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индивидуальных и личностных особенностей детей. Работоспособность у учащихся с ЗПР на занятии дли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-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 заданий, максимально возбуждающих активность ребенка, пробуждающие у него потребность в познавательной деятельности, требующих разнообраз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многократных указаний, 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вторное объяснение материала и подбор дополнительных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онный материал должен преподноситься небольшими до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ключение внимание ребенка с одного вида деятельности на другой в процессе зан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на занятиях красочного дидактического материала и игровых мо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е большого такта со стороны учителя. Доброжелательный тон, поощрение его за малейшие успе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ым моментом в организации системы коррекционно-развивающего обучения является мониторинг, динамическое наблюдение за продвижением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ректирующие упраж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2AA8-D457-42A6-BA80-653AD5AEB13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1280" y="1052280"/>
            <a:ext cx="8208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ишем вслу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ё, что пишется, проговаривается пишущим вслух в момент написания и так, как оно пишется, с подчеркиванием, выделением звуков, на которые при произнесении в беглой речи говорящий уделяет наименьшее внимание. Например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 стОле стОЯл куВшин С мОлОком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едь на самом деле мы произноси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 стале стаял куфшин с малако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гласных звуков это любое безударное положение, для согласных, например, позиция в конце слова, тип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у*п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еред глухим согласным, тип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ло*шка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отчетливо проговаривать также конец слова, поскольку для дисграфика дописать слово до конца трудно, и часто по этой причине вырабатывается дописывать в конце слова неопределенное количество закорючек, которые при беглом просмотре можно принять за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, включаемые в учебный процесс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5400" y="1267920"/>
            <a:ext cx="8226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спознавание букв, обозначающих свистящие и шипящи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нстру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черкни одной черт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черкни двумя чер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веди в круж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черк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 А С С Ж Ь И Р З Ж Л И Т И Я В А Р Ч С И Л С В Д Л Б М А Л О П М Н Ы Т К Д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У Ф С Ю Р А Ш В Ф Ч Я Е Ъ Щ Ч Я Й Г Н Ь Б Ю Э Х Ж П Ч Ц Р С П Н Щ Т В Ш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, включаемые в учебный процесс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5400" y="1341360"/>
            <a:ext cx="822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Инструк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слова с шипящ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и одно слово от друг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други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ШНЯБЛОНЯАПРЕЛЬНИККИПАРИСПАРИНАПЁРСТОКРЕПКОП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ПУЧИЙОДОММАЛЫШПАЛАНДЫШАНХЩУПАЛЬЦЫЧИСЛОП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ение «Корректурная правка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пражнение развивает узнавание и внима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B7AC-6350-45A9-BCB3-2264BF0660D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5400" y="1483920"/>
            <a:ext cx="822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упражнения нужна книжка, скучная и с достаточно крупным шрифтом. Ученик каждый день в течение пяти (не больше) минут работает над следующим заданием: зачеркивает в сплошном тексте заданные буквы. Начать нужно с одной буквы, например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те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о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ьше согласные, с которыми есть проблемы, сначала их тоже нужно задавать по одной. Через 5-6 дней таких занятий переходим на две буквы, одна зачеркивается, другая подчеркивается или обводится в кружочек. Буквы должны быть «парными», «похожими» в сознании ребенка. Например, наиболее часто сложности возникают с парам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/т», «п/р», «м/л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ходство написания);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г/д», «у/ю», «д/б»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ше, если текст не будет прочитан. Все внимание необходимо сконцентрировать на нахождении заданного облика буквы, одной или двух, – и работать только с ни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зрительного представления о букве. Формирование способности быстрого схватывания одного и даже нескольких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95280" y="1599840"/>
            <a:ext cx="856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Перевёрнутый текст "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траница обычного текста поворачивается на 90,180, 270 градусов. Ученик должен, двигая глазами справа налево, прочитать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азвивать умение видеть слова, написанные разным шриф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Деформированный тек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 выпал идут первый в пушистый школу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. У ребята них вышли в руках на портфели 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7084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71320" y="1785960"/>
            <a:ext cx="80326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дисграфии и организация коррекционной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её устранению у учащихся с ЗП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68824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Arial"/>
              </a:rPr>
              <a:t>"Я знаю пять слов".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Arial"/>
              </a:rPr>
              <a:t>Цель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вивать координацию движений; расширять словарный запас; находить нужные сло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Ход игр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бёнок произносит ряд слов, одновременно с каждым словом ударяя мяч об по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051C-6127-4D93-A41D-96CEAB9AA6C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08000" y="1773360"/>
          <a:ext cx="8856720" cy="4680000"/>
        </p:xfrm>
        <a:graphic>
          <a:graphicData uri="http://schemas.openxmlformats.org/drawingml/2006/table">
            <a:tbl>
              <a:tblPr/>
              <a:tblGrid>
                <a:gridCol w="2495520"/>
                <a:gridCol w="2008080"/>
                <a:gridCol w="2001960"/>
                <a:gridCol w="2351160"/>
              </a:tblGrid>
              <a:tr h="7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Правой рук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Левой рук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Двумя рук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Руками поочеред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ю пять слов со звуком «С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ю пять слов со звуком «З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ю четыре слова со звуками «С» и «З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ю пять слов со звуком «С» и «З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лат-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ц-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-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а-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а-д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а-д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бра-д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ь-д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ки-т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я-т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-т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езда-т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ёт-четы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т-четы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о-четы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ея-пя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532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-пя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убы-пя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опытны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развитие фонематических представлений и воображения, развитие навыков структурирования предложен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д игры: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 объясняет суть игры и показывает образец. Выбирается звук, на который будут начинаться слова в предложении. Педагог задаёт вопрос и бросает мяч ребёнку. Учащиеся должны ответить так, чтобы слова ответа начинались с заданного звук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-15840" y="2492280"/>
          <a:ext cx="9112320" cy="3384720"/>
        </p:xfrm>
        <a:graphic>
          <a:graphicData uri="http://schemas.openxmlformats.org/drawingml/2006/table">
            <a:tbl>
              <a:tblPr/>
              <a:tblGrid>
                <a:gridCol w="2568600"/>
                <a:gridCol w="2065320"/>
                <a:gridCol w="2060640"/>
                <a:gridCol w="2417760"/>
              </a:tblGrid>
              <a:tr h="992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К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Что сдел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Ком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Ч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857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ст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т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  <a:tr h="992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а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ро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активизировать все анализаторы, принимающие участие в письменной речи; закрепить звукобуквенный анализ слов; различать гласные и со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79280" y="2205000"/>
          <a:ext cx="8810640" cy="3600360"/>
        </p:xfrm>
        <a:graphic>
          <a:graphicData uri="http://schemas.openxmlformats.org/drawingml/2006/table">
            <a:tbl>
              <a:tblPr/>
              <a:tblGrid>
                <a:gridCol w="4321440"/>
                <a:gridCol w="4489200"/>
              </a:tblGrid>
              <a:tr h="36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Составь слова из данных букв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(л,к,ж,у,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(р,ы,б,а,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Лужа, жук, лук, уж, ла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Рыба, бык, рак, бак, краб, брак, рыб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активизировать все анализаторы, принимающие участие в письменной речи; закрепить звукобуквенный анализ слов; различать гласные и со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79280" y="2205000"/>
          <a:ext cx="8810640" cy="3600360"/>
        </p:xfrm>
        <a:graphic>
          <a:graphicData uri="http://schemas.openxmlformats.org/drawingml/2006/table">
            <a:tbl>
              <a:tblPr/>
              <a:tblGrid>
                <a:gridCol w="4321440"/>
                <a:gridCol w="4489200"/>
              </a:tblGrid>
              <a:tr h="36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Расшифруй слова и назови одним слово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а) п,и,к,а,т, т,ф,и,у,л, б,и,и,т,н,о,к, г,а,о,п,и,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б) ь,о,ч,н, ч,е,е,р,в, у,о,р,т, н,е,д,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а) тапки, туфли, ботинки, сапоги - обув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б)ночь, утро, вечер, день - сут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активизировать все анализаторы, принимающие участие в письменной речи; закрепить звукобуквенный анализ слов; различать гласные и со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79280" y="2205000"/>
          <a:ext cx="8810640" cy="3600360"/>
        </p:xfrm>
        <a:graphic>
          <a:graphicData uri="http://schemas.openxmlformats.org/drawingml/2006/table">
            <a:tbl>
              <a:tblPr/>
              <a:tblGrid>
                <a:gridCol w="4321440"/>
                <a:gridCol w="4489200"/>
              </a:tblGrid>
              <a:tr h="36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"Арабское письмо".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Записать слова, начиная с правой стороны строчки и наоборот, то есть задом наперёд, при нормальном чтении (слева направо) слова должны читаться в их естественном виде. Начинать с коротких сл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(карандаш, окно, книга, домик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школу в идут де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(Дети идут в школу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Путаница"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ожных словах дети часто при чтении и письме пропускают или меняют местами буквы и слоги, укорачивают слово. Выполняя это упражнение, произнося бессмысленные слова, развиваем навык правильного чтения, т.к. это сложнее, чем читать знакомое слово, которое дети могут прочитать по дога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69FA-EDB4-46B3-A482-073AD047443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08000" y="1446120"/>
          <a:ext cx="8928000" cy="5324400"/>
        </p:xfrm>
        <a:graphic>
          <a:graphicData uri="http://schemas.openxmlformats.org/drawingml/2006/table">
            <a:tbl>
              <a:tblPr/>
              <a:tblGrid>
                <a:gridCol w="5618160"/>
                <a:gridCol w="3309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 слово ЧЕРЕПАХА на сло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-РЕ-ПА-Х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й слово по слогам, начиная с конц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-ПА-РЕ-Ч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  <a:tr h="153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й слово, пропустив первый или несколько заданных с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-ПА-Х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153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й слово по заданной последовательности 2,4,1,3;    4,1,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-ХА-ЧЕ-ПА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-ЧЕ-ПА-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1B36-8046-440F-8E5B-7B080198811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DC72-30F1-4936-A178-A4C97877B65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4537080" cy="2735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2"/>
          <a:stretch/>
        </p:blipFill>
        <p:spPr>
          <a:xfrm>
            <a:off x="504720" y="708120"/>
            <a:ext cx="3778200" cy="26668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"/>
          <p:cNvPicPr/>
          <p:nvPr/>
        </p:nvPicPr>
        <p:blipFill>
          <a:blip r:embed="rId3"/>
          <a:stretch/>
        </p:blipFill>
        <p:spPr>
          <a:xfrm>
            <a:off x="4788000" y="698400"/>
            <a:ext cx="3948120" cy="26766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104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тодика работы с изограф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5400" y="1341360"/>
            <a:ext cx="8148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ние изографа и нахождение всех букв, «спрятанных»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уальное определение предмета, зашифрованного в изогра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ние букв и звуков слова – изог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гласных и согласных букв в 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предложения со словом-изограф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других слов из слова-изог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9390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0920" y="1052640"/>
            <a:ext cx="8281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ние годы значительно возросло количество детей, встречающихся с различными трудностями обучения в школе. Нарушение письма и чтения-од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амых назревших проблем в школьном обучении. Актуальность связана с необходимостью своевременного проведения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странению дисграфических ошибок, в  особен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с ЗПР, как предотвращение возникновения трудностей в усвоении общеобразовательной программы. В настоящее время является общепризнанным, что между недоразвитием устной речи и нарушениями письма и чтения у детей существует тесная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морской 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ем над ориентацией на плоскости, совершенствуем слоговой анализ и синтез, формируем активный и пассивный словарь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предлагается игровое поле, на котором изображены корабли с написанными на них слогами: учитель/родитель называет место на поле, а дети отыскивают его и называют написанный на нем с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корабли называются в определенной последовательности, то из слогов можно составить слова. Для этого названные слоги выписывают и формируют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Речевой матери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Учитель/родитель:                Учащие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Е-1, Д-7, А-9                   ТАН, КА, ПИ = КАПИ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Е-8, Ж-4                          СКОЙ, МОР = МОР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В-8                                  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Б-4, К-7                          РЕГ, БЕ = БЕР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К-5, А-7                          ЯК, МА = МАЯ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З-5, А-1                          ПРО, ЛИВ = ПРОЛ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Ж-7, Г-2, З-3                  РАБ, КО, ЛИ- КОРАБ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Ж-10, И-3                       РОД, ГО-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И-8, Д-3                          СИР, БУК- БУКС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Е-5, Б-6,                          БУХ, ТА- БУХ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Г-10, Б-2                         РОМ, ПА- ПА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И-6, Д-9                          ШТУР, ВАЛ- ШТУР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21CD-1474-4CFF-93CB-BCCB8C603C7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268880" y="2940120"/>
            <a:ext cx="482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5400" y="764640"/>
            <a:ext cx="8226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данные упражнения направлены не только на коррекцию письменной речи, но и на развитие высших психических функций: памяти, внимания, восприятия, мышления, речи, на развитие мелкой моторики, нормализацию эмоциональной сферы. Дидактические упражнения расширяют арсенал педагогических средств. У детей в игровой форме формируются необходимые предпосылки для успешного развития письменной речи, повышения речевой культуры, расширения словарного запаса, развития языкового чу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4B0D-931F-4C6D-96C4-6BD2DD1AAD3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755640" y="691920"/>
            <a:ext cx="7848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развитие связной речи отрицательно сказывается на организации свободного общения детей, приводит к затруднениям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витии речемыслительной и познавательной деятельности. Своевременная и целенаправленная работа по развитию связной речи будет способствовать развитию мыслительной деятельности, усвоению школьной программы, улучшению межличностного общения и социальной адаптации обучающихся с З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5400" y="1341000"/>
            <a:ext cx="8226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Axутина,  Т. В. Трудности письма и их нейропсихологическая диагностика [Текст] /Т. В.Ахутина –  Москва-Воронеж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Барылкина, Л.П., Матраева, И.П., Обухова, Л.А. Эти трудные согласные: Как помочь ребенку с нарушениями процесса письма и чтения. [Текст] / Л.П. Барылкина, И.П. Матраева, Л.А. Обухова –М.: Методическая библиотека, 2005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Boлкова, Г.А., Илюк, М.А. Методика динамического обследования детей с нарушениями речи [Текст] / Г.А. Волкова. – С.-П., 2002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Корнев А. Н. Нарушения чтения и письма у детей. — СПб., 1997,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лаева Р. И. Нарушения чтения и пути их коррекции у младших школьников.— СПб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Лaлaева, Р.И. Логопедическая работа в коррекционных классах: метод. пособие для учителя-логопеда. [Текст] / Р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Лалаева. – М.: Гуманит. изд. центр ВЛАДОС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ешакова, Е.П. Русский язык: коррекционно – развивающие задания и упражнения. [Текст] / Автор-составитель Е.П. Плешакова. – Волгоград: Учитель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Тoкарева, О.А. Расстройства чтения и письма (дислексии и дисграфии) // Расстройства речи у детей и подростков [Текст] / Под ред. С.С. Ляпидевского. – М.: Просвещение, 1999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Плешакова, Е.П. Русский язык: коррекционно – развивающие задания и упражнения. [Текст] / Автор-составитель Е.П. Плешакова. – Волгоград: Учитель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5991-EC37-4614-9E4E-EE56D6CEA8F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1440" y="1700280"/>
            <a:ext cx="9144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Arno Pro Display"/>
              </a:rPr>
              <a:t>Благодарю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7D57-8882-446D-933C-C106532E95A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20160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85840" y="475920"/>
            <a:ext cx="85341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графия и дислекс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два родственных заболевания, что видно даже из сходства их названий. Оба образованы от древнегреческих корней («речь» и «письмо») с одинаковой приставкой отрицания. Это неспособность (или сложность) овладеть письмом при нормальном развитии интеллекта. В большинстве случаев дислексия и дисграфия наблюдаются у детей одновременно, хотя у некоторых они могут встречаться и по отдельност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 детей с ЗПР наблюдаются следующие виды дисграф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графия на почве нарушения языкового анализа и синтеза; нарушения письма связаны с несформированностью процессов звукового анализа и синтеза, нарушением анализа предложений на слова, анализа текста на составляющие его пред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графия, связанная с нарушением фонематического распознавания; у детей с ЗПР чаще всего затруднена дифференциация свистящих и шипящих, звонких и глухих, твердых и мягких соглас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ческая дисграфия; в основе этого вида дисграфии лежит нарушение зрительно-пространственного анализа графических образов букв, определения их сходства и разли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дис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5760" y="1341360"/>
            <a:ext cx="8508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торно-акустическ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ка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ка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устическ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блик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к, зуб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юбит - л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я языкового анализа и синте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оле-н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е, наступила - н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п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амматическ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ка, летн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я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нь, добр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шибки написания зрительно похожих бук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ений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ений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уга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уг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99EC-05FA-4C69-9FDF-FC7C3CF936D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6882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дисграфических ошибок, выявленные в процессе анализа учениче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звукового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 гласных букв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санки – снки, молоко – мл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новка букв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фрукты – фрутки, Суворов- Суров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новка при скоплении согласных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двор – довр, кран – кар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е лишней буквы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дружно – дуруж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бавление гласной скопления согласных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ноябрь – ноябар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фонематического вос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ные звонкие и глухие согласные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зима – с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иализованные гласны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(о – у: ручей – рочей; ё – ю: клюква – клёква, самолёт – самолю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норные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 – л (смелый – смерый), (сойка – соль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истящие и шипящие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– ш (шишки – шиски), з – ж (железо – зелезо), с – щ (щенок – се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фрикаты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 – ц (грачи – граци), ц – с (курица – кури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дисграфических ошибок, выявленные в процессе анализа ученически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на уровне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тное написание слов, особенно служебных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… ветки елии сосны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деление в речи два самостоятельных слова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всталосолн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щение границы слова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У деда Мороза. – У дедмо Рз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при самостоятельном словообраз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рука – рукища, хвост медведя – медведий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вык словообразования будет совершенствоваться, если предлагать детям заменять словосочетания одним слово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с голубыми глазами – голубоглазый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аоборот, заменять сложное слово словосочетание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самовар – сам вар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на уровне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ки при согласовании. (большая белая пят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ки при управлении (на ветки деревья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4587-8C11-4EA6-B1EB-61BBF827CDC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13:05:26Z</dcterms:created>
  <dc:creator>7</dc:creator>
  <dc:description/>
  <dc:language>en-US</dc:language>
  <cp:lastModifiedBy>Кирилл</cp:lastModifiedBy>
  <dcterms:modified xsi:type="dcterms:W3CDTF">2022-12-18T01:36:29Z</dcterms:modified>
  <cp:revision>114</cp:revision>
  <dc:subject/>
  <dc:title>Тема урока:</dc:title>
</cp:coreProperties>
</file>