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BAD-32EE-4C14-857B-E88AEF7B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229-9A66-4534-9C2E-88ED9ABF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E3A-3BE8-4F4E-912F-C8B28804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D49-D28F-4BDA-A0BC-87EFCA39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600-92C6-4EFC-A874-C53653CA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519-5441-41A4-B6F4-5E592D3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E5E-A365-4B5B-89E8-F96B1B52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48A-45B1-4B79-8C14-E0A68F53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3EC-09A1-40E4-A740-CBC58051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0FA-723E-4435-8310-9B00732F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4C3-DE10-41CF-B07B-1EB9E0CF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81F-B6F3-48FB-8B5C-53EA04CE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3381-443F-409F-AD85-900FA8C2D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1800000" cy="11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7215120" y="200016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7143840" y="142920"/>
            <a:ext cx="1727280" cy="160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7143840" y="3571920"/>
            <a:ext cx="1833480" cy="137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214200" y="1714680"/>
            <a:ext cx="178596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6"/>
          <a:stretch/>
        </p:blipFill>
        <p:spPr>
          <a:xfrm>
            <a:off x="214200" y="3214800"/>
            <a:ext cx="1833840" cy="13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7"/>
          <a:stretch/>
        </p:blipFill>
        <p:spPr>
          <a:xfrm>
            <a:off x="214200" y="4857840"/>
            <a:ext cx="1892520" cy="126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8"/>
          <a:stretch/>
        </p:blipFill>
        <p:spPr>
          <a:xfrm>
            <a:off x="7072200" y="5357880"/>
            <a:ext cx="1914480" cy="987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9"/>
          <a:stretch/>
        </p:blipFill>
        <p:spPr>
          <a:xfrm>
            <a:off x="3000240" y="1071720"/>
            <a:ext cx="32148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214200" y="642960"/>
            <a:ext cx="857268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аспорт несет главную, но упрощенную информацию о человеке. Также и в геометрии. Чертеж в задаче может быть очень сложный, но самую главную информацию можно перенести на одну-единственную прямую и тогда будет легче найти соотнош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А. Доро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 rot="20097600">
            <a:off x="1081080" y="3282480"/>
            <a:ext cx="1962000" cy="28400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ая соединительная линия 4"/>
          <p:cNvSpPr/>
          <p:nvPr/>
        </p:nvSpPr>
        <p:spPr>
          <a:xfrm flipV="1">
            <a:off x="5143680" y="3428640"/>
            <a:ext cx="2000160" cy="25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6"/>
          <p:cNvSpPr/>
          <p:nvPr/>
        </p:nvSpPr>
        <p:spPr>
          <a:xfrm>
            <a:off x="7143840" y="3429000"/>
            <a:ext cx="642960" cy="26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8"/>
          <p:cNvSpPr/>
          <p:nvPr/>
        </p:nvSpPr>
        <p:spPr>
          <a:xfrm flipV="1">
            <a:off x="5572080" y="4142880"/>
            <a:ext cx="28576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"/>
          <p:cNvSpPr/>
          <p:nvPr/>
        </p:nvSpPr>
        <p:spPr>
          <a:xfrm flipV="1">
            <a:off x="5143680" y="5000760"/>
            <a:ext cx="285732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142920" y="280800"/>
            <a:ext cx="878688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Calibri"/>
              </a:rPr>
              <a:t>Геометрия полна приключений, потому что за каждой задачей скрывается приключение мысли. Решить задачу – это значит пережить приключ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(В. Произв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143680" y="4286160"/>
            <a:ext cx="361440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1357200" y="150012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Monotype Corsiva"/>
                <a:ea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7628040" cy="32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линейный паспорт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Райнбо"/>
          <p:cNvPicPr/>
          <p:nvPr/>
        </p:nvPicPr>
        <p:blipFill>
          <a:blip r:embed="rId1"/>
          <a:stretch/>
        </p:blipFill>
        <p:spPr>
          <a:xfrm>
            <a:off x="468360" y="4437000"/>
            <a:ext cx="7272360" cy="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364400" y="450864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  <a:ea typeface="Arial"/>
              </a:rPr>
              <a:t>Я – «паспортная прям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F11.MP3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3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3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3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430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Основа мето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7701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обобщённая теорема Фалес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0" t="0" r="0" b="60705"/>
          <a:stretch/>
        </p:blipFill>
        <p:spPr>
          <a:xfrm>
            <a:off x="214200" y="1571760"/>
            <a:ext cx="6000840" cy="262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rcRect l="0" t="64981" r="3570" b="0"/>
          <a:stretch/>
        </p:blipFill>
        <p:spPr>
          <a:xfrm>
            <a:off x="2857680" y="4286160"/>
            <a:ext cx="57862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Основа мето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7701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при проецировании на «паспортную» прямую нельзя проводить прямые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Book Antiqua"/>
              </a:rPr>
              <a:t>параллельные тем</a:t>
            </a: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, на которых есть рассматриваемые отнош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20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67"/>
          <p:cNvGrpSpPr/>
          <p:nvPr/>
        </p:nvGrpSpPr>
        <p:grpSpPr>
          <a:xfrm>
            <a:off x="5002920" y="1857240"/>
            <a:ext cx="2160360" cy="3522240"/>
            <a:chOff x="5002920" y="1857240"/>
            <a:chExt cx="2160360" cy="3522240"/>
          </a:xfrm>
        </p:grpSpPr>
        <p:grpSp>
          <p:nvGrpSpPr>
            <p:cNvPr id="62" name="Группа 44"/>
            <p:cNvGrpSpPr/>
            <p:nvPr/>
          </p:nvGrpSpPr>
          <p:grpSpPr>
            <a:xfrm>
              <a:off x="5002920" y="1857240"/>
              <a:ext cx="2160360" cy="3522240"/>
              <a:chOff x="5002920" y="1857240"/>
              <a:chExt cx="2160360" cy="3522240"/>
            </a:xfrm>
          </p:grpSpPr>
          <p:grpSp>
            <p:nvGrpSpPr>
              <p:cNvPr id="63" name="Группа 40"/>
              <p:cNvGrpSpPr/>
              <p:nvPr/>
            </p:nvGrpSpPr>
            <p:grpSpPr>
              <a:xfrm>
                <a:off x="5002920" y="1857240"/>
                <a:ext cx="2160360" cy="3522240"/>
                <a:chOff x="5002920" y="1857240"/>
                <a:chExt cx="2160360" cy="3522240"/>
              </a:xfrm>
            </p:grpSpPr>
            <p:grpSp>
              <p:nvGrpSpPr>
                <p:cNvPr id="64" name="Группа 32"/>
                <p:cNvGrpSpPr/>
                <p:nvPr/>
              </p:nvGrpSpPr>
              <p:grpSpPr>
                <a:xfrm>
                  <a:off x="5002920" y="1857240"/>
                  <a:ext cx="2160360" cy="3522240"/>
                  <a:chOff x="5002920" y="1857240"/>
                  <a:chExt cx="2160360" cy="3522240"/>
                </a:xfrm>
              </p:grpSpPr>
              <p:sp>
                <p:nvSpPr>
                  <p:cNvPr id="65" name="Равнобедренный треугольник 23"/>
                  <p:cNvSpPr/>
                  <p:nvPr/>
                </p:nvSpPr>
                <p:spPr>
                  <a:xfrm>
                    <a:off x="5357880" y="2142720"/>
                    <a:ext cx="1428480" cy="2071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Прямая соединительная линия 24"/>
                  <p:cNvSpPr/>
                  <p:nvPr/>
                </p:nvSpPr>
                <p:spPr>
                  <a:xfrm flipH="1">
                    <a:off x="6072120" y="2142000"/>
                    <a:ext cx="1440" cy="2102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TextBox 25"/>
                  <p:cNvSpPr/>
                  <p:nvPr/>
                </p:nvSpPr>
                <p:spPr>
                  <a:xfrm>
                    <a:off x="5002920" y="407232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rPr>
                      <a:t>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TextBox 26"/>
                  <p:cNvSpPr/>
                  <p:nvPr/>
                </p:nvSpPr>
                <p:spPr>
                  <a:xfrm>
                    <a:off x="6860520" y="4000680"/>
                    <a:ext cx="302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rPr>
                      <a:t>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TextBox 28"/>
                  <p:cNvSpPr/>
                  <p:nvPr/>
                </p:nvSpPr>
                <p:spPr>
                  <a:xfrm>
                    <a:off x="6002640" y="1857240"/>
                    <a:ext cx="305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rPr>
                      <a:t>В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TextBox 29"/>
                  <p:cNvSpPr/>
                  <p:nvPr/>
                </p:nvSpPr>
                <p:spPr>
                  <a:xfrm>
                    <a:off x="5931360" y="4215240"/>
                    <a:ext cx="291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rPr>
                      <a:t>Е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Прямая соединительная линия 30"/>
                  <p:cNvSpPr/>
                  <p:nvPr/>
                </p:nvSpPr>
                <p:spPr>
                  <a:xfrm>
                    <a:off x="6357960" y="4143600"/>
                    <a:ext cx="0" cy="142560"/>
                  </a:xfrm>
                  <a:prstGeom prst="line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Прямая соединительная линия 31"/>
                  <p:cNvSpPr/>
                  <p:nvPr/>
                </p:nvSpPr>
                <p:spPr>
                  <a:xfrm>
                    <a:off x="5643360" y="4143600"/>
                    <a:ext cx="0" cy="142560"/>
                  </a:xfrm>
                  <a:prstGeom prst="line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Box 72"/>
                  <p:cNvSpPr/>
                  <p:nvPr/>
                </p:nvSpPr>
                <p:spPr>
                  <a:xfrm>
                    <a:off x="6786360" y="5072400"/>
                    <a:ext cx="2854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" name="Прямая соединительная линия 38"/>
                <p:cNvSpPr/>
                <p:nvPr/>
              </p:nvSpPr>
              <p:spPr>
                <a:xfrm flipV="1">
                  <a:off x="5357160" y="3714480"/>
                  <a:ext cx="1214280" cy="5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Box 39"/>
                <p:cNvSpPr/>
                <p:nvPr/>
              </p:nvSpPr>
              <p:spPr>
                <a:xfrm>
                  <a:off x="6645960" y="3429000"/>
                  <a:ext cx="30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Box 43"/>
              <p:cNvSpPr/>
              <p:nvPr/>
            </p:nvSpPr>
            <p:spPr>
              <a:xfrm>
                <a:off x="5717520" y="357192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Прямоугольник 65"/>
            <p:cNvSpPr/>
            <p:nvPr/>
          </p:nvSpPr>
          <p:spPr>
            <a:xfrm>
              <a:off x="6287760" y="2786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5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66"/>
            <p:cNvSpPr/>
            <p:nvPr/>
          </p:nvSpPr>
          <p:spPr>
            <a:xfrm>
              <a:off x="6644880" y="3786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Прямоугольник 1"/>
          <p:cNvSpPr/>
          <p:nvPr/>
        </p:nvSpPr>
        <p:spPr>
          <a:xfrm>
            <a:off x="1000080" y="28584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внобедренном треугольнике точка Е -середина основания АС, а точка К делит сторону ВС в отношении 2:5, считая от вершины С. Найдите отношение, в котором прямая ВЕ делит отрезок 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"/>
          <p:cNvSpPr/>
          <p:nvPr/>
        </p:nvSpPr>
        <p:spPr>
          <a:xfrm flipH="1">
            <a:off x="4427640" y="1428840"/>
            <a:ext cx="1440" cy="521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503720" y="16430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59353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внобедренный треугольник 8"/>
          <p:cNvSpPr/>
          <p:nvPr/>
        </p:nvSpPr>
        <p:spPr>
          <a:xfrm>
            <a:off x="1000080" y="2143080"/>
            <a:ext cx="1428840" cy="20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645120" y="4071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716480" y="1928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2431440" y="40006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4"/>
          <p:cNvSpPr/>
          <p:nvPr/>
        </p:nvSpPr>
        <p:spPr>
          <a:xfrm flipH="1">
            <a:off x="1714680" y="2112120"/>
            <a:ext cx="1440" cy="21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1573920" y="42148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0"/>
          <p:cNvSpPr/>
          <p:nvPr/>
        </p:nvSpPr>
        <p:spPr>
          <a:xfrm>
            <a:off x="2000160" y="4143240"/>
            <a:ext cx="0" cy="14292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1"/>
          <p:cNvSpPr/>
          <p:nvPr/>
        </p:nvSpPr>
        <p:spPr>
          <a:xfrm>
            <a:off x="1357200" y="4143240"/>
            <a:ext cx="0" cy="14292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3"/>
          <p:cNvSpPr/>
          <p:nvPr/>
        </p:nvSpPr>
        <p:spPr>
          <a:xfrm>
            <a:off x="2288520" y="335772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35"/>
          <p:cNvSpPr/>
          <p:nvPr/>
        </p:nvSpPr>
        <p:spPr>
          <a:xfrm flipV="1">
            <a:off x="1000080" y="3643200"/>
            <a:ext cx="121464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214200" y="4582080"/>
            <a:ext cx="407196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Times New Roman"/>
                <a:ea typeface="Calibri"/>
              </a:rPr>
              <a:t>Биссектриса треугольника обладает следующим свойством: биссектриса делит противолежащую сторону треугольника на отрезки пропорциональные двум другим сторона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 - биссектриса треугольника АВС и соответственно ВО - биссектриса треугольника АВ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х - коэффициент пропорциональности, то СК=2х, КВ=5х, то ВС=АВ=7х. Значит ВО делит сторону АК в отношении 7:5 считая отвершины А, т.е. АО:ОК=7: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2"/>
          <p:cNvSpPr/>
          <p:nvPr/>
        </p:nvSpPr>
        <p:spPr>
          <a:xfrm>
            <a:off x="1431360" y="35719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5"/>
          <p:cNvSpPr/>
          <p:nvPr/>
        </p:nvSpPr>
        <p:spPr>
          <a:xfrm>
            <a:off x="2287440" y="37861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6"/>
          <p:cNvSpPr/>
          <p:nvPr/>
        </p:nvSpPr>
        <p:spPr>
          <a:xfrm>
            <a:off x="1930320" y="2714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7"/>
          <p:cNvSpPr/>
          <p:nvPr/>
        </p:nvSpPr>
        <p:spPr>
          <a:xfrm>
            <a:off x="1001520" y="2928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49"/>
          <p:cNvSpPr/>
          <p:nvPr/>
        </p:nvSpPr>
        <p:spPr>
          <a:xfrm>
            <a:off x="4714920" y="5143680"/>
            <a:ext cx="414324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9"/>
          <p:cNvSpPr/>
          <p:nvPr/>
        </p:nvSpPr>
        <p:spPr>
          <a:xfrm flipH="1">
            <a:off x="5357880" y="4216320"/>
            <a:ext cx="1440" cy="92880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1"/>
          <p:cNvSpPr/>
          <p:nvPr/>
        </p:nvSpPr>
        <p:spPr>
          <a:xfrm flipH="1">
            <a:off x="6071760" y="4214880"/>
            <a:ext cx="1800" cy="92880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62"/>
          <p:cNvSpPr/>
          <p:nvPr/>
        </p:nvSpPr>
        <p:spPr>
          <a:xfrm flipH="1">
            <a:off x="6786720" y="4214880"/>
            <a:ext cx="1440" cy="92880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3"/>
          <p:cNvSpPr/>
          <p:nvPr/>
        </p:nvSpPr>
        <p:spPr>
          <a:xfrm flipH="1">
            <a:off x="6571800" y="3714840"/>
            <a:ext cx="1800" cy="142884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8"/>
          <p:cNvSpPr/>
          <p:nvPr/>
        </p:nvSpPr>
        <p:spPr>
          <a:xfrm>
            <a:off x="6500880" y="4929120"/>
            <a:ext cx="57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9"/>
          <p:cNvSpPr/>
          <p:nvPr/>
        </p:nvSpPr>
        <p:spPr>
          <a:xfrm>
            <a:off x="6072120" y="492912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Левая фигурная скобка 71"/>
          <p:cNvSpPr/>
          <p:nvPr/>
        </p:nvSpPr>
        <p:spPr>
          <a:xfrm rot="16200000">
            <a:off x="6286320" y="4928760"/>
            <a:ext cx="322200" cy="750960"/>
          </a:xfrm>
          <a:custGeom>
            <a:avLst/>
            <a:gdLst>
              <a:gd name="textAreaLeft" fmla="*/ 205920 w 322200"/>
              <a:gd name="textAreaRight" fmla="*/ 322560 w 322200"/>
              <a:gd name="textAreaTop" fmla="*/ 8280 h 750960"/>
              <a:gd name="textAreaBottom" fmla="*/ 742680 h 75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2"/>
                </a:cubicBezTo>
                <a:lnTo>
                  <a:pt x="10800" y="9715"/>
                </a:lnTo>
                <a:cubicBezTo>
                  <a:pt x="10800" y="10101"/>
                  <a:pt x="5400" y="10487"/>
                  <a:pt x="0" y="10487"/>
                </a:cubicBezTo>
                <a:cubicBezTo>
                  <a:pt x="5400" y="10487"/>
                  <a:pt x="10800" y="10873"/>
                  <a:pt x="10800" y="11259"/>
                </a:cubicBezTo>
                <a:lnTo>
                  <a:pt x="10800" y="20828"/>
                </a:lnTo>
                <a:cubicBezTo>
                  <a:pt x="10800" y="2121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4"/>
          <p:cNvSpPr/>
          <p:nvPr/>
        </p:nvSpPr>
        <p:spPr>
          <a:xfrm>
            <a:off x="6429240" y="50720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5"/>
          <p:cNvSpPr/>
          <p:nvPr/>
        </p:nvSpPr>
        <p:spPr>
          <a:xfrm>
            <a:off x="5857920" y="50720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6"/>
          <p:cNvSpPr/>
          <p:nvPr/>
        </p:nvSpPr>
        <p:spPr>
          <a:xfrm>
            <a:off x="5143680" y="507204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7"/>
          <p:cNvSpPr/>
          <p:nvPr/>
        </p:nvSpPr>
        <p:spPr>
          <a:xfrm>
            <a:off x="6215040" y="542916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Левая фигурная скобка 78"/>
          <p:cNvSpPr/>
          <p:nvPr/>
        </p:nvSpPr>
        <p:spPr>
          <a:xfrm rot="16200000">
            <a:off x="5572080" y="4928760"/>
            <a:ext cx="285480" cy="71424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714240"/>
              <a:gd name="textAreaBottom" fmla="*/ 7070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9"/>
          <p:cNvSpPr/>
          <p:nvPr/>
        </p:nvSpPr>
        <p:spPr>
          <a:xfrm>
            <a:off x="5500800" y="53578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0"/>
          <p:cNvSpPr/>
          <p:nvPr/>
        </p:nvSpPr>
        <p:spPr>
          <a:xfrm>
            <a:off x="5704560" y="5997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О:ОК=7: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1"/>
          <p:cNvSpPr/>
          <p:nvPr/>
        </p:nvSpPr>
        <p:spPr>
          <a:xfrm>
            <a:off x="5572080" y="3714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2"/>
          <p:cNvSpPr/>
          <p:nvPr/>
        </p:nvSpPr>
        <p:spPr>
          <a:xfrm>
            <a:off x="6143760" y="35002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rcRect l="35882" t="19784" r="6756" b="49489"/>
          <a:stretch/>
        </p:blipFill>
        <p:spPr>
          <a:xfrm>
            <a:off x="285840" y="357120"/>
            <a:ext cx="85010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42920" y="214200"/>
          <a:ext cx="8786880" cy="347040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34704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едиане АМ  треугольника АВС взята точка К, причё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:КМ = 1: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отношение, в котором прямая, проходящая через точку К параллельно стороне АС, делит сторону ВС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стороне ВС треугольника АВС и на продолжении стороны АВ за вершину В расположены точки М и К соответственно, причём ВМ:МС = 4:5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К:АВ = 1:5. Прямая КМ пересекает сторону АС в точк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Найдите отнош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едиане А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треугольника АВС взята точка М, причё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М:М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1:3. В каком отношении прямая ВМ делит сторону А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5:44:35Z</dcterms:created>
  <dc:creator>User</dc:creator>
  <dc:description/>
  <dc:language>en-US</dc:language>
  <cp:lastModifiedBy>Intel i5</cp:lastModifiedBy>
  <dcterms:modified xsi:type="dcterms:W3CDTF">2023-01-22T19:37:23Z</dcterms:modified>
  <cp:revision>26</cp:revision>
  <dc:subject/>
  <dc:title>Слайд 1</dc:title>
</cp:coreProperties>
</file>