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10058400" cy="7772400"/>
  <p:notesSz cx="6670675" cy="9925050"/>
  <p:custShowLst>
    <p:custShow name="Методические материалы" id="0">
      <p:sldLst>
        <p:sld r:id="rId12"/>
      </p:sldLst>
    </p:custShow>
    <p:custShow name="Дидактические материалы" id="1">
      <p:sldLst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925200" y="744120"/>
            <a:ext cx="48178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45 Helvetica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1F9F-FAD3-45DD-ACC5-7F11AF4D65DE}" type="slidenum">
              <a:rPr b="1" lang="en-US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302F-CB72-4A8C-9362-6BA7E36B69F0}" type="slidenum">
              <a:rPr b="1" lang="en-US" sz="1200" spc="-1" strike="noStrike">
                <a:solidFill>
                  <a:srgbClr val="ffffff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81788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706-4763-4062-A49F-F51DAB21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8C5-1CC8-4010-8467-16432BB0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371-94B3-4438-ADB3-8A32A582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847-5700-41AE-BA75-27F7F281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89E9-687E-44E3-A20A-B9DB7C8D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ED5E-AAAA-44B0-A496-2A407499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C9BC-5D56-4BF0-9627-A38FCFA1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DE90-BCBC-4960-B780-A46D4F8C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BDB9-0A06-4FC3-8216-F420EAAE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E4B5-B345-42E6-841D-9ADBBC25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6E86-CC67-4A41-8A55-58F4B2C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57F-F406-432E-8089-482025A2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5FC6-A6A7-4793-895F-2967FF97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0BC0-2319-4763-BA08-9321EC19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1D9E-376B-4452-BEB0-C5C8633E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9B78-3B8A-4A06-ABA9-10F011E8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C071-546A-439F-B9FE-222F54AD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75749-59B2-4B4A-8E58-1101284D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1583-BEDA-486E-B48D-64A954EA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8F41-6F7E-469D-9DD2-D3CA0FAA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0BE3-0A5A-49F4-8AAC-335116B6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AEC8-760D-47C8-B43F-75497EFE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26A-25BD-4707-8F15-F83A26D3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D246-4ECE-4564-B676-EDEE32FC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1ED0-8C69-41A0-9B06-209DA0E6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11016-7E1D-4103-97B0-28DD5A6E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9E569-4B22-4DF1-838B-64183B2B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A2CB8-2509-40A4-A949-05F7777B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9F27-3E93-4860-AAB9-18BD36DC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9235-4361-4631-933D-EEF64518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46C67-6292-4CFB-A85D-3C07C29D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45BA-15CD-433F-879A-38481F0F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801C1-8CEE-4C4B-92ED-C1571F3D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0CB-64A6-460D-A441-451E0273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BA338-58DF-4804-8639-70F5D84D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85BB-C594-4BDA-B3EB-92E56264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BBA41-11FE-40A0-AD84-FDA18C88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43FC-9ED2-4DA1-8AAB-853A2CBA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72488-C858-4340-9809-293548EC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94286-F84C-467B-BCF4-C2F0AD63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D0C88-2750-4B1B-A26D-1B904314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779DC-C927-4DF9-9D72-8FC59B23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2E27B-F83B-41C5-844E-DE99FC04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99972-8ED7-4E21-ACB0-19D7FF37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90E-6865-476F-A8C0-CBD68544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0AEE8-A401-4218-86C3-BB0CC361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B3DF1-E851-4FBB-93D5-D27C4098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25ADD-1B82-430D-AAEA-110B6C82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8CFDA-7667-4589-ABF1-1530EA9C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FF589-8177-4A2A-BA85-CEA04CE1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8A20C-6FD0-4244-A28B-F3DBBE89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1559E-5099-4CD1-9FB9-E4983A82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DB1CD-CE30-4BE4-9783-10A6AE6E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A9B36-B87C-4F54-9E08-0DBD1317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B25CD-5B84-41F6-85EA-A2FBC09D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A35-ECB7-435B-B856-25B4D1E0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72C84-307A-4E17-BCB0-7047CC5F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3E9D2-D8A2-48D6-A979-1652FD8D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52949-0224-4186-90E4-3F1E5889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192FD-CBD2-455E-B50D-DB071C14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9E338-C170-4317-8004-D9D2A3D1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F6D73-0C5C-4546-BF3E-E19343E5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54911-8CCA-4AE2-AF55-3B0E695E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3C7BA-5943-4E93-BB1F-F8EDC0A1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92747-F3D1-414D-BBAE-341F9EE4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C1B37-564A-47F3-A5A5-14B6011C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768-3839-45E0-8AD1-E2F93797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18CFD-8E8C-4BDE-8D11-516102B6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481F4-445B-42C8-9607-7BFDB27A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E519F-36E2-4E00-ABA5-D43A726F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D0582-7CAF-4B68-BDB0-2D748952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C965D-23F0-4E85-9875-8CE4A817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5DB13-94F9-419A-85EE-F218FAA9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6BEC1-1A30-492B-A0E0-A7256F10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850A-AE1D-4053-93A9-FCB93B32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03280" y="303120"/>
            <a:ext cx="9051840" cy="73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AAD23-87B4-4044-A1D3-35CCEFC3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C603F-8D90-4EAA-8A42-D349D895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73B-65F9-494B-A5D4-D5E24CFD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34C03-CAC1-4D8B-A9A9-9F7FCCD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C5AC4-8948-48B3-8670-C18A4164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70315-D5DF-485E-863D-227B79A4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41880" y="483984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38071-D14C-42CB-B689-D49C3B38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6400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24720" y="213336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0328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6400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24720" y="4839840"/>
            <a:ext cx="291456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1A4A1-AC8E-4880-B32B-8FC66D49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880" y="2133360"/>
            <a:ext cx="441720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839840"/>
            <a:ext cx="9051840" cy="2471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176-51D5-4BE7-B0ED-6A2374A7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7920" y="15840"/>
            <a:ext cx="10042560" cy="774864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7920"/>
            <a:ext cx="10050480" cy="77565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7114680" y="5608080"/>
            <a:ext cx="2940120" cy="2152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270400" y="7345440"/>
            <a:ext cx="234648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02920" y="7345440"/>
            <a:ext cx="468612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48760" y="7345440"/>
            <a:ext cx="55224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6402-A3B2-4228-B226-C92C43A30F5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7920" y="15840"/>
            <a:ext cx="10042560" cy="774864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7920"/>
            <a:ext cx="10050480" cy="77565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7114680" y="5608080"/>
            <a:ext cx="2940120" cy="2152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8277840" y="5976000"/>
            <a:ext cx="2146320" cy="142380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08040" y="6815160"/>
            <a:ext cx="6370560" cy="412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508040" y="6403680"/>
            <a:ext cx="637056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9231120" y="6519960"/>
            <a:ext cx="554040" cy="412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B9EB-410B-4091-B1FF-47F6ACD6A0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7920" y="15840"/>
            <a:ext cx="10042560" cy="774864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7920"/>
            <a:ext cx="10050480" cy="77565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7114680" y="5608080"/>
            <a:ext cx="2940120" cy="2152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270400" y="7343280"/>
            <a:ext cx="2346480" cy="343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502920" y="7345440"/>
            <a:ext cx="468612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348760" y="7345440"/>
            <a:ext cx="55224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8ED2-8D16-49D1-8816-F5875AF008D4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7920" y="7560"/>
            <a:ext cx="10042560" cy="774864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8277840" y="372240"/>
            <a:ext cx="2146320" cy="142380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7114680" y="10800"/>
            <a:ext cx="2940120" cy="2152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7920"/>
            <a:ext cx="10050480" cy="77565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651440" y="7340400"/>
            <a:ext cx="2346120" cy="345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881080" y="7345440"/>
            <a:ext cx="468612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9295920" y="917640"/>
            <a:ext cx="55260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DA8F-D544-40EA-96C1-5067394A4876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5270040" y="7345440"/>
            <a:ext cx="234324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02920" y="7345440"/>
            <a:ext cx="468612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348760" y="7346520"/>
            <a:ext cx="552240" cy="343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893D-9DF7-423F-8150-C0573D823495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906960" y="7431120"/>
            <a:ext cx="234612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248840" y="7431120"/>
            <a:ext cx="565812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252000" y="7431120"/>
            <a:ext cx="55224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982E-11E5-4E2D-99A9-C6324BC0A7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51840" cy="158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7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1840" cy="5181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98600" indent="-42732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15840" indent="-31752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31920" indent="-25416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27120" indent="-23328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82720" indent="-23328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82720" indent="-23328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717960" y="7431120"/>
            <a:ext cx="231444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87000" y="7431120"/>
            <a:ext cx="5443560" cy="342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9039240" y="7431120"/>
            <a:ext cx="401760" cy="341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AA75-94FD-4CF9-BBDE-596671A7CE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3" descr="К.1.jpg"/>
          <p:cNvPicPr/>
          <p:nvPr/>
        </p:nvPicPr>
        <p:blipFill>
          <a:blip r:embed="rId1"/>
          <a:stretch/>
        </p:blipFill>
        <p:spPr>
          <a:xfrm>
            <a:off x="0" y="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2"/>
          <p:cNvSpPr/>
          <p:nvPr/>
        </p:nvSpPr>
        <p:spPr>
          <a:xfrm>
            <a:off x="2292480" y="1006560"/>
            <a:ext cx="640872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ема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осм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3013200" y="4533840"/>
            <a:ext cx="6480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вт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риницина Е.А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спитател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БДОУ «ДС № 76 г.Челябинс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2004840" y="357120"/>
            <a:ext cx="734220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1542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0062"/>
                </a:solidFill>
                <a:latin typeface="45 Helvetica Light"/>
              </a:rPr>
              <a:t>Творческое название</a:t>
            </a:r>
            <a:r>
              <a:rPr b="1" lang="en-US" sz="2800" spc="-1" strike="noStrike">
                <a:solidFill>
                  <a:srgbClr val="e90062"/>
                </a:solidFill>
                <a:latin typeface="45 Helvetica Light"/>
              </a:rPr>
              <a:t> </a:t>
            </a:r>
            <a:r>
              <a:rPr b="1" lang="ru-RU" sz="2800" spc="-1" strike="noStrike">
                <a:solidFill>
                  <a:srgbClr val="e90062"/>
                </a:solidFill>
                <a:latin typeface="45 Helvetica Light"/>
              </a:rPr>
              <a:t>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542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ca1"/>
                </a:solidFill>
                <a:latin typeface="45 Helvetica Light"/>
              </a:rPr>
              <a:t>	</a:t>
            </a:r>
            <a:r>
              <a:rPr b="0" i="1" lang="ru-RU" sz="2800" spc="-1" strike="noStrike">
                <a:solidFill>
                  <a:srgbClr val="ffafd1"/>
                </a:solidFill>
                <a:latin typeface="BatangChe"/>
                <a:ea typeface="BatangChe"/>
              </a:rPr>
              <a:t>«Космические приключени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54240" indent="-20606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1542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0062"/>
                </a:solidFill>
                <a:latin typeface="45 Helvetica Light"/>
              </a:rPr>
              <a:t>Аннотац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542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45 Helvetica Light"/>
              </a:rPr>
              <a:t>	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Данный проект разработан для детей 6-7 лет. Предназначен для формирования и систематизации знаний детей о космос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853920" y="1146240"/>
            <a:ext cx="8929800" cy="2401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1283760" y="3741840"/>
            <a:ext cx="7921800" cy="3168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88ba"/>
                </a:solidFill>
                <a:latin typeface="Symbol"/>
                <a:ea typeface="Symbol"/>
              </a:rPr>
              <a:t>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8ba"/>
                </a:solidFill>
                <a:latin typeface="Times New Roman"/>
              </a:rPr>
              <a:t>Несколько десятков лет назад мало кто из вчерашних мальчишек не хотел стать космонавтом. Эта мечта совсем не актуальна для современных детей. Между тем, космические пираты, звездные войны и другие инопланетные существа – герои их любимых мультфильмов. Вымышленные персонажи дезинформируют дошкольников, рассказывая о несуществующих планетах, и зачастую вызывают у них отрицательные эмоции, способствуют развитию страхов. Поэтому важно грамотно выстроить работу по формированию у детей представлений о космосе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6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6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GB" sz="1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2133720" y="1143000"/>
            <a:ext cx="7543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2" marL="380880" indent="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2362320" y="1219320"/>
            <a:ext cx="7010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Rectangle 11" descr=""/>
          <p:cNvPicPr/>
          <p:nvPr/>
        </p:nvPicPr>
        <p:blipFill>
          <a:blip r:embed="rId1"/>
          <a:stretch/>
        </p:blipFill>
        <p:spPr>
          <a:xfrm>
            <a:off x="706320" y="360360"/>
            <a:ext cx="8645760" cy="330984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3"/>
          <p:cNvSpPr/>
          <p:nvPr/>
        </p:nvSpPr>
        <p:spPr>
          <a:xfrm>
            <a:off x="925560" y="3165480"/>
            <a:ext cx="713088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8ba"/>
                </a:solidFill>
                <a:latin typeface="Times New Roman"/>
              </a:rPr>
              <a:t>Методические задачи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овать полученные  знания детей о солнечной системе, планетах, космосе, познакомить с профессией космонавт; развивать творческое мышление, воображение, познавательную активность детей; развивать логическое мышление, умение слышать друг друга, конструктивные способности, воображение; вызвать желание у детей исследовать и изучать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"/>
          <p:cNvSpPr/>
          <p:nvPr/>
        </p:nvSpPr>
        <p:spPr>
          <a:xfrm>
            <a:off x="492120" y="1725480"/>
            <a:ext cx="907416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292480" y="501480"/>
            <a:ext cx="705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996840" y="717480"/>
            <a:ext cx="8280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0062"/>
                </a:solidFill>
                <a:latin typeface="Times New Roman"/>
              </a:rPr>
              <a:t>Этапы проведения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1212840" y="1582560"/>
            <a:ext cx="5029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этап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Выявление первоначальных знаний детей о космос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Информация родителей о предстояще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Подбор литературы о космосе, презентаций, фотографий, плака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этап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Проведение недели космоса в груп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Работа с родителями по заданной те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Организация сюжетно - ролевых, дидактических и подвижных игр, индивидуальной и групповой раб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этап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Организация выставки  работ о космосе (совместная работа детей и родител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Коллективное панно «Космическое путешествие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Конкурс чтецов «Стихи о космос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09:52:51Z</dcterms:created>
  <dc:creator>nobody</dc:creator>
  <dc:description/>
  <dc:language>en-US</dc:language>
  <cp:lastModifiedBy>Админ</cp:lastModifiedBy>
  <cp:lastPrinted>2001-07-20T22:27:51Z</cp:lastPrinted>
  <dcterms:modified xsi:type="dcterms:W3CDTF">2023-05-21T09:50:25Z</dcterms:modified>
  <cp:revision>95</cp:revision>
  <dc:subject/>
  <dc:title>Слайд 1</dc:title>
</cp:coreProperties>
</file>