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10058400" cy="7772400"/>
  <p:notesSz cx="6670675" cy="9925050"/>
  <p:custShowLst>
    <p:custShow name="Методические материалы" id="0">
      <p:sldLst>
        <p:sld r:id="rId12"/>
      </p:sldLst>
    </p:custShow>
    <p:custShow name="Дидактические материалы" id="1">
      <p:sldLst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925200" y="744120"/>
            <a:ext cx="48178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45 Helvetica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7F39-6910-4F34-BA0C-5DABA6EBA448}" type="slidenum">
              <a:rPr b="1" lang="en-US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8C5C-96D2-42AB-84D7-3B22B13760B0}" type="slidenum">
              <a:rPr b="1" lang="en-US" sz="1200" spc="-1" strike="noStrike">
                <a:solidFill>
                  <a:srgbClr val="ffffff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81788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505-14CA-4FFE-BFC3-F76D4618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166-574A-4575-AD78-77A84620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DB2-DF0E-4854-B9F9-118E72E5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0C8-3C6C-4137-8830-A9509926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9F9A-EE31-4315-9FE8-7C25105B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2453-2C3C-4EBA-97B6-7D34F18E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CBC9-CF3E-4B66-A233-07E8331F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F4F6-DEB4-4762-809E-3FD62AA8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9C2B-1B1A-42FE-807C-A444E2F1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ECB2-D046-493F-9ABB-373EA2A7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24DE-1DD1-4595-8B3C-9FBF8B2F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BA9-FC57-4D04-B090-E4502E05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5DE7-2C1A-4AF5-8CC1-9347D319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C183-AEF8-47A9-8F78-1CA18CAB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0E7D-2799-44D7-9105-05958365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7344-A0F7-4734-B88C-AC89B1EE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7112-4CC7-4B7A-B574-0C00F7DF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4E6D-49A1-485D-95E0-4DD2B2E6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0AF6C-EDA5-431D-A717-320FA622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809F-4D69-477C-8EB7-4462FA89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4DC85-D5A6-4026-8227-38D9B9EA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A1C1-01AF-48FD-A9E5-CE97BC98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8915-BC05-4974-9D0A-BE93B4C5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45DD-3B50-48D5-8F7F-0264A34F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FEC1-13BC-487A-BB4A-78AECE64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EF65-AFD3-4D05-A96B-97BD8500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EBC3-CA55-4D30-A06B-BE004A8C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1C81-CE86-44D5-8E41-90123DF8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F14A-1F4A-4DA2-A520-6D24AE35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F776-7051-4EEE-83CC-6B7CA9C7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4564E-1754-4421-AB4C-70BB7D53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CD37-928B-4A5B-AB22-6EB54E34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4F0E2-DE0C-412A-9928-24BFB7E9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625-0AF5-470A-A012-0A30DC5D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4A85E-08B1-45BB-9DC4-482EBAFB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04AFD-98C0-4312-8AFB-D5A9D58B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7162C-7EA6-4CDA-8E1C-325F7343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E4F4-360D-4B0F-BF9A-2598F24E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CFA6F-6F24-4BD1-8387-9C7FE7F6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3C8CA-348C-4FA9-8FA3-A0728C38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59C09-E30C-4AF7-916F-758172DB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0B305-773C-4435-84A3-D5EF0D1E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FFCB4-0BD8-4344-99C1-DD9F5394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8B903-938A-4874-937D-B283B817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ADC-A8C8-4CD7-BAF1-AB052821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82948-F91C-4172-A412-36D4EDA1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0EAE7-4BE9-45AA-9FDC-42FEE06B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D54A8-F110-4BAC-AB57-94DB980E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E1BE9-3FBF-427F-BDD3-C25D4B76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C9A98-5059-4151-A08D-4FB4E9F6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19299-E75F-481C-883F-3DE86655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BC6B6-FB04-43A0-B173-3FFC4986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05AAC-961E-4751-9146-A342FD6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7E1B8-3CB0-4439-A067-019F0132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D4273-A9BC-422B-B9C4-1B55F5A9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368-E32E-4D71-94BD-138AA033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5917-D6B4-4831-A4D6-A5347E15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D318A-A11A-4287-B4A0-B0E26E49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B9260-9593-4D6F-BF39-D48D86D3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9D5F0-7C98-4FE1-8197-196888D1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9B701-20F9-4718-A423-0F0DEAB1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B7D93-EF5E-4C6A-8294-4E83A36C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BA899-EAE1-48DB-8D69-7B912170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F365C-1287-4A2D-AC32-BFB133F6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8265C-6F77-44A0-B979-A3D088DB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093D6-5BD2-41A1-852C-3C5AA87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6EC-78BD-4C2B-92B8-45DD62D6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C6595-617B-45E2-973E-AAF74F1A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810C9-09A6-4525-AEA5-DFA859FC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63B0D-5449-48B6-B2DA-667BEE0C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D6FF4-DC0A-4739-9DD5-01A3E97D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EDAC1-57FF-497C-AF71-83C116A9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4A695-6BCE-48CA-A804-1C6D655A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B533C-3D9F-48FE-8322-9BB36693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70DB3-B75E-43F3-8526-31E02F85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C4A94-6EF4-41FC-B689-329FD04C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7F989-A277-4E4D-B030-FA631214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18E-05D3-4F78-8235-E2DECF44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7ED7B-3A22-43EA-9B8D-282DD870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7EA64-5416-49C1-B40B-967A273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807C7-E8B6-4273-9994-DD7AEEDD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24450-5D3C-4010-9547-2BD35C70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6A93B-8B86-4650-B87E-C0BF6B74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A85-CFF7-4F98-8542-F6CACB32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7920" y="15840"/>
            <a:ext cx="10042560" cy="774864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7920"/>
            <a:ext cx="10050480" cy="77565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7114680" y="5608080"/>
            <a:ext cx="2940120" cy="2152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270400" y="7345440"/>
            <a:ext cx="234648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02920" y="7345440"/>
            <a:ext cx="468612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48760" y="7345440"/>
            <a:ext cx="55224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1B96-70CB-45F9-AE73-8298E87F266F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7920" y="15840"/>
            <a:ext cx="10042560" cy="774864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7920"/>
            <a:ext cx="10050480" cy="77565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7114680" y="5608080"/>
            <a:ext cx="2940120" cy="2152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8277840" y="5976000"/>
            <a:ext cx="2146320" cy="142380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08040" y="6815160"/>
            <a:ext cx="6370560" cy="412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508040" y="6403680"/>
            <a:ext cx="637056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9231120" y="6519960"/>
            <a:ext cx="554040" cy="412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4853-41C5-4167-BA2F-8E88D52CF7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7920" y="15840"/>
            <a:ext cx="10042560" cy="774864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7920"/>
            <a:ext cx="10050480" cy="77565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7114680" y="5608080"/>
            <a:ext cx="2940120" cy="2152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270400" y="7343280"/>
            <a:ext cx="2346480" cy="343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502920" y="7345440"/>
            <a:ext cx="468612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348760" y="7345440"/>
            <a:ext cx="55224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4D3D-809A-4007-9DAB-8E6A59F2D4B4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7920" y="7560"/>
            <a:ext cx="10042560" cy="774864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8277840" y="372240"/>
            <a:ext cx="2146320" cy="142380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7114680" y="10800"/>
            <a:ext cx="2940120" cy="2152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7920"/>
            <a:ext cx="10050480" cy="77565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651440" y="7340400"/>
            <a:ext cx="2346120" cy="345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881080" y="7345440"/>
            <a:ext cx="468612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9295920" y="917640"/>
            <a:ext cx="55260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7F21-6213-4B89-9D3D-C8F990278856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5270040" y="7345440"/>
            <a:ext cx="234324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02920" y="7345440"/>
            <a:ext cx="468612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348760" y="7346520"/>
            <a:ext cx="552240" cy="343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A42F-F02D-4D3C-BBF1-05528FDFEA1E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906960" y="7431120"/>
            <a:ext cx="234612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248840" y="7431120"/>
            <a:ext cx="565812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252000" y="7431120"/>
            <a:ext cx="55224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A3D4-2641-4AE9-BEC0-B4167178BB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717960" y="7431120"/>
            <a:ext cx="231444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87000" y="7431120"/>
            <a:ext cx="5443560" cy="342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9039240" y="7431120"/>
            <a:ext cx="40176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F611-0908-4AE3-B8FE-AF22AC387D2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3" descr="К.1.jpg"/>
          <p:cNvPicPr/>
          <p:nvPr/>
        </p:nvPicPr>
        <p:blipFill>
          <a:blip r:embed="rId1"/>
          <a:stretch/>
        </p:blipFill>
        <p:spPr>
          <a:xfrm>
            <a:off x="0" y="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2"/>
          <p:cNvSpPr/>
          <p:nvPr/>
        </p:nvSpPr>
        <p:spPr>
          <a:xfrm>
            <a:off x="2292480" y="1006560"/>
            <a:ext cx="640872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ема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осм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3013200" y="4533840"/>
            <a:ext cx="6480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вт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риницина Е.А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спитател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БДОУ «ДС № 76 г.Челябинс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2004840" y="357120"/>
            <a:ext cx="734220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1542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0062"/>
                </a:solidFill>
                <a:latin typeface="45 Helvetica Light"/>
              </a:rPr>
              <a:t>Творческое название</a:t>
            </a:r>
            <a:r>
              <a:rPr b="1" lang="en-US" sz="2800" spc="-1" strike="noStrike">
                <a:solidFill>
                  <a:srgbClr val="e90062"/>
                </a:solidFill>
                <a:latin typeface="45 Helvetica Light"/>
              </a:rPr>
              <a:t> </a:t>
            </a:r>
            <a:r>
              <a:rPr b="1" lang="ru-RU" sz="2800" spc="-1" strike="noStrike">
                <a:solidFill>
                  <a:srgbClr val="e90062"/>
                </a:solidFill>
                <a:latin typeface="45 Helvetica Light"/>
              </a:rPr>
              <a:t>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542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ca1"/>
                </a:solidFill>
                <a:latin typeface="45 Helvetica Light"/>
              </a:rPr>
              <a:t>	</a:t>
            </a:r>
            <a:r>
              <a:rPr b="0" i="1" lang="ru-RU" sz="2800" spc="-1" strike="noStrike">
                <a:solidFill>
                  <a:srgbClr val="ffafd1"/>
                </a:solidFill>
                <a:latin typeface="BatangChe"/>
                <a:ea typeface="BatangChe"/>
              </a:rPr>
              <a:t>«Космические приключени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54240" indent="-20606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1542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0062"/>
                </a:solidFill>
                <a:latin typeface="45 Helvetica Light"/>
              </a:rPr>
              <a:t>Аннотац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542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45 Helvetica Light"/>
              </a:rPr>
              <a:t>	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Данный проект разработан для детей 6-7 лет. Предназначен для формирования и систематизации знаний детей о космос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853920" y="1146240"/>
            <a:ext cx="8929800" cy="2401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1283760" y="3741840"/>
            <a:ext cx="7921800" cy="3168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88ba"/>
                </a:solidFill>
                <a:latin typeface="Symbol"/>
                <a:ea typeface="Symbol"/>
              </a:rPr>
              <a:t>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8ba"/>
                </a:solidFill>
                <a:latin typeface="Times New Roman"/>
              </a:rPr>
              <a:t>Несколько десятков лет назад мало кто из вчерашних мальчишек не хотел стать космонавтом. Эта мечта совсем не актуальна для современных детей. Между тем, космические пираты, звездные войны и другие инопланетные существа – герои их любимых мультфильмов. Вымышленные персонажи дезинформируют дошкольников, рассказывая о несуществующих планетах, и зачастую вызывают у них отрицательные эмоции, способствуют развитию страхов. Поэтому важно грамотно выстроить работу по формированию у детей представлений о космосе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6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GB" sz="1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2133720" y="1143000"/>
            <a:ext cx="7543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2" marL="380880" indent="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2362320" y="1219320"/>
            <a:ext cx="7010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Rectangle 11" descr=""/>
          <p:cNvPicPr/>
          <p:nvPr/>
        </p:nvPicPr>
        <p:blipFill>
          <a:blip r:embed="rId1"/>
          <a:stretch/>
        </p:blipFill>
        <p:spPr>
          <a:xfrm>
            <a:off x="706320" y="360360"/>
            <a:ext cx="8645760" cy="330984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3"/>
          <p:cNvSpPr/>
          <p:nvPr/>
        </p:nvSpPr>
        <p:spPr>
          <a:xfrm>
            <a:off x="925560" y="3165480"/>
            <a:ext cx="713088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8ba"/>
                </a:solidFill>
                <a:latin typeface="Times New Roman"/>
              </a:rPr>
              <a:t>Методические задачи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овать полученные  знания детей о солнечной системе, планетах, космосе, познакомить с профессией космонавт; развивать творческое мышление, воображение, познавательную активность детей; развивать логическое мышление, умение слышать друг друга, конструктивные способности, воображение; вызвать желание у детей исследовать и изучать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"/>
          <p:cNvSpPr/>
          <p:nvPr/>
        </p:nvSpPr>
        <p:spPr>
          <a:xfrm>
            <a:off x="492120" y="1725480"/>
            <a:ext cx="907416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292480" y="501480"/>
            <a:ext cx="705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996840" y="717480"/>
            <a:ext cx="8280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0062"/>
                </a:solidFill>
                <a:latin typeface="Times New Roman"/>
              </a:rPr>
              <a:t>Этапы проведения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1212840" y="1582560"/>
            <a:ext cx="5029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этап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Выявление первоначальных знаний детей о космос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Информация родителей о предстояще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Подбор литературы о космосе, презентаций, фотографий, плака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этап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Проведение недели космоса в груп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Работа с родителями по заданной те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Организация сюжетно - ролевых, дидактических и подвижных игр, индивидуальной и групповой раб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этап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Организация выставки  работ о космосе (совместная работа детей и родител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Коллективное панно «Космическое путешествие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Конкурс чтецов «Стихи о космос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09:52:51Z</dcterms:created>
  <dc:creator>nobody</dc:creator>
  <dc:description/>
  <dc:language>en-US</dc:language>
  <cp:lastModifiedBy>Админ</cp:lastModifiedBy>
  <cp:lastPrinted>2001-07-20T22:27:51Z</cp:lastPrinted>
  <dcterms:modified xsi:type="dcterms:W3CDTF">2023-05-21T09:50:25Z</dcterms:modified>
  <cp:revision>95</cp:revision>
  <dc:subject/>
  <dc:title>Слайд 1</dc:title>
</cp:coreProperties>
</file>