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wmf" ContentType="image/x-wmf"/>
  <Override PartName="/ppt/media/image7.gif" ContentType="image/gif"/>
  <Override PartName="/ppt/media/image12.gif" ContentType="image/gif"/>
  <Override PartName="/ppt/media/image8.png" ContentType="image/png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887-C479-4335-A8FD-3BCD280D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268-5B7E-4E83-B525-7EEDCF12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A5F-1072-46D0-8240-E21AD799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6B5-F882-4A9E-96B9-C3F5E22E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CF1-A919-404D-A59D-0649DE13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542-67C0-49D6-A2E0-1051F06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0DB-9B37-4FF6-BCBD-AB5C3465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EBA-ABB6-401E-8C3B-22095FA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43A-FA5A-4D27-A86F-A8F5A091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C6A-F181-4960-B796-0C763E00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184-0F15-4889-BD33-126EF82E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8E7-3A16-4A59-A878-5581966B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B29B-EE8A-4DD8-B21E-5EC7DF845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2268360" y="1484280"/>
            <a:ext cx="66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облемный семинар </a:t>
            </a:r>
            <a:br>
              <a:rPr sz="3200"/>
            </a:br>
            <a:r>
              <a:rPr b="1" i="1" lang="ru-RU" sz="32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для классных руков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«Организация самоуправления в класс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132000" y="189000"/>
            <a:ext cx="57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В докладе Международной комиссии по образованию для </a:t>
            </a:r>
            <a:r>
              <a:rPr b="0" lang="en-US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XXI 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века «Образование: сокрытое сокровище» было сформулировано четыре компетенции, «четыре столпа», на которых основывается образова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аучиться позна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аучиться дел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аучиться жить вмес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аучиться ж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73a3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473a35"/>
                </a:solidFill>
                <a:uFillTx/>
                <a:latin typeface="Times New Roman"/>
                <a:ea typeface="Times New Roman"/>
              </a:rPr>
              <a:t>Организация самоуправления в классе помогает в формировании этих компетенций не только в сфере образования, но и воспит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Объект 1"/>
          <p:cNvGraphicFramePr/>
          <p:nvPr/>
        </p:nvGraphicFramePr>
        <p:xfrm>
          <a:off x="1979640" y="260280"/>
          <a:ext cx="7488360" cy="67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0280"/>
                    <a:ext cx="7488360" cy="67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627280" y="189000"/>
            <a:ext cx="6265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ажнение 1.Превр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 в кругу. Ведущий предлагает закончить предлож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 книгой, то я был б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 взрослым, то я б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 песней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 погод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…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я к обсужд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Фото Изображение на мониторе ноутбука: пара красивых кошек играет на синтезаторе"/>
          <p:cNvPicPr/>
          <p:nvPr/>
        </p:nvPicPr>
        <p:blipFill>
          <a:blip r:embed="rId1"/>
          <a:stretch/>
        </p:blipFill>
        <p:spPr>
          <a:xfrm>
            <a:off x="4932360" y="3881520"/>
            <a:ext cx="4089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200400" y="63360"/>
            <a:ext cx="481824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460600" y="2421000"/>
            <a:ext cx="4256280" cy="6397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3059280" y="3111480"/>
            <a:ext cx="59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казалось необычным в этом зада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ли человеку почувствовать себя не человеко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– да, а почувствов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это нуж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, это позволяет нам понять всеобщую взаимосвязь, взаимопроникаемость и взаимозависимо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137040" y="61920"/>
            <a:ext cx="40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Что мы ожида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3132000" y="907920"/>
            <a:ext cx="532764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жидаемые трудности: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изкая активность отдельных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Загруженность учащихся в учебном процессе и во внеурочное время (кружковая рабо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жидаемые результа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Активная жизненная позиция учащихся клас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Готовность и желание учащихся работать в коллекти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Усвоение и овладение знаниями и техникой организатор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Разработки творческих и социальных про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3"/>
          <p:cNvSpPr/>
          <p:nvPr/>
        </p:nvSpPr>
        <p:spPr>
          <a:xfrm>
            <a:off x="3059280" y="-1440"/>
            <a:ext cx="59767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хема создания самоуправления в классе (первонача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Шаг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тсутствие поруч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тсутствие плана мероприя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еобходимость организации жизнедеятельности кла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Шаг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оявление конфликтов (по поводу дежурства, взаимоотношений между одноклассника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еобходимость создания законов, прав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еобходимость принятия зак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Классное собр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Шаг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облема низкой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оявление рейтинговой сис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23760" y="1792440"/>
            <a:ext cx="180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Прямая со стрелкой 20"/>
          <p:cNvCxnSpPr/>
          <p:nvPr/>
        </p:nvCxnSpPr>
        <p:spPr>
          <a:xfrm flipH="1">
            <a:off x="1778760" y="5556240"/>
            <a:ext cx="1080" cy="22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6"/>
          <p:cNvCxnSpPr/>
          <p:nvPr/>
        </p:nvCxnSpPr>
        <p:spPr>
          <a:xfrm>
            <a:off x="1744200" y="2924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29"/>
          <p:cNvCxnSpPr/>
          <p:nvPr/>
        </p:nvCxnSpPr>
        <p:spPr>
          <a:xfrm flipH="1">
            <a:off x="1807560" y="3709800"/>
            <a:ext cx="1080" cy="224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30"/>
          <p:cNvCxnSpPr/>
          <p:nvPr/>
        </p:nvCxnSpPr>
        <p:spPr>
          <a:xfrm flipH="1">
            <a:off x="1778760" y="4365360"/>
            <a:ext cx="1080" cy="22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31"/>
          <p:cNvCxnSpPr/>
          <p:nvPr/>
        </p:nvCxnSpPr>
        <p:spPr>
          <a:xfrm flipH="1">
            <a:off x="1743840" y="1601640"/>
            <a:ext cx="1080" cy="22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050920" y="10800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одержание, организация и структура самоупра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82440" y="1665360"/>
            <a:ext cx="8928360" cy="5076720"/>
          </a:xfrm>
          <a:prstGeom prst="ellips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2937600" y="119700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73a35"/>
                </a:solidFill>
                <a:latin typeface="Arial"/>
              </a:rPr>
              <a:t>Общее собра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924280" y="2205000"/>
            <a:ext cx="30160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стоянные пор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2"/>
          <p:cNvSpPr/>
          <p:nvPr/>
        </p:nvSpPr>
        <p:spPr>
          <a:xfrm>
            <a:off x="971640" y="4695840"/>
            <a:ext cx="914400" cy="4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3"/>
          <p:cNvSpPr/>
          <p:nvPr/>
        </p:nvSpPr>
        <p:spPr>
          <a:xfrm>
            <a:off x="2700360" y="5373720"/>
            <a:ext cx="914400" cy="4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4089240" y="3151080"/>
            <a:ext cx="914400" cy="6476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3"/>
          <p:cNvSpPr/>
          <p:nvPr/>
        </p:nvSpPr>
        <p:spPr>
          <a:xfrm>
            <a:off x="4835520" y="5456160"/>
            <a:ext cx="914400" cy="4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>
            <a:off x="6678720" y="5037120"/>
            <a:ext cx="914400" cy="4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3656160" y="4348080"/>
            <a:ext cx="1636560" cy="44928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крогруп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Прямая со стрелкой 18"/>
          <p:cNvCxnSpPr/>
          <p:nvPr/>
        </p:nvCxnSpPr>
        <p:spPr>
          <a:xfrm>
            <a:off x="4431960" y="2781000"/>
            <a:ext cx="1080" cy="32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4" name="Прямая со стрелкой 21"/>
          <p:cNvCxnSpPr/>
          <p:nvPr/>
        </p:nvCxnSpPr>
        <p:spPr>
          <a:xfrm>
            <a:off x="4473360" y="3933360"/>
            <a:ext cx="1080" cy="4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23"/>
          <p:cNvCxnSpPr/>
          <p:nvPr/>
        </p:nvCxnSpPr>
        <p:spPr>
          <a:xfrm flipH="1">
            <a:off x="2050560" y="4695480"/>
            <a:ext cx="1564560" cy="205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5"/>
          <p:cNvCxnSpPr>
            <a:endCxn id="81" idx="1"/>
          </p:cNvCxnSpPr>
          <p:nvPr/>
        </p:nvCxnSpPr>
        <p:spPr>
          <a:xfrm>
            <a:off x="5292720" y="4695840"/>
            <a:ext cx="1519920" cy="40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29"/>
          <p:cNvCxnSpPr/>
          <p:nvPr/>
        </p:nvCxnSpPr>
        <p:spPr>
          <a:xfrm flipH="1">
            <a:off x="3614400" y="4900680"/>
            <a:ext cx="475200" cy="47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1"/>
          <p:cNvCxnSpPr/>
          <p:nvPr/>
        </p:nvCxnSpPr>
        <p:spPr>
          <a:xfrm>
            <a:off x="4642920" y="4895640"/>
            <a:ext cx="505800" cy="478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Прямоугольник 32"/>
          <p:cNvSpPr/>
          <p:nvPr/>
        </p:nvSpPr>
        <p:spPr>
          <a:xfrm>
            <a:off x="3614760" y="6093000"/>
            <a:ext cx="2135160" cy="5047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ременные пор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611440" y="189000"/>
            <a:ext cx="651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чень важным моментом сплочения коллектива, стимулирования общественно-полезной деятельности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опись </a:t>
            </a: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(или портфолио) класса, которая включает следующие разде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бщие сведения о класс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писок актив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отоколы решения собр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ланы на четвер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достижения класса (грамоты, благодарност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писание текущих дел с использованием фотоматери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Возможно проводить конкурс на  лучшую летопись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3132000" y="115920"/>
            <a:ext cx="60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инципы  построения и развития самоуправления</a:t>
            </a:r>
            <a:r>
              <a:rPr b="0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едагогическое руководство. Оно обеспечивает развитие детского само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Выбор содержания, организационной структуры, форм и методов деятельности классного акти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Широкая гласность и открытость в деятельности органов самоупра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Свобода критики и обмена мнениями по любым вопросам школьн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Систематическая сменяемость членов самоуправления, обновляемость видов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Гуманность к каждому отдельному человеку. Приоритетность интересов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ound Hole, Square Peg - www.statsoft.com"/>
          <p:cNvPicPr/>
          <p:nvPr/>
        </p:nvPicPr>
        <p:blipFill>
          <a:blip r:embed="rId1"/>
          <a:stretch/>
        </p:blipFill>
        <p:spPr>
          <a:xfrm>
            <a:off x="2556000" y="54000"/>
            <a:ext cx="5329080" cy="3602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2268360" y="3811680"/>
            <a:ext cx="687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должен способствов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ому  росту ребенка, создавать условия для развития его индивидуаль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ту воспитательную сред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й ребенок может обр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и своб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-Жак Русс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3867480" y="476280"/>
            <a:ext cx="43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имена – качеств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3178080" y="1413000"/>
            <a:ext cx="5689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придумывает какое-либо качество личности, свойство характера и т.д. начинающееся на ту же букву что и им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: Лариса – любовь, Сергей - скром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нятие мог бы принести в эту группу сегодня каждый участн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4953240" cy="42861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268360" y="3933720"/>
            <a:ext cx="687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 давно предлагают поверить в то, что погоду на планете делают люди, и не только техногенным вмешательством, но и образом, окраской мыслей и чув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наше настроение, наше самочувствие часто зависит от чужих мыслей и чув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сть существует категория факторов, невидимых внешне, но мощно управляющих нами. Но также существуют и силы, позволяющие нам выстоять в приключении под названием Жиз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Цветик - ДАРЫ ПРИРОДЫ. - я.ру"/>
          <p:cNvPicPr/>
          <p:nvPr/>
        </p:nvPicPr>
        <p:blipFill>
          <a:blip r:embed="rId1"/>
          <a:stretch/>
        </p:blipFill>
        <p:spPr>
          <a:xfrm>
            <a:off x="2484360" y="115920"/>
            <a:ext cx="6408720" cy="4416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2247120" y="4653000"/>
            <a:ext cx="688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Успехов в работ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ooks &quot; 2.0: The Blogmocracy"/>
          <p:cNvPicPr/>
          <p:nvPr/>
        </p:nvPicPr>
        <p:blipFill>
          <a:blip r:embed="rId1"/>
          <a:stretch/>
        </p:blipFill>
        <p:spPr>
          <a:xfrm>
            <a:off x="5148360" y="-100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203640" y="3922560"/>
            <a:ext cx="56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Основополагающий вопрос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  <a:ea typeface="Calibri"/>
              </a:rPr>
              <a:t>Нужно ли развивать самоуправление в детской организаци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921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340000" y="5300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е вопрос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ли самоуправление в вашей детской организации? Как развить детское самоуправление в детском коллектив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062160" y="189000"/>
            <a:ext cx="52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управление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– управление делами своими собственными силами в какой-нибудь организации, коллективе. Ученическое самоуправление – форма организации жизнедеятельности коллектива учащихся, обеспечивающая развитие их самостоятельности в принятии и реализации решения для достижения общественно значимых ц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484360" y="725400"/>
            <a:ext cx="659628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Цели самоуправленческой деятель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воспитание гражданина с демократической культурой высокого уровня, гуманистической направленностью, умеющего действовать в интересах совершенствования своей личности, общества и Отеч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формировать у учащихся готовность совершенствовать свою личность, создавать условия для развития способностей и интересов членов ученического коллектива; обогащать духовный мир, развивать самостоятельное мышление и самосознан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рганизация содружества и сотворчества учащихся и взросл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развитие организаторских навы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оздание условий для успешной социализации реб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059280" y="189000"/>
            <a:ext cx="5833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Деятельность  классного руководителя и детей по созданию  самоуправления в кла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оздание организационной структуры ученического самоуправ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рганизация рейтинговой системы достижений учащихся в клас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рганизация деятельност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Мониторинг с последующей коррек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одведение итогов и их анализ. Провести результат рейтинга, поощрение ребя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771640" y="3284640"/>
            <a:ext cx="62056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едложите  организационную структуру ученического самоуправ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Есть ли предложение, как организовать рейтинговую систему достижений учащихся в кла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39801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735280" y="1628640"/>
            <a:ext cx="6408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Есть ли предложение, как организовать продуктивную  деятельность родителей? При каких условия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Как  провести мониторинг с последующей коррекци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едложите способы поощрения ребя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ancing Question Mark Animated"/>
          <p:cNvPicPr/>
          <p:nvPr/>
        </p:nvPicPr>
        <p:blipFill>
          <a:blip r:embed="rId1"/>
          <a:stretch/>
        </p:blipFill>
        <p:spPr>
          <a:xfrm>
            <a:off x="7236000" y="115920"/>
            <a:ext cx="2089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ДОМ</cp:lastModifiedBy>
  <dcterms:modified xsi:type="dcterms:W3CDTF">2015-03-24T17:13:17Z</dcterms:modified>
  <cp:revision>18</cp:revision>
  <dc:subject/>
  <dc:title>Презентация PowerPoint</dc:title>
</cp:coreProperties>
</file>