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wmf" ContentType="image/x-wmf"/>
  <Override PartName="/ppt/media/image7.gif" ContentType="image/gif"/>
  <Override PartName="/ppt/media/image12.gif" ContentType="image/gif"/>
  <Override PartName="/ppt/media/image8.png" ContentType="image/png"/>
  <Override PartName="/ppt/media/image10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5C8-8BFB-4600-BF4B-102303A6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2143-18DB-4D4E-BBE0-3D84E5AD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7AD5-41AC-41D5-BA43-50CA6F77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3866-CDF0-4150-B075-BDEA9842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5F8-5839-4A27-BC6C-9613A114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705-2A6E-4C32-A49B-70312079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556F-0BBA-40C5-A931-E320730A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F55-8A94-4482-90E4-2F715143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E772-63B6-46BF-AB48-B8C3F812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CE39-8635-4419-AF36-7278BB7A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19EA-86D7-4E6F-83BB-4E565B67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C739-75BC-46F8-AE07-F18E73C8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0688-CB79-4B18-AD23-41E3603242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2268360" y="1484280"/>
            <a:ext cx="66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Проблемный семинар </a:t>
            </a:r>
            <a:br>
              <a:rPr sz="3200"/>
            </a:br>
            <a:r>
              <a:rPr b="1" i="1" lang="ru-RU" sz="32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для классных руков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«Организация самоуправления в класс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132000" y="189000"/>
            <a:ext cx="576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В докладе Международной комиссии по образованию для </a:t>
            </a:r>
            <a:r>
              <a:rPr b="0" lang="en-US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XXI </a:t>
            </a: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века «Образование: сокрытое сокровище» было сформулировано четыре компетенции, «четыре столпа», на которых основывается образовани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научиться позна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научиться дел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научиться жить вмес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научиться жи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473a35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473a35"/>
                </a:solidFill>
                <a:uFillTx/>
                <a:latin typeface="Times New Roman"/>
                <a:ea typeface="Times New Roman"/>
              </a:rPr>
              <a:t>Организация самоуправления в классе помогает в формировании этих компетенций не только в сфере образования, но и воспит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Объект 1"/>
          <p:cNvGraphicFramePr/>
          <p:nvPr/>
        </p:nvGraphicFramePr>
        <p:xfrm>
          <a:off x="1979640" y="260280"/>
          <a:ext cx="7488360" cy="67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60280"/>
                    <a:ext cx="7488360" cy="67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2627280" y="189000"/>
            <a:ext cx="62658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пражнение 1.Превр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я в кругу. Ведущий предлагает закончить предлож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 я был книгой, то я был бы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 я был взрослым, то я бы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 я был песней,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 я был погодой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 я был…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ормация к обсужд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Фото Изображение на мониторе ноутбука: пара красивых кошек играет на синтезаторе"/>
          <p:cNvPicPr/>
          <p:nvPr/>
        </p:nvPicPr>
        <p:blipFill>
          <a:blip r:embed="rId1"/>
          <a:stretch/>
        </p:blipFill>
        <p:spPr>
          <a:xfrm>
            <a:off x="4932360" y="3881520"/>
            <a:ext cx="40892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200400" y="63360"/>
            <a:ext cx="4818240" cy="3048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2460600" y="2421000"/>
            <a:ext cx="4256280" cy="6397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3059280" y="3111480"/>
            <a:ext cx="59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казалось необычным в этом задан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ли человеку почувствовать себя не человеком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ь – да, а почувствова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его это нуж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, это позволяет нам понять всеобщую взаимосвязь, взаимопроникаемость и взаимозависимос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3137040" y="61920"/>
            <a:ext cx="408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Что мы ожида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3132000" y="907920"/>
            <a:ext cx="532764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Ожидаемые трудности:</a:t>
            </a: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Низкая активность отдельных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Загруженность учащихся в учебном процессе и во внеурочное время (кружковая работ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Ожидаемые результа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Активная жизненная позиция учащихся клас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Готовность и желание учащихся работать в коллекти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Усвоение и овладение знаниями и техникой организаторск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Разработки творческих и социальных проек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3"/>
          <p:cNvSpPr/>
          <p:nvPr/>
        </p:nvSpPr>
        <p:spPr>
          <a:xfrm>
            <a:off x="3059280" y="-1440"/>
            <a:ext cx="597672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Схема создания самоуправления в классе (первоначальна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Шаг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Отсутствие поруч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Отсутствие плана мероприят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Необходимость организации жизнедеятельности клас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Шаг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Появление конфликтов (по поводу дежурства, взаимоотношений между одноклассникам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Необходимость создания законов, прави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Необходимость принятия зако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Классное собр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Шаг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Проблема низкой актив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Появление рейтинговой сист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23760" y="1792440"/>
            <a:ext cx="180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Прямая со стрелкой 20"/>
          <p:cNvCxnSpPr/>
          <p:nvPr/>
        </p:nvCxnSpPr>
        <p:spPr>
          <a:xfrm flipH="1">
            <a:off x="1778760" y="5556240"/>
            <a:ext cx="1080" cy="22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Прямая со стрелкой 26"/>
          <p:cNvCxnSpPr/>
          <p:nvPr/>
        </p:nvCxnSpPr>
        <p:spPr>
          <a:xfrm>
            <a:off x="1744200" y="2924280"/>
            <a:ext cx="108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29"/>
          <p:cNvCxnSpPr/>
          <p:nvPr/>
        </p:nvCxnSpPr>
        <p:spPr>
          <a:xfrm flipH="1">
            <a:off x="1807560" y="3709800"/>
            <a:ext cx="1080" cy="224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30"/>
          <p:cNvCxnSpPr/>
          <p:nvPr/>
        </p:nvCxnSpPr>
        <p:spPr>
          <a:xfrm flipH="1">
            <a:off x="1778760" y="4365360"/>
            <a:ext cx="1080" cy="222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Прямая со стрелкой 31"/>
          <p:cNvCxnSpPr/>
          <p:nvPr/>
        </p:nvCxnSpPr>
        <p:spPr>
          <a:xfrm flipH="1">
            <a:off x="1743840" y="1601640"/>
            <a:ext cx="1080" cy="22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2050920" y="108000"/>
            <a:ext cx="62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Содержание, организация и структура самоуправ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вал 4"/>
          <p:cNvSpPr/>
          <p:nvPr/>
        </p:nvSpPr>
        <p:spPr>
          <a:xfrm>
            <a:off x="82440" y="1665360"/>
            <a:ext cx="8928360" cy="5076720"/>
          </a:xfrm>
          <a:prstGeom prst="ellips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2937600" y="1197000"/>
            <a:ext cx="32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73a35"/>
                </a:solidFill>
                <a:latin typeface="Arial"/>
              </a:rPr>
              <a:t>Общее собрание колл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2924280" y="2205000"/>
            <a:ext cx="301608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стоянные пор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2"/>
          <p:cNvSpPr/>
          <p:nvPr/>
        </p:nvSpPr>
        <p:spPr>
          <a:xfrm>
            <a:off x="971640" y="4695840"/>
            <a:ext cx="914400" cy="4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3"/>
          <p:cNvSpPr/>
          <p:nvPr/>
        </p:nvSpPr>
        <p:spPr>
          <a:xfrm>
            <a:off x="2700360" y="5373720"/>
            <a:ext cx="914400" cy="4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9"/>
          <p:cNvSpPr/>
          <p:nvPr/>
        </p:nvSpPr>
        <p:spPr>
          <a:xfrm>
            <a:off x="4089240" y="3151080"/>
            <a:ext cx="914400" cy="64764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в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3"/>
          <p:cNvSpPr/>
          <p:nvPr/>
        </p:nvSpPr>
        <p:spPr>
          <a:xfrm>
            <a:off x="4835520" y="5456160"/>
            <a:ext cx="914400" cy="4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3"/>
          <p:cNvSpPr/>
          <p:nvPr/>
        </p:nvSpPr>
        <p:spPr>
          <a:xfrm>
            <a:off x="6678720" y="5037120"/>
            <a:ext cx="914400" cy="4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3656160" y="4348080"/>
            <a:ext cx="1636560" cy="44928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крогрупп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Прямая со стрелкой 18"/>
          <p:cNvCxnSpPr/>
          <p:nvPr/>
        </p:nvCxnSpPr>
        <p:spPr>
          <a:xfrm>
            <a:off x="4431960" y="2781000"/>
            <a:ext cx="1080" cy="32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4" name="Прямая со стрелкой 21"/>
          <p:cNvCxnSpPr/>
          <p:nvPr/>
        </p:nvCxnSpPr>
        <p:spPr>
          <a:xfrm>
            <a:off x="4473360" y="3933360"/>
            <a:ext cx="1080" cy="41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23"/>
          <p:cNvCxnSpPr/>
          <p:nvPr/>
        </p:nvCxnSpPr>
        <p:spPr>
          <a:xfrm flipH="1">
            <a:off x="2050560" y="4695480"/>
            <a:ext cx="1564560" cy="205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25"/>
          <p:cNvCxnSpPr>
            <a:endCxn id="81" idx="1"/>
          </p:cNvCxnSpPr>
          <p:nvPr/>
        </p:nvCxnSpPr>
        <p:spPr>
          <a:xfrm>
            <a:off x="5292720" y="4695840"/>
            <a:ext cx="1519920" cy="40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29"/>
          <p:cNvCxnSpPr/>
          <p:nvPr/>
        </p:nvCxnSpPr>
        <p:spPr>
          <a:xfrm flipH="1">
            <a:off x="3614400" y="4900680"/>
            <a:ext cx="475200" cy="47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1"/>
          <p:cNvCxnSpPr/>
          <p:nvPr/>
        </p:nvCxnSpPr>
        <p:spPr>
          <a:xfrm>
            <a:off x="4642920" y="4895640"/>
            <a:ext cx="505800" cy="478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Прямоугольник 32"/>
          <p:cNvSpPr/>
          <p:nvPr/>
        </p:nvSpPr>
        <p:spPr>
          <a:xfrm>
            <a:off x="3614760" y="6093000"/>
            <a:ext cx="2135160" cy="5047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ременные пор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2611440" y="189000"/>
            <a:ext cx="6514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Очень важным моментом сплочения коллектива, стимулирования общественно-полезной деятельности является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топись </a:t>
            </a:r>
            <a:r>
              <a:rPr b="1" i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(или портфолио) класса, которая включает следующие раздел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общие сведения о класс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список актив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протоколы решения собран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планы на четвер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достижения класса (грамоты, благодарности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описание текущих дел с использованием фотоматериа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Возможно проводить конкурс на  лучшую летопись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3132000" y="115920"/>
            <a:ext cx="601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Принципы  построения и развития самоуправления</a:t>
            </a:r>
            <a:r>
              <a:rPr b="0" i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Педагогическое руководство. Оно обеспечивает развитие детского само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- Выбор содержания, организационной структуры, форм и методов деятельности классного акти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- Широкая гласность и открытость в деятельности органов самоуправ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- Свобода критики и обмена мнениями по любым вопросам школьной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- Систематическая сменяемость членов самоуправления, обновляемость видов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- Гуманность к каждому отдельному человеку. Приоритетность интересов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Round Hole, Square Peg - www.statsoft.com"/>
          <p:cNvPicPr/>
          <p:nvPr/>
        </p:nvPicPr>
        <p:blipFill>
          <a:blip r:embed="rId1"/>
          <a:stretch/>
        </p:blipFill>
        <p:spPr>
          <a:xfrm>
            <a:off x="2556000" y="54000"/>
            <a:ext cx="5329080" cy="36021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2"/>
          <p:cNvSpPr/>
          <p:nvPr/>
        </p:nvSpPr>
        <p:spPr>
          <a:xfrm>
            <a:off x="2268360" y="3811680"/>
            <a:ext cx="687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должен способствова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ественному  росту ребенка, создавать условия для развития его индивидуально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ывать ту воспитательную сред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й ребенок может обр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сть и своб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-Жак Русс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3867480" y="476280"/>
            <a:ext cx="43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«имена – качества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3178080" y="1413000"/>
            <a:ext cx="5689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придумывает какое-либо качество личности, свойство характера и т.д. начинающееся на ту же букву что и им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имер: Лариса – любовь, Сергей - скром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нятие мог бы принести в эту группу сегодня каждый участн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771640" y="0"/>
            <a:ext cx="4953240" cy="428616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2268360" y="3933720"/>
            <a:ext cx="6875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ые давно предлагают поверить в то, что погоду на планете делают люди, и не только техногенным вмешательством, но и образом, окраской мыслей и чувст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наше настроение, наше самочувствие часто зависит от чужих мыслей и чувст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есть существует категория факторов, невидимых внешне, но мощно управляющих нами. Но также существуют и силы, позволяющие нам выстоять в приключении под названием Жизн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Цветик - ДАРЫ ПРИРОДЫ. - я.ру"/>
          <p:cNvPicPr/>
          <p:nvPr/>
        </p:nvPicPr>
        <p:blipFill>
          <a:blip r:embed="rId1"/>
          <a:stretch/>
        </p:blipFill>
        <p:spPr>
          <a:xfrm>
            <a:off x="2484360" y="115920"/>
            <a:ext cx="6408720" cy="44164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"/>
          <p:cNvSpPr/>
          <p:nvPr/>
        </p:nvSpPr>
        <p:spPr>
          <a:xfrm>
            <a:off x="2247120" y="4653000"/>
            <a:ext cx="688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Успехов в работ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books &quot; 2.0: The Blogmocracy"/>
          <p:cNvPicPr/>
          <p:nvPr/>
        </p:nvPicPr>
        <p:blipFill>
          <a:blip r:embed="rId1"/>
          <a:stretch/>
        </p:blipFill>
        <p:spPr>
          <a:xfrm>
            <a:off x="5148360" y="-1000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3203640" y="3922560"/>
            <a:ext cx="56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  <a:ea typeface="Calibri"/>
              </a:rPr>
              <a:t>Основополагающий вопрос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ahoma"/>
                <a:ea typeface="Calibri"/>
              </a:rPr>
              <a:t>Нужно ли развивать самоуправление в детской организаци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6948360" cy="69213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"/>
          <p:cNvSpPr/>
          <p:nvPr/>
        </p:nvSpPr>
        <p:spPr>
          <a:xfrm>
            <a:off x="2340000" y="530064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блемные вопросы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ть ли самоуправление в вашей детской организации? Как развить детское самоуправление в детском коллектив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062160" y="189000"/>
            <a:ext cx="525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амоуправление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– управление делами своими собственными силами в какой-нибудь организации, коллективе. Ученическое самоуправление – форма организации жизнедеятельности коллектива учащихся, обеспечивающая развитие их самостоятельности в принятии и реализации решения для достижения общественно значимых ц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2484360" y="725400"/>
            <a:ext cx="6596280" cy="58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Цели самоуправленческой деятельно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воспитание гражданина с демократической культурой высокого уровня, гуманистической направленностью, умеющего действовать в интересах совершенствования своей личности, общества и Отечест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формировать у учащихся готовность совершенствовать свою личность, создавать условия для развития способностей и интересов членов ученического коллектива; обогащать духовный мир, развивать самостоятельное мышление и самосознани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организация содружества и сотворчества учащихся и взрослы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развитие организаторских навы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создание условий для успешной социализации ребя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3059280" y="189000"/>
            <a:ext cx="58338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Деятельность  классного руководителя и детей по созданию  самоуправления в класс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Создание организационной структуры ученического самоуправл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Организация рейтинговой системы достижений учащихся в клас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Организация деятельности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Мониторинг с последующей коррекци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Подведение итогов и их анализ. Провести результат рейтинга, поощрение ребя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771640" y="3284640"/>
            <a:ext cx="62056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Предложите  организационную структуру ученического самоуправл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Есть ли предложение, как организовать рейтинговую систему достижений учащихся в класс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68360" y="0"/>
            <a:ext cx="398016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735280" y="1628640"/>
            <a:ext cx="64087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Есть ли предложение, как организовать продуктивную  деятельность родителей? При каких условия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Как  провести мониторинг с последующей коррекци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73a3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73a35"/>
                </a:solidFill>
                <a:latin typeface="Times New Roman"/>
                <a:ea typeface="Times New Roman"/>
              </a:rPr>
              <a:t>Предложите способы поощрения ребя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Dancing Question Mark Animated"/>
          <p:cNvPicPr/>
          <p:nvPr/>
        </p:nvPicPr>
        <p:blipFill>
          <a:blip r:embed="rId1"/>
          <a:stretch/>
        </p:blipFill>
        <p:spPr>
          <a:xfrm>
            <a:off x="7236000" y="115920"/>
            <a:ext cx="20890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5:18:52Z</dcterms:created>
  <dc:creator>Катенок</dc:creator>
  <dc:description/>
  <dc:language>en-US</dc:language>
  <cp:lastModifiedBy>ДОМ</cp:lastModifiedBy>
  <dcterms:modified xsi:type="dcterms:W3CDTF">2015-03-24T17:13:17Z</dcterms:modified>
  <cp:revision>18</cp:revision>
  <dc:subject/>
  <dc:title>Презентация PowerPoint</dc:title>
</cp:coreProperties>
</file>