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474-A643-4754-B5E7-432CF79F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306-C762-4F51-A13F-21E9E6E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92A-A827-4D81-AD3E-E3346E76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8E6-E6A4-4174-A01F-FB1024C9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EBE6-3DFC-451D-B624-75F04972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D970-99D9-4D84-9D95-BEC1F99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8F4-4B84-4810-98BF-5A3979C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489-30C5-4C3D-8C79-C97FB50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D048-B493-43CA-9AEB-55ACB09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DC00-B1CC-490E-8512-74DD496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2FB6-F2C2-48F3-B9E5-F5282A0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DE4-A922-4DC3-AA95-352311E2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C250-0C59-4806-87F7-18F259A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112-E5C3-4820-887F-093AFBB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6C00-AF94-4ECA-BBF2-25E4AC7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374-40ED-4D7F-A0B9-7AF81A99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2F4-640C-4758-A223-2552F18C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D363-0100-465F-AC28-5CE4DF5B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9BC9-DB20-4A2C-ABFD-3C641A86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B766-1E69-4129-A288-F5F7516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CCB6-D6F3-4882-AD20-80C1D902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0E72-3AEF-4F3A-B6B2-659FB08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B63-5A2D-4591-B67B-5329B21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7184-F68B-4998-B942-A7BB0E87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8EA2-FE64-4C8A-BF91-CACC5D33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6F51-7D63-47FE-A484-C207269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65A6-BE69-434D-B11C-8CED3A79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7524-2626-45A3-982C-04E35B5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ED24-53A5-429F-9136-163C9C9A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CB0C-1656-41A3-AD4C-AA5D7DF7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3C66-42E5-4B4B-9F98-6BEB2BCE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0638-33D2-45C9-A2E1-1A054C71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CF46-5342-49E3-8BD9-FC615F7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459-C6E2-48F1-A751-620E1CD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5BB6-61D6-48E9-AB45-8E807829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2088-A116-4C31-A731-A83B12D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BBEC-3FC6-41F3-A358-3892936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AFF7-B863-429E-BD4B-46D1CA0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935A-C6B4-45E6-9BF8-700F284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DF35-13CF-43B8-A82C-49F531F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3455C-4EF4-4438-9B95-DF686223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85B4-7AA9-42C6-8A8F-7D547FDD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061D-91F0-4DD7-B2E1-AA84FF99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6B79-70B2-4D4A-9CA6-C660BD54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C38-AEDD-41D9-9EB1-743C91E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C321-B5A1-4EB9-B4F6-25E7628D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D4A3-9AC9-4036-9B36-179A49DB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E7B7-4EF8-4A85-95C7-F154A35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D65E-15B9-4F02-9C3A-752E396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FFF2-D6A6-4951-92B3-65010A22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8DD8-6B54-4658-B7FE-21A02E2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663E-8B4B-4402-918F-6083ABC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96CE-8ACF-47A1-84EB-AF77AC84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CD81A-1E5F-4518-B0AA-6C3E262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9AFB-1EE9-4FE3-BC46-4DF75243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CED-1398-45A1-BA09-F31421E4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A9E1-AEE2-4727-A276-1DE02F2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48D-4ACA-40FB-9BFC-43DF3CBA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AD3-772A-405D-8B1F-8195176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CEB-E396-4742-B49C-68CC9E2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7CBF6-97C9-43CB-86B1-CBC2315F197C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143F5-597C-4198-AE6F-4EE5E547A37D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F22A6-AADA-4E68-BD46-BAECEB4FD8DB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DEEC0-FFD6-4FE3-A95A-6AAB43AB9BE9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75AC6-D90F-4516-8B50-CF63A4FFFF7F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31640" y="1773000"/>
            <a:ext cx="7056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Arial Black"/>
              </a:rPr>
              <a:t>Главные члены предложения. Подлежащее</a:t>
            </a:r>
            <a:endParaRPr b="0" lang="en-US" sz="4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24000" y="907920"/>
            <a:ext cx="770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96731"/>
                </a:solidFill>
                <a:latin typeface="Corbe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Повтори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лежащее, что оно обозначает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На каки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просы отвечает, какими частями речи выражается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Потренироваться находить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вные члены предложения в текст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68000" y="404640"/>
            <a:ext cx="5483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6731"/>
                </a:solidFill>
                <a:latin typeface="Arial Black"/>
              </a:rPr>
              <a:t>Знал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ый член предложения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вечает на вопросы кто? что?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означает о ком или о чём говорится в предложении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аще всего выражено существительным или местоимением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ано со сказуемым по смыслу и грамматически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чёркивается __________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951520" y="475920"/>
            <a:ext cx="2674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6731"/>
                </a:solidFill>
                <a:latin typeface="Arial Black"/>
              </a:rPr>
              <a:t>Узнали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-397080" y="333360"/>
            <a:ext cx="9505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сень лесу каждый год платит золотом за вход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ы смотрим в окна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емь делится на два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ри мудреца в одном тазу пустились по морю в грозу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ва обманщика обещали ему сшить платье, которое увидят лишь умные люди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8000" y="188640"/>
            <a:ext cx="8578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Осень платит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Мы смотрим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Восемь делится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Три мудреца пустились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 Два обманщика обещали сшить, умные люди увидят.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выражения подлежащего: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сочетани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042920" y="620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96731"/>
                </a:solidFill>
                <a:latin typeface="Corbel"/>
              </a:rPr>
              <a:t>Узнали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4360" y="1577880"/>
            <a:ext cx="74167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. Корни питают листья. 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. Глаза защищают ресницы. 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3. Ночь сменяет день.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1258920" y="157320"/>
            <a:ext cx="69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96731"/>
                </a:solidFill>
                <a:latin typeface="Corbel"/>
              </a:rPr>
              <a:t>Определите подлежащее в следующих предложениях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447840" y="1836720"/>
            <a:ext cx="8248320" cy="4903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250920" y="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96731"/>
                </a:solidFill>
                <a:latin typeface="Corbel"/>
              </a:rPr>
              <a:t>Придумайте три предложения по картинке, что подлежащими в них были существительное, местоимение и словосочет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5:56:19Z</dcterms:created>
  <dc:creator>00a</dc:creator>
  <dc:description/>
  <dc:language>en-US</dc:language>
  <cp:lastModifiedBy>USER</cp:lastModifiedBy>
  <dcterms:modified xsi:type="dcterms:W3CDTF">2023-05-21T16:42:53Z</dcterms:modified>
  <cp:revision>21</cp:revision>
  <dc:subject/>
  <dc:title>Урок русского языка в 5 классе</dc:title>
</cp:coreProperties>
</file>