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0BE-08C6-42BC-8B89-965275A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644-545E-4447-AEF6-9E6B68F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3EB-A0D2-4D8B-99DE-EE50BC54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441-6EED-48A6-8FA3-09B66431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8BF4-5A83-41D2-A73F-3CDC3985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4984-2834-4F50-8A9D-532E257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DE4D-C776-48C4-9DA8-A3666E9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02F-4BA2-45C1-B52E-A1C54E1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BC76-119E-445F-ABAC-E0710B3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FC0C-780F-4B5D-9273-3E476DF8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BDAA-EAFB-49A8-A390-8F702E3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E10-8014-4E68-AA0A-4DC19CFC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B17-A6EC-4F52-9E87-9E0B59F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9B28-A7FC-41AC-90E5-DF02FD1E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F391-065B-4800-994D-791A536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BA19-9738-49A3-969D-0CB43848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54B5-92DC-4CF5-9C22-8C0A80B2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D97D-A9D2-417A-A88B-0C32BC9D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A97A-9E3D-4D52-A829-96F9CF89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FBB8-CCF9-4D3A-96BA-AAA1E57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A445-2813-479E-B259-0CC17960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0D84-856C-476B-9EEA-A02F03FF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4BA-5EBB-4549-BD28-CED64DD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4DAD-F839-4F22-BB18-8815709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A325-02AE-4C15-8C75-7282387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FF15-5F63-43BF-8B43-D536C63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C129-B46F-4D32-862C-31984FF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6A72-EC5E-4C19-BC89-BB07796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C30C-5EF6-410E-BB57-3BD568EE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EC95-D536-42B2-8D43-518E7268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C6A5-3168-41DC-B19A-DF6F64BF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8E8A-2C13-4AE1-B3A7-5EBF9D82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509A-7F7C-4921-91F5-4E4C4BD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DDC-59B6-401C-8A6C-1AB038B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D6AB-76E5-45AF-B177-7A201AF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2C12-750F-4B3D-8281-70DD1D5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C16F-067D-4AD8-ACA4-6C613D78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6765-1A23-4EB0-BD69-7C64886B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5249-68D0-414F-B368-12D0892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B019-080B-4961-A7B1-AB7D77C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B407-A3A7-4A0F-A78A-FB62326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6FD5-DDC4-453E-949F-5A9E28A2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75C7-17B0-48A4-B51E-405411F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6115-952B-4D8D-A84F-F04DAA39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52E-C3CB-4B91-A1A9-817C623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C773-E3AE-410E-9BA9-DBD72131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E13F-19BA-46F4-B87A-AFE6F8F5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8352-1FC4-48C8-886E-79558C41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E1E6-0C17-4679-BA06-FF9FBF97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43CC-1416-4459-8EB1-503F400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C7EE-F34E-4C0D-99FC-902E81C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660E-BC88-426C-AA0E-0F51260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35E7-9EE5-4910-9295-1851289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8224E-ACC9-4C59-97F0-713AF7A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B83A-B39B-4EF1-9A66-674AC635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164-4FB1-4274-819F-6074C79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9410-52EA-4766-B9A9-A4452511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C58-205E-47D2-80B9-6395B7D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8B6-9AD4-41CB-AD20-6FBA099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A45-ADA1-47D6-9D3F-6DA46AC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AE28E-BA26-4A2C-BD4C-082B00A0F068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B1A3D-9151-4F15-8CB3-9A5E4610E6D5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0B440-054B-4A64-839F-A344517D4178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978B7-87E9-400C-86F5-A63D969DBF85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1" marL="32904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2" marL="4935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3" marL="65808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4" marL="822960" indent="-16452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5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lvl="6" marL="822960" indent="-164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737B5-50D9-4D8F-B899-DF601FFB6C0F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31640" y="1773000"/>
            <a:ext cx="7056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Arial Black"/>
              </a:rPr>
              <a:t>Главные члены предложения. Подлежащее</a:t>
            </a:r>
            <a:endParaRPr b="0" lang="en-US" sz="4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24000" y="907920"/>
            <a:ext cx="770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96731"/>
                </a:solidFill>
                <a:latin typeface="Corbe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Повтори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Что тако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лежащее, что оно обозначает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На каки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просы отвечает, какими частями речи выражается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Потренироваться находить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вные члены предложения в текст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68000" y="404640"/>
            <a:ext cx="5483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6731"/>
                </a:solidFill>
                <a:latin typeface="Arial Black"/>
              </a:rPr>
              <a:t>Знал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ый член предложения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вечает на вопросы кто? что?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означает о ком или о чём говорится в предложении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аще всего выражено существительным или местоимением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ано со сказуемым по смыслу и грамматически;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чёркивается __________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951520" y="475920"/>
            <a:ext cx="2674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6731"/>
                </a:solidFill>
                <a:latin typeface="Arial Black"/>
              </a:rPr>
              <a:t>Узнали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-397080" y="333360"/>
            <a:ext cx="9505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сень лесу каждый год платит золотом за вход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ы смотрим в окна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емь делится на два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ри мудреца в одном тазу пустились по морю в грозу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4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ва обманщика обещали ему сшить платье, которое увидят лишь умные люди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8000" y="188640"/>
            <a:ext cx="8578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Осень платит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Мы смотрим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Восемь делится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Три мудреца пустились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 Два обманщика обещали сшить, умные люди увидят.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выражения подлежащего: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сочетание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042920" y="620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96731"/>
                </a:solidFill>
                <a:latin typeface="Corbel"/>
              </a:rPr>
              <a:t>Узнали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4360" y="1577880"/>
            <a:ext cx="74167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. Корни питают листья. 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. Глаза защищают ресницы. 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3. Ночь сменяет день.</a:t>
            </a:r>
            <a:endParaRPr b="0" lang="en-US" sz="4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1258920" y="157320"/>
            <a:ext cx="69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96731"/>
                </a:solidFill>
                <a:latin typeface="Corbel"/>
              </a:rPr>
              <a:t>Определите подлежащее в следующих предложениях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447840" y="1836720"/>
            <a:ext cx="8248320" cy="4903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250920" y="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96731"/>
                </a:solidFill>
                <a:latin typeface="Corbel"/>
              </a:rPr>
              <a:t>Придумайте три предложения по картинке, что подлежащими в них были существительное, местоимение и словосочет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5:56:19Z</dcterms:created>
  <dc:creator>00a</dc:creator>
  <dc:description/>
  <dc:language>en-US</dc:language>
  <cp:lastModifiedBy>USER</cp:lastModifiedBy>
  <dcterms:modified xsi:type="dcterms:W3CDTF">2023-05-21T16:42:53Z</dcterms:modified>
  <cp:revision>21</cp:revision>
  <dc:subject/>
  <dc:title>Урок русского языка в 5 классе</dc:title>
</cp:coreProperties>
</file>