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10.jpeg" ContentType="image/jpeg"/>
  <Override PartName="/ppt/media/image19.jpeg" ContentType="image/jpeg"/>
  <Override PartName="/ppt/media/image42.jpeg" ContentType="image/jpeg"/>
  <Override PartName="/ppt/media/image6.wmf" ContentType="image/x-wmf"/>
  <Override PartName="/ppt/media/image47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5.jpeg" ContentType="image/jpeg"/>
  <Override PartName="/ppt/media/image12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36.jpeg" ContentType="image/jpeg"/>
  <Override PartName="/ppt/media/image11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2.jpeg" ContentType="image/jpeg"/>
  <Override PartName="/ppt/media/image3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F360-B0FF-4281-8744-622792946A2A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532F-1AA9-40B8-B8DA-A553066821BB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7998-09DF-42E4-9602-889856DC3129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CB69-A197-4314-8ABD-84F45EA74D28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1DE0-9286-46C0-8C37-F79513681AD5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2832-7096-4039-9A8B-788D4086B7E3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C3BD-1B35-4DE1-964E-392416233001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E158-A529-44CE-8688-46430A3A5900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F6FF-43D1-41D4-8C44-92D23993CB29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C3A0-0F0C-4539-B988-429811DC4500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63E9-17DE-47C8-9F6A-77BFABF25703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D9BE-4B67-4D4D-A22A-D4367451E932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97DE-D10A-4D59-8C73-D8DC0A2BC636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3F95-4689-4D21-AFAA-0756BB8BD889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EBD5-0333-4324-912E-6074842B3855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0497-A315-4F02-B5E2-3B7B6ACE9603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8B3F-D4F4-49C1-BD64-861744871FC4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8C34-A633-4DDB-8F65-3F2F8394C035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2CE9-CD79-442B-8CBF-BB0CAC5BED46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874A-5B7F-4761-B732-9B535F66AA98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63BB-87D7-40E9-8264-710AA9F7DED5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88EB-52B0-4141-9908-240BF2A9A9AA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ED4A-C4EB-40B5-BC0E-E75D7D0D69BA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DE5F-C137-41E6-96E2-A535B73DE10B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E950-A263-46FB-97D2-9FD9A1F494B9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4CC3-7152-4A6D-AEF5-1E5931470BDF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CE03-AB32-4572-8B46-3B7BAB7691B6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1A6D-0493-4AA2-A524-57A4C4A5BF1C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7C2C-59F1-49E9-93EB-631544C61961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E073-B96B-488B-81DD-A2BE41B9D7FA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A925-58FB-4FC3-97EE-53D4DA8ADBFC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E024-FDEE-433B-A44B-7F7EC3C4E333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82A9-148B-4025-8F69-13FF89402C6A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0734-0E80-4ED3-8CEA-B307DEB67E03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6B0F-F1F2-418C-8634-CA89039926C9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8272-0B8C-49FD-9A3E-AA227D5B2F51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8136-0900-4034-9247-3085987F8431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2BBC-9FF4-49A7-9BDE-BCCDDC7EECB3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EEAA-CA0C-4FC3-8707-8CA64611852A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3B99-5EF7-4D02-96E8-993A5AA77BB3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71A6-8DE8-4A39-BF53-545642568564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3568-418C-4EED-86E5-DE0C130B902B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6A54-0191-4860-816E-19C96DBBC6E5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C85A-35D2-4ED6-BCF8-8694FACDD7DA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797E7-E058-451F-8ECA-EC4D4B9F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EC435-A091-4C3E-8134-602F28D9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F6FA1-291D-4F01-832D-B93AAE64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F62BE-2199-4627-80DD-FF0F30F1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26004-7191-4E78-8755-B07E6FCC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44A2D-56AA-4073-ADD4-8C378F15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3C971-C62C-4BC2-8B4D-5F2F4E55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3868D-2E95-4FCE-9CE1-6C785A63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68E38-EF3A-4E43-9A47-5F324945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FDD2D-0C5D-451A-8FC7-ABF9EA23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0F8CA-36D6-4F75-A003-50FF4038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65F41-1D70-4268-B811-121DA825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726C-A26C-46CD-B9FA-1920FB84CE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hyperlink" Target="https://ru.wikipedia.org/wiki/&#1050;&#1088;&#1072;&#1089;&#1085;&#1072;&#1103;_&#1072;&#1088;&#1084;&#1080;&#1103;" TargetMode="External"/><Relationship Id="rId4" Type="http://schemas.openxmlformats.org/officeDocument/2006/relationships/hyperlink" Target="https://ru.wikipedia.org/wiki/&#1044;&#1085;&#1080;_&#1074;&#1086;&#1080;&#1085;&#1089;&#1082;&#1086;&#1081;_&#1089;&#1083;&#1072;&#1074;&#1099;_&#1080;_&#1087;&#1072;&#1084;&#1103;&#1090;&#1085;&#1099;&#1077;_&#1076;&#1072;&#1090;&#1099;_&#1056;&#1086;&#1089;&#1089;&#1080;&#1080;" TargetMode="External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43;&#1077;&#1085;&#1077;&#1088;&#1072;&#1083;&#1100;&#1085;&#1086;&#1077;_&#1089;&#1088;&#1072;&#1078;&#1077;&#1085;&#1080;&#1077;" TargetMode="External"/><Relationship Id="rId3" Type="http://schemas.openxmlformats.org/officeDocument/2006/relationships/hyperlink" Target="https://ru.wikipedia.org/wiki/&#1042;&#1090;&#1086;&#1088;&#1072;&#1103;_&#1084;&#1080;&#1088;&#1086;&#1074;&#1072;&#1103;_&#1074;&#1086;&#1081;&#1085;&#1072;" TargetMode="External"/><Relationship Id="rId4" Type="http://schemas.openxmlformats.org/officeDocument/2006/relationships/hyperlink" Target="https://ru.wikipedia.org/wiki/&#1042;&#1077;&#1083;&#1080;&#1082;&#1072;&#1103;_&#1054;&#1090;&#1077;&#1095;&#1077;&#1089;&#1090;&#1074;&#1077;&#1085;&#1085;&#1072;&#1103;_&#1074;&#1086;&#1081;&#1085;&#1072;" TargetMode="External"/><Relationship Id="rId5" Type="http://schemas.openxmlformats.org/officeDocument/2006/relationships/hyperlink" Target="https://ru.wikipedia.org/wiki/&#1056;&#1072;&#1073;&#1086;&#1095;&#1077;-&#1082;&#1088;&#1077;&#1089;&#1090;&#1100;&#1103;&#1085;&#1089;&#1082;&#1072;&#1103;_&#1050;&#1088;&#1072;&#1089;&#1085;&#1072;&#1103;_&#1072;&#1088;&#1084;&#1080;&#1103;" TargetMode="External"/><Relationship Id="rId6" Type="http://schemas.openxmlformats.org/officeDocument/2006/relationships/hyperlink" Target="https://ru.wikipedia.org/wiki/&#1042;&#1077;&#1088;&#1084;&#1072;&#1093;&#1090;" TargetMode="External"/><Relationship Id="rId7" Type="http://schemas.openxmlformats.org/officeDocument/2006/relationships/hyperlink" Target="https://ru.wikipedia.org/wiki/&#1057;&#1090;&#1088;&#1072;&#1085;&#1099;_&#171;&#1086;&#1089;&#1080;&#187;_&#1080;_&#1080;&#1093;_&#1089;&#1086;&#1102;&#1079;&#1085;&#1080;&#1082;&#1080;" TargetMode="External"/><Relationship Id="rId8" Type="http://schemas.openxmlformats.org/officeDocument/2006/relationships/hyperlink" Target="https://ru.wikipedia.org/wiki/&#1056;&#1072;&#1073;&#1086;&#1095;&#1077;-&#1082;&#1088;&#1077;&#1089;&#1090;&#1100;&#1103;&#1085;&#1089;&#1082;&#1072;&#1103;_&#1050;&#1088;&#1072;&#1089;&#1085;&#1072;&#1103;_&#1072;&#1088;&#1084;&#1080;&#1103;" TargetMode="External"/><Relationship Id="rId9" Type="http://schemas.openxmlformats.org/officeDocument/2006/relationships/hyperlink" Target="https://ru.wikipedia.org/wiki/17_&#1080;&#1102;&#1083;&#1103;" TargetMode="External"/><Relationship Id="rId10" Type="http://schemas.openxmlformats.org/officeDocument/2006/relationships/hyperlink" Target="https://ru.wikipedia.org/wiki/1942_&#1075;&#1086;&#1076;" TargetMode="External"/><Relationship Id="rId11" Type="http://schemas.openxmlformats.org/officeDocument/2006/relationships/hyperlink" Target="https://ru.wikipedia.org/wiki/2_&#1092;&#1077;&#1074;&#1088;&#1072;&#1083;&#1103;" TargetMode="External"/><Relationship Id="rId12" Type="http://schemas.openxmlformats.org/officeDocument/2006/relationships/hyperlink" Target="https://ru.wikipedia.org/wiki/1943_&#1075;&#1086;&#1076;" TargetMode="External"/><Relationship Id="rId13" Type="http://schemas.openxmlformats.org/officeDocument/2006/relationships/hyperlink" Target="https://ru.wikipedia.org/wiki/&#1050;&#1072;&#1087;&#1080;&#1090;&#1091;&#1083;&#1103;&#1094;&#1080;&#1103;" TargetMode="External"/><Relationship Id="rId14" Type="http://schemas.openxmlformats.org/officeDocument/2006/relationships/hyperlink" Target="https://ru.wikipedia.org/wiki/&#1057;&#1087;&#1080;&#1089;&#1086;&#1082;_&#1075;&#1077;&#1085;&#1077;&#1088;&#1072;&#1083;-&#1092;&#1077;&#1083;&#1100;&#1076;&#1084;&#1072;&#1088;&#1096;&#1072;&#1083;&#1086;&#1074;_&#1043;&#1077;&#1088;&#1084;&#1072;&#1085;&#1080;&#1080;" TargetMode="External"/><Relationship Id="rId15" Type="http://schemas.openxmlformats.org/officeDocument/2006/relationships/hyperlink" Target="https://ru.wikipedia.org/wiki/&#1055;&#1072;&#1091;&#1083;&#1102;&#1089;,_&#1060;&#1088;&#1080;&#1076;&#1088;&#1080;&#1093;" TargetMode="External"/><Relationship Id="rId16" Type="http://schemas.openxmlformats.org/officeDocument/2006/relationships/hyperlink" Target="https://ru.wikipedia.org/wiki/&#1043;&#1077;&#1085;&#1077;&#1088;&#1072;&#1083;" TargetMode="External"/><Relationship Id="rId17" Type="http://schemas.openxmlformats.org/officeDocument/2006/relationships/hyperlink" Target="https://ru.wikipedia.org/wiki/&#1057;&#1090;&#1072;&#1074;&#1082;&#1072;_&#1042;&#1077;&#1088;&#1093;&#1086;&#1074;&#1085;&#1086;&#1075;&#1086;_&#1043;&#1083;&#1072;&#1074;&#1085;&#1086;&#1082;&#1086;&#1084;&#1072;&#1085;&#1076;&#1086;&#1074;&#1072;&#1085;&#1080;&#1103;" TargetMode="External"/><Relationship Id="rId18" Type="http://schemas.openxmlformats.org/officeDocument/2006/relationships/hyperlink" Target="https://ru.wikipedia.org/wiki/&#1044;&#1085;&#1080;_&#1074;&#1086;&#1080;&#1085;&#1089;&#1082;&#1086;&#1081;_&#1089;&#1083;&#1072;&#1074;&#1099;_&#1080;_&#1087;&#1072;&#1084;&#1103;&#1090;&#1085;&#1099;&#1077;_&#1076;&#1072;&#1090;&#1099;_&#1056;&#1086;&#1089;&#1089;&#1080;&#1080;" TargetMode="Externa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5_&#1080;&#1102;&#1083;&#1103;" TargetMode="External"/><Relationship Id="rId3" Type="http://schemas.openxmlformats.org/officeDocument/2006/relationships/hyperlink" Target="https://ru.wikipedia.org/wiki/&#1061;&#1088;&#1086;&#1085;&#1080;&#1082;&#1072;_&#1042;&#1077;&#1083;&#1080;&#1082;&#1086;&#1081;_&#1054;&#1090;&#1077;&#1095;&#1077;&#1089;&#1090;&#1074;&#1077;&#1085;&#1085;&#1086;&#1081;_&#1074;&#1086;&#1081;&#1085;&#1099;/&#1040;&#1074;&#1075;&#1091;&#1089;&#1090;_1943_&#1075;&#1086;&#1076;&#1072;#23_&#1072;&#1074;&#1075;&#1091;&#1089;&#1090;&#1072;_1943_&#1075;&#1086;&#1076;&#1072;._793-&#1081;_&#1076;&#1077;&#1085;&#1100;_&#1074;&#1086;&#1081;&#1085;&#1099;" TargetMode="External"/><Relationship Id="rId4" Type="http://schemas.openxmlformats.org/officeDocument/2006/relationships/hyperlink" Target="https://ru.wikipedia.org/wiki/1943_&#1075;&#1086;&#1076;" TargetMode="External"/><Relationship Id="rId5" Type="http://schemas.openxmlformats.org/officeDocument/2006/relationships/hyperlink" Target="https://ru.wikipedia.org/wiki/&#1050;&#1091;&#1088;&#1089;&#1082;&#1072;&#1103;_&#1076;&#1091;&#1075;&#1072;" TargetMode="External"/><Relationship Id="rId6" Type="http://schemas.openxmlformats.org/officeDocument/2006/relationships/hyperlink" Target="https://ru.wikipedia.org/wiki/&#1056;&#1072;&#1073;&#1086;&#1095;&#1077;-&#1082;&#1088;&#1077;&#1089;&#1090;&#1100;&#1103;&#1085;&#1089;&#1082;&#1072;&#1103;_&#1050;&#1088;&#1072;&#1089;&#1085;&#1072;&#1103;_&#1072;&#1088;&#1084;&#1080;&#1103;" TargetMode="External"/><Relationship Id="rId7" Type="http://schemas.openxmlformats.org/officeDocument/2006/relationships/hyperlink" Target="https://ru.wikipedia.org/wiki/&#1042;&#1077;&#1083;&#1080;&#1082;&#1072;&#1103;_&#1054;&#1090;&#1077;&#1095;&#1077;&#1089;&#1090;&#1074;&#1077;&#1085;&#1085;&#1072;&#1103;_&#1074;&#1086;&#1081;&#1085;&#1072;" TargetMode="External"/><Relationship Id="rId8" Type="http://schemas.openxmlformats.org/officeDocument/2006/relationships/hyperlink" Target="https://ru.wikipedia.org/wiki/&#1042;&#1077;&#1088;&#1084;&#1072;&#1093;&#1090;" TargetMode="External"/><Relationship Id="rId9" Type="http://schemas.openxmlformats.org/officeDocument/2006/relationships/hyperlink" Target="https://ru.wikipedia.org/wiki/&#1050;&#1091;&#1088;&#1089;&#1082;&#1072;&#1103;_&#1073;&#1080;&#1090;&#1074;&#1072;#cite_note-_1364332f0b453edc-9" TargetMode="External"/><Relationship Id="rId10" Type="http://schemas.openxmlformats.org/officeDocument/2006/relationships/hyperlink" Target="https://ru.wikipedia.org/wiki/&#1042;&#1090;&#1086;&#1088;&#1072;&#1103;_&#1084;&#1080;&#1088;&#1086;&#1074;&#1072;&#1103;_&#1074;&#1086;&#1081;&#1085;&#1072;" TargetMode="External"/><Relationship Id="rId11" Type="http://schemas.openxmlformats.org/officeDocument/2006/relationships/hyperlink" Target="https://ru.wikipedia.org/wiki/&#1042;&#1077;&#1083;&#1080;&#1082;&#1072;&#1103;_&#1054;&#1090;&#1077;&#1095;&#1077;&#1089;&#1090;&#1074;&#1077;&#1085;&#1085;&#1072;&#1103;_&#1074;&#1086;&#1081;&#1085;&#1072;" TargetMode="External"/><Relationship Id="rId12" Type="http://schemas.openxmlformats.org/officeDocument/2006/relationships/hyperlink" Target="https://ru.wikipedia.org/wiki/&#1048;&#1089;&#1090;&#1086;&#1088;&#1080;&#1086;&#1075;&#1088;&#1072;&#1092;&#1080;&#1103;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57;&#1090;&#1088;&#1072;&#1090;&#1077;&#1075;&#1080;&#1095;&#1077;&#1089;&#1082;&#1072;&#1103;_&#1080;&#1085;&#1080;&#1094;&#1080;&#1072;&#1090;&#1080;&#1074;&#1072;" TargetMode="External"/><Relationship Id="rId3" Type="http://schemas.openxmlformats.org/officeDocument/2006/relationships/hyperlink" Target="https://ru.wikipedia.org/wiki/&#1056;&#1072;&#1073;&#1086;&#1095;&#1077;-&#1082;&#1088;&#1077;&#1089;&#1090;&#1100;&#1103;&#1085;&#1089;&#1082;&#1072;&#1103;_&#1050;&#1088;&#1072;&#1089;&#1085;&#1072;&#1103;_&#1072;&#1088;&#1084;&#1080;&#1103;" TargetMode="External"/><Relationship Id="rId4" Type="http://schemas.openxmlformats.org/officeDocument/2006/relationships/hyperlink" Target="https://ru.wikipedia.org/wiki/&#1042;&#1077;&#1088;&#1084;&#1072;&#1093;&#1090;" TargetMode="External"/><Relationship Id="rId5" Type="http://schemas.openxmlformats.org/officeDocument/2006/relationships/hyperlink" Target="https://ru.wikipedia.org/wiki/&#1058;&#1072;&#1082;&#1090;&#1080;&#1082;&#1072;_&#1074;&#1099;&#1078;&#1078;&#1077;&#1085;&#1085;&#1086;&#1081;_&#1079;&#1077;&#1084;&#1083;&#1080;" TargetMode="External"/><Relationship Id="rId6" Type="http://schemas.openxmlformats.org/officeDocument/2006/relationships/hyperlink" Target="https://ru.wikipedia.org/wiki/&#1044;&#1085;&#1080;_&#1074;&#1086;&#1080;&#1085;&#1089;&#1082;&#1086;&#1081;_&#1089;&#1083;&#1072;&#1074;&#1099;_&#1080;_&#1087;&#1072;&#1084;&#1103;&#1090;&#1085;&#1099;&#1077;_&#1076;&#1072;&#1090;&#1099;_&#1056;&#1086;&#1089;&#1089;&#1080;&#1080;" TargetMode="External"/><Relationship Id="rId7" Type="http://schemas.openxmlformats.org/officeDocument/2006/relationships/hyperlink" Target="https://ru.wikipedia.org/wiki/&#1050;&#1091;&#1088;&#1089;&#1082;&#1072;&#1103;_&#1073;&#1080;&#1090;&#1074;&#1072;#cite_note-18" TargetMode="External"/><Relationship Id="rId8" Type="http://schemas.openxmlformats.org/officeDocument/2006/relationships/hyperlink" Target="https://ru.wikipedia.org/wiki/&#1043;&#1086;&#1088;&#1086;&#1076;_&#1074;&#1086;&#1080;&#1085;&#1089;&#1082;&#1086;&#1081;_&#1089;&#1083;&#1072;&#1074;&#1099;" TargetMode="External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42;&#1090;&#1086;&#1088;&#1072;&#1103;_&#1084;&#1080;&#1088;&#1086;&#1074;&#1072;&#1103;_&#1074;&#1086;&#1081;&#1085;&#1072;" TargetMode="External"/><Relationship Id="rId3" Type="http://schemas.openxmlformats.org/officeDocument/2006/relationships/hyperlink" Target="https://ru.wikipedia.org/wiki/&#1058;&#1086;&#1088;&#1075;&#1072;&#1091;" TargetMode="External"/><Relationship Id="rId4" Type="http://schemas.openxmlformats.org/officeDocument/2006/relationships/hyperlink" Target="https://ru.wikipedia.org/wiki/&#1069;&#1083;&#1100;&#1073;&#1072;_(&#1088;&#1077;&#1082;&#1072;)" TargetMode="External"/><Relationship Id="rId5" Type="http://schemas.openxmlformats.org/officeDocument/2006/relationships/hyperlink" Target="https://ru.wikipedia.org/wiki/&#1055;&#1077;&#1088;&#1074;&#1099;&#1081;_&#1059;&#1082;&#1088;&#1072;&#1080;&#1085;&#1089;&#1082;&#1080;&#1081;_&#1092;&#1088;&#1086;&#1085;&#1090;" TargetMode="External"/><Relationship Id="rId6" Type="http://schemas.openxmlformats.org/officeDocument/2006/relationships/hyperlink" Target="https://ru.wikipedia.org/wiki/&#1057;&#1064;&#1040;" TargetMode="External"/><Relationship Id="rId7" Type="http://schemas.openxmlformats.org/officeDocument/2006/relationships/hyperlink" Target="https://ru.wikipedia.org/wiki/&#1042;&#1077;&#1088;&#1084;&#1072;&#1093;&#1090;" TargetMode="Externa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hyperlink" Target="https://ru.wikipedia.org/wiki/&#1041;&#1077;&#1088;&#1083;&#1080;&#1085;&#1089;&#1082;&#1072;&#1103;_&#1085;&#1072;&#1089;&#1090;&#1091;&#1087;&#1072;&#1090;&#1077;&#1083;&#1100;&#1085;&#1072;&#1103;_&#1086;&#1087;&#1077;&#1088;&#1072;&#1094;&#1080;&#1103;" TargetMode="External"/><Relationship Id="rId4" Type="http://schemas.openxmlformats.org/officeDocument/2006/relationships/hyperlink" Target="https://ru.wikipedia.org/wiki/&#1056;&#1072;&#1073;&#1086;&#1095;&#1077;-&#1082;&#1088;&#1077;&#1089;&#1090;&#1100;&#1103;&#1085;&#1089;&#1082;&#1072;&#1103;_&#1050;&#1088;&#1072;&#1089;&#1085;&#1072;&#1103;_&#1072;&#1088;&#1084;&#1080;&#1103;" TargetMode="External"/><Relationship Id="rId5" Type="http://schemas.openxmlformats.org/officeDocument/2006/relationships/hyperlink" Target="https://ru.wikipedia.org/wiki/&#1058;&#1088;&#1077;&#1090;&#1080;&#1081;_&#1088;&#1077;&#1081;&#1093;" TargetMode="External"/><Relationship Id="rId6" Type="http://schemas.openxmlformats.org/officeDocument/2006/relationships/hyperlink" Target="https://ru.wikipedia.org/wiki/25_&#1072;&#1087;&#1088;&#1077;&#1083;&#1103;" TargetMode="External"/><Relationship Id="rId7" Type="http://schemas.openxmlformats.org/officeDocument/2006/relationships/hyperlink" Target="https://ru.wikipedia.org/wiki/2_&#1084;&#1072;&#1103;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1945_&#1075;&#1086;&#1076;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85;&#1072;&#1087;&#1072;&#1076;&#1077;&#1085;&#1080;&#1077;%20&#1043;&#1080;&#1090;&#1083;&#1077;&#1088;&#1072;.avi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2"/>
          <a:stretch/>
        </p:blipFill>
        <p:spPr>
          <a:xfrm>
            <a:off x="828720" y="695160"/>
            <a:ext cx="6767640" cy="768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2843280" y="5300640"/>
            <a:ext cx="52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РОПРИЯТИЕ ПОДГОТОВЛЕНО УЧИТЕЛЕМ ИСТОРИИ МБОУ «Левженская СОШ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ФРЫГИНЫМ Б.Б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324000" y="1490760"/>
            <a:ext cx="2727000" cy="338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4"/>
          <a:stretch/>
        </p:blipFill>
        <p:spPr>
          <a:xfrm>
            <a:off x="3203640" y="1743120"/>
            <a:ext cx="576108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395280" y="593640"/>
            <a:ext cx="82090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йна… От Бреста до Москвы 1000 километров, от Москвы до Берлина — 1600. Итого 2600 километров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если считать по прямой. Так мало, не правда ли? 2600 километров. Поездом — четверо суток, самолетом — четыре часа, а перебежками по-пластунски — четыре долгих года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90000"/>
              </a:lnSpc>
              <a:spcBef>
                <a:spcPts val="1162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Война – это 4 года,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1 418 бессонных дней и ночей,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29 миллионов погибших советских людей, это значит  29 человека на каждые 2 метра земли,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значит 19 человек в каждую минуту.</a:t>
            </a:r>
            <a:endParaRPr b="0" lang="en-US" sz="45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3130560" cy="45370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pic>
        <p:nvPicPr>
          <p:cNvPr id="72" name="Picture 2" descr=""/>
          <p:cNvPicPr/>
          <p:nvPr/>
        </p:nvPicPr>
        <p:blipFill>
          <a:blip r:embed="rId3"/>
          <a:stretch/>
        </p:blipFill>
        <p:spPr>
          <a:xfrm>
            <a:off x="3492360" y="2997360"/>
            <a:ext cx="5435640" cy="359712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73" name="Rectangle 3"/>
          <p:cNvSpPr/>
          <p:nvPr/>
        </p:nvSpPr>
        <p:spPr>
          <a:xfrm>
            <a:off x="3492360" y="765000"/>
            <a:ext cx="511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Тяжелее всего приходилось во время войны детям. Детские сады и школы не работали, многие дети остались совсем одни, потеряли  под бомбежками родителей, попали в детские дома.  Некоторые мальчишки становились «сынами полков», их , голодных и несчастных , брали к себе солдаты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и заботились о них до конца войны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539640" y="333360"/>
            <a:ext cx="84250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йна… Это бесстрашие защитников Бреста, это 900 дней блокадного Ленинграда, это клятва панфиловцев: «Ни шагу назад, за нами Москва!»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добытая огнем и кровью победа под Сталинградом, это подвиг героев Курской дуги, это штурм Берлина, это память сердца всего народа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lbertus Extra Bold"/>
              </a:rPr>
              <a:t>«Дорога жизни»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572000" y="1413000"/>
            <a:ext cx="417672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набжение города и войск удалось наладить по «Дороге жизни» (через Ладожское оз.)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928800" y="1000080"/>
            <a:ext cx="3500280" cy="3121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357120" y="3571920"/>
            <a:ext cx="4579920" cy="293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468360" y="333360"/>
            <a:ext cx="795816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о было возить больше, много больше, возить быстрее, много быстрее!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3 декабря через озеро перевезли 700 тонн продуктов, 24-го – 800 тонн. Запасов в городе не оставалось. То, что привозили из-за Ладоги, сразу поступало на хлебозаводы.И все-таки вечером 24 декабря военный совет фронта решил увеличить поек всем ленинградцам: рабочим на 100 граммов в день, остальным - на 75 граммов. Многие женщины и дети плакали от радости. Еще 75 граммов хлеба, в общем - то крохотный кусочек, который легко сжать в кулаке. В блокадную пору он был бесценен. Он давал людям надежду на спасение от голодной смерти, на то, что их близкие и они сами будут жить.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7272360" cy="4761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1996920" y="620640"/>
            <a:ext cx="54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дневник ТАНИ САВИЧЕВОЙ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1979640" y="333360"/>
            <a:ext cx="5338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Москву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324000" y="98100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2122"/>
                </a:solidFill>
                <a:latin typeface="Arial"/>
              </a:rPr>
              <a:t>Би́тва за Москву́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(</a:t>
            </a:r>
            <a:r>
              <a:rPr b="1" lang="ru-RU" sz="1800" spc="-1" strike="noStrike">
                <a:solidFill>
                  <a:srgbClr val="202122"/>
                </a:solidFill>
                <a:latin typeface="Arial"/>
              </a:rPr>
              <a:t>Моско́вская би́тв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, </a:t>
            </a:r>
            <a:r>
              <a:rPr b="1" lang="ru-RU" sz="1800" spc="-1" strike="noStrike">
                <a:solidFill>
                  <a:srgbClr val="202122"/>
                </a:solidFill>
                <a:latin typeface="Arial"/>
              </a:rPr>
              <a:t>Би́тва под Москво́й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, 30 сентября 1941 года — 20 апреля 1942 года) — боевые действия советских и немецких войск на московском направлении. Делится на два периода: оборонительный (30 сентября — 5 декабря 1941 года) и наступательный, который состоит из двух этапов: контрнаступления (5 декабря 1941 года — 7 января 1942 года) и наступления советских войск (7 января — 30 марта 1942 года). Стратегическая наступательная операция немецких войск осенью и зимой 1941 года носила наименование «Тайфун»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4651200" y="1957320"/>
            <a:ext cx="4057920" cy="2847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Москву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4114800" cy="2556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250920" y="1430280"/>
            <a:ext cx="456732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5 декабря 1941 года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Красная армия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перешла в контрнаступление по всему фронту под Москвой, проведя при этом ряд успешных фронтовых наступательных операций и отбросила немцев на 150—300 километров от столицы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Битва за Москву — один из переломных моментов во Второй мировой и Великой Отечественной войнах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5 декабря — день начала советского контрнаступления под Москвой — является одним из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дней воинской славы России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5"/>
          <a:stretch/>
        </p:blipFill>
        <p:spPr>
          <a:xfrm>
            <a:off x="6046920" y="4653000"/>
            <a:ext cx="1452600" cy="13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линградская битв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457200" y="1197000"/>
            <a:ext cx="3394080" cy="39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2122"/>
                </a:solidFill>
                <a:latin typeface="Arial"/>
              </a:rPr>
              <a:t>Сталингра́дская би́тв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— одно из важнейших и крупнейших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генеральных сражений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Второй мировой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и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Великой Отечественной войн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между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Красной армией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и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вермахтом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при поддержке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армий стран «оси»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, закончившееся победой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РКК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Битва происходила с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17 июля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1942 год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по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2 февраля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1943 год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851280" y="1197000"/>
            <a:ext cx="457200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Окружённая группировка 6-й армии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капитулировал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2 февраля 1943 года, в том числе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генерал-фельдмаршал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Фридрих Паулюс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и ещё 24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генерал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вермахта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Эта победа Красной армии, после череды поражений 1941—1942 годов, положила начало «коренному перелому» (перехвату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советским командованием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стратегической инициативы) не только в Великой Отечественной, но и во всей Второй мировой войн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 февраля — день окончания Сталинградской битвы, является одним из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дней воинской славы России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826920" y="620640"/>
            <a:ext cx="770580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беда в Великой Отечественной войне — подвиг и слава нашего народа.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бы ни менялись за последние годы факты нашей истории, 9 мая —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нь Победы — остается неизменным, всеми любимым, дорогим, трагичным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корбным, но в тоже время и светлым праздником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здник Великой победы – 9 мая – один из главных праздников нашей страны,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ый трагичный, самый прекрасный и трогательный. Наверное, в каждом городе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оло вечного огня в этот день собираются те, кто пришел возложить цветы,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помнить наших защитников и героев, минутку помолчать и в который раз сказать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 СПАСИБО… Спасибо за нашу мирную жизнь, за наших детей и внуков,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их счастье! Спасибо Вам, низкий поклон и вечная память…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ряд ли есть семья, которой не коснулась война. У кого-то воевал дед, у кого-то 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ец, сын, муж. Мы рассказываем из поколенья в поколенье об их светлом подвиге,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им память. Передаем дедовские медали и о каждой из них рассказываем своим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ям. Эта за мужество, вот эта – за отвагу… Это наша история, история семьи,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 нашей страны. Мы приводим детей 9 мая к вечному огню и рассказываем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 день Великой Победы, день победы нашего народа над фашизмом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3276720" y="4807080"/>
            <a:ext cx="2438280" cy="162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1116000" y="4770360"/>
            <a:ext cx="1452600" cy="1309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4"/>
          <a:stretch/>
        </p:blipFill>
        <p:spPr>
          <a:xfrm>
            <a:off x="6659640" y="4930920"/>
            <a:ext cx="1452600" cy="13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5092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урская битв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900000" y="1125360"/>
            <a:ext cx="7272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2122"/>
                </a:solidFill>
                <a:latin typeface="Arial"/>
              </a:rPr>
              <a:t>Ку́рская битв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(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5 июля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—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23 август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1943 год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; также известна как </a:t>
            </a:r>
            <a:r>
              <a:rPr b="1" lang="ru-RU" sz="1800" spc="-1" strike="noStrike">
                <a:solidFill>
                  <a:srgbClr val="202122"/>
                </a:solidFill>
                <a:latin typeface="Arial"/>
              </a:rPr>
              <a:t>Битва на </a:t>
            </a:r>
            <a:r>
              <a:rPr b="1" lang="ru-RU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Курской дуге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) — совокупность стратегических оборонительной (5—23 июля) и наступательных (12 июля — 23 августа) операций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Красной армии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в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Великой Отечественной войне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с целью сорвать крупное наступление сил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вермахт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и разгромить его стратегическую группировку</a:t>
            </a:r>
            <a:r>
              <a:rPr b="0" lang="ru-RU" sz="1800" spc="-1" strike="noStrike" u="sng" baseline="30000">
                <a:solidFill>
                  <a:srgbClr val="ccccff"/>
                </a:solidFill>
                <a:uFillTx/>
                <a:latin typeface="Arial"/>
                <a:hlinkClick r:id="rId9"/>
              </a:rPr>
              <a:t>[9]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. По своим масштабам, задействованным силам и средствам, напряжённости, результатам и военно-политическим последствиям является одним из ключевых сражений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Второй мировой войны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и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Великой Отечественной войны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. В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историографии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считается самым крупным (величайшим) танковым сражением в истории. В нём участвовали около 2 млн человек, 6 тысяч танков, 4 тысячи самолётов; сражение проложило </a:t>
            </a:r>
            <a:r>
              <a:rPr b="0" i="1" lang="ru-RU" sz="1800" spc="-1" strike="noStrike">
                <a:solidFill>
                  <a:srgbClr val="202122"/>
                </a:solidFill>
                <a:latin typeface="Arial"/>
              </a:rPr>
              <a:t>«путь к великим советским наступательным действиям 1944-45 годов»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395280" y="765000"/>
            <a:ext cx="417672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После завершения битвы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стратегическая инициатив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окончательно перешла на сторону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Красной армии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, которая продолжала освобождать страну от немецких захватчиков и до окончания войны проводила в основном наступательные операции.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Вермахт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в ходе отступления с территории СССР проводил тактику «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выжженной земли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23 августа, день разгрома советскими войсками немецких войск в Курской битве, является одним из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дней воинской славы России</a:t>
            </a:r>
            <a:r>
              <a:rPr b="0" lang="ru-RU" sz="1800" spc="-1" strike="noStrike" u="sng" baseline="30000">
                <a:solidFill>
                  <a:srgbClr val="ccccff"/>
                </a:solidFill>
                <a:uFillTx/>
                <a:latin typeface="Arial"/>
                <a:hlinkClick r:id="rId7"/>
              </a:rPr>
              <a:t>[17]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. Белгород, Курск и Орёл стали первыми городами России, которым присвоено почётное звание «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Город воинской славы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9"/>
          <a:stretch/>
        </p:blipFill>
        <p:spPr>
          <a:xfrm>
            <a:off x="4565520" y="392040"/>
            <a:ext cx="4510080" cy="6015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90000"/>
              </a:lnSpc>
              <a:spcBef>
                <a:spcPts val="836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, всё-таки наступил в войне переломный момент и началось освобождение оккупированных территорий. Очистив от фашистов территорию нашей страны, наши воины освободили от фашистского ига народы Европы.                        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836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тво в неоплаченном долгу перед теми миллионами людей, которые погибли, защищая родину от порабощения, неволи, фашизма, грозившего уничтожить все славянские народы.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324000" y="476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2122"/>
                </a:solidFill>
                <a:latin typeface="Arial"/>
              </a:rPr>
              <a:t>Встреча на Эльбе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— эпизод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Второй мировой войны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, когда 25 апреля 1945 года недалеко от города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Торгау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на реке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Эльб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войска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1-го Украинского фронт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армии СССР встретились с войсками 1-й армии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СШ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. В результате встречи войск союзников остатки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вооружённых сил Германии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были расколоты на две части — северную и южную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8"/>
          <a:stretch/>
        </p:blipFill>
        <p:spPr>
          <a:xfrm>
            <a:off x="539640" y="1986120"/>
            <a:ext cx="8047080" cy="450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5227560" y="687240"/>
            <a:ext cx="3828960" cy="2392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182520" y="11160"/>
            <a:ext cx="4994280" cy="374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4"/>
          <a:stretch/>
        </p:blipFill>
        <p:spPr>
          <a:xfrm>
            <a:off x="4602240" y="3519360"/>
            <a:ext cx="4475160" cy="297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5"/>
          <a:stretch/>
        </p:blipFill>
        <p:spPr>
          <a:xfrm>
            <a:off x="166680" y="3848040"/>
            <a:ext cx="4267080" cy="2913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468360" y="18900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Берлин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900000" y="1730520"/>
            <a:ext cx="7147080" cy="4778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826920" y="808200"/>
            <a:ext cx="779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ершающая часть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Берлинской наступательной опер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1945 года, в ходе которой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Красная ар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завладела столицей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нацистской Герм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перация продолжалась с 16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 апре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по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2 ма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684360" y="890640"/>
            <a:ext cx="777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В апреле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1945 года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 Красная армия вплотную подошла к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Берлину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. Советские войска к началу операции насчитывали 149 стрелковых и 12 кавалерийских дивизий, 13 танковых и 7 механизированных корпусов, 15 отдельных танковых и самоходных бригад общей численностью более 1 900 000 человек. Участвовавшие в операции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1-я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 и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2-я армии Войска Польского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 насчитывали 10 пехотных и 1 танковую дивизию, а также 1 отдельную кавалерийскую бригаду, общей численностью 155 900 человек. Всего в операции принимали участие более 2 миллионов солдат и офицеров, 6250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танков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 и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самоходных орудий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, 41 600 орудий и миномётов, 7 500 самолётов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3"/>
          <a:stretch/>
        </p:blipFill>
        <p:spPr>
          <a:xfrm>
            <a:off x="79200" y="4149720"/>
            <a:ext cx="8985600" cy="2192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95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3"/>
          <a:stretch/>
        </p:blipFill>
        <p:spPr>
          <a:xfrm>
            <a:off x="824400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77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862440" cy="2568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3"/>
          <a:stretch/>
        </p:blipFill>
        <p:spPr>
          <a:xfrm>
            <a:off x="4284720" y="33480"/>
            <a:ext cx="4572000" cy="2879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4"/>
          <a:stretch/>
        </p:blipFill>
        <p:spPr>
          <a:xfrm>
            <a:off x="127080" y="3222720"/>
            <a:ext cx="3967200" cy="3111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5"/>
          <a:stretch/>
        </p:blipFill>
        <p:spPr>
          <a:xfrm>
            <a:off x="4284720" y="3097080"/>
            <a:ext cx="4857840" cy="324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2"/>
          <a:stretch/>
        </p:blipFill>
        <p:spPr>
          <a:xfrm>
            <a:off x="1052640" y="3716280"/>
            <a:ext cx="2998800" cy="3000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3"/>
          <a:stretch/>
        </p:blipFill>
        <p:spPr>
          <a:xfrm>
            <a:off x="5448240" y="144360"/>
            <a:ext cx="3254400" cy="3254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4"/>
          <a:stretch/>
        </p:blipFill>
        <p:spPr>
          <a:xfrm>
            <a:off x="4780080" y="3941640"/>
            <a:ext cx="3957480" cy="2551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5"/>
          <a:stretch/>
        </p:blipFill>
        <p:spPr>
          <a:xfrm>
            <a:off x="322200" y="57240"/>
            <a:ext cx="44578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5254560" y="476280"/>
            <a:ext cx="388944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Война!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2 июня,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вно в 4 часа,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иев бомбили,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м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ъявили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началась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йн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2"/>
          <a:stretch/>
        </p:blipFill>
        <p:spPr>
          <a:xfrm>
            <a:off x="20520" y="115920"/>
            <a:ext cx="4692600" cy="6597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3"/>
          <a:stretch/>
        </p:blipFill>
        <p:spPr>
          <a:xfrm>
            <a:off x="4713120" y="115920"/>
            <a:ext cx="4402440" cy="674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2"/>
          <a:stretch/>
        </p:blipFill>
        <p:spPr>
          <a:xfrm>
            <a:off x="63360" y="907920"/>
            <a:ext cx="4610160" cy="44672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4673520" y="333360"/>
            <a:ext cx="4116600" cy="60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2122"/>
                </a:solidFill>
                <a:latin typeface="Arial"/>
              </a:rPr>
              <a:t>Акт о безогово́рочной капитуля́ции герма́нских вооружённых сил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 — юридический документ, установивший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перемирие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 на направленных против Германии фронтах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Второй мировой войны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, обязавший германские вооружённые силы к прекращению боевых действий и разоружению с недопущением уничтожения или повреждения военной техники, фактически означавший выход Германии из войны.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Акт первоначально был подписан представителями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Верховного командования вермахта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, верховного командования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Западных союзников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 и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Советского Союза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 7 мая в 02:41 по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центральноевропейскому времени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 в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Реймсе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 (Франция). </a:t>
            </a:r>
            <a:r>
              <a:rPr b="0" lang="ru-RU" sz="1400" spc="-1" strike="noStrike">
                <a:solidFill>
                  <a:srgbClr val="0645ad"/>
                </a:solidFill>
                <a:latin typeface="Arial"/>
              </a:rPr>
              <a:t>Капитуляция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 </a:t>
            </a:r>
            <a:r>
              <a:rPr b="0" lang="ru-RU" sz="1400" spc="-1" strike="noStrike" u="sng">
                <a:solidFill>
                  <a:srgbClr val="0645ad"/>
                </a:solidFill>
                <a:uFillTx/>
                <a:latin typeface="Arial"/>
              </a:rPr>
              <a:t>нацистской Германии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 вступила в силу 8 мая в 23:01 по центральноевропейскому времени (9 мая в 01:01 по </a:t>
            </a:r>
            <a:r>
              <a:rPr b="0" lang="ru-RU" sz="1400" spc="-1" strike="noStrike">
                <a:solidFill>
                  <a:srgbClr val="0645ad"/>
                </a:solidFill>
                <a:latin typeface="Arial"/>
              </a:rPr>
              <a:t>московскому времени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По требованию </a:t>
            </a:r>
            <a:r>
              <a:rPr b="0" lang="ru-RU" sz="1400" spc="-1" strike="noStrike">
                <a:solidFill>
                  <a:srgbClr val="0645ad"/>
                </a:solidFill>
                <a:latin typeface="Arial"/>
              </a:rPr>
              <a:t>Сталина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 состоялось вторичное подписание капитуляции в ночь с 8 на 9 мая в пригороде </a:t>
            </a:r>
            <a:r>
              <a:rPr b="0" lang="ru-RU" sz="1400" spc="-1" strike="noStrike">
                <a:solidFill>
                  <a:srgbClr val="0645ad"/>
                </a:solidFill>
                <a:latin typeface="Arial"/>
              </a:rPr>
              <a:t>Берлина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645ad"/>
                </a:solidFill>
                <a:latin typeface="Arial"/>
              </a:rPr>
              <a:t>Карлсхорсте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Даты официального объявления главами государств о подписании капитуляции — </a:t>
            </a:r>
            <a:r>
              <a:rPr b="0" lang="ru-RU" sz="1400" spc="-1" strike="noStrike">
                <a:solidFill>
                  <a:srgbClr val="0645ad"/>
                </a:solidFill>
                <a:latin typeface="Arial"/>
              </a:rPr>
              <a:t>8 мая в странах Европы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 и </a:t>
            </a:r>
            <a:r>
              <a:rPr b="0" lang="ru-RU" sz="1400" spc="-1" strike="noStrike">
                <a:solidFill>
                  <a:srgbClr val="0645ad"/>
                </a:solidFill>
                <a:latin typeface="Arial"/>
              </a:rPr>
              <a:t>9 мая в СССР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 — стали отмечаться в соответствующих странах как День Победы.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762440" cy="2533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3780000" y="2786040"/>
            <a:ext cx="5267160" cy="4052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4"/>
          <a:stretch/>
        </p:blipFill>
        <p:spPr>
          <a:xfrm>
            <a:off x="395280" y="3645000"/>
            <a:ext cx="3209760" cy="2095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5"/>
          <a:stretch/>
        </p:blipFill>
        <p:spPr>
          <a:xfrm>
            <a:off x="6300720" y="907920"/>
            <a:ext cx="1452600" cy="13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4209840" cy="5686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3"/>
          <a:stretch/>
        </p:blipFill>
        <p:spPr>
          <a:xfrm>
            <a:off x="250920" y="380880"/>
            <a:ext cx="4333680" cy="568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-19080" y="765000"/>
            <a:ext cx="4890960" cy="4712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4889520" y="611280"/>
            <a:ext cx="4226040" cy="531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4782960" cy="6378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3"/>
          <a:stretch/>
        </p:blipFill>
        <p:spPr>
          <a:xfrm>
            <a:off x="5003640" y="620640"/>
            <a:ext cx="4000680" cy="554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8778960" cy="5774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2"/>
          <a:stretch/>
        </p:blipFill>
        <p:spPr>
          <a:xfrm>
            <a:off x="2666880" y="804960"/>
            <a:ext cx="3810240" cy="5248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3"/>
          <a:stretch/>
        </p:blipFill>
        <p:spPr>
          <a:xfrm>
            <a:off x="755640" y="2637000"/>
            <a:ext cx="1452600" cy="1309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4"/>
          <a:stretch/>
        </p:blipFill>
        <p:spPr>
          <a:xfrm>
            <a:off x="7164360" y="2773440"/>
            <a:ext cx="1452600" cy="13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11160" y="1036800"/>
            <a:ext cx="4249800" cy="55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00000"/>
              </a:lnSpc>
              <a:spcBef>
                <a:spcPts val="539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 мая мы отмечаем великий праздник – День Победы ,78 годовщину Победы советского народа в Великой войне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100000"/>
              </a:lnSpc>
              <a:spcBef>
                <a:spcPts val="539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 горя и страха принесла война, но несмотря на голод, холод, разруху, наш народ победил. Он победил страшного врага, который поработил много государств и заставил их жить в страхе, народ , который победил  - фашизм!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4546440" y="1087560"/>
            <a:ext cx="456264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2"/>
          <a:stretch/>
        </p:blipFill>
        <p:spPr>
          <a:xfrm>
            <a:off x="125280" y="1413000"/>
            <a:ext cx="6096240" cy="4066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6221520" y="1938240"/>
            <a:ext cx="2519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люди не забывали эту войну, помнили тех, кто отдал свою жизнь, чтобы жили мы с вами в мире – во многих городах был зажжен Вечный огонь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428760" y="1214280"/>
            <a:ext cx="40338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вели чёрные крылья,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вистел ураган свинца,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о парни границу закрыли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 собственные сердца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4643280" y="0"/>
            <a:ext cx="3781440" cy="511344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6407280" y="4781520"/>
            <a:ext cx="2736720" cy="207648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179280" y="981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ый год в День Победы в  городах проходит праздничный парад, шествие Бессмертного полка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4932360" y="262080"/>
            <a:ext cx="3998880" cy="26636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673560" y="5729400"/>
            <a:ext cx="35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звучит праздничный сал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3"/>
          <a:srcRect l="0" t="0" r="41" b="48"/>
          <a:stretch/>
        </p:blipFill>
        <p:spPr>
          <a:xfrm>
            <a:off x="4932360" y="3141720"/>
            <a:ext cx="4083120" cy="3500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4"/>
          <a:stretch/>
        </p:blipFill>
        <p:spPr>
          <a:xfrm>
            <a:off x="87480" y="2492280"/>
            <a:ext cx="4755960" cy="2948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468360" y="549360"/>
            <a:ext cx="45720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Montserrat"/>
              </a:rPr>
              <a:t>Президент России Владимир Путин направил приветствие участникам и гостям праздничного концерта, посвященного 78-летию Победы в Великой Отечественной войне, «Песни Победы»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333333"/>
                </a:solidFill>
                <a:latin typeface="Montserrat"/>
              </a:rPr>
              <a:t>Глава государства отметил, что концерт собрал известных, популярных исполнителей, а также авторов из разных регионов России, лауреатов конкурса «Песни нашего полка»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333333"/>
                </a:solidFill>
                <a:latin typeface="Montserrat"/>
              </a:rPr>
              <a:t>«С этой сцены прозвучат по-настоящему народные, любимые произведения и новые композиции. Все они выражают благодарность и уважение к защитникам Родины, передают чувства и мысли каждого, кто искренне переживает за судьбу страны, бережно хранит правду о Великой Отечественной войне и поддерживает наших бойцов, сражающихся сегодня с неонацизмом. Эти песни служат мощной объединяющей силой, вдохновляют на ратный и созидательный труд на благо России», — указано в сообщении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333333"/>
                </a:solidFill>
                <a:latin typeface="Montserrat"/>
              </a:rPr>
              <a:t>Владимир Путин поздравил всех с праздником Великой Победы и пожелал успехов и всего самого доброго.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5064120" y="260280"/>
            <a:ext cx="3949560" cy="4232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3"/>
          <a:stretch/>
        </p:blipFill>
        <p:spPr>
          <a:xfrm>
            <a:off x="6084720" y="4797360"/>
            <a:ext cx="1452600" cy="13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588960" y="3743280"/>
            <a:ext cx="799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годня российская армия с честью выполняет свою миссию в ходе Специальной военной операции. Наша армия, прежде всего, защищает наше общее право мирно жить согласно историческим традициям добрососедства, согласно вековым устоям, духовным и нравственным идеалам, наше право самостоятельно определять свое будущее и путь развития.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1476360" y="19080"/>
            <a:ext cx="6216840" cy="3720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-3240" y="1484280"/>
            <a:ext cx="1452600" cy="130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4"/>
          <a:stretch/>
        </p:blipFill>
        <p:spPr>
          <a:xfrm>
            <a:off x="7684920" y="1484280"/>
            <a:ext cx="1452600" cy="13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826920" y="2637000"/>
            <a:ext cx="1119672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90000"/>
              </a:lnSpc>
              <a:spcBef>
                <a:spcPts val="539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539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нь Победы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539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ь Победы - праздник всей страны!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539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ховой оркестр играет марши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539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ь Победы - праздник седины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539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их прадедов, дедов. Даже тех,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539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не видал войны,-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539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её крылом задет был каждый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539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дравляем с Днём Победы мы!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539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день для всей России важный!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539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1812960" y="15840"/>
            <a:ext cx="5311800" cy="28288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468360" y="2924280"/>
            <a:ext cx="334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г каждого из нас – знать свою историю, историю своей семьи и нашей страны! Важно бережно хранить память, память о тех, кого уже нет рядом с нами. Пока жива память о человеке, его имя будет жить вечно, не зная смерти. Мы помним своих ветеранов, своих близких, поэтому для нас они бессмертны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1452600" cy="1309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4"/>
          <a:stretch/>
        </p:blipFill>
        <p:spPr>
          <a:xfrm>
            <a:off x="7304040" y="1190520"/>
            <a:ext cx="1452600" cy="13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Брестская крепость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2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125360"/>
            <a:ext cx="4633920" cy="5732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00000"/>
              </a:lnSpc>
              <a:spcBef>
                <a:spcPts val="7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– Брест. Я стою обожженный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100000"/>
              </a:lnSpc>
              <a:spcBef>
                <a:spcPts val="7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бьюсь за солдатскую честь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100000"/>
              </a:lnSpc>
              <a:spcBef>
                <a:spcPts val="7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нету здесь, нету сраженных,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100000"/>
              </a:lnSpc>
              <a:spcBef>
                <a:spcPts val="7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десь только убитые есть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1187280" y="692280"/>
            <a:ext cx="66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…24 июня 1941 года (3-й день войны). В общем-то, теперь стало ясно, что русские не думают об отступлении, а напротив, бросают все, что имеют в своём распоряжении, навстречу вклинившимся германским войскам…»Гальдер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1482840" y="3500280"/>
            <a:ext cx="6105240" cy="2019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468360" y="260280"/>
            <a:ext cx="79912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29 июня 1941 года (8-й день войны). Сведения с фронта подтверждают, что русские всюду сражаются до последнего человека... Упорное сопротивление русских заставляет вести бой по всем правилам наших боевых уставов, хотя на Западе мы могли позволить себе известные вольности…»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250920" y="907920"/>
            <a:ext cx="842472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00000"/>
              </a:lnSpc>
              <a:spcBef>
                <a:spcPts val="10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10 августа 1941 года (50-й день войны)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100000"/>
              </a:lnSpc>
              <a:spcBef>
                <a:spcPts val="10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..На центральном участке фронта создалась невыгодная для нас обстановка, а на северном фланге мы терпим большие потери…»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00000"/>
              </a:lnSpc>
              <a:spcBef>
                <a:spcPts val="7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100000"/>
              </a:lnSpc>
              <a:spcBef>
                <a:spcPts val="7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100000"/>
              </a:lnSpc>
              <a:spcBef>
                <a:spcPts val="7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100000"/>
              </a:lnSpc>
              <a:spcBef>
                <a:spcPts val="10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11 августа 1941 года (51 – й день войны)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100000"/>
              </a:lnSpc>
              <a:spcBef>
                <a:spcPts val="10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..Общая обстановка всё очевиднее показывает, что колосс – Россия… был нами недооценён.»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yuseg</cp:lastModifiedBy>
  <dcterms:modified xsi:type="dcterms:W3CDTF">2023-05-21T21:49:08Z</dcterms:modified>
  <cp:revision>1</cp:revision>
  <dc:subject/>
  <dc:title>Презентация PowerPoint</dc:title>
</cp:coreProperties>
</file>