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10.jpeg" ContentType="image/jpeg"/>
  <Override PartName="/ppt/media/image19.jpeg" ContentType="image/jpeg"/>
  <Override PartName="/ppt/media/image42.jpeg" ContentType="image/jpeg"/>
  <Override PartName="/ppt/media/image6.wmf" ContentType="image/x-wmf"/>
  <Override PartName="/ppt/media/image47.jpeg" ContentType="image/jpeg"/>
  <Override PartName="/ppt/media/image43.jpeg" ContentType="image/jpeg"/>
  <Override PartName="/ppt/media/image44.jpeg" ContentType="image/jpeg"/>
  <Override PartName="/ppt/media/image46.jpeg" ContentType="image/jpeg"/>
  <Override PartName="/ppt/media/image45.jpeg" ContentType="image/jpeg"/>
  <Override PartName="/ppt/media/image12.jpeg" ContentType="image/jpeg"/>
  <Override PartName="/ppt/media/image50.jpeg" ContentType="image/jpeg"/>
  <Override PartName="/ppt/media/image52.png" ContentType="image/png"/>
  <Override PartName="/ppt/media/image30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36.jpeg" ContentType="image/jpeg"/>
  <Override PartName="/ppt/media/image11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2.jpeg" ContentType="image/jpeg"/>
  <Override PartName="/ppt/media/image3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D5E1-4666-428D-B08B-A43CD45D2411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4DD1-86B1-423E-899E-A41677D6D936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8561-4871-46C5-9B44-4F23FE2CD605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48B3-49D4-44C6-B83A-DD36F2A13057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7E61-AE03-48E0-AD84-EA0E60EE2799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0221-A988-436A-863D-1199381679AB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2009-9537-4491-B110-532706178160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E7D4-0B75-4B6F-A139-7C1C0E2F6CBD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8DDA-58B7-4373-B10B-B9A3D39F7A3D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7EC7-F437-45A5-8DDB-1B2DACC51F55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3E3D-43A8-415C-9488-531794F49FC9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17B0-751B-4B71-974C-384BBD55A1A8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81D1-554F-4FC5-A386-6FEFB59E6B31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90B9-883D-4B0B-BB82-FA31410F9F99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F362-12F3-45AF-B82F-D03110895BCD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C08C-7DC8-4E91-B616-DF5BE826549D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9E61-FE0B-4A9F-AEC8-5D58B1EB25DA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408E-37CA-418E-B6D6-A43B1037A542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2478-99A3-4DB7-986E-32C7F7695414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7C7A-42E1-4322-B5AF-AA89B4A46D35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FC6A-D1BB-4073-9DBB-D1816CDBC497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F6A0-2D25-425B-A589-31422E6E6AB1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7F74-E53A-4AFD-97EF-E265B21FBBF5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E0F0-62A2-48C9-95CD-C54003CCB53D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B4BF-5D56-40B7-92B8-3A80E26E8118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52E2-4B59-4191-85E0-04385EA705CB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7868-CE58-4A3C-8862-FBA2F38D1042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6332-81D4-4327-88CF-9C811B46EDEE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3D9C-81A0-4768-85A9-444B8FB7A897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C049-8B1C-491D-881D-91BF83017E3E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472C-E3EA-4B4D-A7D0-80A2ADCA3CAD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2D92-A4DF-4080-BD5C-3949AE9F980F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F3D3-A46C-4A14-A4F8-83684B36B746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6EF2-FFEA-416D-B788-FF5BE618C2FA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220D-5F2C-4972-90C6-32093469D785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FEAB-0665-4C03-9F43-75CBE68E2214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0B23-E6E4-4741-A3DA-14D208F0B7A3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02B4-6D30-4794-BA4A-7C378CA246BB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576E-40D0-462A-BF71-164EFC1C0310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DFB7-8B03-48DD-B300-7CB5B70B0450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260A-F20F-4E65-A3CA-10DAFB0B07E4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E25A-241A-464B-8748-8393A649DF68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369B-924E-4DB3-9BB9-D9BDA074483D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0086-0772-4A07-B404-170735FCE9E5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E7B8B-9471-4E81-B878-46BCCB401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89966-47EF-4C5A-9EE5-6D8E13AA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D4165-3E46-4458-9C05-C5480E43F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E7251-2E67-405E-90DF-119C86301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9232E-329C-4B09-BF2E-C5206569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D267C-2046-46E4-86A1-20E1E2C4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38837-CBA7-423C-A36E-2E813AEA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5CC5E-7D05-4633-A45D-2E0972A1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23383-7329-4859-8040-9776A081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FEF8E-C428-4375-A6F2-FBC4651F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66FFC-A364-4489-B079-09548CF3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C5E9C-A1D5-462F-918F-0675DDB2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808C-F5E1-4770-82F3-1159FF7ADD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3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hyperlink" Target="https://ru.wikipedia.org/wiki/&#1050;&#1088;&#1072;&#1089;&#1085;&#1072;&#1103;_&#1072;&#1088;&#1084;&#1080;&#1103;" TargetMode="External"/><Relationship Id="rId4" Type="http://schemas.openxmlformats.org/officeDocument/2006/relationships/hyperlink" Target="https://ru.wikipedia.org/wiki/&#1044;&#1085;&#1080;_&#1074;&#1086;&#1080;&#1085;&#1089;&#1082;&#1086;&#1081;_&#1089;&#1083;&#1072;&#1074;&#1099;_&#1080;_&#1087;&#1072;&#1084;&#1103;&#1090;&#1085;&#1099;&#1077;_&#1076;&#1072;&#1090;&#1099;_&#1056;&#1086;&#1089;&#1089;&#1080;&#1080;" TargetMode="External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&#1043;&#1077;&#1085;&#1077;&#1088;&#1072;&#1083;&#1100;&#1085;&#1086;&#1077;_&#1089;&#1088;&#1072;&#1078;&#1077;&#1085;&#1080;&#1077;" TargetMode="External"/><Relationship Id="rId3" Type="http://schemas.openxmlformats.org/officeDocument/2006/relationships/hyperlink" Target="https://ru.wikipedia.org/wiki/&#1042;&#1090;&#1086;&#1088;&#1072;&#1103;_&#1084;&#1080;&#1088;&#1086;&#1074;&#1072;&#1103;_&#1074;&#1086;&#1081;&#1085;&#1072;" TargetMode="External"/><Relationship Id="rId4" Type="http://schemas.openxmlformats.org/officeDocument/2006/relationships/hyperlink" Target="https://ru.wikipedia.org/wiki/&#1042;&#1077;&#1083;&#1080;&#1082;&#1072;&#1103;_&#1054;&#1090;&#1077;&#1095;&#1077;&#1089;&#1090;&#1074;&#1077;&#1085;&#1085;&#1072;&#1103;_&#1074;&#1086;&#1081;&#1085;&#1072;" TargetMode="External"/><Relationship Id="rId5" Type="http://schemas.openxmlformats.org/officeDocument/2006/relationships/hyperlink" Target="https://ru.wikipedia.org/wiki/&#1056;&#1072;&#1073;&#1086;&#1095;&#1077;-&#1082;&#1088;&#1077;&#1089;&#1090;&#1100;&#1103;&#1085;&#1089;&#1082;&#1072;&#1103;_&#1050;&#1088;&#1072;&#1089;&#1085;&#1072;&#1103;_&#1072;&#1088;&#1084;&#1080;&#1103;" TargetMode="External"/><Relationship Id="rId6" Type="http://schemas.openxmlformats.org/officeDocument/2006/relationships/hyperlink" Target="https://ru.wikipedia.org/wiki/&#1042;&#1077;&#1088;&#1084;&#1072;&#1093;&#1090;" TargetMode="External"/><Relationship Id="rId7" Type="http://schemas.openxmlformats.org/officeDocument/2006/relationships/hyperlink" Target="https://ru.wikipedia.org/wiki/&#1057;&#1090;&#1088;&#1072;&#1085;&#1099;_&#171;&#1086;&#1089;&#1080;&#187;_&#1080;_&#1080;&#1093;_&#1089;&#1086;&#1102;&#1079;&#1085;&#1080;&#1082;&#1080;" TargetMode="External"/><Relationship Id="rId8" Type="http://schemas.openxmlformats.org/officeDocument/2006/relationships/hyperlink" Target="https://ru.wikipedia.org/wiki/&#1056;&#1072;&#1073;&#1086;&#1095;&#1077;-&#1082;&#1088;&#1077;&#1089;&#1090;&#1100;&#1103;&#1085;&#1089;&#1082;&#1072;&#1103;_&#1050;&#1088;&#1072;&#1089;&#1085;&#1072;&#1103;_&#1072;&#1088;&#1084;&#1080;&#1103;" TargetMode="External"/><Relationship Id="rId9" Type="http://schemas.openxmlformats.org/officeDocument/2006/relationships/hyperlink" Target="https://ru.wikipedia.org/wiki/17_&#1080;&#1102;&#1083;&#1103;" TargetMode="External"/><Relationship Id="rId10" Type="http://schemas.openxmlformats.org/officeDocument/2006/relationships/hyperlink" Target="https://ru.wikipedia.org/wiki/1942_&#1075;&#1086;&#1076;" TargetMode="External"/><Relationship Id="rId11" Type="http://schemas.openxmlformats.org/officeDocument/2006/relationships/hyperlink" Target="https://ru.wikipedia.org/wiki/2_&#1092;&#1077;&#1074;&#1088;&#1072;&#1083;&#1103;" TargetMode="External"/><Relationship Id="rId12" Type="http://schemas.openxmlformats.org/officeDocument/2006/relationships/hyperlink" Target="https://ru.wikipedia.org/wiki/1943_&#1075;&#1086;&#1076;" TargetMode="External"/><Relationship Id="rId13" Type="http://schemas.openxmlformats.org/officeDocument/2006/relationships/hyperlink" Target="https://ru.wikipedia.org/wiki/&#1050;&#1072;&#1087;&#1080;&#1090;&#1091;&#1083;&#1103;&#1094;&#1080;&#1103;" TargetMode="External"/><Relationship Id="rId14" Type="http://schemas.openxmlformats.org/officeDocument/2006/relationships/hyperlink" Target="https://ru.wikipedia.org/wiki/&#1057;&#1087;&#1080;&#1089;&#1086;&#1082;_&#1075;&#1077;&#1085;&#1077;&#1088;&#1072;&#1083;-&#1092;&#1077;&#1083;&#1100;&#1076;&#1084;&#1072;&#1088;&#1096;&#1072;&#1083;&#1086;&#1074;_&#1043;&#1077;&#1088;&#1084;&#1072;&#1085;&#1080;&#1080;" TargetMode="External"/><Relationship Id="rId15" Type="http://schemas.openxmlformats.org/officeDocument/2006/relationships/hyperlink" Target="https://ru.wikipedia.org/wiki/&#1055;&#1072;&#1091;&#1083;&#1102;&#1089;,_&#1060;&#1088;&#1080;&#1076;&#1088;&#1080;&#1093;" TargetMode="External"/><Relationship Id="rId16" Type="http://schemas.openxmlformats.org/officeDocument/2006/relationships/hyperlink" Target="https://ru.wikipedia.org/wiki/&#1043;&#1077;&#1085;&#1077;&#1088;&#1072;&#1083;" TargetMode="External"/><Relationship Id="rId17" Type="http://schemas.openxmlformats.org/officeDocument/2006/relationships/hyperlink" Target="https://ru.wikipedia.org/wiki/&#1057;&#1090;&#1072;&#1074;&#1082;&#1072;_&#1042;&#1077;&#1088;&#1093;&#1086;&#1074;&#1085;&#1086;&#1075;&#1086;_&#1043;&#1083;&#1072;&#1074;&#1085;&#1086;&#1082;&#1086;&#1084;&#1072;&#1085;&#1076;&#1086;&#1074;&#1072;&#1085;&#1080;&#1103;" TargetMode="External"/><Relationship Id="rId18" Type="http://schemas.openxmlformats.org/officeDocument/2006/relationships/hyperlink" Target="https://ru.wikipedia.org/wiki/&#1044;&#1085;&#1080;_&#1074;&#1086;&#1080;&#1085;&#1089;&#1082;&#1086;&#1081;_&#1089;&#1083;&#1072;&#1074;&#1099;_&#1080;_&#1087;&#1072;&#1084;&#1103;&#1090;&#1085;&#1099;&#1077;_&#1076;&#1072;&#1090;&#1099;_&#1056;&#1086;&#1089;&#1089;&#1080;&#1080;" TargetMode="External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5_&#1080;&#1102;&#1083;&#1103;" TargetMode="External"/><Relationship Id="rId3" Type="http://schemas.openxmlformats.org/officeDocument/2006/relationships/hyperlink" Target="https://ru.wikipedia.org/wiki/&#1061;&#1088;&#1086;&#1085;&#1080;&#1082;&#1072;_&#1042;&#1077;&#1083;&#1080;&#1082;&#1086;&#1081;_&#1054;&#1090;&#1077;&#1095;&#1077;&#1089;&#1090;&#1074;&#1077;&#1085;&#1085;&#1086;&#1081;_&#1074;&#1086;&#1081;&#1085;&#1099;/&#1040;&#1074;&#1075;&#1091;&#1089;&#1090;_1943_&#1075;&#1086;&#1076;&#1072;#23_&#1072;&#1074;&#1075;&#1091;&#1089;&#1090;&#1072;_1943_&#1075;&#1086;&#1076;&#1072;._793-&#1081;_&#1076;&#1077;&#1085;&#1100;_&#1074;&#1086;&#1081;&#1085;&#1099;" TargetMode="External"/><Relationship Id="rId4" Type="http://schemas.openxmlformats.org/officeDocument/2006/relationships/hyperlink" Target="https://ru.wikipedia.org/wiki/1943_&#1075;&#1086;&#1076;" TargetMode="External"/><Relationship Id="rId5" Type="http://schemas.openxmlformats.org/officeDocument/2006/relationships/hyperlink" Target="https://ru.wikipedia.org/wiki/&#1050;&#1091;&#1088;&#1089;&#1082;&#1072;&#1103;_&#1076;&#1091;&#1075;&#1072;" TargetMode="External"/><Relationship Id="rId6" Type="http://schemas.openxmlformats.org/officeDocument/2006/relationships/hyperlink" Target="https://ru.wikipedia.org/wiki/&#1056;&#1072;&#1073;&#1086;&#1095;&#1077;-&#1082;&#1088;&#1077;&#1089;&#1090;&#1100;&#1103;&#1085;&#1089;&#1082;&#1072;&#1103;_&#1050;&#1088;&#1072;&#1089;&#1085;&#1072;&#1103;_&#1072;&#1088;&#1084;&#1080;&#1103;" TargetMode="External"/><Relationship Id="rId7" Type="http://schemas.openxmlformats.org/officeDocument/2006/relationships/hyperlink" Target="https://ru.wikipedia.org/wiki/&#1042;&#1077;&#1083;&#1080;&#1082;&#1072;&#1103;_&#1054;&#1090;&#1077;&#1095;&#1077;&#1089;&#1090;&#1074;&#1077;&#1085;&#1085;&#1072;&#1103;_&#1074;&#1086;&#1081;&#1085;&#1072;" TargetMode="External"/><Relationship Id="rId8" Type="http://schemas.openxmlformats.org/officeDocument/2006/relationships/hyperlink" Target="https://ru.wikipedia.org/wiki/&#1042;&#1077;&#1088;&#1084;&#1072;&#1093;&#1090;" TargetMode="External"/><Relationship Id="rId9" Type="http://schemas.openxmlformats.org/officeDocument/2006/relationships/hyperlink" Target="https://ru.wikipedia.org/wiki/&#1050;&#1091;&#1088;&#1089;&#1082;&#1072;&#1103;_&#1073;&#1080;&#1090;&#1074;&#1072;#cite_note-_1364332f0b453edc-9" TargetMode="External"/><Relationship Id="rId10" Type="http://schemas.openxmlformats.org/officeDocument/2006/relationships/hyperlink" Target="https://ru.wikipedia.org/wiki/&#1042;&#1090;&#1086;&#1088;&#1072;&#1103;_&#1084;&#1080;&#1088;&#1086;&#1074;&#1072;&#1103;_&#1074;&#1086;&#1081;&#1085;&#1072;" TargetMode="External"/><Relationship Id="rId11" Type="http://schemas.openxmlformats.org/officeDocument/2006/relationships/hyperlink" Target="https://ru.wikipedia.org/wiki/&#1042;&#1077;&#1083;&#1080;&#1082;&#1072;&#1103;_&#1054;&#1090;&#1077;&#1095;&#1077;&#1089;&#1090;&#1074;&#1077;&#1085;&#1085;&#1072;&#1103;_&#1074;&#1086;&#1081;&#1085;&#1072;" TargetMode="External"/><Relationship Id="rId12" Type="http://schemas.openxmlformats.org/officeDocument/2006/relationships/hyperlink" Target="https://ru.wikipedia.org/wiki/&#1048;&#1089;&#1090;&#1086;&#1088;&#1080;&#1086;&#1075;&#1088;&#1072;&#1092;&#1080;&#1103;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&#1057;&#1090;&#1088;&#1072;&#1090;&#1077;&#1075;&#1080;&#1095;&#1077;&#1089;&#1082;&#1072;&#1103;_&#1080;&#1085;&#1080;&#1094;&#1080;&#1072;&#1090;&#1080;&#1074;&#1072;" TargetMode="External"/><Relationship Id="rId3" Type="http://schemas.openxmlformats.org/officeDocument/2006/relationships/hyperlink" Target="https://ru.wikipedia.org/wiki/&#1056;&#1072;&#1073;&#1086;&#1095;&#1077;-&#1082;&#1088;&#1077;&#1089;&#1090;&#1100;&#1103;&#1085;&#1089;&#1082;&#1072;&#1103;_&#1050;&#1088;&#1072;&#1089;&#1085;&#1072;&#1103;_&#1072;&#1088;&#1084;&#1080;&#1103;" TargetMode="External"/><Relationship Id="rId4" Type="http://schemas.openxmlformats.org/officeDocument/2006/relationships/hyperlink" Target="https://ru.wikipedia.org/wiki/&#1042;&#1077;&#1088;&#1084;&#1072;&#1093;&#1090;" TargetMode="External"/><Relationship Id="rId5" Type="http://schemas.openxmlformats.org/officeDocument/2006/relationships/hyperlink" Target="https://ru.wikipedia.org/wiki/&#1058;&#1072;&#1082;&#1090;&#1080;&#1082;&#1072;_&#1074;&#1099;&#1078;&#1078;&#1077;&#1085;&#1085;&#1086;&#1081;_&#1079;&#1077;&#1084;&#1083;&#1080;" TargetMode="External"/><Relationship Id="rId6" Type="http://schemas.openxmlformats.org/officeDocument/2006/relationships/hyperlink" Target="https://ru.wikipedia.org/wiki/&#1044;&#1085;&#1080;_&#1074;&#1086;&#1080;&#1085;&#1089;&#1082;&#1086;&#1081;_&#1089;&#1083;&#1072;&#1074;&#1099;_&#1080;_&#1087;&#1072;&#1084;&#1103;&#1090;&#1085;&#1099;&#1077;_&#1076;&#1072;&#1090;&#1099;_&#1056;&#1086;&#1089;&#1089;&#1080;&#1080;" TargetMode="External"/><Relationship Id="rId7" Type="http://schemas.openxmlformats.org/officeDocument/2006/relationships/hyperlink" Target="https://ru.wikipedia.org/wiki/&#1050;&#1091;&#1088;&#1089;&#1082;&#1072;&#1103;_&#1073;&#1080;&#1090;&#1074;&#1072;#cite_note-18" TargetMode="External"/><Relationship Id="rId8" Type="http://schemas.openxmlformats.org/officeDocument/2006/relationships/hyperlink" Target="https://ru.wikipedia.org/wiki/&#1043;&#1086;&#1088;&#1086;&#1076;_&#1074;&#1086;&#1080;&#1085;&#1089;&#1082;&#1086;&#1081;_&#1089;&#1083;&#1072;&#1074;&#1099;" TargetMode="External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&#1042;&#1090;&#1086;&#1088;&#1072;&#1103;_&#1084;&#1080;&#1088;&#1086;&#1074;&#1072;&#1103;_&#1074;&#1086;&#1081;&#1085;&#1072;" TargetMode="External"/><Relationship Id="rId3" Type="http://schemas.openxmlformats.org/officeDocument/2006/relationships/hyperlink" Target="https://ru.wikipedia.org/wiki/&#1058;&#1086;&#1088;&#1075;&#1072;&#1091;" TargetMode="External"/><Relationship Id="rId4" Type="http://schemas.openxmlformats.org/officeDocument/2006/relationships/hyperlink" Target="https://ru.wikipedia.org/wiki/&#1069;&#1083;&#1100;&#1073;&#1072;_(&#1088;&#1077;&#1082;&#1072;)" TargetMode="External"/><Relationship Id="rId5" Type="http://schemas.openxmlformats.org/officeDocument/2006/relationships/hyperlink" Target="https://ru.wikipedia.org/wiki/&#1055;&#1077;&#1088;&#1074;&#1099;&#1081;_&#1059;&#1082;&#1088;&#1072;&#1080;&#1085;&#1089;&#1082;&#1080;&#1081;_&#1092;&#1088;&#1086;&#1085;&#1090;" TargetMode="External"/><Relationship Id="rId6" Type="http://schemas.openxmlformats.org/officeDocument/2006/relationships/hyperlink" Target="https://ru.wikipedia.org/wiki/&#1057;&#1064;&#1040;" TargetMode="External"/><Relationship Id="rId7" Type="http://schemas.openxmlformats.org/officeDocument/2006/relationships/hyperlink" Target="https://ru.wikipedia.org/wiki/&#1042;&#1077;&#1088;&#1084;&#1072;&#1093;&#1090;" TargetMode="External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hyperlink" Target="https://ru.wikipedia.org/wiki/&#1041;&#1077;&#1088;&#1083;&#1080;&#1085;&#1089;&#1082;&#1072;&#1103;_&#1085;&#1072;&#1089;&#1090;&#1091;&#1087;&#1072;&#1090;&#1077;&#1083;&#1100;&#1085;&#1072;&#1103;_&#1086;&#1087;&#1077;&#1088;&#1072;&#1094;&#1080;&#1103;" TargetMode="External"/><Relationship Id="rId4" Type="http://schemas.openxmlformats.org/officeDocument/2006/relationships/hyperlink" Target="https://ru.wikipedia.org/wiki/&#1056;&#1072;&#1073;&#1086;&#1095;&#1077;-&#1082;&#1088;&#1077;&#1089;&#1090;&#1100;&#1103;&#1085;&#1089;&#1082;&#1072;&#1103;_&#1050;&#1088;&#1072;&#1089;&#1085;&#1072;&#1103;_&#1072;&#1088;&#1084;&#1080;&#1103;" TargetMode="External"/><Relationship Id="rId5" Type="http://schemas.openxmlformats.org/officeDocument/2006/relationships/hyperlink" Target="https://ru.wikipedia.org/wiki/&#1058;&#1088;&#1077;&#1090;&#1080;&#1081;_&#1088;&#1077;&#1081;&#1093;" TargetMode="External"/><Relationship Id="rId6" Type="http://schemas.openxmlformats.org/officeDocument/2006/relationships/hyperlink" Target="https://ru.wikipedia.org/wiki/25_&#1072;&#1087;&#1088;&#1077;&#1083;&#1103;" TargetMode="External"/><Relationship Id="rId7" Type="http://schemas.openxmlformats.org/officeDocument/2006/relationships/hyperlink" Target="https://ru.wikipedia.org/wiki/2_&#1084;&#1072;&#1103;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1945_&#1075;&#1086;&#1076;" TargetMode="Externa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85;&#1072;&#1087;&#1072;&#1076;&#1077;&#1085;&#1080;&#1077;%20&#1043;&#1080;&#1090;&#1083;&#1077;&#1088;&#1072;.avi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2"/>
          <a:stretch/>
        </p:blipFill>
        <p:spPr>
          <a:xfrm>
            <a:off x="828720" y="695160"/>
            <a:ext cx="6767640" cy="7686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2843280" y="5300640"/>
            <a:ext cx="52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РОПРИЯТИЕ ПОДГОТОВЛЕНО УЧИТЕЛЕМ ИСТОРИИ МБОУ «Левженская СОШ»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ФРЫГИНЫМ Б.Б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324000" y="1490760"/>
            <a:ext cx="2727000" cy="338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4"/>
          <a:stretch/>
        </p:blipFill>
        <p:spPr>
          <a:xfrm>
            <a:off x="3203640" y="1743120"/>
            <a:ext cx="5761080" cy="2879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395280" y="593640"/>
            <a:ext cx="820908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00000"/>
              </a:lnSpc>
              <a:spcBef>
                <a:spcPts val="938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йна… От Бреста до Москвы 1000 километров, от Москвы до Берлина — 1600. Итого 2600 километров.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100000"/>
              </a:lnSpc>
              <a:spcBef>
                <a:spcPts val="938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если считать по прямой. Так мало, не правда ли? 2600 километров. Поездом — четверо суток, самолетом — четыре часа, а перебежками по-пластунски — четыре долгих года.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90000"/>
              </a:lnSpc>
              <a:spcBef>
                <a:spcPts val="1162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Война – это 4 года,</a:t>
            </a:r>
            <a:br>
              <a:rPr sz="4500"/>
            </a:b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это 1 418 бессонных дней и ночей, </a:t>
            </a:r>
            <a:br>
              <a:rPr sz="4500"/>
            </a:b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это 29 миллионов погибших советских людей, это значит  29 человека на каждые 2 метра земли, </a:t>
            </a:r>
            <a:br>
              <a:rPr sz="4500"/>
            </a:b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это значит 19 человек в каждую минуту.</a:t>
            </a:r>
            <a:endParaRPr b="0" lang="en-US" sz="45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3130560" cy="453708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pic>
        <p:nvPicPr>
          <p:cNvPr id="72" name="Picture 2" descr=""/>
          <p:cNvPicPr/>
          <p:nvPr/>
        </p:nvPicPr>
        <p:blipFill>
          <a:blip r:embed="rId3"/>
          <a:stretch/>
        </p:blipFill>
        <p:spPr>
          <a:xfrm>
            <a:off x="3492360" y="2997360"/>
            <a:ext cx="5435640" cy="359712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73" name="Rectangle 3"/>
          <p:cNvSpPr/>
          <p:nvPr/>
        </p:nvSpPr>
        <p:spPr>
          <a:xfrm>
            <a:off x="3492360" y="765000"/>
            <a:ext cx="511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Тяжелее всего приходилось во время войны детям. Детские сады и школы не работали, многие дети остались совсем одни, потеряли  под бомбежками родителей, попали в детские дома.  Некоторые мальчишки становились «сынами полков», их , голодных и несчастных , брали к себе солдаты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и заботились о них до конца войны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539640" y="333360"/>
            <a:ext cx="842508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00000"/>
              </a:lnSpc>
              <a:spcBef>
                <a:spcPts val="938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йна… Это бесстрашие защитников Бреста, это 900 дней блокадного Ленинграда, это клятва панфиловцев: «Ни шагу назад, за нами Москва!»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100000"/>
              </a:lnSpc>
              <a:spcBef>
                <a:spcPts val="938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добытая огнем и кровью победа под Сталинградом, это подвиг героев Курской дуги, это штурм Берлина, это память сердца всего народа.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lbertus Extra Bold"/>
              </a:rPr>
              <a:t>«Дорога жизни»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4572000" y="1413000"/>
            <a:ext cx="417672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00000"/>
              </a:lnSpc>
              <a:spcBef>
                <a:spcPts val="938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набжение города и войск удалось наладить по «Дороге жизни» (через Ладожское оз.).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928800" y="1000080"/>
            <a:ext cx="3500280" cy="3121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357120" y="3571920"/>
            <a:ext cx="4579920" cy="2930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468360" y="333360"/>
            <a:ext cx="795816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до было возить больше, много больше, возить быстрее, много быстрее!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3 декабря через озеро перевезли 700 тонн продуктов, 24-го – 800 тонн. Запасов в городе не оставалось. То, что привозили из-за Ладоги, сразу поступало на хлебозаводы.И все-таки вечером 24 декабря военный совет фронта решил увеличить поек всем ленинградцам: рабочим на 100 граммов в день, остальным - на 75 граммов. Многие женщины и дети плакали от радости. Еще 75 граммов хлеба, в общем - то крохотный кусочек, который легко сжать в кулаке. В блокадную пору он был бесценен. Он давал людям надежду на спасение от голодной смерти, на то, что их близкие и они сами будут жить.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971640" y="1341360"/>
            <a:ext cx="7272360" cy="4761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"/>
          <p:cNvSpPr/>
          <p:nvPr/>
        </p:nvSpPr>
        <p:spPr>
          <a:xfrm>
            <a:off x="1996920" y="620640"/>
            <a:ext cx="542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дневник ТАНИ САВИЧЕВОЙ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1979640" y="333360"/>
            <a:ext cx="5338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итва за Москву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324000" y="98100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2122"/>
                </a:solidFill>
                <a:latin typeface="Arial"/>
              </a:rPr>
              <a:t>Би́тва за Москву́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(</a:t>
            </a:r>
            <a:r>
              <a:rPr b="1" lang="ru-RU" sz="1800" spc="-1" strike="noStrike">
                <a:solidFill>
                  <a:srgbClr val="202122"/>
                </a:solidFill>
                <a:latin typeface="Arial"/>
              </a:rPr>
              <a:t>Моско́вская би́тва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, </a:t>
            </a:r>
            <a:r>
              <a:rPr b="1" lang="ru-RU" sz="1800" spc="-1" strike="noStrike">
                <a:solidFill>
                  <a:srgbClr val="202122"/>
                </a:solidFill>
                <a:latin typeface="Arial"/>
              </a:rPr>
              <a:t>Би́тва под Москво́й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, 30 сентября 1941 года — 20 апреля 1942 года) — боевые действия советских и немецких войск на московском направлении. Делится на два периода: оборонительный (30 сентября — 5 декабря 1941 года) и наступательный, который состоит из двух этапов: контрнаступления (5 декабря 1941 года — 7 января 1942 года) и наступления советских войск (7 января — 30 марта 1942 года). Стратегическая наступательная операция немецких войск осенью и зимой 1941 года носила наименование «Тайфун»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4651200" y="1957320"/>
            <a:ext cx="4057920" cy="2847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итва за Москву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4716360" y="1628640"/>
            <a:ext cx="4114800" cy="2556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250920" y="1430280"/>
            <a:ext cx="456732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5 декабря 1941 года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Красная армия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перешла в контрнаступление по всему фронту под Москвой, проведя при этом ряд успешных фронтовых наступательных операций и отбросила немцев на 150—300 километров от столицы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Битва за Москву — один из переломных моментов во Второй мировой и Великой Отечественной войнах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5 декабря — день начала советского контрнаступления под Москвой — является одним из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дней воинской славы России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5"/>
          <a:stretch/>
        </p:blipFill>
        <p:spPr>
          <a:xfrm>
            <a:off x="6046920" y="4653000"/>
            <a:ext cx="1452600" cy="1309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алинградская битва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457200" y="1197000"/>
            <a:ext cx="3394080" cy="39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2122"/>
                </a:solidFill>
                <a:latin typeface="Arial"/>
              </a:rPr>
              <a:t>Сталингра́дская би́тва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— одно из важнейших и крупнейших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генеральных сражений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Второй мировой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и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Великой Отечественной войн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между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Красной армией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и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вермахтом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при поддержке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армий стран «оси»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, закончившееся победой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РККА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Битва происходила с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17 июля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1942 года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по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2 февраля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1943 года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851280" y="1197000"/>
            <a:ext cx="457200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Окружённая группировка 6-й армии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капитулировала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2 февраля 1943 года, в том числе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генерал-фельдмаршал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Фридрих Паулюс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и ещё 24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6"/>
              </a:rPr>
              <a:t>генерала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вермахта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Эта победа Красной армии, после череды поражений 1941—1942 годов, положила начало «коренному перелому» (перехвату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7"/>
              </a:rPr>
              <a:t>советским командованием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стратегической инициативы) не только в Великой Отечественной, но и во всей Второй мировой войн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2 февраля — день окончания Сталинградской битвы, является одним из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8"/>
              </a:rPr>
              <a:t>дней воинской славы России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826920" y="620640"/>
            <a:ext cx="770580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беда в Великой Отечественной войне — подвиг и слава нашего народа. 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бы ни менялись за последние годы факты нашей истории, 9 мая —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нь Победы — остается неизменным, всеми любимым, дорогим, трагичным 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скорбным, но в тоже время и светлым праздником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здник Великой победы – 9 мая – один из главных праздников нашей страны,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ый трагичный, самый прекрасный и трогательный. Наверное, в каждом городе 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коло вечного огня в этот день собираются те, кто пришел возложить цветы, 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помнить наших защитников и героев, минутку помолчать и в который раз сказать 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 СПАСИБО… Спасибо за нашу мирную жизнь, за наших детей и внуков, 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 их счастье! Спасибо Вам, низкий поклон и вечная память…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ряд ли есть семья, которой не коснулась война. У кого-то воевал дед, у кого-то  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ец, сын, муж. Мы рассказываем из поколенья в поколенье об их светлом подвиге,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им память. Передаем дедовские медали и о каждой из них рассказываем своим 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тям. Эта за мужество, вот эта – за отвагу… Это наша история, история семьи, 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ория нашей страны. Мы приводим детей 9 мая к вечному огню и рассказываем 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 день Великой Победы, день победы нашего народа над фашизмом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3276720" y="4807080"/>
            <a:ext cx="2438280" cy="1620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3"/>
          <a:stretch/>
        </p:blipFill>
        <p:spPr>
          <a:xfrm>
            <a:off x="1116000" y="4770360"/>
            <a:ext cx="1452600" cy="1309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4"/>
          <a:stretch/>
        </p:blipFill>
        <p:spPr>
          <a:xfrm>
            <a:off x="6659640" y="4930920"/>
            <a:ext cx="1452600" cy="1309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25092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урская битва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900000" y="1125360"/>
            <a:ext cx="7272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2122"/>
                </a:solidFill>
                <a:latin typeface="Arial"/>
              </a:rPr>
              <a:t>Ку́рская битва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(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5 июля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—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23 августа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1943 года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; также известна как </a:t>
            </a:r>
            <a:r>
              <a:rPr b="1" lang="ru-RU" sz="1800" spc="-1" strike="noStrike">
                <a:solidFill>
                  <a:srgbClr val="202122"/>
                </a:solidFill>
                <a:latin typeface="Arial"/>
              </a:rPr>
              <a:t>Битва на </a:t>
            </a:r>
            <a:r>
              <a:rPr b="1" lang="ru-RU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Курской дуге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) — совокупность стратегических оборонительной (5—23 июля) и наступательных (12 июля — 23 августа) операций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Красной армии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в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Великой Отечественной войне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с целью сорвать крупное наступление сил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вермахта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и разгромить его стратегическую группировку</a:t>
            </a:r>
            <a:r>
              <a:rPr b="0" lang="ru-RU" sz="1800" spc="-1" strike="noStrike" u="sng" baseline="30000">
                <a:solidFill>
                  <a:srgbClr val="ccccff"/>
                </a:solidFill>
                <a:uFillTx/>
                <a:latin typeface="Arial"/>
                <a:hlinkClick r:id="rId9"/>
              </a:rPr>
              <a:t>[9]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. По своим масштабам, задействованным силам и средствам, напряжённости, результатам и военно-политическим последствиям является одним из ключевых сражений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Второй мировой войны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и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Великой Отечественной войны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. В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историографии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считается самым крупным (величайшим) танковым сражением в истории. В нём участвовали около 2 млн человек, 6 тысяч танков, 4 тысячи самолётов; сражение проложило </a:t>
            </a:r>
            <a:r>
              <a:rPr b="0" i="1" lang="ru-RU" sz="1800" spc="-1" strike="noStrike">
                <a:solidFill>
                  <a:srgbClr val="202122"/>
                </a:solidFill>
                <a:latin typeface="Arial"/>
              </a:rPr>
              <a:t>«путь к великим советским наступательным действиям 1944-45 годов»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395280" y="765000"/>
            <a:ext cx="417672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После завершения битвы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стратегическая инициатива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окончательно перешла на сторону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Красной армии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, которая продолжала освобождать страну от немецких захватчиков и до окончания войны проводила в основном наступательные операции.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Вермахт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в ходе отступления с территории СССР проводил тактику «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выжженной земли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23 августа, день разгрома советскими войсками немецких войск в Курской битве, является одним из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дней воинской славы России</a:t>
            </a:r>
            <a:r>
              <a:rPr b="0" lang="ru-RU" sz="1800" spc="-1" strike="noStrike" u="sng" baseline="30000">
                <a:solidFill>
                  <a:srgbClr val="ccccff"/>
                </a:solidFill>
                <a:uFillTx/>
                <a:latin typeface="Arial"/>
                <a:hlinkClick r:id="rId7"/>
              </a:rPr>
              <a:t>[17]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. Белгород, Курск и Орёл стали первыми городами России, которым присвоено почётное звание «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Город воинской славы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9"/>
          <a:stretch/>
        </p:blipFill>
        <p:spPr>
          <a:xfrm>
            <a:off x="4565520" y="392040"/>
            <a:ext cx="4510080" cy="6015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90000"/>
              </a:lnSpc>
              <a:spcBef>
                <a:spcPts val="836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, всё-таки наступил в войне переломный момент и началось освобождение оккупированных территорий. Очистив от фашистов территорию нашей страны, наши воины освободили от фашистского ига народы Европы.                        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90000"/>
              </a:lnSpc>
              <a:spcBef>
                <a:spcPts val="836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чество в неоплаченном долгу перед теми миллионами людей, которые погибли, защищая родину от порабощения, неволи, фашизма, грозившего уничтожить все славянские народы.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324000" y="476280"/>
            <a:ext cx="867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2122"/>
                </a:solidFill>
                <a:latin typeface="Arial"/>
              </a:rPr>
              <a:t>Встреча на Эльбе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— эпизод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Второй мировой войны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, когда 25 апреля 1945 года недалеко от города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Торгау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на реке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Эльба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войска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1-го Украинского фронта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армии СССР встретились с войсками 1-й армии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США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. В результате встречи войск союзников остатки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вооружённых сил Германии</a:t>
            </a:r>
            <a:r>
              <a:rPr b="0" lang="ru-RU" sz="1800" spc="-1" strike="noStrike">
                <a:solidFill>
                  <a:srgbClr val="202122"/>
                </a:solidFill>
                <a:latin typeface="Arial"/>
              </a:rPr>
              <a:t> были расколоты на две части — северную и южную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8"/>
          <a:stretch/>
        </p:blipFill>
        <p:spPr>
          <a:xfrm>
            <a:off x="539640" y="1986120"/>
            <a:ext cx="8047080" cy="450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2"/>
          <a:stretch/>
        </p:blipFill>
        <p:spPr>
          <a:xfrm>
            <a:off x="5227560" y="687240"/>
            <a:ext cx="3828960" cy="2392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3"/>
          <a:stretch/>
        </p:blipFill>
        <p:spPr>
          <a:xfrm>
            <a:off x="182520" y="11160"/>
            <a:ext cx="4994280" cy="3744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4"/>
          <a:stretch/>
        </p:blipFill>
        <p:spPr>
          <a:xfrm>
            <a:off x="4602240" y="3519360"/>
            <a:ext cx="4475160" cy="2970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5"/>
          <a:stretch/>
        </p:blipFill>
        <p:spPr>
          <a:xfrm>
            <a:off x="166680" y="3848040"/>
            <a:ext cx="4267080" cy="2913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468360" y="18900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итва за Берлин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900000" y="1730520"/>
            <a:ext cx="7147080" cy="47782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826920" y="808200"/>
            <a:ext cx="779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ершающая часть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Берлинской наступательной опер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1945 года, в ходе которой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Красная арм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завладела столицей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нацистской Герма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перация продолжалась с 16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 апрел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по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2 ма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684360" y="890640"/>
            <a:ext cx="7775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22"/>
                </a:solidFill>
                <a:latin typeface="Arial"/>
              </a:rPr>
              <a:t>В апреле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1945 года</a:t>
            </a:r>
            <a:r>
              <a:rPr b="0" lang="ru-RU" sz="1800" spc="-1" strike="noStrike">
                <a:solidFill>
                  <a:srgbClr val="222222"/>
                </a:solidFill>
                <a:latin typeface="Arial"/>
              </a:rPr>
              <a:t> Красная армия вплотную подошла к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Берлину</a:t>
            </a:r>
            <a:r>
              <a:rPr b="0" lang="ru-RU" sz="1800" spc="-1" strike="noStrike">
                <a:solidFill>
                  <a:srgbClr val="222222"/>
                </a:solidFill>
                <a:latin typeface="Arial"/>
              </a:rPr>
              <a:t>. Советские войска к началу операции насчитывали 149 стрелковых и 12 кавалерийских дивизий, 13 танковых и 7 механизированных корпусов, 15 отдельных танковых и самоходных бригад общей численностью более 1 900 000 человек. Участвовавшие в операции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1-я</a:t>
            </a:r>
            <a:r>
              <a:rPr b="0" lang="ru-RU" sz="1800" spc="-1" strike="noStrike">
                <a:solidFill>
                  <a:srgbClr val="222222"/>
                </a:solidFill>
                <a:latin typeface="Arial"/>
              </a:rPr>
              <a:t> и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2-я армии Войска Польского</a:t>
            </a:r>
            <a:r>
              <a:rPr b="0" lang="ru-RU" sz="1800" spc="-1" strike="noStrike">
                <a:solidFill>
                  <a:srgbClr val="222222"/>
                </a:solidFill>
                <a:latin typeface="Arial"/>
              </a:rPr>
              <a:t> насчитывали 10 пехотных и 1 танковую дивизию, а также 1 отдельную кавалерийскую бригаду, общей численностью 155 900 человек. Всего в операции принимали участие более 2 миллионов солдат и офицеров, 6250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танков</a:t>
            </a:r>
            <a:r>
              <a:rPr b="0" lang="ru-RU" sz="1800" spc="-1" strike="noStrike">
                <a:solidFill>
                  <a:srgbClr val="222222"/>
                </a:solidFill>
                <a:latin typeface="Arial"/>
              </a:rPr>
              <a:t> и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самоходных орудий</a:t>
            </a:r>
            <a:r>
              <a:rPr b="0" lang="ru-RU" sz="1800" spc="-1" strike="noStrike">
                <a:solidFill>
                  <a:srgbClr val="222222"/>
                </a:solidFill>
                <a:latin typeface="Arial"/>
              </a:rPr>
              <a:t>, 41 600 орудий и миномётов, 7 500 самолётов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3"/>
          <a:stretch/>
        </p:blipFill>
        <p:spPr>
          <a:xfrm>
            <a:off x="79200" y="4149720"/>
            <a:ext cx="8985600" cy="2192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95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3"/>
          <a:stretch/>
        </p:blipFill>
        <p:spPr>
          <a:xfrm>
            <a:off x="8244000" y="33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77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862440" cy="2568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3"/>
          <a:stretch/>
        </p:blipFill>
        <p:spPr>
          <a:xfrm>
            <a:off x="4284720" y="33480"/>
            <a:ext cx="4572000" cy="2879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4"/>
          <a:stretch/>
        </p:blipFill>
        <p:spPr>
          <a:xfrm>
            <a:off x="127080" y="3222720"/>
            <a:ext cx="3967200" cy="3111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5"/>
          <a:stretch/>
        </p:blipFill>
        <p:spPr>
          <a:xfrm>
            <a:off x="4284720" y="3097080"/>
            <a:ext cx="4857840" cy="324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2"/>
          <a:stretch/>
        </p:blipFill>
        <p:spPr>
          <a:xfrm>
            <a:off x="1052640" y="3716280"/>
            <a:ext cx="2998800" cy="3000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3"/>
          <a:stretch/>
        </p:blipFill>
        <p:spPr>
          <a:xfrm>
            <a:off x="5448240" y="144360"/>
            <a:ext cx="3254400" cy="3254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4"/>
          <a:stretch/>
        </p:blipFill>
        <p:spPr>
          <a:xfrm>
            <a:off x="4780080" y="3941640"/>
            <a:ext cx="3957480" cy="2551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5"/>
          <a:stretch/>
        </p:blipFill>
        <p:spPr>
          <a:xfrm>
            <a:off x="322200" y="57240"/>
            <a:ext cx="445788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5254560" y="476280"/>
            <a:ext cx="388944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38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Война!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ctr">
              <a:lnSpc>
                <a:spcPct val="100000"/>
              </a:lnSpc>
              <a:spcBef>
                <a:spcPts val="938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2 июня,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ctr">
              <a:lnSpc>
                <a:spcPct val="100000"/>
              </a:lnSpc>
              <a:spcBef>
                <a:spcPts val="938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овно в 4 часа,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ctr">
              <a:lnSpc>
                <a:spcPct val="100000"/>
              </a:lnSpc>
              <a:spcBef>
                <a:spcPts val="938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иев бомбили,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ctr">
              <a:lnSpc>
                <a:spcPct val="100000"/>
              </a:lnSpc>
              <a:spcBef>
                <a:spcPts val="938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м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ctr">
              <a:lnSpc>
                <a:spcPct val="100000"/>
              </a:lnSpc>
              <a:spcBef>
                <a:spcPts val="938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ъявили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ctr">
              <a:lnSpc>
                <a:spcPct val="100000"/>
              </a:lnSpc>
              <a:spcBef>
                <a:spcPts val="938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началась 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ctr">
              <a:lnSpc>
                <a:spcPct val="100000"/>
              </a:lnSpc>
              <a:spcBef>
                <a:spcPts val="938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йн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2"/>
          <a:stretch/>
        </p:blipFill>
        <p:spPr>
          <a:xfrm>
            <a:off x="20520" y="115920"/>
            <a:ext cx="4692600" cy="6597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3"/>
          <a:stretch/>
        </p:blipFill>
        <p:spPr>
          <a:xfrm>
            <a:off x="4713120" y="115920"/>
            <a:ext cx="4402440" cy="674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2"/>
          <a:stretch/>
        </p:blipFill>
        <p:spPr>
          <a:xfrm>
            <a:off x="63360" y="907920"/>
            <a:ext cx="4610160" cy="44672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4673520" y="333360"/>
            <a:ext cx="4116600" cy="60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2122"/>
                </a:solidFill>
                <a:latin typeface="Arial"/>
              </a:rPr>
              <a:t>Акт о безогово́рочной капитуля́ции герма́нских вооружённых сил</a:t>
            </a:r>
            <a:r>
              <a:rPr b="0" lang="ru-RU" sz="1400" spc="-1" strike="noStrike">
                <a:solidFill>
                  <a:srgbClr val="202122"/>
                </a:solidFill>
                <a:latin typeface="Arial"/>
              </a:rPr>
              <a:t> — юридический документ, установивший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перемирие</a:t>
            </a:r>
            <a:r>
              <a:rPr b="0" lang="ru-RU" sz="1400" spc="-1" strike="noStrike">
                <a:solidFill>
                  <a:srgbClr val="202122"/>
                </a:solidFill>
                <a:latin typeface="Arial"/>
              </a:rPr>
              <a:t> на направленных против Германии фронтах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Второй мировой войны</a:t>
            </a:r>
            <a:r>
              <a:rPr b="0" lang="ru-RU" sz="1400" spc="-1" strike="noStrike">
                <a:solidFill>
                  <a:srgbClr val="202122"/>
                </a:solidFill>
                <a:latin typeface="Arial"/>
              </a:rPr>
              <a:t>, обязавший германские вооружённые силы к прекращению боевых действий и разоружению с недопущением уничтожения или повреждения военной техники, фактически означавший выход Германии из войны.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2122"/>
                </a:solidFill>
                <a:latin typeface="Arial"/>
              </a:rPr>
              <a:t>Акт первоначально был подписан представителями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Верховного командования вермахта</a:t>
            </a:r>
            <a:r>
              <a:rPr b="0" lang="ru-RU" sz="1400" spc="-1" strike="noStrike">
                <a:solidFill>
                  <a:srgbClr val="202122"/>
                </a:solidFill>
                <a:latin typeface="Arial"/>
              </a:rPr>
              <a:t>, верховного командования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Западных союзников</a:t>
            </a:r>
            <a:r>
              <a:rPr b="0" lang="ru-RU" sz="1400" spc="-1" strike="noStrike">
                <a:solidFill>
                  <a:srgbClr val="202122"/>
                </a:solidFill>
                <a:latin typeface="Arial"/>
              </a:rPr>
              <a:t> и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Советского Союза</a:t>
            </a:r>
            <a:r>
              <a:rPr b="0" lang="ru-RU" sz="1400" spc="-1" strike="noStrike">
                <a:solidFill>
                  <a:srgbClr val="202122"/>
                </a:solidFill>
                <a:latin typeface="Arial"/>
              </a:rPr>
              <a:t> 7 мая в 02:41 по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центральноевропейскому времени</a:t>
            </a:r>
            <a:r>
              <a:rPr b="0" lang="ru-RU" sz="1400" spc="-1" strike="noStrike">
                <a:solidFill>
                  <a:srgbClr val="202122"/>
                </a:solidFill>
                <a:latin typeface="Arial"/>
              </a:rPr>
              <a:t> в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Реймсе</a:t>
            </a:r>
            <a:r>
              <a:rPr b="0" lang="ru-RU" sz="1400" spc="-1" strike="noStrike">
                <a:solidFill>
                  <a:srgbClr val="202122"/>
                </a:solidFill>
                <a:latin typeface="Arial"/>
              </a:rPr>
              <a:t> (Франция). </a:t>
            </a:r>
            <a:r>
              <a:rPr b="0" lang="ru-RU" sz="1400" spc="-1" strike="noStrike">
                <a:solidFill>
                  <a:srgbClr val="0645ad"/>
                </a:solidFill>
                <a:latin typeface="Arial"/>
              </a:rPr>
              <a:t>Капитуляция</a:t>
            </a:r>
            <a:r>
              <a:rPr b="0" lang="ru-RU" sz="1400" spc="-1" strike="noStrike">
                <a:solidFill>
                  <a:srgbClr val="202122"/>
                </a:solidFill>
                <a:latin typeface="Arial"/>
              </a:rPr>
              <a:t> </a:t>
            </a:r>
            <a:r>
              <a:rPr b="0" lang="ru-RU" sz="1400" spc="-1" strike="noStrike" u="sng">
                <a:solidFill>
                  <a:srgbClr val="0645ad"/>
                </a:solidFill>
                <a:uFillTx/>
                <a:latin typeface="Arial"/>
              </a:rPr>
              <a:t>нацистской Германии</a:t>
            </a:r>
            <a:r>
              <a:rPr b="0" lang="ru-RU" sz="1400" spc="-1" strike="noStrike">
                <a:solidFill>
                  <a:srgbClr val="202122"/>
                </a:solidFill>
                <a:latin typeface="Arial"/>
              </a:rPr>
              <a:t> вступила в силу 8 мая в 23:01 по центральноевропейскому времени (9 мая в 01:01 по </a:t>
            </a:r>
            <a:r>
              <a:rPr b="0" lang="ru-RU" sz="1400" spc="-1" strike="noStrike">
                <a:solidFill>
                  <a:srgbClr val="0645ad"/>
                </a:solidFill>
                <a:latin typeface="Arial"/>
              </a:rPr>
              <a:t>московскому времени</a:t>
            </a:r>
            <a:r>
              <a:rPr b="0" lang="ru-RU" sz="1400" spc="-1" strike="noStrike">
                <a:solidFill>
                  <a:srgbClr val="202122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2122"/>
                </a:solidFill>
                <a:latin typeface="Arial"/>
              </a:rPr>
              <a:t>По требованию </a:t>
            </a:r>
            <a:r>
              <a:rPr b="0" lang="ru-RU" sz="1400" spc="-1" strike="noStrike">
                <a:solidFill>
                  <a:srgbClr val="0645ad"/>
                </a:solidFill>
                <a:latin typeface="Arial"/>
              </a:rPr>
              <a:t>Сталина</a:t>
            </a:r>
            <a:r>
              <a:rPr b="0" lang="ru-RU" sz="1400" spc="-1" strike="noStrike">
                <a:solidFill>
                  <a:srgbClr val="202122"/>
                </a:solidFill>
                <a:latin typeface="Arial"/>
              </a:rPr>
              <a:t> состоялось вторичное подписание капитуляции в ночь с 8 на 9 мая в пригороде </a:t>
            </a:r>
            <a:r>
              <a:rPr b="0" lang="ru-RU" sz="1400" spc="-1" strike="noStrike">
                <a:solidFill>
                  <a:srgbClr val="0645ad"/>
                </a:solidFill>
                <a:latin typeface="Arial"/>
              </a:rPr>
              <a:t>Берлина</a:t>
            </a:r>
            <a:r>
              <a:rPr b="0" lang="ru-RU" sz="1400" spc="-1" strike="noStrike">
                <a:solidFill>
                  <a:srgbClr val="202122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0645ad"/>
                </a:solidFill>
                <a:latin typeface="Arial"/>
              </a:rPr>
              <a:t>Карлсхорсте</a:t>
            </a:r>
            <a:r>
              <a:rPr b="0" lang="ru-RU" sz="1400" spc="-1" strike="noStrike">
                <a:solidFill>
                  <a:srgbClr val="202122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2122"/>
                </a:solidFill>
                <a:latin typeface="Arial"/>
              </a:rPr>
              <a:t>Даты официального объявления главами государств о подписании капитуляции — </a:t>
            </a:r>
            <a:r>
              <a:rPr b="0" lang="ru-RU" sz="1400" spc="-1" strike="noStrike">
                <a:solidFill>
                  <a:srgbClr val="0645ad"/>
                </a:solidFill>
                <a:latin typeface="Arial"/>
              </a:rPr>
              <a:t>8 мая в странах Европы</a:t>
            </a:r>
            <a:r>
              <a:rPr b="0" lang="ru-RU" sz="1400" spc="-1" strike="noStrike">
                <a:solidFill>
                  <a:srgbClr val="202122"/>
                </a:solidFill>
                <a:latin typeface="Arial"/>
              </a:rPr>
              <a:t> и </a:t>
            </a:r>
            <a:r>
              <a:rPr b="0" lang="ru-RU" sz="1400" spc="-1" strike="noStrike">
                <a:solidFill>
                  <a:srgbClr val="0645ad"/>
                </a:solidFill>
                <a:latin typeface="Arial"/>
              </a:rPr>
              <a:t>9 мая в СССР</a:t>
            </a:r>
            <a:r>
              <a:rPr b="0" lang="ru-RU" sz="1400" spc="-1" strike="noStrike">
                <a:solidFill>
                  <a:srgbClr val="202122"/>
                </a:solidFill>
                <a:latin typeface="Arial"/>
              </a:rPr>
              <a:t> — стали отмечаться в соответствующих странах как День Победы.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4762440" cy="2533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3"/>
          <a:stretch/>
        </p:blipFill>
        <p:spPr>
          <a:xfrm>
            <a:off x="3780000" y="2786040"/>
            <a:ext cx="5267160" cy="4052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4"/>
          <a:stretch/>
        </p:blipFill>
        <p:spPr>
          <a:xfrm>
            <a:off x="395280" y="3645000"/>
            <a:ext cx="3209760" cy="2095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5"/>
          <a:stretch/>
        </p:blipFill>
        <p:spPr>
          <a:xfrm>
            <a:off x="6300720" y="907920"/>
            <a:ext cx="1452600" cy="1309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"/>
          <p:cNvPicPr/>
          <p:nvPr/>
        </p:nvPicPr>
        <p:blipFill>
          <a:blip r:embed="rId2"/>
          <a:stretch/>
        </p:blipFill>
        <p:spPr>
          <a:xfrm>
            <a:off x="4788000" y="404640"/>
            <a:ext cx="4209840" cy="5686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3"/>
          <a:stretch/>
        </p:blipFill>
        <p:spPr>
          <a:xfrm>
            <a:off x="250920" y="380880"/>
            <a:ext cx="4333680" cy="5686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2"/>
          <a:stretch/>
        </p:blipFill>
        <p:spPr>
          <a:xfrm>
            <a:off x="-19080" y="765000"/>
            <a:ext cx="4890960" cy="4712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3"/>
          <a:stretch/>
        </p:blipFill>
        <p:spPr>
          <a:xfrm>
            <a:off x="4889520" y="611280"/>
            <a:ext cx="4226040" cy="5314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4782960" cy="6378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3"/>
          <a:stretch/>
        </p:blipFill>
        <p:spPr>
          <a:xfrm>
            <a:off x="5003640" y="620640"/>
            <a:ext cx="4000680" cy="5540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8778960" cy="5774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2"/>
          <a:stretch/>
        </p:blipFill>
        <p:spPr>
          <a:xfrm>
            <a:off x="2666880" y="804960"/>
            <a:ext cx="3810240" cy="5248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3"/>
          <a:stretch/>
        </p:blipFill>
        <p:spPr>
          <a:xfrm>
            <a:off x="755640" y="2637000"/>
            <a:ext cx="1452600" cy="1309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4"/>
          <a:stretch/>
        </p:blipFill>
        <p:spPr>
          <a:xfrm>
            <a:off x="7164360" y="2773440"/>
            <a:ext cx="1452600" cy="1309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11160" y="1036800"/>
            <a:ext cx="4249800" cy="55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00000"/>
              </a:lnSpc>
              <a:spcBef>
                <a:spcPts val="539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 мая мы отмечаем великий праздник – День Победы ,78 годовщину Победы советского народа в Великой войне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100000"/>
              </a:lnSpc>
              <a:spcBef>
                <a:spcPts val="539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 горя и страха принесла война, но несмотря на голод, холод, разруху, наш народ победил. Он победил страшного врага, который поработил много государств и заставил их жить в страхе, народ , который победил  - фашизм!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3"/>
          <a:stretch/>
        </p:blipFill>
        <p:spPr>
          <a:xfrm>
            <a:off x="4546440" y="1087560"/>
            <a:ext cx="456264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2"/>
          <a:stretch/>
        </p:blipFill>
        <p:spPr>
          <a:xfrm>
            <a:off x="125280" y="1413000"/>
            <a:ext cx="6096240" cy="4066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6221520" y="1938240"/>
            <a:ext cx="2519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бы люди не забывали эту войну, помнили тех, кто отдал свою жизнь, чтобы жили мы с вами в мире – во многих городах был зажжен Вечный огонь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428760" y="1214280"/>
            <a:ext cx="403380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евели чёрные крылья,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вистел ураган свинца,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о парни границу закрыли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 собственные сердца.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4643280" y="0"/>
            <a:ext cx="3781440" cy="5113440"/>
          </a:xfrm>
          <a:prstGeom prst="rect">
            <a:avLst/>
          </a:prstGeom>
          <a:ln w="57240">
            <a:solidFill>
              <a:srgbClr val="a50021"/>
            </a:solidFill>
            <a:miter/>
          </a:ln>
        </p:spPr>
      </p:pic>
      <p:pic>
        <p:nvPicPr>
          <p:cNvPr id="60" name="Picture 3" descr=""/>
          <p:cNvPicPr/>
          <p:nvPr/>
        </p:nvPicPr>
        <p:blipFill>
          <a:blip r:embed="rId3"/>
          <a:stretch/>
        </p:blipFill>
        <p:spPr>
          <a:xfrm>
            <a:off x="6407280" y="4781520"/>
            <a:ext cx="2736720" cy="2076480"/>
          </a:xfrm>
          <a:prstGeom prst="rect">
            <a:avLst/>
          </a:prstGeom>
          <a:ln w="57240">
            <a:solidFill>
              <a:srgbClr val="a50021"/>
            </a:solidFill>
            <a:miter/>
          </a:ln>
        </p:spPr>
      </p:pic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"/>
          <p:cNvSpPr/>
          <p:nvPr/>
        </p:nvSpPr>
        <p:spPr>
          <a:xfrm>
            <a:off x="179280" y="981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ждый год в День Победы в  городах проходит праздничный парад, шествие Бессмертного полка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4932360" y="262080"/>
            <a:ext cx="3998880" cy="26636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673560" y="5729400"/>
            <a:ext cx="35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звучит праздничный сал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3"/>
          <a:srcRect l="0" t="0" r="41" b="48"/>
          <a:stretch/>
        </p:blipFill>
        <p:spPr>
          <a:xfrm>
            <a:off x="4932360" y="3141720"/>
            <a:ext cx="4083120" cy="3500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4"/>
          <a:stretch/>
        </p:blipFill>
        <p:spPr>
          <a:xfrm>
            <a:off x="87480" y="2492280"/>
            <a:ext cx="4755960" cy="2948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468360" y="549360"/>
            <a:ext cx="457200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Montserrat"/>
              </a:rPr>
              <a:t>Президент России Владимир Путин направил приветствие участникам и гостям праздничного концерта, посвященного 78-летию Победы в Великой Отечественной войне, «Песни Победы»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333333"/>
                </a:solidFill>
                <a:latin typeface="Montserrat"/>
              </a:rPr>
              <a:t>Глава государства отметил, что концерт собрал известных, популярных исполнителей, а также авторов из разных регионов России, лауреатов конкурса «Песни нашего полка»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333333"/>
                </a:solidFill>
                <a:latin typeface="Montserrat"/>
              </a:rPr>
              <a:t>«С этой сцены прозвучат по-настоящему народные, любимые произведения и новые композиции. Все они выражают благодарность и уважение к защитникам Родины, передают чувства и мысли каждого, кто искренне переживает за судьбу страны, бережно хранит правду о Великой Отечественной войне и поддерживает наших бойцов, сражающихся сегодня с неонацизмом. Эти песни служат мощной объединяющей силой, вдохновляют на ратный и созидательный труд на благо России», — указано в сообщении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333333"/>
                </a:solidFill>
                <a:latin typeface="Montserrat"/>
              </a:rPr>
              <a:t>Владимир Путин поздравил всех с праздником Великой Победы и пожелал успехов и всего самого доброго.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5064120" y="260280"/>
            <a:ext cx="3949560" cy="4232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3"/>
          <a:stretch/>
        </p:blipFill>
        <p:spPr>
          <a:xfrm>
            <a:off x="6084720" y="4797360"/>
            <a:ext cx="1452600" cy="1309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588960" y="3743280"/>
            <a:ext cx="799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годня российская армия с честью выполняет свою миссию в ходе Специальной военной операции. Наша армия, прежде всего, защищает наше общее право мирно жить согласно историческим традициям добрососедства, согласно вековым устоям, духовным и нравственным идеалам, наше право самостоятельно определять свое будущее и путь развития.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1476360" y="19080"/>
            <a:ext cx="6216840" cy="37209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>
            <a:off x="-3240" y="1484280"/>
            <a:ext cx="1452600" cy="1309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4"/>
          <a:stretch/>
        </p:blipFill>
        <p:spPr>
          <a:xfrm>
            <a:off x="7684920" y="1484280"/>
            <a:ext cx="1452600" cy="1309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"/>
          <p:cNvSpPr/>
          <p:nvPr/>
        </p:nvSpPr>
        <p:spPr>
          <a:xfrm>
            <a:off x="826920" y="2637000"/>
            <a:ext cx="1119672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90000"/>
              </a:lnSpc>
              <a:spcBef>
                <a:spcPts val="539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90000"/>
              </a:lnSpc>
              <a:spcBef>
                <a:spcPts val="539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нь Победы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90000"/>
              </a:lnSpc>
              <a:spcBef>
                <a:spcPts val="539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ь Победы - праздник всей страны!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90000"/>
              </a:lnSpc>
              <a:spcBef>
                <a:spcPts val="539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уховой оркестр играет марши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90000"/>
              </a:lnSpc>
              <a:spcBef>
                <a:spcPts val="539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ь Победы - праздник седины.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90000"/>
              </a:lnSpc>
              <a:spcBef>
                <a:spcPts val="539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ших прадедов, дедов. Даже тех,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90000"/>
              </a:lnSpc>
              <a:spcBef>
                <a:spcPts val="539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не видал войны,-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90000"/>
              </a:lnSpc>
              <a:spcBef>
                <a:spcPts val="539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её крылом задет был каждый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90000"/>
              </a:lnSpc>
              <a:spcBef>
                <a:spcPts val="539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дравляем с Днём Победы мы!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90000"/>
              </a:lnSpc>
              <a:spcBef>
                <a:spcPts val="539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т день для всей России важный!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90000"/>
              </a:lnSpc>
              <a:spcBef>
                <a:spcPts val="539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2"/>
          <a:stretch/>
        </p:blipFill>
        <p:spPr>
          <a:xfrm>
            <a:off x="1812960" y="15840"/>
            <a:ext cx="5311800" cy="28288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468360" y="2924280"/>
            <a:ext cx="334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г каждого из нас – знать свою историю, историю своей семьи и нашей страны! Важно бережно хранить память, память о тех, кого уже нет рядом с нами. Пока жива память о человеке, его имя будет жить вечно, не зная смерти. Мы помним своих ветеранов, своих близких, поэтому для нас они бессмертны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>
            <a:off x="179280" y="1052640"/>
            <a:ext cx="1452600" cy="1309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4"/>
          <a:stretch/>
        </p:blipFill>
        <p:spPr>
          <a:xfrm>
            <a:off x="7304040" y="1190520"/>
            <a:ext cx="1452600" cy="1309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Брестская крепость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2" name="Picture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125360"/>
            <a:ext cx="4633920" cy="5732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00000"/>
              </a:lnSpc>
              <a:spcBef>
                <a:spcPts val="7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 – Брест. Я стою обожженный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100000"/>
              </a:lnSpc>
              <a:spcBef>
                <a:spcPts val="7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 бьюсь за солдатскую честь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100000"/>
              </a:lnSpc>
              <a:spcBef>
                <a:spcPts val="7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 нету здесь, нету сраженных,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100000"/>
              </a:lnSpc>
              <a:spcBef>
                <a:spcPts val="7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десь только убитые есть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1187280" y="692280"/>
            <a:ext cx="66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…24 июня 1941 года (3-й день войны). В общем-то, теперь стало ясно, что русские не думают об отступлении, а напротив, бросают все, что имеют в своём распоряжении, навстречу вклинившимся германским войскам…»Гальдер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1482840" y="3500280"/>
            <a:ext cx="6105240" cy="2019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468360" y="260280"/>
            <a:ext cx="799128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00000"/>
              </a:lnSpc>
              <a:spcBef>
                <a:spcPts val="938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29 июня 1941 года (8-й день войны). Сведения с фронта подтверждают, что русские всюду сражаются до последнего человека... Упорное сопротивление русских заставляет вести бой по всем правилам наших боевых уставов, хотя на Западе мы могли позволить себе известные вольности…»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250920" y="907920"/>
            <a:ext cx="842472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00000"/>
              </a:lnSpc>
              <a:spcBef>
                <a:spcPts val="10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10 августа 1941 года (50-й день войны)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100000"/>
              </a:lnSpc>
              <a:spcBef>
                <a:spcPts val="10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..На центральном участке фронта создалась невыгодная для нас обстановка, а на северном фланге мы терпим большие потери…»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00000"/>
              </a:lnSpc>
              <a:spcBef>
                <a:spcPts val="7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100000"/>
              </a:lnSpc>
              <a:spcBef>
                <a:spcPts val="7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100000"/>
              </a:lnSpc>
              <a:spcBef>
                <a:spcPts val="7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100000"/>
              </a:lnSpc>
              <a:spcBef>
                <a:spcPts val="10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11 августа 1941 года (51 – й день войны)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100000"/>
              </a:lnSpc>
              <a:spcBef>
                <a:spcPts val="10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..Общая обстановка всё очевиднее показывает, что колосс – Россия… был нами недооценён.»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yuseg</cp:lastModifiedBy>
  <dcterms:modified xsi:type="dcterms:W3CDTF">2023-05-21T21:49:08Z</dcterms:modified>
  <cp:revision>1</cp:revision>
  <dc:subject/>
  <dc:title>Презентация PowerPoint</dc:title>
</cp:coreProperties>
</file>