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4F1F-D6BE-4C50-8541-B3D542DBA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D604-3CE7-4886-B847-259EB36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1FBC-7311-405F-8B21-5CE392D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40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81424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6856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34140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81424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3E32-3749-4E52-84F9-E7B753B16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9A8E7-E988-48ED-9995-1C52D52A2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C376A-CE8D-4BFF-B7C4-645E4963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1353F-7A00-4063-9509-26A7179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267C3-F74D-493E-9B44-CD1C96CD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00064-D2D1-49B2-BB4E-E4C21F06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2360" y="4925160"/>
            <a:ext cx="29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CF4A0-78EF-476B-97BF-F64FE128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E9789-B049-4289-9F56-FC767153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9F84-FB87-43C3-B6D1-943684B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715AD-92DC-4F8C-BC77-FA47A4D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6D2E-C44E-4326-8772-04193FD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78B1-3F68-4329-8FD5-394C68E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B3C0-E48C-48F9-B794-C72AB0F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4140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14240" y="86328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856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634140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814240" y="3536640"/>
            <a:ext cx="2354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85847-CA1E-4544-B7E7-69F9FFB14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4D31-A0DB-404D-A089-AB0AC40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AABE-4AB4-444D-9B6E-E29281D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5632-5EC7-4641-9832-D8738E4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2360" y="4925160"/>
            <a:ext cx="29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F3E1-FB84-43DA-84E1-5AFD542F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765D-7139-46D5-BC82-066DEB2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6520" y="353664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B453-84C3-429C-A7DE-9AF106FD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6856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6520" y="863280"/>
            <a:ext cx="3569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68560" y="3536640"/>
            <a:ext cx="7313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6263-688A-40A8-9429-898AA34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1407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71080" y="762120"/>
            <a:ext cx="29257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920" y="1298520"/>
            <a:ext cx="731376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261720" y="6356160"/>
            <a:ext cx="2741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22.5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10634760" y="6356160"/>
            <a:ext cx="1528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1265AD-C383-4EA1-83E2-13C2CAE9DDAD}" type="slidenum"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2944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68560" y="863280"/>
            <a:ext cx="73137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61720" y="6356160"/>
            <a:ext cx="2741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22.5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10634760" y="6356160"/>
            <a:ext cx="1528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933F94-2388-454F-B3DA-3AB516001331}" type="slidenum">
              <a:rPr b="0" lang="ru-RU" sz="1800" spc="-1" strike="noStrike">
                <a:solidFill>
                  <a:srgbClr val="000000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1819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оздание дидактических игр с использованием элементов робототехни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0920" y="739440"/>
            <a:ext cx="99918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  <a:ea typeface="Corbe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  <a:ea typeface="Corbel"/>
              </a:rPr>
              <a:t>«БЕЛГОРОДСКИЙ ПЕДАГОГИЧЕСКИЙ КОЛЛЕДЖ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70520" y="4334040"/>
            <a:ext cx="4281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6680" y="1477440"/>
            <a:ext cx="310824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дачи, при использовании Лего конструктор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"/>
          <p:cNvSpPr/>
          <p:nvPr/>
        </p:nvSpPr>
        <p:spPr>
          <a:xfrm>
            <a:off x="3868560" y="863640"/>
            <a:ext cx="73152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мелкой мотор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я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- развитие познавательного интер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76680" y="638280"/>
            <a:ext cx="7315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Тема: Наше здоровье в наших ру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ласс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Цель занятия: создание благоприятных условий для усвоения учащимися начальных классов в необходимости сохранения здоровья и его укреп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Используемые ресурсы: мультимедийное оборудование, конструктор Lego, программа ЛегоВе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5904" t="52871" r="23602" b="5736"/>
          <a:stretch/>
        </p:blipFill>
        <p:spPr>
          <a:xfrm>
            <a:off x="3673440" y="3344760"/>
            <a:ext cx="73548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 нам в гости прилетели птички-сестрички из страны Lego. Они ведут здоровый образ жизни. Птички хотят проверить, много ли вы знаете о здоровье, поэтому они вам предлагают выполнить ряд заданий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"/>
          <p:cNvSpPr/>
          <p:nvPr/>
        </p:nvSpPr>
        <p:spPr>
          <a:xfrm>
            <a:off x="3902040" y="2838600"/>
            <a:ext cx="76374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orbel"/>
              </a:rPr>
              <a:t>Первый вопрос, который они хотят вам задать, звучит так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orbel"/>
              </a:rPr>
              <a:t>Как вы понимаете слово «Здоровь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000" y="1209600"/>
            <a:ext cx="300024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ши птички-сестрички предлагают вам поработать в парах. Данный список надо поделить на два столбика, в первом столбике будут прописаны правила, которым нужно придерживаться, а во втором, которым не стоит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"/>
          <p:cNvSpPr/>
          <p:nvPr/>
        </p:nvSpPr>
        <p:spPr>
          <a:xfrm>
            <a:off x="4587840" y="2044800"/>
            <a:ext cx="3440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ужно соблюдать режим дн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21240" y="903240"/>
            <a:ext cx="1444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05880" y="903240"/>
            <a:ext cx="1616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3881520"/>
            <a:ext cx="4073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чаще сидеть за компьютер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7200" y="3409920"/>
            <a:ext cx="40734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соблюдать правила гиги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40240" y="2979720"/>
            <a:ext cx="3311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 нужно правильно питать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37200" y="4086360"/>
            <a:ext cx="32367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правильно питать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9280" y="1714680"/>
            <a:ext cx="3365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заниматься спорт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1280" y="5567400"/>
            <a:ext cx="38163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 нужно гулять на свежем воздухе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5051520"/>
            <a:ext cx="3237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но ложиться поздн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ам нужно составить пословицы о здоровье. Соедините их стрелоч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0" y="1486080"/>
            <a:ext cx="81313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Поздно поднялся                             все добу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Быстрого и ловкого                        гуляй см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Здоровым будешь                           день пот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Кончил дело                                        болезнь не дого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9000" y="995040"/>
            <a:ext cx="30002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олодцы ребята, вы справились со всеми заданиями, которые вам подготовили птички. За это вы получаете деталь, которая поможет птичкам улететь по своим гнездам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"/>
          <p:cNvSpPr/>
          <p:nvPr/>
        </p:nvSpPr>
        <p:spPr>
          <a:xfrm>
            <a:off x="3451320" y="1111320"/>
            <a:ext cx="3568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авила работы с конструк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1.Работу начинать только с разрешения учител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2.При работе держи инструмент так, как указано в инструкции или показал учител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3.Содержи в чистоте и порядке рабочее мест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4.Раскладывай оборудование в указа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40197" t="52840" r="23967" b="8430"/>
          <a:stretch/>
        </p:blipFill>
        <p:spPr>
          <a:xfrm>
            <a:off x="120600" y="3848040"/>
            <a:ext cx="3224160" cy="195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5480" t="15647" r="23569" b="4987"/>
          <a:stretch/>
        </p:blipFill>
        <p:spPr>
          <a:xfrm>
            <a:off x="6967440" y="2421000"/>
            <a:ext cx="502596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6680" y="1477440"/>
            <a:ext cx="310824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"/>
          <p:cNvSpPr/>
          <p:nvPr/>
        </p:nvSpPr>
        <p:spPr>
          <a:xfrm>
            <a:off x="3868560" y="863640"/>
            <a:ext cx="73152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81080">
              <a:lnSpc>
                <a:spcPct val="90000"/>
              </a:lnSpc>
              <a:spcBef>
                <a:spcPts val="1199"/>
              </a:spcBef>
              <a:spcAft>
                <a:spcPts val="1426"/>
              </a:spcAft>
              <a:buClr>
                <a:srgbClr val="40bad2"/>
              </a:buClr>
              <a:buSzPct val="45000"/>
              <a:buFont typeface="Wingdings 2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  <a:ea typeface="Corbel"/>
              </a:rPr>
              <a:t>https://www.prorobot.ru/load/lego-wedo-instrukcija-tancuyushie-ptici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