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08C2-2F4C-4CA9-9FB1-EBCEA2970A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7313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68560" y="3536640"/>
            <a:ext cx="7313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0CC91-203F-4CF6-8325-DB4EF8D2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61652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68560" y="353664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6520" y="353664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47D9-5113-47F7-AE39-0FC63A06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400" y="86328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814240" y="86328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68560" y="353664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6341400" y="353664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814240" y="353664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64874-FD78-4296-BA49-68B7D2E008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54502-1334-4336-9C9C-D1FBCAA7CD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68560" y="863280"/>
            <a:ext cx="731376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F400B-542B-4F0F-9A7C-8D30A2CA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73137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A02EC-B454-4C3C-9668-99AA6FFC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35690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616520" y="863280"/>
            <a:ext cx="35690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76B9C-0D34-4BDD-9486-EA7D4C3A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1B8D0-5B35-4415-8250-135F8A3E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2360" y="4925160"/>
            <a:ext cx="29448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C75AF-D4B0-4F4D-9529-8EEF08B2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616520" y="863280"/>
            <a:ext cx="35690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68560" y="353664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4AC38-40C2-4D57-8175-43FF7406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68560" y="863280"/>
            <a:ext cx="731376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74CFA-1388-40FA-9403-76A2D996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35690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61652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616520" y="353664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B53D1-38E2-4F75-B7DF-87DC4EE3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61652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68560" y="3536640"/>
            <a:ext cx="7313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57D5D-BA3F-4DB7-A433-4D5E1B76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7313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8560" y="3536640"/>
            <a:ext cx="7313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F5BD1-DC05-4036-89D5-F89543AB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1652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68560" y="353664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6520" y="353664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6B1D8-F9C5-45A4-92AA-4F0CC4D0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341400" y="86328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14240" y="86328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68560" y="353664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6341400" y="353664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814240" y="353664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D074D-C559-4C77-9A52-0E6209F0A4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73137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8E53A-D32D-4A5A-A3AB-9335C034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35690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616520" y="863280"/>
            <a:ext cx="35690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B9D55-717E-4B28-9A28-FECDDE10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30728-E1B4-4931-BC83-A274E208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2360" y="4925160"/>
            <a:ext cx="29448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BBDA9-4DB5-46F1-96E3-4D77DAA3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616520" y="863280"/>
            <a:ext cx="35690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8560" y="353664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8F2F8-85FD-4211-82CC-8985A39A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35690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1652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6520" y="353664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CECFE-E432-49A3-930B-25D473EF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652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68560" y="3536640"/>
            <a:ext cx="7313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33DCC-85A2-4ECA-B8F9-980B9BC2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762120"/>
            <a:ext cx="9140760" cy="53337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71080" y="762120"/>
            <a:ext cx="2925720" cy="533376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9920" y="1298520"/>
            <a:ext cx="7313760" cy="32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261720" y="6356160"/>
            <a:ext cx="27414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Lucida Sans Unicode"/>
              </a:rPr>
              <a:t>22.5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10634760" y="6356160"/>
            <a:ext cx="1528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28C4DAF-26C0-4C54-8C79-48D3EF0FEAC4}" type="slidenum">
              <a:rPr b="0" lang="ru-RU" sz="1800" spc="-1" strike="noStrike">
                <a:solidFill>
                  <a:srgbClr val="000000"/>
                </a:solidFill>
                <a:latin typeface="Corbe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868560" y="863280"/>
            <a:ext cx="73137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261720" y="6356160"/>
            <a:ext cx="27414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Lucida Sans Unicode"/>
              </a:rPr>
              <a:t>22.5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10634760" y="6356160"/>
            <a:ext cx="1528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F1A8BE6-32DB-4C66-804F-4ADF0E51D219}" type="slidenum">
              <a:rPr b="0" lang="ru-RU" sz="1800" spc="-1" strike="noStrike">
                <a:solidFill>
                  <a:srgbClr val="000000"/>
                </a:solidFill>
                <a:latin typeface="Corbe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000" y="1819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оздание дидактических игр с использованием элементов робототехник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0920" y="739440"/>
            <a:ext cx="999180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  <a:ea typeface="Corbel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  <a:ea typeface="Corbel"/>
              </a:rPr>
              <a:t>«БЕЛГОРОДСКИЙ ПЕДАГОГИЧЕСКИЙ КОЛЛЕДЖ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70520" y="4334040"/>
            <a:ext cx="42814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6680" y="1477440"/>
            <a:ext cx="3108240" cy="36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Задачи, при использовании Лего конструктора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"/>
          <p:cNvSpPr/>
          <p:nvPr/>
        </p:nvSpPr>
        <p:spPr>
          <a:xfrm>
            <a:off x="3868560" y="863640"/>
            <a:ext cx="731520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2520" indent="-181080"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buClr>
                <a:srgbClr val="40bad2"/>
              </a:buClr>
              <a:buSzPct val="45000"/>
              <a:buFont typeface="Wingdings 2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  <a:ea typeface="Corbel"/>
              </a:rPr>
              <a:t>- развития мелкой мотор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1080"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buClr>
                <a:srgbClr val="40bad2"/>
              </a:buClr>
              <a:buSzPct val="45000"/>
              <a:buFont typeface="Wingdings 2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  <a:ea typeface="Corbel"/>
              </a:rPr>
              <a:t>- развития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1080"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buClr>
                <a:srgbClr val="40bad2"/>
              </a:buClr>
              <a:buSzPct val="45000"/>
              <a:buFont typeface="Wingdings 2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  <a:ea typeface="Corbel"/>
              </a:rPr>
              <a:t>- развития мыш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1080"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buClr>
                <a:srgbClr val="40bad2"/>
              </a:buClr>
              <a:buSzPct val="45000"/>
              <a:buFont typeface="Wingdings 2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  <a:ea typeface="Corbel"/>
              </a:rPr>
              <a:t>- развития вним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1080"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buClr>
                <a:srgbClr val="40bad2"/>
              </a:buClr>
              <a:buSzPct val="45000"/>
              <a:buFont typeface="Wingdings 2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  <a:ea typeface="Corbel"/>
              </a:rPr>
              <a:t>- развития вооб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1080"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buClr>
                <a:srgbClr val="40bad2"/>
              </a:buClr>
              <a:buSzPct val="45000"/>
              <a:buFont typeface="Wingdings 2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  <a:ea typeface="Corbel"/>
              </a:rPr>
              <a:t>- развитие познавательного интер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76680" y="638280"/>
            <a:ext cx="73152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Тема: Наше здоровье в наших ру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Класс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Цель занятия: создание благоприятных условий для усвоения учащимися начальных классов в необходимости сохранения здоровья и его укреп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Используемые ресурсы: мультимедийное оборудование, конструктор Lego, программа ЛегоВе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25904" t="52871" r="23602" b="5736"/>
          <a:stretch/>
        </p:blipFill>
        <p:spPr>
          <a:xfrm>
            <a:off x="3673440" y="3344760"/>
            <a:ext cx="7354800" cy="33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9000" y="995040"/>
            <a:ext cx="300024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 нам в гости прилетели птички-сестрички из страны Lego. Они ведут здоровый образ жизни. Птички хотят проверить, много ли вы знаете о здоровье, поэтому они вам предлагают выполнить ряд заданий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"/>
          <p:cNvSpPr/>
          <p:nvPr/>
        </p:nvSpPr>
        <p:spPr>
          <a:xfrm>
            <a:off x="3902040" y="2838600"/>
            <a:ext cx="763740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595959"/>
                </a:solidFill>
                <a:latin typeface="Corbel"/>
              </a:rPr>
              <a:t>Первый вопрос, который они хотят вам задать, звучит так: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595959"/>
                </a:solidFill>
                <a:latin typeface="Corbel"/>
              </a:rPr>
              <a:t>Как вы понимаете слово «Здоровье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40197" t="52840" r="23967" b="8430"/>
          <a:stretch/>
        </p:blipFill>
        <p:spPr>
          <a:xfrm>
            <a:off x="120600" y="3848040"/>
            <a:ext cx="322416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000" y="1209600"/>
            <a:ext cx="300024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Наши птички-сестрички предлагают вам поработать в парах. Данный список надо поделить на два столбика, в первом столбике будут прописаны правила, которым нужно придерживаться, а во втором, которым не стоит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"/>
          <p:cNvSpPr/>
          <p:nvPr/>
        </p:nvSpPr>
        <p:spPr>
          <a:xfrm>
            <a:off x="4587840" y="2044800"/>
            <a:ext cx="34401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Нужно соблюдать режим дн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40197" t="52840" r="23967" b="8430"/>
          <a:stretch/>
        </p:blipFill>
        <p:spPr>
          <a:xfrm>
            <a:off x="120600" y="3848040"/>
            <a:ext cx="3224160" cy="1957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21240" y="903240"/>
            <a:ext cx="1444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 столб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05880" y="903240"/>
            <a:ext cx="1616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 столб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96360" y="3881520"/>
            <a:ext cx="40734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ужно чаще сидеть за компьютером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07200" y="3409920"/>
            <a:ext cx="40734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ужно соблюдать правила гиги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40240" y="2979720"/>
            <a:ext cx="33116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 нужно правильно питатьс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37200" y="4086360"/>
            <a:ext cx="32367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ужно правильно питатьс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99280" y="1714680"/>
            <a:ext cx="33656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ужно заниматься спортом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91280" y="5567400"/>
            <a:ext cx="38163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 нужно гулять на свежем воздухе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3800" y="5051520"/>
            <a:ext cx="32371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ужно ложиться поздно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9000" y="995040"/>
            <a:ext cx="300024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ам нужно составить пословицы о здоровье. Соедините их стрелоч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"/>
          <p:cNvSpPr/>
          <p:nvPr/>
        </p:nvSpPr>
        <p:spPr>
          <a:xfrm>
            <a:off x="3697200" y="1486080"/>
            <a:ext cx="813132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Corbel"/>
              </a:rPr>
              <a:t>Поздно поднялся                             все добуд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Corbel"/>
              </a:rPr>
              <a:t>Быстрого и ловкого                        гуляй см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Corbel"/>
              </a:rPr>
              <a:t>Здоровым будешь                           день потеря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Corbel"/>
              </a:rPr>
              <a:t>Кончил дело                                        болезнь не догон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0197" t="52840" r="23967" b="8430"/>
          <a:stretch/>
        </p:blipFill>
        <p:spPr>
          <a:xfrm>
            <a:off x="120600" y="3848040"/>
            <a:ext cx="322416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9000" y="995040"/>
            <a:ext cx="300024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Молодцы ребята, вы справились со всеми заданиями, которые вам подготовили птички. За это вы получаете деталь, которая поможет птичкам улететь по своим гнездам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"/>
          <p:cNvSpPr/>
          <p:nvPr/>
        </p:nvSpPr>
        <p:spPr>
          <a:xfrm>
            <a:off x="3451320" y="1111320"/>
            <a:ext cx="35686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равила работы с конструкт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L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1.Работу начинать только с разрешения учител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2.При работе держи инструмент так, как указано в инструкции или показал учитель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3.Содержи в чистоте и порядке рабочее место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4.Раскладывай оборудование в указан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40197" t="52840" r="23967" b="8430"/>
          <a:stretch/>
        </p:blipFill>
        <p:spPr>
          <a:xfrm>
            <a:off x="120600" y="3848040"/>
            <a:ext cx="3224160" cy="1957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25480" t="15647" r="23569" b="4987"/>
          <a:stretch/>
        </p:blipFill>
        <p:spPr>
          <a:xfrm>
            <a:off x="6967440" y="2421000"/>
            <a:ext cx="5025960" cy="43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6680" y="1477440"/>
            <a:ext cx="3108240" cy="36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Источники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"/>
          <p:cNvSpPr/>
          <p:nvPr/>
        </p:nvSpPr>
        <p:spPr>
          <a:xfrm>
            <a:off x="3868560" y="863640"/>
            <a:ext cx="731520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2520" indent="-181080"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buClr>
                <a:srgbClr val="40bad2"/>
              </a:buClr>
              <a:buSzPct val="45000"/>
              <a:buFont typeface="Wingdings 2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  <a:ea typeface="Corbel"/>
              </a:rPr>
              <a:t>https://www.prorobot.ru/load/lego-wedo-instrukcija-tancuyushie-ptici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