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4DC-A13C-40B1-973B-FC267BCC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129-8961-4A30-8F45-891BF1B0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75A-2D31-413C-AB92-DE9F61C2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AFF-A11E-47CD-8C46-996C6FF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A2C-CC09-4992-8050-0DAC951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CDD-0302-42A6-A1F8-65C5B47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017-EFB8-4D6F-9E38-862FEF6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4A4-5DD3-44F0-8FAF-56AC6F3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D7F-3AFD-48CC-8CB1-20813D2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899-2340-4794-A58C-BB42F6E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E74-124C-4BA2-B7A6-0C444F8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FB8-6DA2-48E1-9759-3AB8C20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38C6-F6FE-4107-8935-9EDE409E2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Екатерина\Documents\ЛОГОПЕД\ФОНЫ для презентаций таблички\11.jpg"/>
          <p:cNvPicPr/>
          <p:nvPr/>
        </p:nvPicPr>
        <p:blipFill>
          <a:blip r:embed="rId1"/>
          <a:stretch/>
        </p:blipFill>
        <p:spPr>
          <a:xfrm>
            <a:off x="-98280" y="31680"/>
            <a:ext cx="9253440" cy="682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где спрятал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потребление пред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азвитие внимания, логического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Екатерина\Documents\ЛОГОПЕД\ФОНЫ для презентаций таблички\11.jpg"/>
          <p:cNvPicPr/>
          <p:nvPr/>
        </p:nvPicPr>
        <p:blipFill>
          <a:blip r:embed="rId1"/>
          <a:stretch/>
        </p:blipFill>
        <p:spPr>
          <a:xfrm>
            <a:off x="6480" y="6480"/>
            <a:ext cx="9243720" cy="685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821520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E:\Цветная печать А 4\Кто где спрятался\1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Цветная печать А 4\Кто где спрятался\2.jpg"/>
          <p:cNvPicPr/>
          <p:nvPr/>
        </p:nvPicPr>
        <p:blipFill>
          <a:blip r:embed="rId1"/>
          <a:stretch/>
        </p:blipFill>
        <p:spPr>
          <a:xfrm>
            <a:off x="-12600" y="0"/>
            <a:ext cx="91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Цветная печать А 4\Кто где спрятался\3.jpg"/>
          <p:cNvPicPr/>
          <p:nvPr/>
        </p:nvPicPr>
        <p:blipFill>
          <a:blip r:embed="rId1"/>
          <a:stretch/>
        </p:blipFill>
        <p:spPr>
          <a:xfrm>
            <a:off x="-648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Цветная печать А 4\Кто где спрятался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0326" t="23438" r="11622" b="0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0T08:12:24Z</dcterms:created>
  <dc:creator>User</dc:creator>
  <dc:description/>
  <dc:language>en-US</dc:language>
  <cp:lastModifiedBy>Екатерина</cp:lastModifiedBy>
  <dcterms:modified xsi:type="dcterms:W3CDTF">2023-05-22T08:57:05Z</dcterms:modified>
  <cp:revision>3</cp:revision>
  <dc:subject/>
  <dc:title>Кто где спрятался?</dc:title>
</cp:coreProperties>
</file>