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DDD2-0BA1-48B6-83D7-B0DE46FC9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F6CE-0DA4-49B4-8DF5-3F70D5DBE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7227-1294-4986-B41D-47E0C2A1B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8E69-A4E8-4E83-9348-0F3FD9455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79C4-6379-483F-AF85-25B315C9F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BB27-A873-4A96-A09F-6951E8A05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B5C5-D0A4-40BE-9F7D-69F64BD9F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E96C-98C2-4AA9-A50B-C9B35FBB7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42C6-AE19-4CA9-9FCA-826B2CF05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2732-EDB7-439E-BB22-8DF88AC7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BB00-C87A-41EC-A6ED-D9EAA465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EF9E-167B-438C-9FA1-92AC5C32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EFC25-401E-4631-AAC2-CA946A4A2A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Users\Екатерина\Documents\ЛОГОПЕД\ФОНЫ для презентаций таблички\11.jpg"/>
          <p:cNvPicPr/>
          <p:nvPr/>
        </p:nvPicPr>
        <p:blipFill>
          <a:blip r:embed="rId1"/>
          <a:stretch/>
        </p:blipFill>
        <p:spPr>
          <a:xfrm>
            <a:off x="-98280" y="31680"/>
            <a:ext cx="9253440" cy="6826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то где спряталс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Употребление предлог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Развитие внимания, логического мышл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Users\Екатерина\Documents\ЛОГОПЕД\ФОНЫ для презентаций таблички\11.jpg"/>
          <p:cNvPicPr/>
          <p:nvPr/>
        </p:nvPicPr>
        <p:blipFill>
          <a:blip r:embed="rId1"/>
          <a:stretch/>
        </p:blipFill>
        <p:spPr>
          <a:xfrm>
            <a:off x="6480" y="6480"/>
            <a:ext cx="9243720" cy="6851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533520" y="404640"/>
            <a:ext cx="8215200" cy="616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E:\Цветная печать А 4\Кто где спрятался\1.jpg"/>
          <p:cNvPicPr/>
          <p:nvPr/>
        </p:nvPicPr>
        <p:blipFill>
          <a:blip r:embed="rId1"/>
          <a:stretch/>
        </p:blipFill>
        <p:spPr>
          <a:xfrm>
            <a:off x="0" y="0"/>
            <a:ext cx="915192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E:\Цветная печать А 4\Кто где спрятался\2.jpg"/>
          <p:cNvPicPr/>
          <p:nvPr/>
        </p:nvPicPr>
        <p:blipFill>
          <a:blip r:embed="rId1"/>
          <a:stretch/>
        </p:blipFill>
        <p:spPr>
          <a:xfrm>
            <a:off x="-12600" y="0"/>
            <a:ext cx="9123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E:\Цветная печать А 4\Кто где спрятался\3.jpg"/>
          <p:cNvPicPr/>
          <p:nvPr/>
        </p:nvPicPr>
        <p:blipFill>
          <a:blip r:embed="rId1"/>
          <a:stretch/>
        </p:blipFill>
        <p:spPr>
          <a:xfrm>
            <a:off x="-6480" y="0"/>
            <a:ext cx="9123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E:\Цветная печать А 4\Кто где спрятался\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rcRect l="10326" t="23438" r="11622" b="0"/>
          <a:stretch/>
        </p:blipFill>
        <p:spPr>
          <a:xfrm>
            <a:off x="0" y="0"/>
            <a:ext cx="916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2864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3-10T08:12:24Z</dcterms:created>
  <dc:creator>User</dc:creator>
  <dc:description/>
  <dc:language>en-US</dc:language>
  <cp:lastModifiedBy>Екатерина</cp:lastModifiedBy>
  <dcterms:modified xsi:type="dcterms:W3CDTF">2023-05-22T08:57:05Z</dcterms:modified>
  <cp:revision>3</cp:revision>
  <dc:subject/>
  <dc:title>Кто где спрятался?</dc:title>
</cp:coreProperties>
</file>