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CBE-EBC1-4B81-83CC-C1B2497E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029-78C1-4B25-A745-1F7B3F81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31D-289F-4A64-B2B7-87F9E596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914-C89E-499C-81C5-ACDAC1AE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89B-66C3-4E61-9A9C-D33E25D5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4C5-668E-4BE4-A0E0-8CDDE5EF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C5C-4A26-4168-8562-F4AB3E41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54E-36C3-4378-9F14-A6750C8D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0C7-60BA-4A0E-B216-CCD11546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D48-1D89-4BFF-BE41-35F406A3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C70-C63E-4F61-B18C-B88FB33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10C-C329-4613-8303-3FABBDF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1215B-68B5-47BC-BFFB-AE5C5DCFE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179280"/>
            <a:ext cx="24415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Franklin Gothic Medium"/>
              </a:rPr>
              <a:t>Живо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00360"/>
            <a:ext cx="1619280" cy="539640"/>
          </a:xfrm>
          <a:prstGeom prst="rightArrow">
            <a:avLst>
              <a:gd name="adj1" fmla="val 50000"/>
              <a:gd name="adj2" fmla="val 7501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одсказ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780000"/>
            <a:ext cx="1619280" cy="539640"/>
          </a:xfrm>
          <a:prstGeom prst="rightArrow">
            <a:avLst>
              <a:gd name="adj1" fmla="val 50000"/>
              <a:gd name="adj2" fmla="val 7501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одсказк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3413160"/>
            <a:ext cx="2700360" cy="162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7760" y="2690640"/>
            <a:ext cx="1722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ranklin Gothic Medium"/>
              </a:rPr>
              <a:t>Колю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079640"/>
            <a:ext cx="90036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000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928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1079640"/>
            <a:ext cx="90036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4072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9964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0000" y="0"/>
            <a:ext cx="1079640" cy="107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9964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4072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1079640"/>
            <a:ext cx="90036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928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000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079640"/>
            <a:ext cx="90036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0" y="6840360"/>
            <a:ext cx="540000" cy="54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0" y="6300720"/>
            <a:ext cx="54000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6072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72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0" y="5759280"/>
            <a:ext cx="540000" cy="54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964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1964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964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5759280"/>
            <a:ext cx="540000" cy="54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0072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1964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6300720"/>
            <a:ext cx="54000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0072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0072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6840360"/>
            <a:ext cx="540000" cy="54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964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964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dur="indefinit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64" dur="indefinite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dur="indefinit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70" dur="indefinite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dur="indefinit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6" dur="indefinite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dur="indefinit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0" dur="indefinite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dur="indefinit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99" dur="indefinite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dur="indefinit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8" dur="indefinite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dur="indefinit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17" dur="indefinite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dur="indefinit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6" dur="indefinite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dur="indefinit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35" dur="indefinite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dur="indefinit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44" dur="indefinite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dur="indefinit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53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5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Кристина </cp:lastModifiedBy>
  <dcterms:modified xsi:type="dcterms:W3CDTF">2023-05-22T10:02:32Z</dcterms:modified>
  <cp:revision>3</cp:revision>
  <dc:subject/>
  <dc:title/>
</cp:coreProperties>
</file>