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11B-6CDA-4F9C-AA88-DF99C3AB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58D-F826-485A-A32A-58D01F0E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B12-6624-4145-8F6C-08B8DD12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546-BF73-474F-A065-38DB373C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D71-BF50-4AA2-B4EB-82CE242D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62B-90DA-482D-968A-8FF0D42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67B-B47D-461C-963B-FBC09EC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125-0423-4F6A-BA90-C819ACA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E55-C619-49CB-B27C-F564F3F4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335-5FD1-483B-97E3-3CF8556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476-959C-4153-AE15-EEA3591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260-8884-4EEA-B1E2-33BC59C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799CF-CC1C-42CC-82B6-6EB14F246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179280"/>
            <a:ext cx="24415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Franklin Gothic Medium"/>
              </a:rPr>
              <a:t>Живо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0360"/>
            <a:ext cx="1619280" cy="539640"/>
          </a:xfrm>
          <a:prstGeom prst="rightArrow">
            <a:avLst>
              <a:gd name="adj1" fmla="val 50000"/>
              <a:gd name="adj2" fmla="val 750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одсказ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80000"/>
            <a:ext cx="1619280" cy="539640"/>
          </a:xfrm>
          <a:prstGeom prst="rightArrow">
            <a:avLst>
              <a:gd name="adj1" fmla="val 50000"/>
              <a:gd name="adj2" fmla="val 750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одсказк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3413160"/>
            <a:ext cx="2700360" cy="162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7760" y="2690640"/>
            <a:ext cx="1722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anklin Gothic Medium"/>
              </a:rPr>
              <a:t>Колю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00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928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9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0000" y="0"/>
            <a:ext cx="107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9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928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1079640"/>
            <a:ext cx="90000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079640"/>
            <a:ext cx="900360" cy="90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0" y="684036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0" y="6300720"/>
            <a:ext cx="54000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6072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72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0" y="575928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964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1964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964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575928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0072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575928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1964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6300720"/>
            <a:ext cx="54000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0072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0072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6840360"/>
            <a:ext cx="540000" cy="54000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9640" y="6840360"/>
            <a:ext cx="539640" cy="540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540000"/>
              <a:gd name="textAreaBottom" fmla="*/ 513720 h 54000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9640" y="630072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66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dur="indefinit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64" dur="indefinite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dur="indefinit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70" dur="indefinite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dur="indefinit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6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dur="indefinit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0" dur="indefinite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dur="indefinit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9" dur="indefinite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dur="indefinit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8" dur="indefinite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dur="indefinit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7" dur="indefinite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dur="indefinit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6" dur="indefinite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dur="indefinit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5" dur="indefinite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dur="indefinit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4" dur="indefinite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dur="indefinit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3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5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Кристина </cp:lastModifiedBy>
  <dcterms:modified xsi:type="dcterms:W3CDTF">2023-05-22T10:02:32Z</dcterms:modified>
  <cp:revision>3</cp:revision>
  <dc:subject/>
  <dc:title/>
</cp:coreProperties>
</file>