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1163" cy="9882188"/>
  <p:custShowLst>
    <p:custShow name="Произвольный показ 1" id="0">
      <p:sldLst>
        <p:sld r:id="rId5"/>
        <p:sld r:id="rId6"/>
      </p:sldLst>
    </p:custShow>
    <p:custShow name="Произвольный показ 2" id="1">
      <p:sldLst>
        <p:sld r:id="rId9"/>
        <p:sld r:id="rId10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-360"/>
            <a:ext cx="2930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8840" cy="370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94040"/>
            <a:ext cx="5408280" cy="44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664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386640"/>
            <a:ext cx="2930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F769-3E2C-4DB6-8ACE-5A883A4DA0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6080" y="4694040"/>
            <a:ext cx="54082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28960" y="9387000"/>
            <a:ext cx="2930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ADBD-9B86-4F19-BE1E-AA84A26286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889-7853-428F-8775-767A618C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5CF-5598-4767-9695-EA12C35D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540-0422-4DFC-A582-041CBB49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69E-F00F-47B2-9FD6-63B56DC9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150-9689-4012-83DC-B6B19F06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EFE-F14D-48E7-8B21-FB5C81CC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0BA-A245-46A4-995B-127FB978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74D-371F-411D-97CD-99BA8A69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445-9C10-423A-924B-C11CEEF0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A70-D37B-4CA2-87D1-C6A94D33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4FE-42DE-4207-ACEA-F805DB20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974-5C2F-419D-B156-1EDFF2BD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E9A1-1760-44FF-95A3-55B200D471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erb"/>
          <p:cNvPicPr/>
          <p:nvPr/>
        </p:nvPicPr>
        <p:blipFill>
          <a:blip r:embed="rId2"/>
          <a:stretch/>
        </p:blipFill>
        <p:spPr>
          <a:xfrm>
            <a:off x="420840" y="281160"/>
            <a:ext cx="2139840" cy="222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250920" y="2879640"/>
            <a:ext cx="2700360" cy="26020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8"/>
          <p:cNvSpPr/>
          <p:nvPr/>
        </p:nvSpPr>
        <p:spPr>
          <a:xfrm>
            <a:off x="2771640" y="47628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Удивительные места ЕА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symbolism_eao.JPG"/>
          <p:cNvPicPr/>
          <p:nvPr/>
        </p:nvPicPr>
        <p:blipFill>
          <a:blip r:embed="rId4"/>
          <a:stretch/>
        </p:blipFill>
        <p:spPr>
          <a:xfrm>
            <a:off x="6622920" y="2894040"/>
            <a:ext cx="235116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flag.JPG"/>
          <p:cNvPicPr/>
          <p:nvPr/>
        </p:nvPicPr>
        <p:blipFill>
          <a:blip r:embed="rId5"/>
          <a:stretch/>
        </p:blipFill>
        <p:spPr>
          <a:xfrm>
            <a:off x="3348000" y="3206880"/>
            <a:ext cx="3052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57040" y="2349360"/>
            <a:ext cx="885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редложен обширный список достопримечательностей области, из которого жителям надо было выбрать сем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екоторые объекты из этого списка в г. Биробидж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900000" y="6206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преле 2009 г. к 75- летию области проводился конкурс 7 чудес ЕА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Благовещенский кафедральный собор7"/>
          <p:cNvPicPr/>
          <p:nvPr/>
        </p:nvPicPr>
        <p:blipFill>
          <a:blip r:embed="rId1"/>
          <a:stretch/>
        </p:blipFill>
        <p:spPr>
          <a:xfrm>
            <a:off x="5148360" y="476280"/>
            <a:ext cx="3433680" cy="274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бир вокз"/>
          <p:cNvPicPr/>
          <p:nvPr/>
        </p:nvPicPr>
        <p:blipFill>
          <a:blip r:embed="rId2"/>
          <a:stretch/>
        </p:blipFill>
        <p:spPr>
          <a:xfrm>
            <a:off x="971640" y="476280"/>
            <a:ext cx="3744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2"/>
          <p:cNvPicPr/>
          <p:nvPr/>
        </p:nvPicPr>
        <p:blipFill>
          <a:blip r:embed="rId3"/>
          <a:stretch/>
        </p:blipFill>
        <p:spPr>
          <a:xfrm>
            <a:off x="1476360" y="3213000"/>
            <a:ext cx="2454120" cy="314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777777177777"/>
          <p:cNvPicPr/>
          <p:nvPr/>
        </p:nvPicPr>
        <p:blipFill>
          <a:blip r:embed="rId4"/>
          <a:stretch/>
        </p:blipFill>
        <p:spPr>
          <a:xfrm>
            <a:off x="4500720" y="3716280"/>
            <a:ext cx="367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908000" y="404640"/>
            <a:ext cx="59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УДЕСА ЕВРЕЙСКОЙ АВТОНОМН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503360" y="184464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едник       «БАСТА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C:\Users\Alex\Desktop\открытый кружок\bastak.gif"/>
          <p:cNvPicPr/>
          <p:nvPr/>
        </p:nvPicPr>
        <p:blipFill>
          <a:blip r:embed="rId1"/>
          <a:stretch/>
        </p:blipFill>
        <p:spPr>
          <a:xfrm>
            <a:off x="407880" y="3146400"/>
            <a:ext cx="2190960" cy="219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утка мандар"/>
          <p:cNvPicPr/>
          <p:nvPr/>
        </p:nvPicPr>
        <p:blipFill>
          <a:blip r:embed="rId2"/>
          <a:stretch/>
        </p:blipFill>
        <p:spPr>
          <a:xfrm>
            <a:off x="3348000" y="3233880"/>
            <a:ext cx="2419560" cy="20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daurskij-zhuravl-b777"/>
          <p:cNvPicPr/>
          <p:nvPr/>
        </p:nvPicPr>
        <p:blipFill>
          <a:blip r:embed="rId3"/>
          <a:stretch/>
        </p:blipFill>
        <p:spPr>
          <a:xfrm>
            <a:off x="6227640" y="323388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47640" y="54936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УДЕСА ЕВРЕЙСКОЙ АВТОНОМ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кульдур7"/>
          <p:cNvPicPr/>
          <p:nvPr/>
        </p:nvPicPr>
        <p:blipFill>
          <a:blip r:embed="rId1"/>
          <a:stretch/>
        </p:blipFill>
        <p:spPr>
          <a:xfrm>
            <a:off x="826920" y="2708280"/>
            <a:ext cx="2583000" cy="3529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кул гор источ7"/>
          <p:cNvPicPr/>
          <p:nvPr/>
        </p:nvPicPr>
        <p:blipFill>
          <a:blip r:embed="rId2"/>
          <a:stretch/>
        </p:blipFill>
        <p:spPr>
          <a:xfrm>
            <a:off x="4427640" y="2924280"/>
            <a:ext cx="393696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3059280" y="177336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аторий «Кульду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835280" y="765000"/>
            <a:ext cx="567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УДЕСА ЕВРЕЙСКОЙ АВТОНОМ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563400" y="2060640"/>
            <a:ext cx="753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природы « Лотос Комаров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иробиджанском рай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лотосы наши"/>
          <p:cNvPicPr/>
          <p:nvPr/>
        </p:nvPicPr>
        <p:blipFill>
          <a:blip r:embed="rId1"/>
          <a:stretch/>
        </p:blipFill>
        <p:spPr>
          <a:xfrm>
            <a:off x="1835280" y="3500280"/>
            <a:ext cx="5275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900000" y="14421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Уникальные геологически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Карстовые пещ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619280" y="287280"/>
            <a:ext cx="56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УДЕСА ЕВРЕЙСКОЙ АВТОНОМН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403440" y="2631960"/>
            <a:ext cx="522288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378720" y="1001520"/>
            <a:ext cx="877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1.Моя малая Родин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Я люблю её за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Я хочу пожелать 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8:07:23Z</dcterms:created>
  <dc:creator>Admin</dc:creator>
  <dc:description/>
  <dc:language>en-US</dc:language>
  <cp:lastModifiedBy>Татьяна Владимировна</cp:lastModifiedBy>
  <cp:lastPrinted>2023-04-27T01:36:15Z</cp:lastPrinted>
  <dcterms:modified xsi:type="dcterms:W3CDTF">2023-05-22T08:17:03Z</dcterms:modified>
  <cp:revision>179</cp:revision>
  <dc:subject/>
  <dc:title>Слайд 1</dc:title>
</cp:coreProperties>
</file>