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882188"/>
  <p:custShowLst>
    <p:custShow name="Произвольный показ 1" id="0">
      <p:sldLst>
        <p:sld r:id="rId5"/>
        <p:sld r:id="rId6"/>
      </p:sldLst>
    </p:custShow>
    <p:custShow name="Произвольный показ 2" id="1">
      <p:sldLst>
        <p:sld r:id="rId9"/>
        <p:sld r:id="rId10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-36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8840" cy="370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664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38664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46B5-CD9C-43A4-BF1E-6975C3198F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28960" y="9387000"/>
            <a:ext cx="2930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DDA-0C89-4BFB-8E86-4A47D4617E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D49-E67B-4407-9A2C-1C0B32AE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B60-BCA1-49D7-A078-989B28D1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C83-4F1B-44C8-B3FB-7B024ADE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2C5-7485-46F9-A986-1A2E3E4E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BCE-C037-4019-934E-E9C26272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8A2-FABE-4E56-8B22-684F175B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DDA-8042-4083-B0F6-9D7D7D9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7B9-CAC1-4756-9304-751C1534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A60-CD5F-41BB-BE5A-33F8BB8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C0C-3C8E-4EFC-86AD-2A3112C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1DF-3BA6-4280-9C20-2A5D2F74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E24-4B4E-48B7-B2C7-DE291DD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D4F-3968-4DE2-AE34-708F4A15128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erb"/>
          <p:cNvPicPr/>
          <p:nvPr/>
        </p:nvPicPr>
        <p:blipFill>
          <a:blip r:embed="rId2"/>
          <a:stretch/>
        </p:blipFill>
        <p:spPr>
          <a:xfrm>
            <a:off x="420840" y="281160"/>
            <a:ext cx="21398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250920" y="2879640"/>
            <a:ext cx="2700360" cy="26020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2771640" y="4762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Удивительные места ЕА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symbolism_eao.JPG"/>
          <p:cNvPicPr/>
          <p:nvPr/>
        </p:nvPicPr>
        <p:blipFill>
          <a:blip r:embed="rId4"/>
          <a:stretch/>
        </p:blipFill>
        <p:spPr>
          <a:xfrm>
            <a:off x="6622920" y="2894040"/>
            <a:ext cx="2351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lag.JPG"/>
          <p:cNvPicPr/>
          <p:nvPr/>
        </p:nvPicPr>
        <p:blipFill>
          <a:blip r:embed="rId5"/>
          <a:stretch/>
        </p:blipFill>
        <p:spPr>
          <a:xfrm>
            <a:off x="3348000" y="3206880"/>
            <a:ext cx="3052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7040" y="2349360"/>
            <a:ext cx="885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едложен обширный список достопримечательностей области, из которого жителям надо было выбрать 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екоторые объекты из этого списка в г. Биробидж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900000" y="620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реле 2009 г. к 75- летию области проводился конкурс 7 чудес Е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лаговещенский кафедральный собор7"/>
          <p:cNvPicPr/>
          <p:nvPr/>
        </p:nvPicPr>
        <p:blipFill>
          <a:blip r:embed="rId1"/>
          <a:stretch/>
        </p:blipFill>
        <p:spPr>
          <a:xfrm>
            <a:off x="5148360" y="476280"/>
            <a:ext cx="3433680" cy="27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бир вокз"/>
          <p:cNvPicPr/>
          <p:nvPr/>
        </p:nvPicPr>
        <p:blipFill>
          <a:blip r:embed="rId2"/>
          <a:stretch/>
        </p:blipFill>
        <p:spPr>
          <a:xfrm>
            <a:off x="971640" y="47628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2"/>
          <p:cNvPicPr/>
          <p:nvPr/>
        </p:nvPicPr>
        <p:blipFill>
          <a:blip r:embed="rId3"/>
          <a:stretch/>
        </p:blipFill>
        <p:spPr>
          <a:xfrm>
            <a:off x="1476360" y="3213000"/>
            <a:ext cx="2454120" cy="314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777777177777"/>
          <p:cNvPicPr/>
          <p:nvPr/>
        </p:nvPicPr>
        <p:blipFill>
          <a:blip r:embed="rId4"/>
          <a:stretch/>
        </p:blipFill>
        <p:spPr>
          <a:xfrm>
            <a:off x="4500720" y="3716280"/>
            <a:ext cx="367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908000" y="404640"/>
            <a:ext cx="59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503360" y="184464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едник       «БАСТА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C:\Users\Alex\Desktop\открытый кружок\bastak.gif"/>
          <p:cNvPicPr/>
          <p:nvPr/>
        </p:nvPicPr>
        <p:blipFill>
          <a:blip r:embed="rId1"/>
          <a:stretch/>
        </p:blipFill>
        <p:spPr>
          <a:xfrm>
            <a:off x="407880" y="3146400"/>
            <a:ext cx="2190960" cy="219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утка мандар"/>
          <p:cNvPicPr/>
          <p:nvPr/>
        </p:nvPicPr>
        <p:blipFill>
          <a:blip r:embed="rId2"/>
          <a:stretch/>
        </p:blipFill>
        <p:spPr>
          <a:xfrm>
            <a:off x="3348000" y="3233880"/>
            <a:ext cx="241956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daurskij-zhuravl-b777"/>
          <p:cNvPicPr/>
          <p:nvPr/>
        </p:nvPicPr>
        <p:blipFill>
          <a:blip r:embed="rId3"/>
          <a:stretch/>
        </p:blipFill>
        <p:spPr>
          <a:xfrm>
            <a:off x="6227640" y="323388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47640" y="5493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кульдур7"/>
          <p:cNvPicPr/>
          <p:nvPr/>
        </p:nvPicPr>
        <p:blipFill>
          <a:blip r:embed="rId1"/>
          <a:stretch/>
        </p:blipFill>
        <p:spPr>
          <a:xfrm>
            <a:off x="826920" y="2708280"/>
            <a:ext cx="2583000" cy="352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кул гор источ7"/>
          <p:cNvPicPr/>
          <p:nvPr/>
        </p:nvPicPr>
        <p:blipFill>
          <a:blip r:embed="rId2"/>
          <a:stretch/>
        </p:blipFill>
        <p:spPr>
          <a:xfrm>
            <a:off x="4427640" y="292428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3059280" y="177336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аторий «Кульду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835280" y="765000"/>
            <a:ext cx="567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563400" y="2060640"/>
            <a:ext cx="753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рироды « Лотос Комаро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иробиджанском рай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лотосы наши"/>
          <p:cNvPicPr/>
          <p:nvPr/>
        </p:nvPicPr>
        <p:blipFill>
          <a:blip r:embed="rId1"/>
          <a:stretch/>
        </p:blipFill>
        <p:spPr>
          <a:xfrm>
            <a:off x="1835280" y="3500280"/>
            <a:ext cx="5275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900000" y="14421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Уникальные геологически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Карстовые пещ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619280" y="287280"/>
            <a:ext cx="56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403440" y="2631960"/>
            <a:ext cx="522288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378720" y="1001520"/>
            <a:ext cx="877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Моя малая Родин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Я люблю её за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Я хочу пожелать 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8:07:23Z</dcterms:created>
  <dc:creator>Admin</dc:creator>
  <dc:description/>
  <dc:language>en-US</dc:language>
  <cp:lastModifiedBy>Татьяна Владимировна</cp:lastModifiedBy>
  <cp:lastPrinted>2023-04-27T01:36:15Z</cp:lastPrinted>
  <dcterms:modified xsi:type="dcterms:W3CDTF">2023-05-22T08:17:03Z</dcterms:modified>
  <cp:revision>179</cp:revision>
  <dc:subject/>
  <dc:title>Слайд 1</dc:title>
</cp:coreProperties>
</file>