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EE1-5E7E-4681-A8C6-8CBFFF576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220-1C1A-46CE-BF0C-A18B991B2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622-7725-4A7D-831C-B05FA774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0E2-43F9-4F2C-A381-F062577D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5CA-6CA9-4350-9A09-10179EAE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963-4AED-4A8C-AFC8-C4848766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D37-7725-44DF-B6A2-0316C6C7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407-7440-4BCF-8A10-8D457F0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E64-0819-49DD-A68B-933336C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FF7-3091-4610-8230-6BC87B2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F4D-562A-4D40-9CA5-5C394F15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B40-495E-4B5E-8365-640A7671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683-8D91-42C6-9B2E-3565827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93-B769-4BAC-922F-7596AB0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71A1-A833-48D1-B30E-6401DCC0E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2.xml"/><Relationship Id="rId8" Type="http://schemas.openxmlformats.org/officeDocument/2006/relationships/slide" Target="slide16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10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8.xml"/><Relationship Id="rId15" Type="http://schemas.openxmlformats.org/officeDocument/2006/relationships/slide" Target="slide20.xml"/><Relationship Id="rId16" Type="http://schemas.openxmlformats.org/officeDocument/2006/relationships/slide" Target="slide19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5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744120"/>
            <a:ext cx="5499000" cy="30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Английский язы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5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04000" y="2997360"/>
            <a:ext cx="1793880" cy="15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008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Freeform 3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11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24000" y="16686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 Antiqua"/>
              </a:rPr>
              <a:t>Назовите части т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7667640" y="566100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10800"/>
                </a:moveTo>
                <a:lnTo>
                  <a:pt x="22624" y="3794"/>
                </a:lnTo>
                <a:lnTo>
                  <a:pt x="2262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51280" y="404640"/>
            <a:ext cx="129528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1" descr="C:\Users\Админ\Desktop\body-parts-14986567.jpg"/>
          <p:cNvPicPr/>
          <p:nvPr/>
        </p:nvPicPr>
        <p:blipFill>
          <a:blip r:embed="rId3"/>
          <a:stretch/>
        </p:blipFill>
        <p:spPr>
          <a:xfrm>
            <a:off x="2771640" y="2344680"/>
            <a:ext cx="34560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Freeform 3"/>
          <p:cNvGrpSpPr/>
          <p:nvPr/>
        </p:nvGrpSpPr>
        <p:grpSpPr>
          <a:xfrm>
            <a:off x="30240" y="1365120"/>
            <a:ext cx="9101160" cy="5668560"/>
            <a:chOff x="30240" y="1365120"/>
            <a:chExt cx="9101160" cy="5668560"/>
          </a:xfrm>
        </p:grpSpPr>
        <p:pic>
          <p:nvPicPr>
            <p:cNvPr id="119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9480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240" y="1365120"/>
              <a:ext cx="9101160" cy="56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93640" y="235116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Назовите дни нед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55760" y="35226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00"/>
                </a:solidFill>
                <a:uFillTx/>
                <a:latin typeface="Book Antiqua"/>
              </a:rPr>
              <a:t>Monday, Tuesday, Wednesday, Thursday, Friday, Saturday, Sun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Freeform 3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27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96720" y="1628640"/>
            <a:ext cx="8278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спределите месяца по поря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ptember, July, October, March, November, January, May, December, August, February, April,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04640" y="40086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 Rounded MT Bold"/>
              </a:rPr>
              <a:t>January, February, March, April, May, June, July, August, September, October, November,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414036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51280" y="404640"/>
            <a:ext cx="129528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Freeform 3"/>
          <p:cNvGrpSpPr/>
          <p:nvPr/>
        </p:nvGrpSpPr>
        <p:grpSpPr>
          <a:xfrm>
            <a:off x="353880" y="1189080"/>
            <a:ext cx="9101160" cy="5675040"/>
            <a:chOff x="353880" y="1189080"/>
            <a:chExt cx="9101160" cy="5675040"/>
          </a:xfrm>
        </p:grpSpPr>
        <p:pic>
          <p:nvPicPr>
            <p:cNvPr id="135" name="Freeform 3" descr=""/>
            <p:cNvPicPr/>
            <p:nvPr/>
          </p:nvPicPr>
          <p:blipFill>
            <a:blip r:embed="rId1"/>
            <a:stretch/>
          </p:blipFill>
          <p:spPr>
            <a:xfrm>
              <a:off x="38340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5388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140360" y="566244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1413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Назовите времена года и распределите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804960" y="2679840"/>
            <a:ext cx="7489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Winter: </a:t>
            </a: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 Rounded MT Bold"/>
              </a:rPr>
              <a:t>January, February, December</a:t>
            </a: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3300"/>
                </a:solidFill>
                <a:uFillTx/>
                <a:latin typeface="Book Antiqua"/>
              </a:rPr>
              <a:t>Spring: March, April,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Book Antiqua"/>
              </a:rPr>
              <a:t>Summer: June, July,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Book Antiqua"/>
              </a:rPr>
              <a:t>Autumn: September, October, Nov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Freeform 3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43" name="Freeform 3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216000" y="260280"/>
            <a:ext cx="8748720" cy="6481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140360" y="5877000"/>
            <a:ext cx="936360" cy="646200"/>
          </a:xfrm>
          <a:custGeom>
            <a:avLst/>
            <a:gdLst>
              <a:gd name="textAreaLeft" fmla="*/ 41760 w 936360"/>
              <a:gd name="textAreaRight" fmla="*/ 894600 w 936360"/>
              <a:gd name="textAreaTop" fmla="*/ 41760 h 646200"/>
              <a:gd name="textAreaBottom" fmla="*/ 604440 h 646200"/>
            </a:gdLst>
            <a:ahLst/>
            <a:rect l="textAreaLeft" t="textAreaTop" r="textAreaRight" b="textAreaBottom"/>
            <a:pathLst>
              <a:path w="31294" h="21600">
                <a:moveTo>
                  <a:pt x="0" y="0"/>
                </a:moveTo>
                <a:lnTo>
                  <a:pt x="31294" y="0"/>
                </a:lnTo>
                <a:lnTo>
                  <a:pt x="31294" y="21600"/>
                </a:lnTo>
                <a:lnTo>
                  <a:pt x="0" y="21600"/>
                </a:lnTo>
                <a:close/>
              </a:path>
              <a:path fill="lightenLess" w="31294" h="21600">
                <a:moveTo>
                  <a:pt x="0" y="0"/>
                </a:moveTo>
                <a:lnTo>
                  <a:pt x="31294" y="0"/>
                </a:lnTo>
                <a:lnTo>
                  <a:pt x="29894" y="1400"/>
                </a:lnTo>
                <a:lnTo>
                  <a:pt x="1400" y="1400"/>
                </a:lnTo>
                <a:close/>
              </a:path>
              <a:path fill="darken" w="31294" h="21600">
                <a:moveTo>
                  <a:pt x="31294" y="0"/>
                </a:moveTo>
                <a:lnTo>
                  <a:pt x="31294" y="21600"/>
                </a:lnTo>
                <a:lnTo>
                  <a:pt x="29894" y="20200"/>
                </a:lnTo>
                <a:lnTo>
                  <a:pt x="29894" y="1400"/>
                </a:lnTo>
                <a:close/>
              </a:path>
              <a:path fill="darkenLess" w="31294" h="21600">
                <a:moveTo>
                  <a:pt x="31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94" y="20200"/>
                </a:lnTo>
                <a:close/>
              </a:path>
              <a:path fill="lighten" w="31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94" h="21600">
                <a:moveTo>
                  <a:pt x="8640" y="10800"/>
                </a:moveTo>
                <a:lnTo>
                  <a:pt x="22653" y="3794"/>
                </a:lnTo>
                <a:lnTo>
                  <a:pt x="2265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924360" y="333360"/>
            <a:ext cx="12222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187280" y="2077920"/>
            <a:ext cx="730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948360" y="32148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47640" y="1952640"/>
            <a:ext cx="792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Ответьте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When is your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When is your friend’s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Freeform 2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52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851280" y="333360"/>
            <a:ext cx="1295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79280" y="220500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chool thing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33280" y="41241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3300"/>
                </a:solidFill>
                <a:uFillTx/>
                <a:latin typeface="Book Antiqua"/>
              </a:rPr>
              <a:t>I have books, copybook, pen, pencil, ruler, rubber, 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Freeform 2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160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40360" y="580536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924360" y="333360"/>
            <a:ext cx="122220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C:\Users\Админ\Desktop\по работе\img13.jpg"/>
          <p:cNvPicPr/>
          <p:nvPr/>
        </p:nvPicPr>
        <p:blipFill>
          <a:blip r:embed="rId3"/>
          <a:stretch/>
        </p:blipFill>
        <p:spPr>
          <a:xfrm>
            <a:off x="1258920" y="1628640"/>
            <a:ext cx="676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Freeform 12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67" name="Freeform 12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14036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924360" y="404640"/>
            <a:ext cx="129528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68360" y="1916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ou miss 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50920" y="5373720"/>
            <a:ext cx="86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5796000" y="2890800"/>
            <a:ext cx="292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Freeform 2"/>
          <p:cNvGrpSpPr/>
          <p:nvPr/>
        </p:nvGrpSpPr>
        <p:grpSpPr>
          <a:xfrm>
            <a:off x="30240" y="738360"/>
            <a:ext cx="9101160" cy="5668560"/>
            <a:chOff x="30240" y="738360"/>
            <a:chExt cx="9101160" cy="5668560"/>
          </a:xfrm>
        </p:grpSpPr>
        <p:pic>
          <p:nvPicPr>
            <p:cNvPr id="176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969840"/>
              <a:ext cx="9058320" cy="54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0240" y="738360"/>
              <a:ext cx="91011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067280" y="566100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51280" y="26028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41280" y="2205000"/>
            <a:ext cx="84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00000"/>
                </a:solidFill>
                <a:uFillTx/>
                <a:latin typeface="Arial Black"/>
              </a:rPr>
              <a:t>Что обозначает имя существитель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593640" y="3168720"/>
            <a:ext cx="7920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Kristen ITC"/>
              </a:rPr>
              <a:t>Имя существительное обозначает предм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Freeform 2"/>
          <p:cNvGrpSpPr/>
          <p:nvPr/>
        </p:nvGrpSpPr>
        <p:grpSpPr>
          <a:xfrm>
            <a:off x="30240" y="712800"/>
            <a:ext cx="9101160" cy="5675040"/>
            <a:chOff x="30240" y="712800"/>
            <a:chExt cx="9101160" cy="5675040"/>
          </a:xfrm>
        </p:grpSpPr>
        <p:pic>
          <p:nvPicPr>
            <p:cNvPr id="184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93960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240" y="71280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11280" y="18590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00000"/>
                </a:solidFill>
                <a:uFillTx/>
                <a:latin typeface="Arial Rounded MT Bold"/>
              </a:rPr>
              <a:t>Назовите виды местоим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900000" y="3933720"/>
            <a:ext cx="73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Personal, possessive, demonstr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7572240" y="551196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780000" y="333360"/>
            <a:ext cx="129528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и обобщить знания учащихся по лексическ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y body, When is your birthday? School thing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мматической тем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esent Simple tense, the Noun and the Pronoun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2707920"/>
            <a:ext cx="7921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учащихся, полученных на предыдущих у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навыков говорения, мышления и коммуникабельности (способности к общению в парах и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чувства толерантности и уважения чужого мнения; воспитание чувства ответственности за совместную работу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Freeform 8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192" name="Freeform 8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7380360" y="57196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162864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Book Antiqua"/>
              </a:rPr>
              <a:t>Образуйте множественное число существительны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Book Antiqua"/>
              </a:rPr>
              <a:t>Pen, book, teacher, foot, room,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63400" y="3860640"/>
            <a:ext cx="8388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Book Antiqua"/>
              </a:rPr>
              <a:t>Pen-pens, book-books, teacher-teachers, foot-feet, room-rooms, child-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Freeform 2"/>
          <p:cNvGrpSpPr/>
          <p:nvPr/>
        </p:nvGrpSpPr>
        <p:grpSpPr>
          <a:xfrm>
            <a:off x="-219240" y="1365120"/>
            <a:ext cx="9101160" cy="5668560"/>
            <a:chOff x="-219240" y="1365120"/>
            <a:chExt cx="9101160" cy="5668560"/>
          </a:xfrm>
        </p:grpSpPr>
        <p:pic>
          <p:nvPicPr>
            <p:cNvPr id="200" name="Freeform 2" descr=""/>
            <p:cNvPicPr/>
            <p:nvPr/>
          </p:nvPicPr>
          <p:blipFill>
            <a:blip r:embed="rId1"/>
            <a:stretch/>
          </p:blipFill>
          <p:spPr>
            <a:xfrm>
              <a:off x="-186120" y="159480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-219240" y="1365120"/>
              <a:ext cx="9101160" cy="56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3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63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79320" y="1841760"/>
            <a:ext cx="77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40000"/>
                </a:solidFill>
                <a:uFillTx/>
                <a:latin typeface="Book Antiqua"/>
              </a:rPr>
              <a:t>Переведите на английски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Эта девочка из Ис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Эти мальчики из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Та девочка из Анг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Book Antiqua"/>
              </a:rPr>
              <a:t>Те мальчики из Казахс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79320" y="3798000"/>
            <a:ext cx="8140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Book Antiqua"/>
              </a:rPr>
              <a:t>    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is girl is from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ese boys are from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at girl is from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ose boys are from Kazakh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7453440" y="577692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92436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Freeform 2"/>
          <p:cNvGrpSpPr/>
          <p:nvPr/>
        </p:nvGrpSpPr>
        <p:grpSpPr>
          <a:xfrm>
            <a:off x="30240" y="1189080"/>
            <a:ext cx="9101160" cy="5675040"/>
            <a:chOff x="30240" y="1189080"/>
            <a:chExt cx="9101160" cy="5675040"/>
          </a:xfrm>
        </p:grpSpPr>
        <p:pic>
          <p:nvPicPr>
            <p:cNvPr id="208" name="Freeform 2" descr=""/>
            <p:cNvPicPr/>
            <p:nvPr/>
          </p:nvPicPr>
          <p:blipFill>
            <a:blip r:embed="rId1"/>
            <a:stretch/>
          </p:blipFill>
          <p:spPr>
            <a:xfrm>
              <a:off x="601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024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7667640" y="578340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851280" y="333360"/>
            <a:ext cx="1295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90600" y="21528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 обозначает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Present Simple T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39640" y="3645000"/>
            <a:ext cx="791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 Antiqua"/>
              </a:rPr>
              <a:t>Настоящее простое время обозначает действие, которое происходит регулярно, постоя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Freeform 2"/>
          <p:cNvGrpSpPr/>
          <p:nvPr/>
        </p:nvGrpSpPr>
        <p:grpSpPr>
          <a:xfrm>
            <a:off x="-133200" y="1036800"/>
            <a:ext cx="9101160" cy="5675040"/>
            <a:chOff x="-133200" y="1036800"/>
            <a:chExt cx="9101160" cy="5675040"/>
          </a:xfrm>
        </p:grpSpPr>
        <p:pic>
          <p:nvPicPr>
            <p:cNvPr id="216" name="Freeform 2" descr=""/>
            <p:cNvPicPr/>
            <p:nvPr/>
          </p:nvPicPr>
          <p:blipFill>
            <a:blip r:embed="rId1"/>
            <a:stretch/>
          </p:blipFill>
          <p:spPr>
            <a:xfrm>
              <a:off x="-102960" y="1262520"/>
              <a:ext cx="9058320" cy="54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-133200" y="1036800"/>
              <a:ext cx="9101160" cy="56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33280" y="184464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склоняйте глагол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“to be”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настоящем простом време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24000" y="3514680"/>
            <a:ext cx="72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Sh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H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W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Book Antiqua"/>
              </a:rPr>
              <a:t>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667640" y="558972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995640" y="333360"/>
            <a:ext cx="1511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Freeform 8"/>
          <p:cNvGrpSpPr/>
          <p:nvPr/>
        </p:nvGrpSpPr>
        <p:grpSpPr>
          <a:xfrm>
            <a:off x="30240" y="1292400"/>
            <a:ext cx="9101160" cy="5668560"/>
            <a:chOff x="30240" y="1292400"/>
            <a:chExt cx="9101160" cy="5668560"/>
          </a:xfrm>
        </p:grpSpPr>
        <p:pic>
          <p:nvPicPr>
            <p:cNvPr id="224" name="Freeform 8" descr=""/>
            <p:cNvPicPr/>
            <p:nvPr/>
          </p:nvPicPr>
          <p:blipFill>
            <a:blip r:embed="rId1"/>
            <a:stretch/>
          </p:blipFill>
          <p:spPr>
            <a:xfrm>
              <a:off x="6012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024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667640" y="566100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68360" y="141300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зовите модальный глагол «моч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еревед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Я могу чит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427212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00"/>
                </a:solidFill>
                <a:uFillTx/>
                <a:latin typeface="Book Antiqua"/>
              </a:rPr>
              <a:t>I can r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Freeform 2"/>
          <p:cNvGrpSpPr/>
          <p:nvPr/>
        </p:nvGrpSpPr>
        <p:grpSpPr>
          <a:xfrm>
            <a:off x="-6480" y="933480"/>
            <a:ext cx="9101160" cy="5668560"/>
            <a:chOff x="-6480" y="933480"/>
            <a:chExt cx="9101160" cy="5668560"/>
          </a:xfrm>
        </p:grpSpPr>
        <p:pic>
          <p:nvPicPr>
            <p:cNvPr id="232" name="Freeform 2" descr=""/>
            <p:cNvPicPr/>
            <p:nvPr/>
          </p:nvPicPr>
          <p:blipFill>
            <a:blip r:embed="rId1"/>
            <a:stretch/>
          </p:blipFill>
          <p:spPr>
            <a:xfrm>
              <a:off x="23040" y="1164600"/>
              <a:ext cx="9058320" cy="54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-6480" y="933480"/>
              <a:ext cx="9101160" cy="56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63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58920" y="1565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ou miss your tu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03280" y="4723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Book Antiqua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934920" y="551664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851280" y="404640"/>
            <a:ext cx="129528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"/>
          <p:cNvPicPr/>
          <p:nvPr/>
        </p:nvPicPr>
        <p:blipFill>
          <a:blip r:embed="rId3"/>
          <a:stretch/>
        </p:blipFill>
        <p:spPr>
          <a:xfrm>
            <a:off x="6012000" y="2486160"/>
            <a:ext cx="292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628920" y="3244680"/>
            <a:ext cx="78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riend in need is a friend ind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551664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7064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1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ctive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polite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lerant! Respect each other!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hy!</a:t>
            </a:r>
            <a:br>
              <a:rPr sz="4400"/>
            </a:b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 be afraid of making mistakes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ая за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880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nd two and three and f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am sitt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am play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pretty little do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pl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Админ\Desktop\Ученик-1.jpg"/>
          <p:cNvPicPr/>
          <p:nvPr/>
        </p:nvPicPr>
        <p:blipFill>
          <a:blip r:embed="rId1"/>
          <a:stretch/>
        </p:blipFill>
        <p:spPr>
          <a:xfrm>
            <a:off x="826920" y="1082520"/>
            <a:ext cx="7120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Freeform 3"/>
          <p:cNvGrpSpPr/>
          <p:nvPr/>
        </p:nvGrpSpPr>
        <p:grpSpPr>
          <a:xfrm>
            <a:off x="30240" y="3084480"/>
            <a:ext cx="9101160" cy="3901680"/>
            <a:chOff x="30240" y="3084480"/>
            <a:chExt cx="9101160" cy="3901680"/>
          </a:xfrm>
        </p:grpSpPr>
        <p:pic>
          <p:nvPicPr>
            <p:cNvPr id="59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3238200"/>
              <a:ext cx="905832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0240" y="3084480"/>
              <a:ext cx="9101160" cy="38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"/>
          <p:cNvSpPr/>
          <p:nvPr/>
        </p:nvSpPr>
        <p:spPr>
          <a:xfrm>
            <a:off x="-7920" y="23760"/>
            <a:ext cx="3211560" cy="149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Book Antiqua"/>
              </a:rPr>
              <a:t>My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6080" y="1521000"/>
            <a:ext cx="3168720" cy="129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ff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Book Antiqua"/>
              </a:rPr>
              <a:t>When is your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080" y="2819520"/>
            <a:ext cx="316872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Schoo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05160" y="3031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653080" y="3031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3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427640" y="281160"/>
            <a:ext cx="101268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4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305160" y="17002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5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305160" y="303516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6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452840" y="16938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7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427640" y="30067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645160" y="17002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9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645160" y="2989440"/>
            <a:ext cx="101268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0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440" y="4214880"/>
            <a:ext cx="3168720" cy="127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Book Antiqua"/>
              </a:rPr>
              <a:t>The noun and pro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55440" y="5538960"/>
            <a:ext cx="3168720" cy="131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ff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The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6870600" y="30312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1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6886440" y="17082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2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6899400" y="30067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3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340056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4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575640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5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4572000" y="436716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414600" y="5661000"/>
            <a:ext cx="101304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7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4572000" y="565632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5670720" y="56530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19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6900840" y="438624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0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6783480" y="5653080"/>
            <a:ext cx="10126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9999"/>
                </a:solidFill>
                <a:uFillTx/>
                <a:latin typeface="Book Antiqua"/>
                <a:hlinkClick r:id="rId21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Freeform 3"/>
          <p:cNvGrpSpPr/>
          <p:nvPr/>
        </p:nvGrpSpPr>
        <p:grpSpPr>
          <a:xfrm>
            <a:off x="-6480" y="1292400"/>
            <a:ext cx="9101160" cy="5668560"/>
            <a:chOff x="-6480" y="1292400"/>
            <a:chExt cx="9101160" cy="5668560"/>
          </a:xfrm>
        </p:grpSpPr>
        <p:pic>
          <p:nvPicPr>
            <p:cNvPr id="87" name="Freeform 3" descr=""/>
            <p:cNvPicPr/>
            <p:nvPr/>
          </p:nvPicPr>
          <p:blipFill>
            <a:blip r:embed="rId1"/>
            <a:stretch/>
          </p:blipFill>
          <p:spPr>
            <a:xfrm>
              <a:off x="21600" y="1522080"/>
              <a:ext cx="90583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6480" y="1292400"/>
              <a:ext cx="91011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7280" y="145080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Book Antiqua"/>
              </a:rPr>
              <a:t>Переведите следующие части те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Голова, плечи, ноги, руки, кол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763640" y="3789360"/>
            <a:ext cx="59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3300"/>
                </a:solidFill>
                <a:uFillTx/>
                <a:latin typeface="Book Antiqua"/>
              </a:rPr>
              <a:t>Head, shoulders, legs, hands, kn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3995640" y="57340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851280" y="549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Freeform 3"/>
          <p:cNvGrpSpPr/>
          <p:nvPr/>
        </p:nvGrpSpPr>
        <p:grpSpPr>
          <a:xfrm>
            <a:off x="30240" y="1189080"/>
            <a:ext cx="9101160" cy="5675040"/>
            <a:chOff x="30240" y="1189080"/>
            <a:chExt cx="9101160" cy="5675040"/>
          </a:xfrm>
        </p:grpSpPr>
        <p:pic>
          <p:nvPicPr>
            <p:cNvPr id="95" name="Freeform 3" descr=""/>
            <p:cNvPicPr/>
            <p:nvPr/>
          </p:nvPicPr>
          <p:blipFill>
            <a:blip r:embed="rId1"/>
            <a:stretch/>
          </p:blipFill>
          <p:spPr>
            <a:xfrm>
              <a:off x="601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24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067280" y="5734080"/>
            <a:ext cx="936360" cy="71928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16" y="1400"/>
                </a:lnTo>
                <a:lnTo>
                  <a:pt x="1400" y="140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16" y="20200"/>
                </a:lnTo>
                <a:lnTo>
                  <a:pt x="26716" y="140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16" y="2020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16" h="21600">
                <a:moveTo>
                  <a:pt x="7051" y="10800"/>
                </a:moveTo>
                <a:lnTo>
                  <a:pt x="21064" y="3794"/>
                </a:lnTo>
                <a:lnTo>
                  <a:pt x="2106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851280" y="549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68360" y="4005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3300"/>
                </a:solidFill>
                <a:uFillTx/>
                <a:latin typeface="Bodoni MT Black"/>
              </a:rPr>
              <a:t>Arm, foot, toes, knees, ne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24000" y="1700280"/>
            <a:ext cx="8496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Допишите пропущенные буквы в слов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A…m, f…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 to….s, …nees, n…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Freeform 3"/>
          <p:cNvGrpSpPr/>
          <p:nvPr/>
        </p:nvGrpSpPr>
        <p:grpSpPr>
          <a:xfrm>
            <a:off x="208080" y="1189080"/>
            <a:ext cx="9101160" cy="5675040"/>
            <a:chOff x="208080" y="1189080"/>
            <a:chExt cx="9101160" cy="5675040"/>
          </a:xfrm>
        </p:grpSpPr>
        <p:pic>
          <p:nvPicPr>
            <p:cNvPr id="103" name="Freeform 3" descr=""/>
            <p:cNvPicPr/>
            <p:nvPr/>
          </p:nvPicPr>
          <p:blipFill>
            <a:blip r:embed="rId1"/>
            <a:stretch/>
          </p:blipFill>
          <p:spPr>
            <a:xfrm>
              <a:off x="236520" y="1415880"/>
              <a:ext cx="9058320" cy="54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08080" y="1189080"/>
              <a:ext cx="910116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4"/>
          <p:cNvSpPr/>
          <p:nvPr/>
        </p:nvSpPr>
        <p:spPr>
          <a:xfrm>
            <a:off x="216000" y="260280"/>
            <a:ext cx="8748720" cy="6337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3564000" y="573408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851280" y="333360"/>
            <a:ext cx="129528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Book Antiqua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3964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Book Antiqua"/>
              </a:rPr>
              <a:t>Найдите лишни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Head, leg, knees,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Eyes, foot, teacher, f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Book Antiqua"/>
              </a:rPr>
              <a:t>Ears, girl, neck, 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324000" y="4797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Book Antiqua"/>
              </a:rPr>
              <a:t>      </a:t>
            </a:r>
            <a:r>
              <a:rPr b="1" lang="en-US" sz="5400" spc="-1" strike="noStrike">
                <a:solidFill>
                  <a:srgbClr val="003300"/>
                </a:solidFill>
                <a:latin typeface="Book Antiqua"/>
              </a:rPr>
              <a:t>Name, teacher, gi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16:41Z</dcterms:created>
  <dc:creator>1</dc:creator>
  <dc:description/>
  <dc:language>en-US</dc:language>
  <cp:lastModifiedBy>БорЯна</cp:lastModifiedBy>
  <dcterms:modified xsi:type="dcterms:W3CDTF">2023-05-22T14:42:13Z</dcterms:modified>
  <cp:revision>50</cp:revision>
  <dc:subject/>
  <dc:title>Слайд 1</dc:title>
</cp:coreProperties>
</file>