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791-C66C-4919-958A-865FC598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2B5-3C93-499E-B42C-096E01EC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A4F-AE97-40D6-A83A-A7FF1CC0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EA0-837C-4BA5-B930-142D7FCC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30B-9D94-4390-ABFA-91679DE3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B49-EC6C-45AC-901F-08C457D9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601-E43F-458A-893C-39C0BABB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68E-0962-4679-9F00-C5682227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EA7-2A36-433E-AF0C-D79FD834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299-4D43-4F0C-BA29-4D5998AB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D0E-FAF3-444D-A7DD-7E307A2D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0AB-760A-46D3-8020-C27095B2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5218-3F30-451F-96EA-B2246C29A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3" descr="407997_600.png"/>
          <p:cNvPicPr/>
          <p:nvPr/>
        </p:nvPicPr>
        <p:blipFill>
          <a:blip r:embed="rId1"/>
          <a:stretch/>
        </p:blipFill>
        <p:spPr>
          <a:xfrm>
            <a:off x="14400" y="142920"/>
            <a:ext cx="91296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v_2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slide_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slide_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slide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slide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v_3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slide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3" descr="131313.jpg"/>
          <p:cNvPicPr/>
          <p:nvPr/>
        </p:nvPicPr>
        <p:blipFill>
          <a:blip r:embed="rId1"/>
          <a:stretch/>
        </p:blipFill>
        <p:spPr>
          <a:xfrm>
            <a:off x="-299880" y="0"/>
            <a:ext cx="944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v_4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3" descr="slide_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3" descr="131313.jpg"/>
          <p:cNvPicPr/>
          <p:nvPr/>
        </p:nvPicPr>
        <p:blipFill>
          <a:blip r:embed="rId1"/>
          <a:stretch/>
        </p:blipFill>
        <p:spPr>
          <a:xfrm>
            <a:off x="0" y="214200"/>
            <a:ext cx="892332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3" descr="slide-4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v_5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3" descr="slide_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3" descr="FAhucAxj-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3" descr="slide_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v_1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3" descr="slide_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3" descr="slide_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slide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slide_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slide_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3AVyoZu9jZ8.jpg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8T15:58:33Z</dcterms:created>
  <dc:creator>User</dc:creator>
  <dc:description/>
  <dc:language>en-US</dc:language>
  <cp:lastModifiedBy>пк</cp:lastModifiedBy>
  <dcterms:modified xsi:type="dcterms:W3CDTF">2023-02-11T16:14:35Z</dcterms:modified>
  <cp:revision>60</cp:revision>
  <dc:subject/>
  <dc:title>Слайд 1</dc:title>
</cp:coreProperties>
</file>