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0DB-419A-49C6-95D0-4F754649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0C4-A6EB-4406-9E67-ACF3BC8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DD0-CFA7-4C19-8725-29884FDF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083-EAB6-4F77-A828-38ABEF15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CAA-347F-4C12-B033-F3D4487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501-0F36-4C0C-9139-46517F9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5D1-9FB8-4157-91F9-591D1FE9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12F-0019-44F6-AA1D-D648722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375-DD59-4E7B-8A75-13ECF31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984-97A4-4183-937A-737227C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043-1F0D-418D-8528-AA3AFC0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644-AFBE-407C-80B6-A732F2D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86FF-567A-4A22-A014-990A6931C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3" descr="407997_600.png"/>
          <p:cNvPicPr/>
          <p:nvPr/>
        </p:nvPicPr>
        <p:blipFill>
          <a:blip r:embed="rId1"/>
          <a:stretch/>
        </p:blipFill>
        <p:spPr>
          <a:xfrm>
            <a:off x="14400" y="142920"/>
            <a:ext cx="91296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v_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lide_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lide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v_3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131313.jpg"/>
          <p:cNvPicPr/>
          <p:nvPr/>
        </p:nvPicPr>
        <p:blipFill>
          <a:blip r:embed="rId1"/>
          <a:stretch/>
        </p:blipFill>
        <p:spPr>
          <a:xfrm>
            <a:off x="-299880" y="0"/>
            <a:ext cx="94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v_4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slide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131313.jpg"/>
          <p:cNvPicPr/>
          <p:nvPr/>
        </p:nvPicPr>
        <p:blipFill>
          <a:blip r:embed="rId1"/>
          <a:stretch/>
        </p:blipFill>
        <p:spPr>
          <a:xfrm>
            <a:off x="0" y="214200"/>
            <a:ext cx="89233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slide-4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v_5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slide_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FAhucAxj-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slide_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v_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slide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slide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slide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slide_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slide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3AVyoZu9jZ8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15:58:33Z</dcterms:created>
  <dc:creator>User</dc:creator>
  <dc:description/>
  <dc:language>en-US</dc:language>
  <cp:lastModifiedBy>пк</cp:lastModifiedBy>
  <dcterms:modified xsi:type="dcterms:W3CDTF">2023-02-11T16:14:35Z</dcterms:modified>
  <cp:revision>60</cp:revision>
  <dc:subject/>
  <dc:title>Слайд 1</dc:title>
</cp:coreProperties>
</file>