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15D-A57B-4172-AA86-3A6091F0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0C9-29E2-40C5-A15D-3CD2AF09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7C3-DE7F-436C-9A7F-6E32CBD4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68D-B273-49FE-A74C-DF749095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CD9-6A82-49A6-BC20-2E94D6F0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A1B-88EF-465B-9806-D7009041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7EF-2072-4C9A-AE58-752F13A1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D5C-EB94-456C-AC37-D8A3BF77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37FA-1A11-4623-B169-FDFE3C57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D37-8037-410A-9F67-BD9F23F4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C5B-8EA2-4CB2-9833-5FC131D2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A5E-E1D7-4D73-B51D-C4A8D2AE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2D7E-13B1-4C69-98EC-A99A9C564A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7780320" cy="2787480"/>
          </a:xfrm>
          <a:prstGeom prst="rect">
            <a:avLst/>
          </a:prstGeom>
          <a:solidFill>
            <a:srgbClr val="ffd966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облемы подготовки будущих педагогов дошкольного образования к профессиональной деятельности в полиэтнических детских садах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71520" y="4630320"/>
            <a:ext cx="4500360" cy="181764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Горлова Шахноза Ибрагим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406080" y="1918800"/>
            <a:ext cx="7886520" cy="435132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257040" y="117360"/>
            <a:ext cx="4456080" cy="9018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тарший возра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17"/>
          <p:cNvSpPr/>
          <p:nvPr/>
        </p:nvSpPr>
        <p:spPr>
          <a:xfrm>
            <a:off x="3059280" y="1197000"/>
            <a:ext cx="5186160" cy="990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f9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257040" y="3127320"/>
            <a:ext cx="6299280" cy="13208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26960" y="4916520"/>
            <a:ext cx="526572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иобщаем к иным национальным культур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аскрываем тему «Наша планет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059280" y="1262160"/>
            <a:ext cx="49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уем интерес к своей родосло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    Раскрываем понятие «дружба», взаимовыручка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426960" y="3127320"/>
            <a:ext cx="6411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   Расширяем представления о родной стране, государственных и народных праздник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комим с флагом, гербом и мелодией гимна России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должаем формировать интерес к своей «малой Родине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достопримечательностям родного города, культуре, традиция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9" descr=""/>
          <p:cNvPicPr/>
          <p:nvPr/>
        </p:nvPicPr>
        <p:blipFill>
          <a:blip r:embed="rId2"/>
          <a:stretch/>
        </p:blipFill>
        <p:spPr>
          <a:xfrm>
            <a:off x="257040" y="1157400"/>
            <a:ext cx="2802240" cy="17906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0" descr=""/>
          <p:cNvPicPr/>
          <p:nvPr/>
        </p:nvPicPr>
        <p:blipFill>
          <a:blip r:embed="rId3"/>
          <a:stretch/>
        </p:blipFill>
        <p:spPr>
          <a:xfrm>
            <a:off x="6032520" y="3911760"/>
            <a:ext cx="293220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4"/>
          <p:cNvSpPr/>
          <p:nvPr/>
        </p:nvSpPr>
        <p:spPr>
          <a:xfrm>
            <a:off x="3449520" y="1060560"/>
            <a:ext cx="5105520" cy="98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24"/>
          <p:cNvSpPr/>
          <p:nvPr/>
        </p:nvSpPr>
        <p:spPr>
          <a:xfrm>
            <a:off x="3390840" y="2311560"/>
            <a:ext cx="5105520" cy="98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24"/>
          <p:cNvSpPr/>
          <p:nvPr/>
        </p:nvSpPr>
        <p:spPr>
          <a:xfrm>
            <a:off x="3505320" y="5595840"/>
            <a:ext cx="5105160" cy="98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2"/>
          <p:cNvSpPr/>
          <p:nvPr/>
        </p:nvSpPr>
        <p:spPr>
          <a:xfrm flipV="1">
            <a:off x="1859040" y="2001960"/>
            <a:ext cx="503280" cy="52704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1835280" y="4970520"/>
            <a:ext cx="433080" cy="5572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4"/>
          <p:cNvSpPr/>
          <p:nvPr/>
        </p:nvSpPr>
        <p:spPr>
          <a:xfrm flipV="1">
            <a:off x="2357280" y="1512360"/>
            <a:ext cx="949320" cy="4906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2268360" y="5516640"/>
            <a:ext cx="1022400" cy="50004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2666880" y="3948120"/>
            <a:ext cx="60984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620800" y="4970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468360" y="115920"/>
            <a:ext cx="8229600" cy="8683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трудничество дошкольного образовательного учреждения с семьями воспитан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24"/>
          <p:cNvSpPr/>
          <p:nvPr/>
        </p:nvSpPr>
        <p:spPr>
          <a:xfrm>
            <a:off x="3368520" y="3411360"/>
            <a:ext cx="5105520" cy="984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26"/>
          <p:cNvSpPr/>
          <p:nvPr/>
        </p:nvSpPr>
        <p:spPr>
          <a:xfrm>
            <a:off x="3276720" y="1398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27"/>
          <p:cNvSpPr/>
          <p:nvPr/>
        </p:nvSpPr>
        <p:spPr>
          <a:xfrm>
            <a:off x="3220920" y="2739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AutoShape 29"/>
          <p:cNvSpPr/>
          <p:nvPr/>
        </p:nvSpPr>
        <p:spPr>
          <a:xfrm>
            <a:off x="3349800" y="4508640"/>
            <a:ext cx="5105160" cy="92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34"/>
          <p:cNvSpPr/>
          <p:nvPr/>
        </p:nvSpPr>
        <p:spPr>
          <a:xfrm>
            <a:off x="3263760" y="4856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3965b5"/>
              </a:gs>
              <a:gs pos="100000">
                <a:srgbClr val="2e75b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492360" y="1122480"/>
            <a:ext cx="4965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зучение семь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ее образовательных потребност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типы семьи, уровень культуры и образование, семейные традиции и д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3449520" y="2265480"/>
            <a:ext cx="5067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ирование родител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стенды, ширмы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пки-передвижки, выпуск газет и др. «Говорят дети», «Опыт семейного воспитания», «Воспитание маленького москвича»,  «Как поступили бы Вы?»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532320" y="3317760"/>
            <a:ext cx="565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дбор педагогической и художественн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литератур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 городе, семейном   воспитани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ции семейного досуга, формирова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лерантных установку детей и взросл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3532320" y="4521240"/>
            <a:ext cx="488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сихолого-педагогическое просвещение родител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дискуссии, семейные гостиные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дительские клубы,  вечера вопросов и ответов и др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3532320" y="5600880"/>
            <a:ext cx="560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овместная деятельность родителей и дет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ском саду и дома: - семейные конкурсы 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ция совместных де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3265560" y="5870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21" descr=""/>
          <p:cNvPicPr/>
          <p:nvPr/>
        </p:nvPicPr>
        <p:blipFill>
          <a:blip r:embed="rId1"/>
          <a:stretch/>
        </p:blipFill>
        <p:spPr>
          <a:xfrm>
            <a:off x="114480" y="2598840"/>
            <a:ext cx="2506320" cy="2082600"/>
          </a:xfrm>
          <a:prstGeom prst="rect">
            <a:avLst/>
          </a:prstGeom>
          <a:ln w="0">
            <a:noFill/>
          </a:ln>
        </p:spPr>
      </p:pic>
      <p:sp>
        <p:nvSpPr>
          <p:cNvPr id="156" name="Oval 26"/>
          <p:cNvSpPr/>
          <p:nvPr/>
        </p:nvSpPr>
        <p:spPr>
          <a:xfrm>
            <a:off x="3220920" y="383364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2611440" y="285444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33200" y="0"/>
            <a:ext cx="2341800" cy="3124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2989440" y="169920"/>
            <a:ext cx="2087280" cy="30607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131040" y="295740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народный костю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2933640" y="29574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хский народный костю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ÐÐ°ÑÑÐ¸Ð½ÐºÐ¸ Ð¿Ð¾ Ð·Ð°Ð¿ÑÐ¾ÑÑ ÐÐ°ÑÐºÐ¸ÑÑÐºÐ¸Ð¹ Ð½Ð°ÑÐ¾Ð´Ð½ÑÐ¹ ÐºÐ¾ÑÑÑÐ¼ Ð´ÐµÑÑÐºÐ¸Ð¹"/>
          <p:cNvPicPr/>
          <p:nvPr/>
        </p:nvPicPr>
        <p:blipFill>
          <a:blip r:embed="rId3"/>
          <a:stretch/>
        </p:blipFill>
        <p:spPr>
          <a:xfrm>
            <a:off x="6380280" y="169920"/>
            <a:ext cx="2322360" cy="34844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8"/>
          <p:cNvSpPr/>
          <p:nvPr/>
        </p:nvSpPr>
        <p:spPr>
          <a:xfrm>
            <a:off x="5804640" y="365436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кирский народный костю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8" descr="ÐÐ°ÑÑÐ¸Ð½ÐºÐ¸ Ð¿Ð¾ Ð·Ð°Ð¿ÑÐ¾ÑÑ ÑÐ°ÑÐ°ÑÑÐºÐ¸Ð¹ Ð½Ð°ÑÐ¾Ð´Ð½ÑÐ¹ ÐºÐ¾ÑÑÑÐ¼ Ð´ÐµÑÑÐºÐ¸Ð¹"/>
          <p:cNvPicPr/>
          <p:nvPr/>
        </p:nvPicPr>
        <p:blipFill>
          <a:blip r:embed="rId4"/>
          <a:stretch/>
        </p:blipFill>
        <p:spPr>
          <a:xfrm>
            <a:off x="260280" y="3325680"/>
            <a:ext cx="2087640" cy="31338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26720" y="642456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арский народный костю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0" descr="ÐÐ°ÑÑÐ¸Ð½ÐºÐ¸ Ð¿Ð¾ Ð·Ð°Ð¿ÑÐ¾ÑÑ ÑÐµÑÐµÐ½ÑÐºÐ¸Ð¹ Ð½Ð°ÑÐ¾Ð´Ð½ÑÐ¹ ÐºÐ¾ÑÑÑÐ¼ Ð´ÐµÑÑÐºÐ¸Ð¹"/>
          <p:cNvPicPr/>
          <p:nvPr/>
        </p:nvPicPr>
        <p:blipFill>
          <a:blip r:embed="rId5"/>
          <a:stretch/>
        </p:blipFill>
        <p:spPr>
          <a:xfrm>
            <a:off x="3505320" y="3349800"/>
            <a:ext cx="1652400" cy="36050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3"/>
          <p:cNvSpPr/>
          <p:nvPr/>
        </p:nvSpPr>
        <p:spPr>
          <a:xfrm>
            <a:off x="5646240" y="605484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ченский народный костю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d and White PAPER DOLLS.mp4" descr="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149400" y="163440"/>
            <a:ext cx="8337240" cy="62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WordArt 2" descr=""/>
          <p:cNvPicPr/>
          <p:nvPr/>
        </p:nvPicPr>
        <p:blipFill>
          <a:blip r:embed="rId1"/>
          <a:stretch/>
        </p:blipFill>
        <p:spPr>
          <a:xfrm>
            <a:off x="603360" y="957240"/>
            <a:ext cx="7053120" cy="669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H:\ОФОРМЛЕНИЕ\ПРЕЗЕНТАЦИИ\gr5zvezdochki.png"/>
          <p:cNvPicPr/>
          <p:nvPr/>
        </p:nvPicPr>
        <p:blipFill>
          <a:blip r:embed="rId2"/>
          <a:stretch/>
        </p:blipFill>
        <p:spPr>
          <a:xfrm>
            <a:off x="1824120" y="2063880"/>
            <a:ext cx="4257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36080" y="969840"/>
            <a:ext cx="7612200" cy="25466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детям больше и больше созерцания общего поколения человеческого, мирового, но преимущественно, старайтесь знакомить их с этим и через родные и национальные явления. В. Г. Белинс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055960" y="2571840"/>
            <a:ext cx="36766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Горизонтальный свиток 4"/>
          <p:cNvSpPr/>
          <p:nvPr/>
        </p:nvSpPr>
        <p:spPr>
          <a:xfrm>
            <a:off x="961920" y="0"/>
            <a:ext cx="6845400" cy="1406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d1"/>
              </a:gs>
              <a:gs pos="100000">
                <a:srgbClr val="e1ec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ое и всестороннее овладение культурой собственного народа как обязательное условие интеграции в иные культур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Горизонтальный свиток 5"/>
          <p:cNvSpPr/>
          <p:nvPr/>
        </p:nvSpPr>
        <p:spPr>
          <a:xfrm>
            <a:off x="117360" y="1289160"/>
            <a:ext cx="6612120" cy="1419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e1ec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ставлений о многообразии культур в мире и воспитание положительного отношения к культурным различия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Горизонтальный свиток 6"/>
          <p:cNvSpPr/>
          <p:nvPr/>
        </p:nvSpPr>
        <p:spPr>
          <a:xfrm>
            <a:off x="961920" y="2608200"/>
            <a:ext cx="6610320" cy="1419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00"/>
              </a:gs>
              <a:gs pos="100000">
                <a:srgbClr val="e1ec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интеграции в культуры других народ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Горизонтальный свиток 7"/>
          <p:cNvSpPr/>
          <p:nvPr/>
        </p:nvSpPr>
        <p:spPr>
          <a:xfrm>
            <a:off x="117360" y="3903840"/>
            <a:ext cx="6612120" cy="1419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b050"/>
              </a:gs>
              <a:gs pos="100000">
                <a:srgbClr val="e1ec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и развитие умений и навыков эффективного взаимодействия с представителями различных культу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Горизонтальный свиток 8"/>
          <p:cNvSpPr/>
          <p:nvPr/>
        </p:nvSpPr>
        <p:spPr>
          <a:xfrm>
            <a:off x="844560" y="5299200"/>
            <a:ext cx="6611760" cy="14176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030a0"/>
              </a:gs>
              <a:gs pos="100000">
                <a:srgbClr val="e1ec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в духе мира, терпимости, гуманного межнационального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8880" y="641160"/>
            <a:ext cx="788652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культурное воспитание – явление относительно новое для России. В настоящее время активно разрабатываются научно-теоретические основы поликультурного воспитания в России (Г.Д. Дмитриев, А.Н. Джуринский, В.В. Макаев, З.А. Малькова, Д.Б. Сажин, Л.Л. Супрунова и 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:\ОФОРМЛЕНИЕ\ПРЕЗЕНТАЦИИ\gr5zvezdochki.png"/>
          <p:cNvPicPr/>
          <p:nvPr/>
        </p:nvPicPr>
        <p:blipFill>
          <a:blip r:embed="rId1"/>
          <a:stretch/>
        </p:blipFill>
        <p:spPr>
          <a:xfrm>
            <a:off x="2295360" y="3137040"/>
            <a:ext cx="3835440" cy="38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8" repeatCount="933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12680" y="172800"/>
            <a:ext cx="78868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развитию у детей уважения и формирования чувства эмпатии к людям независимо от социального происхождения, расовой и национальной принадлежности, языка, вероисповедания, пола, возраста, личностного и поведенческого своеобразия в том числе, и внешнего облика, и физических недостат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3808440"/>
            <a:ext cx="81392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7"/>
          <p:cNvSpPr/>
          <p:nvPr/>
        </p:nvSpPr>
        <p:spPr>
          <a:xfrm>
            <a:off x="433440" y="2884320"/>
            <a:ext cx="7304040" cy="820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4. Особенности речевого развития детей в условиях билингв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433440" y="1887480"/>
            <a:ext cx="7304040" cy="92556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3. Психолого-педагогические основы педагогического общ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433440" y="1031760"/>
            <a:ext cx="7304040" cy="797040"/>
          </a:xfrm>
          <a:prstGeom prst="rect">
            <a:avLst/>
          </a:prstGeom>
          <a:solidFill>
            <a:srgbClr val="5482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2. Проблема этнической идентификации детей в поликультурных услов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433440" y="128520"/>
            <a:ext cx="7304040" cy="797040"/>
          </a:xfrm>
          <a:prstGeom prst="rect">
            <a:avLst/>
          </a:prstGeom>
          <a:solidFill>
            <a:srgbClr val="c55a1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1. Формирование этнотолерантности у детей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433440" y="4853160"/>
            <a:ext cx="7304040" cy="738000"/>
          </a:xfrm>
          <a:prstGeom prst="rect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 6. Педагогическая оценка этнокультурных особенностей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433440" y="5708520"/>
            <a:ext cx="7304040" cy="820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7. Специфика профессиональной компетентности педагога полиэтнического детского са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0"/>
          <p:cNvSpPr/>
          <p:nvPr/>
        </p:nvSpPr>
        <p:spPr>
          <a:xfrm>
            <a:off x="433440" y="3900600"/>
            <a:ext cx="7304040" cy="733320"/>
          </a:xfrm>
          <a:prstGeom prst="rect">
            <a:avLst/>
          </a:prstGeom>
          <a:solidFill>
            <a:srgbClr val="7030a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дел 5. Фольклор в воспитании детей полиэтнического детского са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58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59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60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61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62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63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64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66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5b9bd5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67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954f72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68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ed7d31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70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94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95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 rot="20226600">
            <a:off x="3502080" y="5532120"/>
            <a:ext cx="514440" cy="514440"/>
          </a:xfrm>
          <a:custGeom>
            <a:avLst/>
            <a:gdLst>
              <a:gd name="textAreaLeft" fmla="*/ 119880 w 514440"/>
              <a:gd name="textAreaRight" fmla="*/ 394560 w 514440"/>
              <a:gd name="textAreaTop" fmla="*/ 54000 h 514440"/>
              <a:gd name="textAreaBottom" fmla="*/ 325800 h 514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b37fb"/>
              </a:gs>
              <a:gs pos="100000">
                <a:srgbClr val="794019"/>
              </a:gs>
            </a:gsLst>
            <a:lin ang="6774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 rot="234000">
            <a:off x="651960" y="3092040"/>
            <a:ext cx="657360" cy="657360"/>
          </a:xfrm>
          <a:custGeom>
            <a:avLst/>
            <a:gdLst>
              <a:gd name="textAreaLeft" fmla="*/ 153360 w 657360"/>
              <a:gd name="textAreaRight" fmla="*/ 504000 w 657360"/>
              <a:gd name="textAreaTop" fmla="*/ 69120 h 657360"/>
              <a:gd name="textAreaBottom" fmla="*/ 416160 h 657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cde0f3"/>
              </a:gs>
              <a:gs pos="100000">
                <a:srgbClr val="0563c1"/>
              </a:gs>
            </a:gsLst>
            <a:lin ang="5166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 rot="801600">
            <a:off x="2041560" y="2952720"/>
            <a:ext cx="657360" cy="657360"/>
          </a:xfrm>
          <a:custGeom>
            <a:avLst/>
            <a:gdLst>
              <a:gd name="textAreaLeft" fmla="*/ 153360 w 657360"/>
              <a:gd name="textAreaRight" fmla="*/ 504000 w 657360"/>
              <a:gd name="textAreaTop" fmla="*/ 69120 h 657360"/>
              <a:gd name="textAreaBottom" fmla="*/ 416160 h 657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d0e2f3"/>
              </a:gs>
              <a:gs pos="100000">
                <a:srgbClr val="5b9bd5"/>
              </a:gs>
            </a:gsLst>
            <a:lin ang="4596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 rot="1833000">
            <a:off x="2705040" y="4292640"/>
            <a:ext cx="604800" cy="604800"/>
          </a:xfrm>
          <a:custGeom>
            <a:avLst/>
            <a:gdLst>
              <a:gd name="textAreaLeft" fmla="*/ 140760 w 604800"/>
              <a:gd name="textAreaRight" fmla="*/ 463680 w 604800"/>
              <a:gd name="textAreaTop" fmla="*/ 63720 h 604800"/>
              <a:gd name="textAreaBottom" fmla="*/ 383040 h 604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82ce78"/>
              </a:gs>
              <a:gs pos="100000">
                <a:srgbClr val="763f5a"/>
              </a:gs>
            </a:gsLst>
            <a:lin ang="3570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206280" y="2997360"/>
            <a:ext cx="98640" cy="1670040"/>
          </a:xfrm>
          <a:prstGeom prst="line">
            <a:avLst/>
          </a:prstGeom>
          <a:ln w="19080">
            <a:solidFill>
              <a:srgbClr val="ff7c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6"/>
          <p:cNvSpPr/>
          <p:nvPr/>
        </p:nvSpPr>
        <p:spPr>
          <a:xfrm rot="2292000">
            <a:off x="87120" y="2665080"/>
            <a:ext cx="514080" cy="514440"/>
          </a:xfrm>
          <a:custGeom>
            <a:avLst/>
            <a:gdLst>
              <a:gd name="textAreaLeft" fmla="*/ 119880 w 514080"/>
              <a:gd name="textAreaRight" fmla="*/ 394200 w 514080"/>
              <a:gd name="textAreaTop" fmla="*/ 54000 h 514440"/>
              <a:gd name="textAreaBottom" fmla="*/ 325800 h 514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3108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1760" y="434880"/>
            <a:ext cx="5256360" cy="11239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нний возрас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Arc 72"/>
          <p:cNvSpPr/>
          <p:nvPr/>
        </p:nvSpPr>
        <p:spPr>
          <a:xfrm>
            <a:off x="0" y="4722840"/>
            <a:ext cx="2138400" cy="2135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8892a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1"/>
          <a:stretch/>
        </p:blipFill>
        <p:spPr>
          <a:xfrm>
            <a:off x="4497480" y="2239920"/>
            <a:ext cx="3165480" cy="21924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6"/>
          <p:cNvGrpSpPr/>
          <p:nvPr/>
        </p:nvGrpSpPr>
        <p:grpSpPr>
          <a:xfrm>
            <a:off x="2171880" y="2355840"/>
            <a:ext cx="1653840" cy="463680"/>
            <a:chOff x="2171880" y="2355840"/>
            <a:chExt cx="1653840" cy="463680"/>
          </a:xfrm>
        </p:grpSpPr>
        <p:sp>
          <p:nvSpPr>
            <p:cNvPr id="84" name="AutoShape 17"/>
            <p:cNvSpPr/>
            <p:nvPr/>
          </p:nvSpPr>
          <p:spPr>
            <a:xfrm>
              <a:off x="2171880" y="2355840"/>
              <a:ext cx="1653840" cy="463680"/>
            </a:xfrm>
            <a:prstGeom prst="roundRect">
              <a:avLst>
                <a:gd name="adj" fmla="val 17509"/>
              </a:avLst>
            </a:pr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Group 18"/>
            <p:cNvGrpSpPr/>
            <p:nvPr/>
          </p:nvGrpSpPr>
          <p:grpSpPr>
            <a:xfrm>
              <a:off x="2175840" y="2370240"/>
              <a:ext cx="1647720" cy="428400"/>
              <a:chOff x="2175840" y="2370240"/>
              <a:chExt cx="1647720" cy="428400"/>
            </a:xfrm>
          </p:grpSpPr>
          <p:sp>
            <p:nvSpPr>
              <p:cNvPr id="86" name="AutoShape 19"/>
              <p:cNvSpPr/>
              <p:nvPr/>
            </p:nvSpPr>
            <p:spPr>
              <a:xfrm>
                <a:off x="2175840" y="2687760"/>
                <a:ext cx="164772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d7d31">
                      <a:alpha val="0"/>
                    </a:srgbClr>
                  </a:gs>
                  <a:gs pos="100000">
                    <a:srgbClr val="f9d2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AutoShape 20"/>
              <p:cNvSpPr/>
              <p:nvPr/>
            </p:nvSpPr>
            <p:spPr>
              <a:xfrm>
                <a:off x="2175840" y="2370240"/>
                <a:ext cx="1647720" cy="11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9d6be"/>
                  </a:gs>
                  <a:gs pos="100000">
                    <a:srgbClr val="ed7d3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" name="Group 16"/>
          <p:cNvGrpSpPr/>
          <p:nvPr/>
        </p:nvGrpSpPr>
        <p:grpSpPr>
          <a:xfrm>
            <a:off x="2773440" y="3487680"/>
            <a:ext cx="1603440" cy="463680"/>
            <a:chOff x="2773440" y="3487680"/>
            <a:chExt cx="1603440" cy="463680"/>
          </a:xfrm>
        </p:grpSpPr>
        <p:sp>
          <p:nvSpPr>
            <p:cNvPr id="89" name="AutoShape 17"/>
            <p:cNvSpPr/>
            <p:nvPr/>
          </p:nvSpPr>
          <p:spPr>
            <a:xfrm>
              <a:off x="2773440" y="3487680"/>
              <a:ext cx="1603440" cy="463680"/>
            </a:xfrm>
            <a:prstGeom prst="roundRect">
              <a:avLst>
                <a:gd name="adj" fmla="val 17509"/>
              </a:avLst>
            </a:prstGeom>
            <a:solidFill>
              <a:srgbClr val="57d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" name="Group 18"/>
            <p:cNvGrpSpPr/>
            <p:nvPr/>
          </p:nvGrpSpPr>
          <p:grpSpPr>
            <a:xfrm>
              <a:off x="2777040" y="3502080"/>
              <a:ext cx="1597680" cy="428400"/>
              <a:chOff x="2777040" y="3502080"/>
              <a:chExt cx="1597680" cy="428400"/>
            </a:xfrm>
          </p:grpSpPr>
          <p:sp>
            <p:nvSpPr>
              <p:cNvPr id="91" name="AutoShape 19"/>
              <p:cNvSpPr/>
              <p:nvPr/>
            </p:nvSpPr>
            <p:spPr>
              <a:xfrm>
                <a:off x="2777040" y="3819600"/>
                <a:ext cx="159768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d7d31">
                      <a:alpha val="0"/>
                    </a:srgbClr>
                  </a:gs>
                  <a:gs pos="100000">
                    <a:srgbClr val="f9d2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AutoShape 20"/>
              <p:cNvSpPr/>
              <p:nvPr/>
            </p:nvSpPr>
            <p:spPr>
              <a:xfrm>
                <a:off x="2777040" y="3502080"/>
                <a:ext cx="1597680" cy="11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9d6be"/>
                  </a:gs>
                  <a:gs pos="100000">
                    <a:srgbClr val="ed7d3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" name="Group 16"/>
          <p:cNvGrpSpPr/>
          <p:nvPr/>
        </p:nvGrpSpPr>
        <p:grpSpPr>
          <a:xfrm>
            <a:off x="3336840" y="4984920"/>
            <a:ext cx="1527120" cy="463320"/>
            <a:chOff x="3336840" y="4984920"/>
            <a:chExt cx="1527120" cy="463320"/>
          </a:xfrm>
        </p:grpSpPr>
        <p:sp>
          <p:nvSpPr>
            <p:cNvPr id="94" name="AutoShape 17"/>
            <p:cNvSpPr/>
            <p:nvPr/>
          </p:nvSpPr>
          <p:spPr>
            <a:xfrm>
              <a:off x="3336840" y="4984920"/>
              <a:ext cx="1527120" cy="463320"/>
            </a:xfrm>
            <a:prstGeom prst="roundRect">
              <a:avLst>
                <a:gd name="adj" fmla="val 17509"/>
              </a:avLst>
            </a:prstGeom>
            <a:solidFill>
              <a:srgbClr val="d05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" name="Group 18"/>
            <p:cNvGrpSpPr/>
            <p:nvPr/>
          </p:nvGrpSpPr>
          <p:grpSpPr>
            <a:xfrm>
              <a:off x="3340440" y="4999320"/>
              <a:ext cx="1521720" cy="428400"/>
              <a:chOff x="3340440" y="4999320"/>
              <a:chExt cx="1521720" cy="428400"/>
            </a:xfrm>
          </p:grpSpPr>
          <p:sp>
            <p:nvSpPr>
              <p:cNvPr id="96" name="AutoShape 19"/>
              <p:cNvSpPr/>
              <p:nvPr/>
            </p:nvSpPr>
            <p:spPr>
              <a:xfrm>
                <a:off x="3340440" y="5316840"/>
                <a:ext cx="152172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d7d31">
                      <a:alpha val="0"/>
                    </a:srgbClr>
                  </a:gs>
                  <a:gs pos="100000">
                    <a:srgbClr val="f9d2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AutoShape 20"/>
              <p:cNvSpPr/>
              <p:nvPr/>
            </p:nvSpPr>
            <p:spPr>
              <a:xfrm>
                <a:off x="3340440" y="4999320"/>
                <a:ext cx="152172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9d6be"/>
                  </a:gs>
                  <a:gs pos="100000">
                    <a:srgbClr val="ed7d3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8" name="Group 16"/>
          <p:cNvGrpSpPr/>
          <p:nvPr/>
        </p:nvGrpSpPr>
        <p:grpSpPr>
          <a:xfrm>
            <a:off x="19080" y="1990800"/>
            <a:ext cx="1390680" cy="463320"/>
            <a:chOff x="19080" y="1990800"/>
            <a:chExt cx="1390680" cy="463320"/>
          </a:xfrm>
        </p:grpSpPr>
        <p:sp>
          <p:nvSpPr>
            <p:cNvPr id="99" name="AutoShape 17"/>
            <p:cNvSpPr/>
            <p:nvPr/>
          </p:nvSpPr>
          <p:spPr>
            <a:xfrm>
              <a:off x="19080" y="1990800"/>
              <a:ext cx="1390680" cy="463320"/>
            </a:xfrm>
            <a:prstGeom prst="roundRect">
              <a:avLst>
                <a:gd name="adj" fmla="val 17509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" name="Group 18"/>
            <p:cNvGrpSpPr/>
            <p:nvPr/>
          </p:nvGrpSpPr>
          <p:grpSpPr>
            <a:xfrm>
              <a:off x="22320" y="2005200"/>
              <a:ext cx="1385640" cy="428400"/>
              <a:chOff x="22320" y="2005200"/>
              <a:chExt cx="1385640" cy="428400"/>
            </a:xfrm>
          </p:grpSpPr>
          <p:sp>
            <p:nvSpPr>
              <p:cNvPr id="101" name="AutoShape 19"/>
              <p:cNvSpPr/>
              <p:nvPr/>
            </p:nvSpPr>
            <p:spPr>
              <a:xfrm>
                <a:off x="22320" y="2322720"/>
                <a:ext cx="13856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d7d31">
                      <a:alpha val="0"/>
                    </a:srgbClr>
                  </a:gs>
                  <a:gs pos="100000">
                    <a:srgbClr val="f9d2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AutoShape 20"/>
              <p:cNvSpPr/>
              <p:nvPr/>
            </p:nvSpPr>
            <p:spPr>
              <a:xfrm>
                <a:off x="22320" y="2005200"/>
                <a:ext cx="13856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9d6be"/>
                  </a:gs>
                  <a:gs pos="100000">
                    <a:srgbClr val="ed7d3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3" name="Text Box 85"/>
          <p:cNvSpPr/>
          <p:nvPr/>
        </p:nvSpPr>
        <p:spPr>
          <a:xfrm>
            <a:off x="58680" y="2048040"/>
            <a:ext cx="13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АУТ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9"/>
          <p:cNvSpPr/>
          <p:nvPr/>
        </p:nvSpPr>
        <p:spPr>
          <a:xfrm>
            <a:off x="2328840" y="245412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Ш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46"/>
          <p:cNvSpPr/>
          <p:nvPr/>
        </p:nvSpPr>
        <p:spPr>
          <a:xfrm>
            <a:off x="2700000" y="355752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ЛЫБЕЛЬ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47"/>
          <p:cNvSpPr/>
          <p:nvPr/>
        </p:nvSpPr>
        <p:spPr>
          <a:xfrm>
            <a:off x="3465720" y="505476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ЯСОВ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48"/>
          <p:cNvSpPr/>
          <p:nvPr/>
        </p:nvSpPr>
        <p:spPr>
          <a:xfrm>
            <a:off x="4371840" y="5573880"/>
            <a:ext cx="4759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гры с кукл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неотъемлемая часть духовной и материальной культуры народа. С ее помощью ребенок приобщается к социально-культурному опыту н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19"/>
          <p:cNvSpPr/>
          <p:nvPr/>
        </p:nvSpPr>
        <p:spPr>
          <a:xfrm>
            <a:off x="360360" y="3309840"/>
            <a:ext cx="6064200" cy="1532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7" descr=""/>
          <p:cNvPicPr/>
          <p:nvPr/>
        </p:nvPicPr>
        <p:blipFill>
          <a:blip r:embed="rId1"/>
          <a:stretch/>
        </p:blipFill>
        <p:spPr>
          <a:xfrm>
            <a:off x="5416560" y="4010040"/>
            <a:ext cx="3798720" cy="2847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3320" y="95040"/>
            <a:ext cx="7886880" cy="10062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ий возрас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2"/>
          <a:stretch/>
        </p:blipFill>
        <p:spPr>
          <a:xfrm>
            <a:off x="182520" y="1298520"/>
            <a:ext cx="2700360" cy="202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312000" y="1573560"/>
            <a:ext cx="5333040" cy="147348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 anchorCtr="1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тмечаем государственные праздник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здники народного календар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им детей с явлениями общественной жиз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«Семья», «Детский сад»,  «Родная стран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360360" y="345456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уем способность слушать рассказы воспитателя и сверстников о разных жизненных ситуац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таем русские народные сказки и сказки народов мира, которые  разнообразны по содержанию, объему и динам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201600" y="5227560"/>
            <a:ext cx="4994280" cy="13654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360360" y="5526000"/>
            <a:ext cx="5286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им детей с правилами вежлив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ем специальные игровые ситу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2"/>
          <p:cNvSpPr/>
          <p:nvPr/>
        </p:nvSpPr>
        <p:spPr>
          <a:xfrm>
            <a:off x="466560" y="5210280"/>
            <a:ext cx="6075360" cy="1460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82440" y="3651120"/>
            <a:ext cx="4722840" cy="11638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2801880" y="1822320"/>
            <a:ext cx="4722840" cy="11638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5120" y="434880"/>
            <a:ext cx="4751280" cy="123048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редний  возрас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2828880" y="1822320"/>
            <a:ext cx="518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асширяем представления о семь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 Проводим беседы о родном городе, подбираем фотографии, картинки с видами гор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62000" y="3508200"/>
            <a:ext cx="50004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ываем отзывчивость, скромность, желание быть справедливым, сильным, смелым; проявление чувства стыда за неблаговидный поступ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Формируем навыки вежливого пове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566640" y="5278320"/>
            <a:ext cx="6286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уем чувство причастности к событиям, которые происходят в семье, детском саду, стра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уем личное отношение ребенка к выполне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(и нарушению) принятых моральных но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9" descr=""/>
          <p:cNvPicPr/>
          <p:nvPr/>
        </p:nvPicPr>
        <p:blipFill>
          <a:blip r:embed="rId1"/>
          <a:stretch/>
        </p:blipFill>
        <p:spPr>
          <a:xfrm>
            <a:off x="5421240" y="3083040"/>
            <a:ext cx="3283200" cy="20350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0" descr=""/>
          <p:cNvPicPr/>
          <p:nvPr/>
        </p:nvPicPr>
        <p:blipFill>
          <a:blip r:embed="rId2"/>
          <a:stretch/>
        </p:blipFill>
        <p:spPr>
          <a:xfrm>
            <a:off x="82440" y="1822320"/>
            <a:ext cx="2314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Шахноза Ибрагимова</cp:lastModifiedBy>
  <dcterms:modified xsi:type="dcterms:W3CDTF">2023-05-22T09:57:04Z</dcterms:modified>
  <cp:revision>19</cp:revision>
  <dc:subject/>
  <dc:title>Название презентации</dc:title>
</cp:coreProperties>
</file>