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5.jpeg" ContentType="image/jpeg"/>
  <Override PartName="/ppt/media/image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983-9A0C-456C-ACE3-BC6453E1D16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BC5-0062-4B90-9D18-EA50B375B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E6D3-99F1-409F-94FB-2737EB0C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E823-8610-4DF4-9AED-E5111BDB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4422-53EF-4B61-815A-7A05B705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8AB6-642D-4CA5-83A4-CA3E6BCA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D10C-5E58-4448-8CDE-356DDCA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2451-F29D-4877-A7F6-61D10D30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123F-2B68-477D-A30F-56D3D38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CC69-380C-45CF-9192-11C903E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3DD2-7C84-48EC-A475-123967C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9FB8-4DB4-4371-A2AC-293C111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563E-8BE7-4146-B349-5BC4E9D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A7A6-F479-407E-BDD9-FD4AA29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F37-45F6-47E9-8F98-9A15046EC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4-й лишний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379224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440" y="1347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43360" y="2819520"/>
            <a:ext cx="1743120" cy="26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41960" y="42768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54480" y="3795840"/>
            <a:ext cx="1185840" cy="113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3800" y="3827520"/>
            <a:ext cx="138924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59400" y="3994200"/>
            <a:ext cx="1435320" cy="10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08240" y="3795840"/>
            <a:ext cx="1241640" cy="144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591320" y="3984480"/>
            <a:ext cx="1379520" cy="138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04000" y="4084560"/>
            <a:ext cx="1204920" cy="957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2480" y="1308240"/>
            <a:ext cx="19080" cy="3809880"/>
          </a:xfrm>
          <a:prstGeom prst="line">
            <a:avLst/>
          </a:prstGeom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3946680"/>
            <a:ext cx="1187640" cy="113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06600" y="698400"/>
            <a:ext cx="381600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486400" y="78120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751040" cy="249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2514600" cy="245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24080" y="1055520"/>
            <a:ext cx="3038760" cy="386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629400" y="457200"/>
            <a:ext cx="20304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520" y="357120"/>
            <a:ext cx="3810240" cy="24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05600" y="2965320"/>
            <a:ext cx="2117880" cy="386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705720" y="38160"/>
            <a:ext cx="1811160" cy="2415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219320" y="3276720"/>
            <a:ext cx="3940200" cy="2819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267080" y="262080"/>
            <a:ext cx="211788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58672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ставьте словосочетани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1371600" cy="1050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67440" y="30481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16040" y="3164040"/>
            <a:ext cx="2102040" cy="167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790640" y="4867200"/>
            <a:ext cx="2571840" cy="1695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295880" y="1990800"/>
            <a:ext cx="977760" cy="484200"/>
          </a:xfrm>
          <a:custGeom>
            <a:avLst/>
            <a:gdLst/>
            <a:ahLst/>
            <a:rect l="l" t="t" r="r" b="b"/>
            <a:pathLst>
              <a:path w="2716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6" y="1380"/>
                </a:lnTo>
                <a:lnTo>
                  <a:pt x="2716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754520" y="3898800"/>
            <a:ext cx="978120" cy="484200"/>
          </a:xfrm>
          <a:custGeom>
            <a:avLst/>
            <a:gdLst/>
            <a:ahLst/>
            <a:rect l="l" t="t" r="r" b="b"/>
            <a:pathLst>
              <a:path w="2717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7" y="1380"/>
                </a:lnTo>
                <a:lnTo>
                  <a:pt x="2717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4792680" y="5410080"/>
            <a:ext cx="977760" cy="484200"/>
          </a:xfrm>
          <a:custGeom>
            <a:avLst/>
            <a:gdLst/>
            <a:ahLst/>
            <a:rect l="l" t="t" r="r" b="b"/>
            <a:pathLst>
              <a:path w="2716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6" y="1380"/>
                </a:lnTo>
                <a:lnTo>
                  <a:pt x="2716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552680" y="1362240"/>
            <a:ext cx="257796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20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Музыкальная пауза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85800"/>
            <a:ext cx="838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П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АУ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З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868320"/>
            <a:ext cx="9124920" cy="513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-буквенный анализ слов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222732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7840" y="5075280"/>
            <a:ext cx="197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DejaVu Sans"/>
              </a:rPr>
              <a:t>ЖУК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859280"/>
            <a:ext cx="338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  <a:ea typeface="DejaVu Sans"/>
              </a:rPr>
              <a:t>шляпа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643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533520"/>
            <a:ext cx="43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к и сороконож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на лесной дорожке жук увидел сороконожку. Сороконожка была в жёлтой шляпке. «Как она хороша!» — подумал жук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дя к сороконожке, вежливый жук приподнял свою шляпу. Сороконожка подала ему свои лапки для пожатия и  прошептала: «Доброе утро, милый жук!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к было так много, что последнюю лапку жук пожал уже ближе к ужин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403848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 М</dc:creator>
  <dc:description/>
  <dc:language>en-US</dc:language>
  <cp:lastModifiedBy>Т М</cp:lastModifiedBy>
  <dcterms:modified xsi:type="dcterms:W3CDTF">2023-05-22T15:43:2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