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27.jpeg" ContentType="image/jpeg"/>
  <Override PartName="/ppt/media/image25.jpeg" ContentType="image/jpeg"/>
  <Override PartName="/ppt/media/image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1A06-1254-4077-91C7-5EDF7934C1AA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6DEE-3E13-4CCE-82AA-32BAD7FDAC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2DAB-4A77-4120-9338-C10BFD39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E3360-ECB0-4F22-96E0-1688DC98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C8E28-FD3B-4CEC-87A7-5428C535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3E1DC-AA81-4683-A4C5-F23FB8AA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88659-CA23-4BFF-B4B7-464D4F19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00DB2-2117-41A1-883E-BEBCDD44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72A2B-5B4D-4629-9AC6-C6BBB402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DA0F4-8AE0-4407-B102-B163A8A3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D1B4-4299-486F-AFF7-782B3353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9087A-4DF6-492D-9536-9BE74650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06D7F-7A93-4990-8FFF-BCEA37DC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0AA12-74ED-46B9-8BC3-A8FF2E9F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E170-F592-4DAE-BFCF-B01A54356F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4-й лишний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379224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4440" y="13478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43360" y="2819520"/>
            <a:ext cx="1743120" cy="2628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141960" y="4276800"/>
            <a:ext cx="312444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54480" y="3795840"/>
            <a:ext cx="1185840" cy="1135080"/>
          </a:xfrm>
          <a:prstGeom prst="rect">
            <a:avLst/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93800" y="3827520"/>
            <a:ext cx="1389240" cy="1254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359400" y="3994200"/>
            <a:ext cx="1435320" cy="103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108240" y="3795840"/>
            <a:ext cx="1241640" cy="1444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591320" y="3984480"/>
            <a:ext cx="1379520" cy="1381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704000" y="4084560"/>
            <a:ext cx="1204920" cy="957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722480" y="1308240"/>
            <a:ext cx="19080" cy="3809880"/>
          </a:xfrm>
          <a:prstGeom prst="line">
            <a:avLst/>
          </a:prstGeom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/>
          <p:cNvSpPr/>
          <p:nvPr/>
        </p:nvSpPr>
        <p:spPr>
          <a:xfrm>
            <a:off x="493560" y="3946680"/>
            <a:ext cx="1187640" cy="1135080"/>
          </a:xfrm>
          <a:prstGeom prst="rect">
            <a:avLst/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06600" y="698400"/>
            <a:ext cx="3816000" cy="2730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5486400" y="781200"/>
            <a:ext cx="25653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43434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934320" y="3809880"/>
            <a:ext cx="1751040" cy="249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09480" y="533520"/>
            <a:ext cx="2514600" cy="2455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124080" y="1055520"/>
            <a:ext cx="3038760" cy="3867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629400" y="457200"/>
            <a:ext cx="203040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1520" y="357120"/>
            <a:ext cx="3810240" cy="2414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05600" y="2965320"/>
            <a:ext cx="2117880" cy="3864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705720" y="38160"/>
            <a:ext cx="1811160" cy="2415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219320" y="3276720"/>
            <a:ext cx="3940200" cy="2819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267080" y="262080"/>
            <a:ext cx="2117880" cy="26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5867280" cy="54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оставьте словосочетания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553080" y="5257800"/>
            <a:ext cx="1371600" cy="1050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067440" y="304812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616040" y="3164040"/>
            <a:ext cx="2102040" cy="167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790640" y="4867200"/>
            <a:ext cx="2571840" cy="1695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295880" y="1990800"/>
            <a:ext cx="977760" cy="484200"/>
          </a:xfrm>
          <a:custGeom>
            <a:avLst/>
            <a:gdLst/>
            <a:ahLst/>
            <a:rect l="l" t="t" r="r" b="b"/>
            <a:pathLst>
              <a:path w="2716" h="1415">
                <a:moveTo>
                  <a:pt x="0" y="673"/>
                </a:moveTo>
                <a:lnTo>
                  <a:pt x="664" y="0"/>
                </a:lnTo>
                <a:lnTo>
                  <a:pt x="664" y="1380"/>
                </a:lnTo>
                <a:lnTo>
                  <a:pt x="2716" y="1380"/>
                </a:lnTo>
                <a:lnTo>
                  <a:pt x="2716" y="-35"/>
                </a:lnTo>
                <a:lnTo>
                  <a:pt x="664" y="-35"/>
                </a:lnTo>
                <a:lnTo>
                  <a:pt x="664" y="1345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"/>
          <p:cNvSpPr/>
          <p:nvPr/>
        </p:nvSpPr>
        <p:spPr>
          <a:xfrm>
            <a:off x="4754520" y="3898800"/>
            <a:ext cx="978120" cy="484200"/>
          </a:xfrm>
          <a:custGeom>
            <a:avLst/>
            <a:gdLst/>
            <a:ahLst/>
            <a:rect l="l" t="t" r="r" b="b"/>
            <a:pathLst>
              <a:path w="2717" h="1415">
                <a:moveTo>
                  <a:pt x="0" y="673"/>
                </a:moveTo>
                <a:lnTo>
                  <a:pt x="664" y="0"/>
                </a:lnTo>
                <a:lnTo>
                  <a:pt x="664" y="1380"/>
                </a:lnTo>
                <a:lnTo>
                  <a:pt x="2717" y="1380"/>
                </a:lnTo>
                <a:lnTo>
                  <a:pt x="2717" y="-35"/>
                </a:lnTo>
                <a:lnTo>
                  <a:pt x="664" y="-35"/>
                </a:lnTo>
                <a:lnTo>
                  <a:pt x="664" y="1345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"/>
          <p:cNvSpPr/>
          <p:nvPr/>
        </p:nvSpPr>
        <p:spPr>
          <a:xfrm>
            <a:off x="4792680" y="5410080"/>
            <a:ext cx="977760" cy="484200"/>
          </a:xfrm>
          <a:custGeom>
            <a:avLst/>
            <a:gdLst/>
            <a:ahLst/>
            <a:rect l="l" t="t" r="r" b="b"/>
            <a:pathLst>
              <a:path w="2716" h="1415">
                <a:moveTo>
                  <a:pt x="0" y="673"/>
                </a:moveTo>
                <a:lnTo>
                  <a:pt x="664" y="0"/>
                </a:lnTo>
                <a:lnTo>
                  <a:pt x="664" y="1380"/>
                </a:lnTo>
                <a:lnTo>
                  <a:pt x="2716" y="1380"/>
                </a:lnTo>
                <a:lnTo>
                  <a:pt x="2716" y="-35"/>
                </a:lnTo>
                <a:lnTo>
                  <a:pt x="664" y="-35"/>
                </a:lnTo>
                <a:lnTo>
                  <a:pt x="664" y="1345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1552680" y="1362240"/>
            <a:ext cx="257796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16020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Музыкальная пауза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685800"/>
            <a:ext cx="8380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Arial"/>
                <a:ea typeface="DejaVu Sans"/>
              </a:rPr>
              <a:t>П</a:t>
            </a:r>
            <a:br>
              <a:rPr sz="6000"/>
            </a:br>
            <a:r>
              <a:rPr b="1" lang="ru-RU" sz="6000" spc="-1" strike="noStrike">
                <a:solidFill>
                  <a:srgbClr val="0000cc"/>
                </a:solidFill>
                <a:latin typeface="Arial"/>
                <a:ea typeface="DejaVu Sans"/>
              </a:rPr>
              <a:t>АУ</a:t>
            </a:r>
            <a:br>
              <a:rPr sz="6000"/>
            </a:br>
            <a:r>
              <a:rPr b="1" lang="ru-RU" sz="6000" spc="-1" strike="noStrike">
                <a:solidFill>
                  <a:srgbClr val="0000cc"/>
                </a:solidFill>
                <a:latin typeface="Arial"/>
                <a:ea typeface="DejaVu Sans"/>
              </a:rPr>
              <a:t>З</a:t>
            </a:r>
            <a:br>
              <a:rPr sz="6000"/>
            </a:br>
            <a:r>
              <a:rPr b="1" lang="ru-RU" sz="6000" spc="-1" strike="noStrike">
                <a:solidFill>
                  <a:srgbClr val="0000cc"/>
                </a:solidFill>
                <a:latin typeface="Arial"/>
                <a:ea typeface="DejaVu Sans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868320"/>
            <a:ext cx="9124920" cy="513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nodeType="clickEffect" fill="hold">
                      <p:stCondLst>
                        <p:cond delay="0"/>
                      </p:stCondLst>
                      <p:childTnLst>
                        <p:par>
                          <p:cTn id="1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вуко-буквенный анализ слов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43000" y="2227320"/>
            <a:ext cx="2743200" cy="1962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7840" y="5075280"/>
            <a:ext cx="197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DejaVu Sans"/>
              </a:rPr>
              <a:t>ЖУК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4859280"/>
            <a:ext cx="338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  <a:ea typeface="DejaVu Sans"/>
              </a:rPr>
              <a:t>шляпа</a:t>
            </a:r>
            <a:endParaRPr b="0" lang="en-US" sz="8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26431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0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533520"/>
            <a:ext cx="4343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ук и сороконожк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ром на лесной дорожке жук увидел сороконожку. Сороконожка была в жёлтой шляпке. «Как она хороша!» — подумал жук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йдя к сороконожке, вежливый жук приподнял свою шляпу. Сороконожка подала ему свои лапки для пожатия и  прошептала: «Доброе утро, милый жук!»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пок было так много, что последнюю лапку жук пожал уже ближе к ужину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4038480" cy="393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 М</dc:creator>
  <dc:description/>
  <dc:language>en-US</dc:language>
  <cp:lastModifiedBy>Т М</cp:lastModifiedBy>
  <dcterms:modified xsi:type="dcterms:W3CDTF">2023-05-22T15:43:22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