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FED-2B89-4935-998B-A8C5EA7C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14F-5D16-4EDA-B4FF-6753B932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C29C-8B53-4115-A3E3-D477FE45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1C3-5461-470C-BD0A-C1B48571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3219-C68B-483E-ACF3-057BEF67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396-841F-4890-8CA2-1E22DE10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DE9-4ADF-43A0-848C-F5C9DBD4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B12E-285F-483A-89C9-9791D5E6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437-2BAC-4258-927B-5855E6EB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4FEC-0312-4268-9AED-2B0EF1DB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364B-149E-47D9-AFA5-CBA920E5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42EB-C9DA-46BE-95EC-839D3834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0AF0-1CE2-4098-947B-46114B83D7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User\Downloads\63ffb22eb2da84f0af13830e25ab1c35-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028880" y="635040"/>
            <a:ext cx="674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ГОЛИЦЫНСКАЯ СОШ №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отделение –детский сад № 6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231840" y="2189160"/>
            <a:ext cx="871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о-оздоровительный проект с детьми раннего возра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лыши – крепыши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691320" y="435780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никова В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3571920" y="5572080"/>
            <a:ext cx="19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г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олицы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3 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дактические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C:\Users\Вика\Desktop\Новая папка (2)\IMG_20230309_160257.jpg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Users\Вика\Desktop\Новая папка (2)\IMG_20230309_160757.jpg"/>
          <p:cNvPicPr/>
          <p:nvPr/>
        </p:nvPicPr>
        <p:blipFill>
          <a:blip r:embed="rId3"/>
          <a:stretch/>
        </p:blipFill>
        <p:spPr>
          <a:xfrm>
            <a:off x="4648320" y="1643040"/>
            <a:ext cx="4038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южетно-ролевые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C:\Users\Вика\Desktop\Новая папка (2)\IMG_20230306_162955_1.jpg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Вика\Desktop\Новая папка (2)\IMG_20230307_090435.jpg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ртивный досуг «День здоровья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C:\Users\Вика\Desktop\Новая папка (2)\IMG_20230314_092952_1.jpg"/>
          <p:cNvPicPr/>
          <p:nvPr/>
        </p:nvPicPr>
        <p:blipFill>
          <a:blip r:embed="rId2"/>
          <a:stretch/>
        </p:blipFill>
        <p:spPr>
          <a:xfrm>
            <a:off x="457200" y="1643040"/>
            <a:ext cx="4038480" cy="442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Users\Вика\Desktop\Новая папка (2)\IMG_20230314_093814.jpg"/>
          <p:cNvPicPr/>
          <p:nvPr/>
        </p:nvPicPr>
        <p:blipFill>
          <a:blip r:embed="rId3"/>
          <a:stretch/>
        </p:blipFill>
        <p:spPr>
          <a:xfrm>
            <a:off x="4648320" y="1714680"/>
            <a:ext cx="4038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ОД « Ягодка клубни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C:\Users\Вика\Desktop\Новая папка (2)\IMG_20230310_162919.jpg"/>
          <p:cNvPicPr/>
          <p:nvPr/>
        </p:nvPicPr>
        <p:blipFill>
          <a:blip r:embed="rId2"/>
          <a:stretch/>
        </p:blipFill>
        <p:spPr>
          <a:xfrm>
            <a:off x="4648320" y="1643040"/>
            <a:ext cx="4038480" cy="450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Вика\Desktop\Новая папка (2)\IMG_20230310_161149_1.jpg"/>
          <p:cNvPicPr/>
          <p:nvPr/>
        </p:nvPicPr>
        <p:blipFill>
          <a:blip r:embed="rId3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2"/>
          <p:cNvSpPr/>
          <p:nvPr/>
        </p:nvSpPr>
        <p:spPr>
          <a:xfrm>
            <a:off x="214200" y="54936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:\Users\Вика\Desktop\Новая папка (2)\IMG_20230314_080714.jpg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Вика\Desktop\Новая папка (2)\IMG_20230314_080124.jpg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2"/>
          <p:cNvSpPr/>
          <p:nvPr/>
        </p:nvSpPr>
        <p:spPr>
          <a:xfrm>
            <a:off x="285840" y="549360"/>
            <a:ext cx="557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доровая семья - здоровая страна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C:\Users\Вика\Desktop\детский сад\ватсап\WhatsApp Images\IMG-20230311-WA0011.jpg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Вика\Desktop\детский сад\ватсап\WhatsApp Images\IMG-20230311-WA0012.jpg"/>
          <p:cNvPicPr/>
          <p:nvPr/>
        </p:nvPicPr>
        <p:blipFill>
          <a:blip r:embed="rId3"/>
          <a:stretch/>
        </p:blipFill>
        <p:spPr>
          <a:xfrm>
            <a:off x="5087880" y="1600200"/>
            <a:ext cx="3159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285840" y="549360"/>
            <a:ext cx="557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143000"/>
            <a:ext cx="8400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ект «Малыши - крепыши!» реализовал поставленные задачи. Родители понимают важность поставленной проблемы и пришли к выводу, что только совместная работа  семьи и педагогов  будет вести  детей к пониманию ценности здоровья и привычки к здоровому образу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User\Downloads\63ffb22eb2da84f0af13830e25ab1c35-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s://theslide.ru/img/thumbs/fa562a0a73ed53c4f1bd59f8fcd38315-800x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s://avatars.mds.yandex.net/i?id=15c26e787f8c88d35ca54c790efc833e_l-4311558-images-thumbs&amp;n=13"/>
          <p:cNvPicPr/>
          <p:nvPr/>
        </p:nvPicPr>
        <p:blipFill>
          <a:blip r:embed="rId3"/>
          <a:stretch/>
        </p:blipFill>
        <p:spPr>
          <a:xfrm>
            <a:off x="714240" y="642960"/>
            <a:ext cx="8001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8258040" cy="22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проек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чальное формирование основ здорового образа жизни у детей 2-4 лет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развитие познавательных, творческих способностей дет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User\Downloads\63ffb22eb2da84f0af13830e25ab1c35-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571680" y="591840"/>
            <a:ext cx="8001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де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ть представления детей о здоровье, особенностях его сохранения и укреп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вать культурно-гигиенические навыки и навыки самообслуживания; познавательный интерес; творческие способ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ть двигательные умения и навыки ребенка в соответствии с его индивидуальными особенн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User\Downloads\63ffb22eb2da84f0af13830e25ab1c35-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857160" y="1020240"/>
            <a:ext cx="77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одител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сить  компетентность родителей по вопроса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хранения и укрепления здоровь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ть  ответственность за сохранение и укрепление здоровья в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формировать родителей по вопросам здорового образа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User\Downloads\63ffb22eb2da84f0af13830e25ab1c35-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785880" y="804240"/>
            <a:ext cx="7858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педагог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ть потребности ведения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ть привычки к соблюдению режима дня, потребности в физических упражнениях и подвижных игр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огащать предметно  - развивающую среду груп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642960" y="450720"/>
            <a:ext cx="492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ортивный уголок груп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C:\Users\Вика\Desktop\Новая папка (2)\IMG_20230314_143501.jpg"/>
          <p:cNvPicPr/>
          <p:nvPr/>
        </p:nvPicPr>
        <p:blipFill>
          <a:blip r:embed="rId2"/>
          <a:stretch/>
        </p:blipFill>
        <p:spPr>
          <a:xfrm>
            <a:off x="785880" y="16430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Вика\Desktop\Новая папка (2)\IMG_20230314_142645.jpg"/>
          <p:cNvPicPr/>
          <p:nvPr/>
        </p:nvPicPr>
        <p:blipFill>
          <a:blip r:embed="rId3"/>
          <a:stretch/>
        </p:blipFill>
        <p:spPr>
          <a:xfrm>
            <a:off x="4648320" y="1643040"/>
            <a:ext cx="40384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еды, чтение художественной литера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C:\Users\Вика\Desktop\Новая папка (2)\IMG_20230314_091737_1.jpg"/>
          <p:cNvPicPr/>
          <p:nvPr/>
        </p:nvPicPr>
        <p:blipFill>
          <a:blip r:embed="rId2"/>
          <a:stretch/>
        </p:blipFill>
        <p:spPr>
          <a:xfrm>
            <a:off x="571680" y="1643040"/>
            <a:ext cx="3924000" cy="442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Вика\Desktop\Новая папка (2)\IMG_20230309_163517.jpg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6"/>
          <p:cNvSpPr/>
          <p:nvPr/>
        </p:nvSpPr>
        <p:spPr>
          <a:xfrm>
            <a:off x="500040" y="21420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льтурно-гигиенические навы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C:\Users\Вика\Desktop\Новая папка (2)\IMG_20230314_080828.jpg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Вика\Desktop\Новая папка (2)\IMG_20230314_080901.jpg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зарядку становис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C:\Users\Вика\Desktop\Новая папка (2)\IMG_20230314_100738.jpg"/>
          <p:cNvPicPr/>
          <p:nvPr/>
        </p:nvPicPr>
        <p:blipFill>
          <a:blip r:embed="rId2"/>
          <a:stretch/>
        </p:blipFill>
        <p:spPr>
          <a:xfrm>
            <a:off x="457200" y="1571760"/>
            <a:ext cx="4038480" cy="442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Вика\Desktop\Новая папка (2)\IMG_20230314_101009.jpg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08T15:27:59Z</dcterms:created>
  <dc:creator>User Windows</dc:creator>
  <dc:description/>
  <dc:language>en-US</dc:language>
  <cp:lastModifiedBy>Вика</cp:lastModifiedBy>
  <dcterms:modified xsi:type="dcterms:W3CDTF">2023-05-23T14:20:43Z</dcterms:modified>
  <cp:revision>144</cp:revision>
  <dc:subject/>
  <dc:title>Слайд 1</dc:title>
</cp:coreProperties>
</file>