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F88-A344-42BC-B492-2CE64444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B57-AE2A-47C4-8CD0-F78415D1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86A-0DD9-42E8-9A39-88306309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40E-1007-4B05-952E-C7A3F7D4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F6F-3C7D-4097-AE77-10AA9A80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F47-8187-42AF-B7F7-B50D98AB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B02-FAFF-465E-90D4-6720BD00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196-CDC6-49A5-9C41-4C8C0D4C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EF1-7803-4917-A18D-37275D64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67F-9F67-4295-8DC9-41B19277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E20-9FEA-4E39-9121-DAEB67DD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2E2-1C83-454E-B5AD-0EF024DF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7309-E2B3-472E-88B1-F91F4EF42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User\Downloads\63ffb22eb2da84f0af13830e25ab1c35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028880" y="635040"/>
            <a:ext cx="674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ГОЛИЦЫНСКАЯ СОШ №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тделение –детский сад № 6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231840" y="2189160"/>
            <a:ext cx="87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-оздоровительный проект с детьми ранне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лыши – крепыши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691320" y="435780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никова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3571920" y="5572080"/>
            <a:ext cx="19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лицы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3 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и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Users\Вика\Desktop\Новая папка (2)\IMG_20230309_160257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Вика\Desktop\Новая папка (2)\IMG_20230309_160757.jpg"/>
          <p:cNvPicPr/>
          <p:nvPr/>
        </p:nvPicPr>
        <p:blipFill>
          <a:blip r:embed="rId3"/>
          <a:stretch/>
        </p:blipFill>
        <p:spPr>
          <a:xfrm>
            <a:off x="4648320" y="1643040"/>
            <a:ext cx="4038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южетно-ролевы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Вика\Desktop\Новая папка (2)\IMG_20230306_162955_1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Вика\Desktop\Новая папка (2)\IMG_20230307_090435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ртивный досуг «День здоровья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:\Users\Вика\Desktop\Новая папка (2)\IMG_20230314_092952_1.jpg"/>
          <p:cNvPicPr/>
          <p:nvPr/>
        </p:nvPicPr>
        <p:blipFill>
          <a:blip r:embed="rId2"/>
          <a:stretch/>
        </p:blipFill>
        <p:spPr>
          <a:xfrm>
            <a:off x="457200" y="1643040"/>
            <a:ext cx="4038480" cy="442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Вика\Desktop\Новая папка (2)\IMG_20230314_093814.jpg"/>
          <p:cNvPicPr/>
          <p:nvPr/>
        </p:nvPicPr>
        <p:blipFill>
          <a:blip r:embed="rId3"/>
          <a:stretch/>
        </p:blipFill>
        <p:spPr>
          <a:xfrm>
            <a:off x="4648320" y="1714680"/>
            <a:ext cx="4038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ОД « Ягодка клубни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Users\Вика\Desktop\Новая папка (2)\IMG_20230310_162919.jpg"/>
          <p:cNvPicPr/>
          <p:nvPr/>
        </p:nvPicPr>
        <p:blipFill>
          <a:blip r:embed="rId2"/>
          <a:stretch/>
        </p:blipFill>
        <p:spPr>
          <a:xfrm>
            <a:off x="4648320" y="1643040"/>
            <a:ext cx="4038480" cy="450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Вика\Desktop\Новая папка (2)\IMG_20230310_161149_1.jpg"/>
          <p:cNvPicPr/>
          <p:nvPr/>
        </p:nvPicPr>
        <p:blipFill>
          <a:blip r:embed="rId3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/>
          <p:cNvSpPr/>
          <p:nvPr/>
        </p:nvSpPr>
        <p:spPr>
          <a:xfrm>
            <a:off x="214200" y="54936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Вика\Desktop\Новая папка (2)\IMG_20230314_080714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Вика\Desktop\Новая папка (2)\IMG_20230314_080124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285840" y="549360"/>
            <a:ext cx="55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доровая семья - здоровая страна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Users\Вика\Desktop\детский сад\ватсап\WhatsApp Images\IMG-20230311-WA0011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Вика\Desktop\детский сад\ватсап\WhatsApp Images\IMG-20230311-WA0012.jpg"/>
          <p:cNvPicPr/>
          <p:nvPr/>
        </p:nvPicPr>
        <p:blipFill>
          <a:blip r:embed="rId3"/>
          <a:stretch/>
        </p:blipFill>
        <p:spPr>
          <a:xfrm>
            <a:off x="5087880" y="1600200"/>
            <a:ext cx="315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85840" y="549360"/>
            <a:ext cx="55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«Малыши - крепыши!» реализовал поставленные задачи. Родители понимают важность поставленной проблемы и пришли к выводу, что только совместная работа  семьи и педагогов  будет вести  детей к пониманию ценности здоровья и привычки к здоровому образу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User\Downloads\63ffb22eb2da84f0af13830e25ab1c35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s://theslide.ru/img/thumbs/fa562a0a73ed53c4f1bd59f8fcd38315-800x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s://avatars.mds.yandex.net/i?id=15c26e787f8c88d35ca54c790efc833e_l-4311558-images-thumbs&amp;n=13"/>
          <p:cNvPicPr/>
          <p:nvPr/>
        </p:nvPicPr>
        <p:blipFill>
          <a:blip r:embed="rId3"/>
          <a:stretch/>
        </p:blipFill>
        <p:spPr>
          <a:xfrm>
            <a:off x="714240" y="642960"/>
            <a:ext cx="8001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258040" cy="22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альное формирование основ здорового образа жизни у детей 2-4 лет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витие познавательных, творческих способностей дет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ownloads\63ffb22eb2da84f0af13830e25ab1c35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71680" y="59184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де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ть представления детей о здоровье, особенностях его сохранения и укреп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вать культурно-гигиенические навыки и навыки самообслуживания; познавательный интерес; творческие способ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ть двигательные умения и навыки ребенка в соответствии с его индивидуальными особен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ownloads\63ffb22eb2da84f0af13830e25ab1c35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857160" y="102024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одит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сить  компетентность родителей по вопроса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хранения и укрепления здоровь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ть  ответственность за сохранение и укрепление здоровья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ормировать родителей по вопросам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ownloads\63ffb22eb2da84f0af13830e25ab1c35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785880" y="80424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едагог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ь потребности ведения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ь привычки к соблюдению режима дня, потребности в физических упражнениях и подвижных игр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огащать предметно  - развивающую среду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642960" y="45072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й уголок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Вика\Desktop\Новая папка (2)\IMG_20230314_143501.jpg"/>
          <p:cNvPicPr/>
          <p:nvPr/>
        </p:nvPicPr>
        <p:blipFill>
          <a:blip r:embed="rId2"/>
          <a:stretch/>
        </p:blipFill>
        <p:spPr>
          <a:xfrm>
            <a:off x="785880" y="16430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Вика\Desktop\Новая папка (2)\IMG_20230314_142645.jpg"/>
          <p:cNvPicPr/>
          <p:nvPr/>
        </p:nvPicPr>
        <p:blipFill>
          <a:blip r:embed="rId3"/>
          <a:stretch/>
        </p:blipFill>
        <p:spPr>
          <a:xfrm>
            <a:off x="4648320" y="1643040"/>
            <a:ext cx="40384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еды, чтение художественной литера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Вика\Desktop\Новая папка (2)\IMG_20230314_091737_1.jpg"/>
          <p:cNvPicPr/>
          <p:nvPr/>
        </p:nvPicPr>
        <p:blipFill>
          <a:blip r:embed="rId2"/>
          <a:stretch/>
        </p:blipFill>
        <p:spPr>
          <a:xfrm>
            <a:off x="571680" y="1643040"/>
            <a:ext cx="3924000" cy="44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Вика\Desktop\Новая папка (2)\IMG_20230309_163517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6"/>
          <p:cNvSpPr/>
          <p:nvPr/>
        </p:nvSpPr>
        <p:spPr>
          <a:xfrm>
            <a:off x="500040" y="21420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урно-гигиенические навы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Users\Вика\Desktop\Новая папка (2)\IMG_20230314_080828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Вика\Desktop\Новая папка (2)\IMG_20230314_080901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зарядку становис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Users\Вика\Desktop\Новая папка (2)\IMG_20230314_100738.jpg"/>
          <p:cNvPicPr/>
          <p:nvPr/>
        </p:nvPicPr>
        <p:blipFill>
          <a:blip r:embed="rId2"/>
          <a:stretch/>
        </p:blipFill>
        <p:spPr>
          <a:xfrm>
            <a:off x="457200" y="1571760"/>
            <a:ext cx="4038480" cy="442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Вика\Desktop\Новая папка (2)\IMG_20230314_101009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8T15:27:59Z</dcterms:created>
  <dc:creator>User Windows</dc:creator>
  <dc:description/>
  <dc:language>en-US</dc:language>
  <cp:lastModifiedBy>Вика</cp:lastModifiedBy>
  <dcterms:modified xsi:type="dcterms:W3CDTF">2023-05-23T14:20:43Z</dcterms:modified>
  <cp:revision>144</cp:revision>
  <dc:subject/>
  <dc:title>Слайд 1</dc:title>
</cp:coreProperties>
</file>