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352-2F37-4CB4-A00E-9F1ADC55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A52-F21D-4CB4-B6FD-2742B40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20F-EB0D-465B-B7BE-D00BC1CD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19A-E637-4919-82B3-25B7E492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6DD-98A1-4ABB-8B2E-9C6A0B39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83F-7A55-44CE-920F-6169984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1E6-B387-456E-9890-DD53EED4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A74-F8CE-47FD-8043-6E542FDE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3B4-8E13-4E09-8225-D5926C80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B29-2E52-42D6-9269-505638DE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80E-95EA-4FAA-BF96-3EEFB34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71B-6B39-4904-9E2A-EBCC592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F8B5-94B3-469F-A9ED-46F73F0D2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овокрестьянская поэ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Макс\Desktop\original.jpg"/>
          <p:cNvPicPr/>
          <p:nvPr/>
        </p:nvPicPr>
        <p:blipFill>
          <a:blip r:embed="rId2"/>
          <a:stretch/>
        </p:blipFill>
        <p:spPr>
          <a:xfrm>
            <a:off x="412920" y="1700280"/>
            <a:ext cx="8351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Users\Макс\Desktop\plakat_unichtojim_kulaka_1930.jpg"/>
          <p:cNvPicPr/>
          <p:nvPr/>
        </p:nvPicPr>
        <p:blipFill>
          <a:blip r:embed="rId2"/>
          <a:stretch/>
        </p:blipFill>
        <p:spPr>
          <a:xfrm>
            <a:off x="4427640" y="417600"/>
            <a:ext cx="4181400" cy="598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Макс\Desktop\0_99ba5_e555a612_orig.jpg"/>
          <p:cNvPicPr/>
          <p:nvPr/>
        </p:nvPicPr>
        <p:blipFill>
          <a:blip r:embed="rId3"/>
          <a:stretch/>
        </p:blipFill>
        <p:spPr>
          <a:xfrm>
            <a:off x="468360" y="417600"/>
            <a:ext cx="38163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3960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Макс\Desktop\kCdztOhelCA.jpg"/>
          <p:cNvPicPr/>
          <p:nvPr/>
        </p:nvPicPr>
        <p:blipFill>
          <a:blip r:embed="rId2"/>
          <a:stretch/>
        </p:blipFill>
        <p:spPr>
          <a:xfrm>
            <a:off x="395280" y="404640"/>
            <a:ext cx="2865600" cy="455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Макс\Desktop\7a734b59e05ce6e48599ffce392ff62e.jpg"/>
          <p:cNvPicPr/>
          <p:nvPr/>
        </p:nvPicPr>
        <p:blipFill>
          <a:blip r:embed="rId3"/>
          <a:stretch/>
        </p:blipFill>
        <p:spPr>
          <a:xfrm>
            <a:off x="3260880" y="2679840"/>
            <a:ext cx="56322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Макс\Desktop\cluev-1.jpg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Макс\Desktop\327973_600.jpg"/>
          <p:cNvPicPr/>
          <p:nvPr/>
        </p:nvPicPr>
        <p:blipFill>
          <a:blip r:embed="rId2"/>
          <a:stretch/>
        </p:blipFill>
        <p:spPr>
          <a:xfrm>
            <a:off x="4587840" y="404640"/>
            <a:ext cx="4154400" cy="604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Макс\Desktop\327861_600.jpg"/>
          <p:cNvPicPr/>
          <p:nvPr/>
        </p:nvPicPr>
        <p:blipFill>
          <a:blip r:embed="rId3"/>
          <a:stretch/>
        </p:blipFill>
        <p:spPr>
          <a:xfrm>
            <a:off x="468360" y="404640"/>
            <a:ext cx="40910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6840" y="981000"/>
            <a:ext cx="8218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 Я считаю, что политика индустриализации разрушает основу и красоту русской народной жизни, причём это разрушение сопровождается страданиями и гибелью миллионов русских люде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нчательно рушит основы и красоту той русской народной жизни, певцом которой я и был, проводимая коммунистической партией коллективиз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воспринимаю коллективизацию с мистическим ужасом, как бесовское насажд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Макс\Desktop\0_5e326_d83ba2c4_XXL.jpg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1450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Макс\Desktop\klyuev-dom.jpg"/>
          <p:cNvPicPr/>
          <p:nvPr/>
        </p:nvPicPr>
        <p:blipFill>
          <a:blip r:embed="rId2"/>
          <a:stretch/>
        </p:blipFill>
        <p:spPr>
          <a:xfrm>
            <a:off x="395280" y="62064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Разберемся во всем, что виде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Что случилось, что сталось в стран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простим, где нас горько оби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о чужой и по нашей в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484360" y="274680"/>
            <a:ext cx="96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олай Клю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280" y="2637000"/>
            <a:ext cx="77151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84-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Макс\Desktop\1560_1.jpg"/>
          <p:cNvPicPr/>
          <p:nvPr/>
        </p:nvPicPr>
        <p:blipFill>
          <a:blip r:embed="rId2"/>
          <a:stretch/>
        </p:blipFill>
        <p:spPr>
          <a:xfrm>
            <a:off x="4457880" y="620640"/>
            <a:ext cx="41148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0" y="12600"/>
            <a:ext cx="92376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Макс\Desktop\es.jpg"/>
          <p:cNvPicPr/>
          <p:nvPr/>
        </p:nvPicPr>
        <p:blipFill>
          <a:blip r:embed="rId2"/>
          <a:stretch/>
        </p:blipFill>
        <p:spPr>
          <a:xfrm>
            <a:off x="4643280" y="465120"/>
            <a:ext cx="4079880" cy="592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484360" y="274680"/>
            <a:ext cx="96487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гей Есен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58560" y="2852640"/>
            <a:ext cx="736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5-19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916360" y="274680"/>
            <a:ext cx="11017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гей Клыч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560" y="2852280"/>
            <a:ext cx="76438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89-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Макс\Desktop\photo_15.jpg"/>
          <p:cNvPicPr/>
          <p:nvPr/>
        </p:nvPicPr>
        <p:blipFill>
          <a:blip r:embed="rId2"/>
          <a:stretch/>
        </p:blipFill>
        <p:spPr>
          <a:xfrm>
            <a:off x="4587840" y="622440"/>
            <a:ext cx="418644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541800" y="980640"/>
            <a:ext cx="6265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ександ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иряев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87-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Макс\Desktop\27.gif"/>
          <p:cNvPicPr/>
          <p:nvPr/>
        </p:nvPicPr>
        <p:blipFill>
          <a:blip r:embed="rId2"/>
          <a:stretch/>
        </p:blipFill>
        <p:spPr>
          <a:xfrm>
            <a:off x="4379760" y="857160"/>
            <a:ext cx="431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885852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тр Ореш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000" y="2708280"/>
            <a:ext cx="3970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7-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Макс\Desktop\018_b.gif"/>
          <p:cNvPicPr/>
          <p:nvPr/>
        </p:nvPicPr>
        <p:blipFill>
          <a:blip r:embed="rId2"/>
          <a:stretch/>
        </p:blipFill>
        <p:spPr>
          <a:xfrm>
            <a:off x="468360" y="582480"/>
            <a:ext cx="3456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30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2ad6"/>
                </a:solidFill>
                <a:latin typeface="Calibri"/>
              </a:rPr>
              <a:t>Основные черты новокрестьянской поэзии</a:t>
            </a:r>
            <a:r>
              <a:rPr b="0" lang="ru-RU" sz="4000" spc="-1" strike="noStrike">
                <a:solidFill>
                  <a:srgbClr val="742ad6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вь к "малой Родине"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едование вековым народным обычаям и нравственным традиция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религиозной символики, христианских мотивов, языческих верован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щение к фольклорным сюжетам и образам, введение в поэтический обиход народных песен и частуше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рицание "порочной" городской культуры, сопротивление культу машин и желез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Макс\Desktop\nb7208-22.jpg"/>
          <p:cNvPicPr/>
          <p:nvPr/>
        </p:nvPicPr>
        <p:blipFill>
          <a:blip r:embed="rId2"/>
          <a:stretch/>
        </p:blipFill>
        <p:spPr>
          <a:xfrm>
            <a:off x="-36360" y="0"/>
            <a:ext cx="930096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Макс\Desktop\0_1207f9_8a1af4f3_XXL.jpg"/>
          <p:cNvPicPr/>
          <p:nvPr/>
        </p:nvPicPr>
        <p:blipFill>
          <a:blip r:embed="rId1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Макс\Desktop\fb986010c8dc4c4a35aff757258.jpg"/>
          <p:cNvPicPr/>
          <p:nvPr/>
        </p:nvPicPr>
        <p:blipFill>
          <a:blip r:embed="rId2"/>
          <a:stretch/>
        </p:blipFill>
        <p:spPr>
          <a:xfrm>
            <a:off x="-3024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8:22:47Z</dcterms:created>
  <dc:creator>MAX</dc:creator>
  <dc:description/>
  <dc:language>en-US</dc:language>
  <cp:lastModifiedBy>Учитель</cp:lastModifiedBy>
  <dcterms:modified xsi:type="dcterms:W3CDTF">2023-05-23T08:11:16Z</dcterms:modified>
  <cp:revision>26</cp:revision>
  <dc:subject/>
  <dc:title>Новокрестьянская поэзия</dc:title>
</cp:coreProperties>
</file>