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745-F07F-49C8-93E9-80CB4BCA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158-E00D-48E4-AD14-E3C2489E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D89-FCD1-41C0-919F-AFEF25E9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1CE-9922-4A1E-943B-1F6C139D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1DA-43E6-4A40-A29B-04CA5281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229-F23B-4362-B6B3-BC1263CE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BB1-90E4-4D62-8A3D-D8344E5B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F74-C33F-4B9C-A3F1-5BAD2F25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6EF-6E9B-49E1-9162-256DCFF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96E-00B8-4E68-A2B0-2110952E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83B-B0FC-49ED-876C-38F5A1C3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610-C240-4F4E-AEBF-A4021D32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4C88-5653-4E47-B1A9-11DDD472A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усский язык 2 класс (Урок№15 - Подлежащее и сказуемое – главные члены предложения.)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002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2T05:21:59Z</dcterms:created>
  <dc:creator>User</dc:creator>
  <dc:description/>
  <dc:language>en-US</dc:language>
  <cp:lastModifiedBy>zZz</cp:lastModifiedBy>
  <dcterms:modified xsi:type="dcterms:W3CDTF">2023-05-24T13:58:26Z</dcterms:modified>
  <cp:revision>14</cp:revision>
  <dc:subject/>
  <dc:title>Слайд 1</dc:title>
</cp:coreProperties>
</file>