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537-FB4E-4261-A773-DEF227A4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90E-344E-449B-A142-E8A4EC3B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3C3-7921-4241-AC6D-C6B31720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672-FD77-4EAD-B7CD-9325B751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FF5-D2BF-4483-9931-35C3216D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7CB-4956-4B78-B8AB-829CECAC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938-3446-41C5-9083-7FD2CE08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38C-1F34-46ED-AA81-0307552D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7AC-D301-4DEA-BAB6-158A14F4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AC3-30AA-4540-9914-6FA1AE86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F8A-C2E4-44E7-9B57-41F35608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4FB-1C12-448D-9229-682429D1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1490-403F-4248-B1D0-61C89FC3D2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усский язык 2 класс (Урок№15 - Подлежащее и сказуемое – главные члены предложения.)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0002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2T05:21:59Z</dcterms:created>
  <dc:creator>User</dc:creator>
  <dc:description/>
  <dc:language>en-US</dc:language>
  <cp:lastModifiedBy>zZz</cp:lastModifiedBy>
  <dcterms:modified xsi:type="dcterms:W3CDTF">2023-05-24T13:58:26Z</dcterms:modified>
  <cp:revision>14</cp:revision>
  <dc:subject/>
  <dc:title>Слайд 1</dc:title>
</cp:coreProperties>
</file>