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B793-394C-4485-82EC-A84A3C77F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0756-718B-4571-B238-EA2BF878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D26B-DD49-4C09-90C3-48086B07F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08D1-919D-477A-A629-203A5B170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A940-88BE-4C77-8535-5175D3BD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C6E4-54F9-4243-B205-E0824615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2F82-9B6A-4AC6-83F4-69F68A94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EC57-FCED-4D2A-8803-6F843025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4996-F967-452A-AC07-42DEFF74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B35E-3940-4687-AFA9-F49BE597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CDEA-042C-4A63-8391-DF77774B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0DCD-18D4-4250-BEB3-E852CE36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7E1C-6AE2-4A83-BFEE-3AF9A26B5F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layroom.ru/content/view/2065/18/" TargetMode="External"/><Relationship Id="rId2" Type="http://schemas.openxmlformats.org/officeDocument/2006/relationships/hyperlink" Target="http://n-sladkov.ru/" TargetMode="External"/><Relationship Id="rId3" Type="http://schemas.openxmlformats.org/officeDocument/2006/relationships/hyperlink" Target="http://n-sladkov.ru/images/stories/sladkov/sladkov1.jpg" TargetMode="External"/><Relationship Id="rId4" Type="http://schemas.openxmlformats.org/officeDocument/2006/relationships/hyperlink" Target="http://www.publiclibrary.ru/readers/read/images-read/Sladkov.jpg" TargetMode="External"/><Relationship Id="rId5" Type="http://schemas.openxmlformats.org/officeDocument/2006/relationships/hyperlink" Target="http://n-sladkov.ru/images/stories/sladkov/sladkov3.jpg" TargetMode="External"/><Relationship Id="rId6" Type="http://schemas.openxmlformats.org/officeDocument/2006/relationships/hyperlink" Target="http://n-sladkov.ru/images/stories/sladkov/sladkov2.jpg" TargetMode="External"/><Relationship Id="rId7" Type="http://schemas.openxmlformats.org/officeDocument/2006/relationships/hyperlink" Target="http://www.etextlib.ru/Content/BookImages/75_cover.jpg" TargetMode="External"/><Relationship Id="rId8" Type="http://schemas.openxmlformats.org/officeDocument/2006/relationships/hyperlink" Target="http://www.knigisosklada.ru/images/books/2678/big/2678010.jpg" TargetMode="External"/><Relationship Id="rId9" Type="http://schemas.openxmlformats.org/officeDocument/2006/relationships/hyperlink" Target="http://eois.mskobr.ru/book_images/img_268070.jpg" TargetMode="External"/><Relationship Id="rId10" Type="http://schemas.openxmlformats.org/officeDocument/2006/relationships/hyperlink" Target="http://img.read.ru/covers_rr/big/568632.jpg" TargetMode="External"/><Relationship Id="rId11" Type="http://schemas.openxmlformats.org/officeDocument/2006/relationships/hyperlink" Target="http://img1.labirint.ru/books/151468/big.jpg" TargetMode="External"/><Relationship Id="rId12" Type="http://schemas.openxmlformats.org/officeDocument/2006/relationships/hyperlink" Target="http://www.etextlib.ru/Content/BookImages/75_cover.jpg" TargetMode="External"/><Relationship Id="rId13" Type="http://schemas.openxmlformats.org/officeDocument/2006/relationships/hyperlink" Target="http://www.bookfb2.ru/imag22/200913.jpg" TargetMode="External"/><Relationship Id="rId14" Type="http://schemas.openxmlformats.org/officeDocument/2006/relationships/hyperlink" Target="http://static.ozone.ru/multimedia/books_covers/1000148947.jpg" TargetMode="External"/><Relationship Id="rId15" Type="http://schemas.openxmlformats.org/officeDocument/2006/relationships/hyperlink" Target="http://runcib.ru/uploads/posts/2011-09/1317152190_871325716a7342f76fd547a453a136e1.jpg" TargetMode="External"/><Relationship Id="rId16" Type="http://schemas.openxmlformats.org/officeDocument/2006/relationships/hyperlink" Target="http://eois.mskobr.ru/book_images/img_834559.jpg" TargetMode="External"/><Relationship Id="rId17" Type="http://schemas.openxmlformats.org/officeDocument/2006/relationships/hyperlink" Target="http://static.ozone.ru/multimedia/books_covers/1000148947.jpg" TargetMode="External"/><Relationship Id="rId18" Type="http://schemas.openxmlformats.org/officeDocument/2006/relationships/hyperlink" Target="http://eois.mskobr.ru/book_images/img_990660.jpg" TargetMode="External"/><Relationship Id="rId19" Type="http://schemas.openxmlformats.org/officeDocument/2006/relationships/hyperlink" Target="http://www.libex.ru/dimg/418f4.jpg" TargetMode="External"/><Relationship Id="rId20" Type="http://schemas.openxmlformats.org/officeDocument/2006/relationships/hyperlink" Target="http://www.libex.ru/dimg/34b53.jpg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4143240" y="1357200"/>
            <a:ext cx="464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ЛАДК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ИКОЛАЙ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Николай Сладков"/>
          <p:cNvPicPr/>
          <p:nvPr/>
        </p:nvPicPr>
        <p:blipFill>
          <a:blip r:embed="rId1"/>
          <a:stretch/>
        </p:blipFill>
        <p:spPr>
          <a:xfrm>
            <a:off x="857160" y="857160"/>
            <a:ext cx="3382920" cy="342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3" name="Прямоугольник 6"/>
          <p:cNvSpPr/>
          <p:nvPr/>
        </p:nvSpPr>
        <p:spPr>
          <a:xfrm>
            <a:off x="428760" y="4643280"/>
            <a:ext cx="835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иколай Сладков родился 5 января 1920 г. в Москве, но всю свою жизнь прожил в Ленинграде. Неподалеку от его дома, было много старых лесопарков. Целыми днями он пропадал в самых глухих местах окружающих парков, где всматривался и вслушивался в жизнь ле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http://www.knigisosklada.ru/images/books/2678/big/2678010.jpg"/>
          <p:cNvPicPr/>
          <p:nvPr/>
        </p:nvPicPr>
        <p:blipFill>
          <a:blip r:embed="rId1"/>
          <a:stretch/>
        </p:blipFill>
        <p:spPr>
          <a:xfrm>
            <a:off x="3429000" y="2857680"/>
            <a:ext cx="2282760" cy="2928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ttp://eois.mskobr.ru/book_images/img_268070.jpg"/>
          <p:cNvPicPr/>
          <p:nvPr/>
        </p:nvPicPr>
        <p:blipFill>
          <a:blip r:embed="rId2"/>
          <a:stretch/>
        </p:blipFill>
        <p:spPr>
          <a:xfrm>
            <a:off x="928800" y="2643120"/>
            <a:ext cx="2214360" cy="3432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http://img.read.ru/covers_rr/big/568632.jpg"/>
          <p:cNvPicPr/>
          <p:nvPr/>
        </p:nvPicPr>
        <p:blipFill>
          <a:blip r:embed="rId3"/>
          <a:stretch/>
        </p:blipFill>
        <p:spPr>
          <a:xfrm>
            <a:off x="6000840" y="2571840"/>
            <a:ext cx="2284200" cy="350028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/>
          <p:cNvSpPr/>
          <p:nvPr/>
        </p:nvSpPr>
        <p:spPr>
          <a:xfrm>
            <a:off x="2928960" y="642960"/>
            <a:ext cx="59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иколай Сладков очень хотел узнать, о ч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ним говорит лес. Он стал читать разные книги о природе, а свои наблюдения записывал в «Тетрадь наблюдени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" descr="http://www.publiclibrary.ru/readers/read/images-read/Sladkov.jpg"/>
          <p:cNvPicPr/>
          <p:nvPr/>
        </p:nvPicPr>
        <p:blipFill>
          <a:blip r:embed="rId4"/>
          <a:stretch/>
        </p:blipFill>
        <p:spPr>
          <a:xfrm>
            <a:off x="1143000" y="357120"/>
            <a:ext cx="1658880" cy="2143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Николай Сладков"/>
          <p:cNvPicPr/>
          <p:nvPr/>
        </p:nvPicPr>
        <p:blipFill>
          <a:blip r:embed="rId1"/>
          <a:stretch/>
        </p:blipFill>
        <p:spPr>
          <a:xfrm>
            <a:off x="785880" y="571680"/>
            <a:ext cx="2500200" cy="228888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1"/>
          <p:cNvSpPr/>
          <p:nvPr/>
        </p:nvSpPr>
        <p:spPr>
          <a:xfrm>
            <a:off x="3000240" y="642960"/>
            <a:ext cx="614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 время войны добровольцем ушёл на фронт, стал военным топографом. В мирное время сохранил ту же специаль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3786120" y="25718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571680" y="4786200"/>
            <a:ext cx="828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молодости увлекался охотой, но впоследствии отказался от этого занятия. Вместо неё стал заниматься фотоохотой, выдвинул призыв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Не бери в лес ружье, возьми в лес фоторужье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img1.labirint.ru/books/151468/big.jpg"/>
          <p:cNvPicPr/>
          <p:nvPr/>
        </p:nvPicPr>
        <p:blipFill>
          <a:blip r:embed="rId2"/>
          <a:stretch/>
        </p:blipFill>
        <p:spPr>
          <a:xfrm>
            <a:off x="3500280" y="1857240"/>
            <a:ext cx="2357640" cy="2845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www.etextlib.ru/Content/BookImages/75_cover.jpg"/>
          <p:cNvPicPr/>
          <p:nvPr/>
        </p:nvPicPr>
        <p:blipFill>
          <a:blip r:embed="rId3"/>
          <a:stretch/>
        </p:blipFill>
        <p:spPr>
          <a:xfrm>
            <a:off x="6143760" y="1857240"/>
            <a:ext cx="2071440" cy="2756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Николай Сладков"/>
          <p:cNvPicPr/>
          <p:nvPr/>
        </p:nvPicPr>
        <p:blipFill>
          <a:blip r:embed="rId4"/>
          <a:stretch/>
        </p:blipFill>
        <p:spPr>
          <a:xfrm>
            <a:off x="1071720" y="3357720"/>
            <a:ext cx="178596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http://runcib.ru/uploads/posts/2011-09/1317152190_871325716a7342f76fd547a453a136e1.jpg"/>
          <p:cNvPicPr/>
          <p:nvPr/>
        </p:nvPicPr>
        <p:blipFill>
          <a:blip r:embed="rId1"/>
          <a:stretch/>
        </p:blipFill>
        <p:spPr>
          <a:xfrm>
            <a:off x="4143240" y="357120"/>
            <a:ext cx="2143440" cy="322272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5"/>
          <p:cNvSpPr/>
          <p:nvPr/>
        </p:nvSpPr>
        <p:spPr>
          <a:xfrm>
            <a:off x="428760" y="3643200"/>
            <a:ext cx="814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природы для всех найдется место: и для людей, и для животных, и для птиц. Но чтобы стать настоящим добрым другом всему живому миру, надо узнать очень много всего о лесах и полях, реках и озерах, горах и тундре, тайге и пустынях, и еще об очень-очень многом. Именно об этом и рассказывают книги Николая Сладкова, пронизанные бесконечной любовью к приро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www.bookfb2.ru/imag22/200913.jpg"/>
          <p:cNvPicPr/>
          <p:nvPr/>
        </p:nvPicPr>
        <p:blipFill>
          <a:blip r:embed="rId2"/>
          <a:stretch/>
        </p:blipFill>
        <p:spPr>
          <a:xfrm>
            <a:off x="571680" y="357120"/>
            <a:ext cx="2433600" cy="3286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http://eois.mskobr.ru/book_images/img_834559.jpg"/>
          <p:cNvPicPr/>
          <p:nvPr/>
        </p:nvPicPr>
        <p:blipFill>
          <a:blip r:embed="rId3"/>
          <a:stretch/>
        </p:blipFill>
        <p:spPr>
          <a:xfrm>
            <a:off x="6357960" y="357120"/>
            <a:ext cx="2014560" cy="3214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http://eois.mskobr.ru/book_images/img_990660.jpg"/>
          <p:cNvPicPr/>
          <p:nvPr/>
        </p:nvPicPr>
        <p:blipFill>
          <a:blip r:embed="rId4"/>
          <a:srcRect l="0" t="0" r="0" b="2703"/>
          <a:stretch/>
        </p:blipFill>
        <p:spPr>
          <a:xfrm>
            <a:off x="2571840" y="1428840"/>
            <a:ext cx="17143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Николай Сладков"/>
          <p:cNvPicPr/>
          <p:nvPr/>
        </p:nvPicPr>
        <p:blipFill>
          <a:blip r:embed="rId1"/>
          <a:stretch/>
        </p:blipFill>
        <p:spPr>
          <a:xfrm>
            <a:off x="642960" y="571680"/>
            <a:ext cx="1547640" cy="232092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2357280" y="571680"/>
            <a:ext cx="628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ые рассказы были написаны им в 1952 г., а в 1953 году была напечатана первая книга Николая Сладкова - "Серебряный хвост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http://static.ozone.ru/multimedia/books_covers/1000148947.jpg"/>
          <p:cNvPicPr/>
          <p:nvPr/>
        </p:nvPicPr>
        <p:blipFill>
          <a:blip r:embed="rId2"/>
          <a:stretch/>
        </p:blipFill>
        <p:spPr>
          <a:xfrm>
            <a:off x="6429240" y="1714680"/>
            <a:ext cx="1905120" cy="24094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6"/>
          <p:cNvSpPr/>
          <p:nvPr/>
        </p:nvSpPr>
        <p:spPr>
          <a:xfrm>
            <a:off x="428760" y="4572000"/>
            <a:ext cx="835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того, чтобы оказаться в диком лесу, вовсе необязательно каждый раз брать билет на поезд и ехать в дальние края - можно просто протянуть руку к книжной полке и взять любимую книгу Николая Сладкова  и перенестись в прекрасный мир природы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0" descr="http://www.libex.ru/dimg/418f4.jpg"/>
          <p:cNvPicPr/>
          <p:nvPr/>
        </p:nvPicPr>
        <p:blipFill>
          <a:blip r:embed="rId3"/>
          <a:stretch/>
        </p:blipFill>
        <p:spPr>
          <a:xfrm>
            <a:off x="2286000" y="2071800"/>
            <a:ext cx="2006640" cy="2571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http://www.libex.ru/dimg/34b53.jpg"/>
          <p:cNvPicPr/>
          <p:nvPr/>
        </p:nvPicPr>
        <p:blipFill>
          <a:blip r:embed="rId4"/>
          <a:stretch/>
        </p:blipFill>
        <p:spPr>
          <a:xfrm>
            <a:off x="4429080" y="2071800"/>
            <a:ext cx="194616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2"/>
          <p:cNvSpPr/>
          <p:nvPr/>
        </p:nvSpPr>
        <p:spPr>
          <a:xfrm>
            <a:off x="428760" y="500040"/>
            <a:ext cx="621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месте с Виталием Бианки Николай Сладков много лет готовил радиопередачи "Вести из леса" и отвечал на многочисленные письма своих слушат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571680" y="2143080"/>
            <a:ext cx="79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 свою жизнь Николай Иванович написа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лее 60 книг. В числе самых известных 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www.libex.ru/dimg/1691a.jpg"/>
          <p:cNvPicPr/>
          <p:nvPr/>
        </p:nvPicPr>
        <p:blipFill>
          <a:blip r:embed="rId1"/>
          <a:stretch/>
        </p:blipFill>
        <p:spPr>
          <a:xfrm>
            <a:off x="6500880" y="428760"/>
            <a:ext cx="2071800" cy="2768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http://www.bookriver.ru/img/covers/390191.jpg"/>
          <p:cNvPicPr/>
          <p:nvPr/>
        </p:nvPicPr>
        <p:blipFill>
          <a:blip r:embed="rId2"/>
          <a:stretch/>
        </p:blipFill>
        <p:spPr>
          <a:xfrm>
            <a:off x="642960" y="3143160"/>
            <a:ext cx="1905120" cy="2381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http://www.knigosklad.ru/det/bd1424.jpg"/>
          <p:cNvPicPr/>
          <p:nvPr/>
        </p:nvPicPr>
        <p:blipFill>
          <a:blip r:embed="rId3"/>
          <a:stretch/>
        </p:blipFill>
        <p:spPr>
          <a:xfrm>
            <a:off x="2714760" y="2928960"/>
            <a:ext cx="2041560" cy="2714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http://pictures.bookshop.ua/TitleBooks/bs0003706716.jpg"/>
          <p:cNvPicPr/>
          <p:nvPr/>
        </p:nvPicPr>
        <p:blipFill>
          <a:blip r:embed="rId4"/>
          <a:stretch/>
        </p:blipFill>
        <p:spPr>
          <a:xfrm>
            <a:off x="4857840" y="3071880"/>
            <a:ext cx="1904760" cy="24480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9"/>
          <p:cNvSpPr/>
          <p:nvPr/>
        </p:nvSpPr>
        <p:spPr>
          <a:xfrm>
            <a:off x="500040" y="585792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мер Николай Иванович Сладков 28 июня 1996 года в возрасте 76 л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2" descr="http://static.ozone.ru/multimedia/books_covers/1000574223.jpg"/>
          <p:cNvPicPr/>
          <p:nvPr/>
        </p:nvPicPr>
        <p:blipFill>
          <a:blip r:embed="rId5"/>
          <a:stretch/>
        </p:blipFill>
        <p:spPr>
          <a:xfrm>
            <a:off x="6858000" y="3143160"/>
            <a:ext cx="16653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5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285840" y="285840"/>
            <a:ext cx="8858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layroom.ru/content/view/2065/18/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раткая биограф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n-sladkov.ru/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биограф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n-sladkov.ru/images/stories/sladkov/sladkov1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ртр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publiclibrary.ru/readers/read/images-read/Sladkov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ртр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n-sladkov.ru/images/stories/sladkov/sladkov3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ртр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n-sladkov.ru/images/stories/sladkov/sladkov2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исун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etextlib.ru/Content/BookImages/75_cover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автогра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ниги:   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www.knigisosklada.ru/images/books/2678/big/2678010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eois.mskobr.ru/book_images/img_268070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img.read.ru/covers_rr/big/568632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img1.labirint.ru/books/151468/big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www.etextlib.ru/Content/BookImages/75_cover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www.bookfb2.ru/imag22/200913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static.ozone.ru/multimedia/books_covers/1000148947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runcib.ru/uploads/posts/2011-09/1317152190_871325716a7342f76fd547a453a136e1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://eois.mskobr.ru/book_images/img_834559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://static.ozone.ru/multimedia/books_covers/1000148947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http://eois.mskobr.ru/book_images/img_990660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http://www.libex.ru/dimg/418f4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http://www.libex.ru/dimg/34b53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bookriver.ru/img/covers/390191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knigosklad.ru/det/bd1424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pictures.bookshop.ua/TitleBooks/bs0003706716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static.ozone.ru/multimedia/books_covers/1000574223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8T17:42:40Z</dcterms:created>
  <dc:creator>Ирина</dc:creator>
  <dc:description/>
  <dc:language>en-US</dc:language>
  <cp:lastModifiedBy>Ирина</cp:lastModifiedBy>
  <dcterms:modified xsi:type="dcterms:W3CDTF">2014-01-18T19:54:59Z</dcterms:modified>
  <cp:revision>13</cp:revision>
  <dc:subject/>
  <dc:title>Слайд 1</dc:title>
</cp:coreProperties>
</file>