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0B5-19CD-4F27-BB7C-A695248C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A99-7F2E-4FF4-89C7-027C5546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CE6-AA9D-4059-A9A3-D50AC84F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D44-9EAF-44E8-8E89-861318E2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DD0-2234-4866-ADFA-04724957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757-4D4F-4800-9E13-0C9607D9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FDE-C01E-4390-8FBB-F7C3A00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2BB-23A9-4C6D-A128-13E1D61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C2C-217B-47C3-AA22-A19B15D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96E-CF64-4B2D-8744-7F0C3263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443-29B6-48CD-B1B6-823D133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E85-15BA-4BC7-BEE8-0DCB8B4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30A-C54E-421B-B2C6-B4E7DD90A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layroom.ru/content/view/2065/18/" TargetMode="External"/><Relationship Id="rId2" Type="http://schemas.openxmlformats.org/officeDocument/2006/relationships/hyperlink" Target="http://n-sladkov.ru/" TargetMode="External"/><Relationship Id="rId3" Type="http://schemas.openxmlformats.org/officeDocument/2006/relationships/hyperlink" Target="http://n-sladkov.ru/images/stories/sladkov/sladkov1.jpg" TargetMode="External"/><Relationship Id="rId4" Type="http://schemas.openxmlformats.org/officeDocument/2006/relationships/hyperlink" Target="http://www.publiclibrary.ru/readers/read/images-read/Sladkov.jpg" TargetMode="External"/><Relationship Id="rId5" Type="http://schemas.openxmlformats.org/officeDocument/2006/relationships/hyperlink" Target="http://n-sladkov.ru/images/stories/sladkov/sladkov3.jpg" TargetMode="External"/><Relationship Id="rId6" Type="http://schemas.openxmlformats.org/officeDocument/2006/relationships/hyperlink" Target="http://n-sladkov.ru/images/stories/sladkov/sladkov2.jpg" TargetMode="External"/><Relationship Id="rId7" Type="http://schemas.openxmlformats.org/officeDocument/2006/relationships/hyperlink" Target="http://www.etextlib.ru/Content/BookImages/75_cover.jpg" TargetMode="External"/><Relationship Id="rId8" Type="http://schemas.openxmlformats.org/officeDocument/2006/relationships/hyperlink" Target="http://www.knigisosklada.ru/images/books/2678/big/2678010.jpg" TargetMode="External"/><Relationship Id="rId9" Type="http://schemas.openxmlformats.org/officeDocument/2006/relationships/hyperlink" Target="http://eois.mskobr.ru/book_images/img_268070.jpg" TargetMode="External"/><Relationship Id="rId10" Type="http://schemas.openxmlformats.org/officeDocument/2006/relationships/hyperlink" Target="http://img.read.ru/covers_rr/big/568632.jpg" TargetMode="External"/><Relationship Id="rId11" Type="http://schemas.openxmlformats.org/officeDocument/2006/relationships/hyperlink" Target="http://img1.labirint.ru/books/151468/big.jpg" TargetMode="External"/><Relationship Id="rId12" Type="http://schemas.openxmlformats.org/officeDocument/2006/relationships/hyperlink" Target="http://www.etextlib.ru/Content/BookImages/75_cover.jpg" TargetMode="External"/><Relationship Id="rId13" Type="http://schemas.openxmlformats.org/officeDocument/2006/relationships/hyperlink" Target="http://www.bookfb2.ru/imag22/200913.jpg" TargetMode="External"/><Relationship Id="rId14" Type="http://schemas.openxmlformats.org/officeDocument/2006/relationships/hyperlink" Target="http://static.ozone.ru/multimedia/books_covers/1000148947.jpg" TargetMode="External"/><Relationship Id="rId15" Type="http://schemas.openxmlformats.org/officeDocument/2006/relationships/hyperlink" Target="http://runcib.ru/uploads/posts/2011-09/1317152190_871325716a7342f76fd547a453a136e1.jpg" TargetMode="External"/><Relationship Id="rId16" Type="http://schemas.openxmlformats.org/officeDocument/2006/relationships/hyperlink" Target="http://eois.mskobr.ru/book_images/img_834559.jpg" TargetMode="External"/><Relationship Id="rId17" Type="http://schemas.openxmlformats.org/officeDocument/2006/relationships/hyperlink" Target="http://static.ozone.ru/multimedia/books_covers/1000148947.jpg" TargetMode="External"/><Relationship Id="rId18" Type="http://schemas.openxmlformats.org/officeDocument/2006/relationships/hyperlink" Target="http://eois.mskobr.ru/book_images/img_990660.jpg" TargetMode="External"/><Relationship Id="rId19" Type="http://schemas.openxmlformats.org/officeDocument/2006/relationships/hyperlink" Target="http://www.libex.ru/dimg/418f4.jpg" TargetMode="External"/><Relationship Id="rId20" Type="http://schemas.openxmlformats.org/officeDocument/2006/relationships/hyperlink" Target="http://www.libex.ru/dimg/34b53.jpg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4143240" y="135720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Д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ОЛА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Николай Сладков"/>
          <p:cNvPicPr/>
          <p:nvPr/>
        </p:nvPicPr>
        <p:blipFill>
          <a:blip r:embed="rId1"/>
          <a:stretch/>
        </p:blipFill>
        <p:spPr>
          <a:xfrm>
            <a:off x="857160" y="857160"/>
            <a:ext cx="33829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Прямоугольник 6"/>
          <p:cNvSpPr/>
          <p:nvPr/>
        </p:nvSpPr>
        <p:spPr>
          <a:xfrm>
            <a:off x="428760" y="464328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ай Сладков родился 5 января 1920 г. в Москве, но всю свою жизнь прожил в Ленинграде. Неподалеку от его дома, было много старых лесопарков. Целыми днями он пропадал в самых глухих местах окружающих парков, где всматривался и вслушивался в жизнь л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knigisosklada.ru/images/books/2678/big/2678010.jpg"/>
          <p:cNvPicPr/>
          <p:nvPr/>
        </p:nvPicPr>
        <p:blipFill>
          <a:blip r:embed="rId1"/>
          <a:stretch/>
        </p:blipFill>
        <p:spPr>
          <a:xfrm>
            <a:off x="3429000" y="2857680"/>
            <a:ext cx="2282760" cy="292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eois.mskobr.ru/book_images/img_268070.jpg"/>
          <p:cNvPicPr/>
          <p:nvPr/>
        </p:nvPicPr>
        <p:blipFill>
          <a:blip r:embed="rId2"/>
          <a:stretch/>
        </p:blipFill>
        <p:spPr>
          <a:xfrm>
            <a:off x="928800" y="2643120"/>
            <a:ext cx="2214360" cy="343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g.read.ru/covers_rr/big/568632.jpg"/>
          <p:cNvPicPr/>
          <p:nvPr/>
        </p:nvPicPr>
        <p:blipFill>
          <a:blip r:embed="rId3"/>
          <a:stretch/>
        </p:blipFill>
        <p:spPr>
          <a:xfrm>
            <a:off x="6000840" y="2571840"/>
            <a:ext cx="2284200" cy="3500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2928960" y="64296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ай Сладков очень хотел узнать, о ч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ним говорит лес. Он стал читать разные книги о природе, а свои наблюдения записывал в «Тетрадь наблюд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http://www.publiclibrary.ru/readers/read/images-read/Sladkov.jpg"/>
          <p:cNvPicPr/>
          <p:nvPr/>
        </p:nvPicPr>
        <p:blipFill>
          <a:blip r:embed="rId4"/>
          <a:stretch/>
        </p:blipFill>
        <p:spPr>
          <a:xfrm>
            <a:off x="1143000" y="357120"/>
            <a:ext cx="165888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иколай Сладков"/>
          <p:cNvPicPr/>
          <p:nvPr/>
        </p:nvPicPr>
        <p:blipFill>
          <a:blip r:embed="rId1"/>
          <a:stretch/>
        </p:blipFill>
        <p:spPr>
          <a:xfrm>
            <a:off x="785880" y="571680"/>
            <a:ext cx="2500200" cy="2288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3000240" y="6429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71680" y="478620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олодости увлекался охотой, но впоследствии отказался от этого занятия. Вместо неё стал заниматься фотоохотой, выдвинул призы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Не бери в лес ружье, возьми в лес фоторужь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g1.labirint.ru/books/151468/big.jpg"/>
          <p:cNvPicPr/>
          <p:nvPr/>
        </p:nvPicPr>
        <p:blipFill>
          <a:blip r:embed="rId2"/>
          <a:stretch/>
        </p:blipFill>
        <p:spPr>
          <a:xfrm>
            <a:off x="3500280" y="1857240"/>
            <a:ext cx="2357640" cy="284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etextlib.ru/Content/BookImages/75_cover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71440" cy="275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иколай Сладков"/>
          <p:cNvPicPr/>
          <p:nvPr/>
        </p:nvPicPr>
        <p:blipFill>
          <a:blip r:embed="rId4"/>
          <a:stretch/>
        </p:blipFill>
        <p:spPr>
          <a:xfrm>
            <a:off x="1071720" y="3357720"/>
            <a:ext cx="17859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runcib.ru/uploads/posts/2011-09/1317152190_871325716a7342f76fd547a453a136e1.jpg"/>
          <p:cNvPicPr/>
          <p:nvPr/>
        </p:nvPicPr>
        <p:blipFill>
          <a:blip r:embed="rId1"/>
          <a:stretch/>
        </p:blipFill>
        <p:spPr>
          <a:xfrm>
            <a:off x="4143240" y="357120"/>
            <a:ext cx="2143440" cy="3222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28760" y="364320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природы для всех найдется место: и для людей, и для животных, и для птиц. Но чтобы стать настоящим добрым другом всему живому миру, надо узнать очень много всего о лесах и полях, реках и озерах, горах и тундре, тайге и пустынях, и еще об очень-очень многом. Именно об этом и рассказывают книги Николая Сладкова, пронизанные бесконечной любовью к прир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bookfb2.ru/imag22/200913.jpg"/>
          <p:cNvPicPr/>
          <p:nvPr/>
        </p:nvPicPr>
        <p:blipFill>
          <a:blip r:embed="rId2"/>
          <a:stretch/>
        </p:blipFill>
        <p:spPr>
          <a:xfrm>
            <a:off x="571680" y="357120"/>
            <a:ext cx="2433600" cy="32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eois.mskobr.ru/book_images/img_834559.jpg"/>
          <p:cNvPicPr/>
          <p:nvPr/>
        </p:nvPicPr>
        <p:blipFill>
          <a:blip r:embed="rId3"/>
          <a:stretch/>
        </p:blipFill>
        <p:spPr>
          <a:xfrm>
            <a:off x="6357960" y="357120"/>
            <a:ext cx="201456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eois.mskobr.ru/book_images/img_990660.jpg"/>
          <p:cNvPicPr/>
          <p:nvPr/>
        </p:nvPicPr>
        <p:blipFill>
          <a:blip r:embed="rId4"/>
          <a:srcRect l="0" t="0" r="0" b="2703"/>
          <a:stretch/>
        </p:blipFill>
        <p:spPr>
          <a:xfrm>
            <a:off x="2571840" y="1428840"/>
            <a:ext cx="1714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Николай Сладков"/>
          <p:cNvPicPr/>
          <p:nvPr/>
        </p:nvPicPr>
        <p:blipFill>
          <a:blip r:embed="rId1"/>
          <a:stretch/>
        </p:blipFill>
        <p:spPr>
          <a:xfrm>
            <a:off x="642960" y="571680"/>
            <a:ext cx="1547640" cy="2320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57280" y="57168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рассказы были написаны им в 1952 г., а в 1953 году была напечатана первая книга Николая Сладкова - "Серебряный хвост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ttp://static.ozone.ru/multimedia/books_covers/1000148947.jpg"/>
          <p:cNvPicPr/>
          <p:nvPr/>
        </p:nvPicPr>
        <p:blipFill>
          <a:blip r:embed="rId2"/>
          <a:stretch/>
        </p:blipFill>
        <p:spPr>
          <a:xfrm>
            <a:off x="6429240" y="1714680"/>
            <a:ext cx="1905120" cy="24094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28760" y="45720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казаться в диком лесу, вовсе необязательно каждый раз брать билет на поезд и ехать в дальние края - можно просто протянуть руку к книжной полке и взять любимую книгу Николая Сладкова  и перенестись в прекрасный мир природы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http://www.libex.ru/dimg/418f4.jpg"/>
          <p:cNvPicPr/>
          <p:nvPr/>
        </p:nvPicPr>
        <p:blipFill>
          <a:blip r:embed="rId3"/>
          <a:stretch/>
        </p:blipFill>
        <p:spPr>
          <a:xfrm>
            <a:off x="2286000" y="2071800"/>
            <a:ext cx="2006640" cy="25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www.libex.ru/dimg/34b53.jpg"/>
          <p:cNvPicPr/>
          <p:nvPr/>
        </p:nvPicPr>
        <p:blipFill>
          <a:blip r:embed="rId4"/>
          <a:stretch/>
        </p:blipFill>
        <p:spPr>
          <a:xfrm>
            <a:off x="4429080" y="2071800"/>
            <a:ext cx="19461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428760" y="50004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е с Виталием Бианки Николай Сладков много лет готовил радиопередачи "Вести из леса" и отвечал на многочисленные письма своих слуша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71680" y="214308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вою жизнь Николай Иванович написа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60 книг. В числе самых известных 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libex.ru/dimg/1691a.jpg"/>
          <p:cNvPicPr/>
          <p:nvPr/>
        </p:nvPicPr>
        <p:blipFill>
          <a:blip r:embed="rId1"/>
          <a:stretch/>
        </p:blipFill>
        <p:spPr>
          <a:xfrm>
            <a:off x="6500880" y="428760"/>
            <a:ext cx="2071800" cy="27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bookriver.ru/img/covers/390191.jpg"/>
          <p:cNvPicPr/>
          <p:nvPr/>
        </p:nvPicPr>
        <p:blipFill>
          <a:blip r:embed="rId2"/>
          <a:stretch/>
        </p:blipFill>
        <p:spPr>
          <a:xfrm>
            <a:off x="642960" y="314316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www.knigosklad.ru/det/bd1424.jpg"/>
          <p:cNvPicPr/>
          <p:nvPr/>
        </p:nvPicPr>
        <p:blipFill>
          <a:blip r:embed="rId3"/>
          <a:stretch/>
        </p:blipFill>
        <p:spPr>
          <a:xfrm>
            <a:off x="2714760" y="2928960"/>
            <a:ext cx="2041560" cy="271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pictures.bookshop.ua/TitleBooks/bs0003706716.jpg"/>
          <p:cNvPicPr/>
          <p:nvPr/>
        </p:nvPicPr>
        <p:blipFill>
          <a:blip r:embed="rId4"/>
          <a:stretch/>
        </p:blipFill>
        <p:spPr>
          <a:xfrm>
            <a:off x="4857840" y="3071880"/>
            <a:ext cx="190476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9"/>
          <p:cNvSpPr/>
          <p:nvPr/>
        </p:nvSpPr>
        <p:spPr>
          <a:xfrm>
            <a:off x="500040" y="58579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р Николай Иванович Сладков 28 июня 1996 года в возрасте 76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2" descr="http://static.ozone.ru/multimedia/books_covers/1000574223.jpg"/>
          <p:cNvPicPr/>
          <p:nvPr/>
        </p:nvPicPr>
        <p:blipFill>
          <a:blip r:embed="rId5"/>
          <a:stretch/>
        </p:blipFill>
        <p:spPr>
          <a:xfrm>
            <a:off x="6858000" y="3143160"/>
            <a:ext cx="1665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85840" y="285840"/>
            <a:ext cx="885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yroom.ru/content/view/2065/18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аткая би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-sladkov.r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и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-sladkov.ru/images/stories/sladkov/sladkov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т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ubliclibrary.ru/readers/read/images-read/Sladkov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т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n-sladkov.ru/images/stories/sladkov/sladkov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т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n-sladkov.ru/images/stories/sladkov/sladkov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ису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etextlib.ru/Content/BookImages/75_cover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втогра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ниги: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knigisosklada.ru/images/books/2678/big/267801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eois.mskobr.ru/book_images/img_26807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g.read.ru/covers_rr/big/56863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g1.labirint.ru/books/151468/big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etextlib.ru/Content/BookImages/75_cover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bookfb2.ru/imag22/20091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static.ozone.ru/multimedia/books_covers/100014894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runcib.ru/uploads/posts/2011-09/1317152190_871325716a7342f76fd547a453a136e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eois.mskobr.ru/book_images/img_834559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static.ozone.ru/multimedia/books_covers/100014894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eois.mskobr.ru/book_images/img_99066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www.libex.ru/dimg/418f4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libex.ru/dimg/34b5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ookriver.ru/img/covers/39019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knigosklad.ru/det/bd1424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ictures.bookshop.ua/TitleBooks/bs000370671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tatic.ozone.ru/multimedia/books_covers/100057422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7:42:40Z</dcterms:created>
  <dc:creator>Ирина</dc:creator>
  <dc:description/>
  <dc:language>en-US</dc:language>
  <cp:lastModifiedBy>Ирина</cp:lastModifiedBy>
  <dcterms:modified xsi:type="dcterms:W3CDTF">2014-01-18T19:54:59Z</dcterms:modified>
  <cp:revision>13</cp:revision>
  <dc:subject/>
  <dc:title>Слайд 1</dc:title>
</cp:coreProperties>
</file>