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422D3-D696-44FE-85AB-820D3160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E1551-4F66-454C-8D23-559B8E61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38C4A-4C62-43CA-A2CD-A67E864D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BD55E-05E8-48B4-9C97-F0D1A52B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5F0CA-B4B2-4BC0-A038-D8777F66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E776E-F2CC-4AE5-A34E-4943877D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8FEBF-3579-4BF8-B689-17599CC9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F722F-C97E-4BB6-9E87-D7DFB778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120"/>
            <a:ext cx="9141120" cy="11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A40B-FEE8-4498-81D0-FBF2F46C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5E6A-ABBC-402E-987E-253A41AC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AB246-94DC-42FB-B28C-E665C438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3121-13F2-4336-9F6A-37846A1B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112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038480" y="6356160"/>
            <a:ext cx="4111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03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6ADC-B4EA-4009-BE92-2D9331160B21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03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0455" t="754" r="738" b="-735"/>
          <a:stretch/>
        </p:blipFill>
        <p:spPr>
          <a:xfrm>
            <a:off x="0" y="0"/>
            <a:ext cx="12192120" cy="6954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03520" y="0"/>
            <a:ext cx="58723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DejaVu Sans"/>
              </a:rPr>
              <a:t>МБДОУ «Детский сад комбинированного вида №1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"/>
          <p:cNvSpPr/>
          <p:nvPr/>
        </p:nvSpPr>
        <p:spPr>
          <a:xfrm>
            <a:off x="3944880" y="2522520"/>
            <a:ext cx="43005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Беседы с детьми на тему недели «Цветущая весна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"/>
          <p:cNvSpPr/>
          <p:nvPr/>
        </p:nvSpPr>
        <p:spPr>
          <a:xfrm>
            <a:off x="8628120" y="4363920"/>
            <a:ext cx="3038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DejaVu Sans"/>
              </a:rPr>
              <a:t>Подготовили: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DejaVu Sans"/>
              </a:rPr>
              <a:t>Калашникова О.Н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DejaVu Sans"/>
              </a:rPr>
              <a:t>Сарызина О.Ю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"/>
          <p:cNvSpPr/>
          <p:nvPr/>
        </p:nvSpPr>
        <p:spPr>
          <a:xfrm>
            <a:off x="4924440" y="5796000"/>
            <a:ext cx="11714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DejaVu Sans"/>
              </a:rPr>
              <a:t>г.Самар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24939" t="23431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19440" y="85680"/>
            <a:ext cx="7804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Доброе утро ребята!!!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После зарядки следует умыться и вымыть рук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19440" y="879480"/>
            <a:ext cx="7729560" cy="5230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19440" y="6110280"/>
            <a:ext cx="7729560" cy="630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372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DejaVu Sans"/>
              </a:rPr>
              <a:t>Молодцы ребята!!!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4939" t="23431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8120" y="517680"/>
            <a:ext cx="8813520" cy="31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-Как вы думаете почему же подснежники зацветают ранней весной?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После зимнего покоя самыми первыми пробуждаются многолетние травы. Стоит солнышку только пригреть где-нибудь на проталинке землю, как тут же появляются побеги и даже цветки нетерпеливой травки. Такие растения называют первоцветами, или подснежниками. Для зацветания подснежникам нужно совсем немного тепла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-Почему ранней весной появляются шмели и бабочки? Какая связь существует между ними и подснежниками?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Цветки подснежников первыми кормят шмелей, пчел и других весенних насекомых. Питаясь сладким соком (нектаром), шмели опыляют подснежники. Вот так и в природе все взаимосвязано: проталины – почва – первоцветы – шмели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147600"/>
            <a:ext cx="824688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 Light"/>
                <a:ea typeface="DejaVu Sans"/>
              </a:rPr>
              <a:t>Теперь предлагаю побеседовать по теме недели «Цветущая весна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216320" y="3975120"/>
            <a:ext cx="3907080" cy="2803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485200" y="3943440"/>
            <a:ext cx="3016080" cy="29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4939" t="23431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71720" y="233280"/>
            <a:ext cx="55929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«О цветущих растениях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Растения, которые цветут до распускания листьев, называют раннецветущими. Пыльцу цветущих берез, ив разносит ветер, и листья не мешают пыльце разлетаться на большие расстояния. На голых прутиках орешника тоже распустились первые цветки. Гибкие серые хвостики свешиваются с прутиков, их называют сережками. Правда, на сережки они не очень-то похожи. Качнешь такой хвостик – из него вылетит облачко пыльцы. На тех же веточках орешника есть и другие цветки. Они сидят парочками или по три, их можно принять за почки, только из верхушки каждой «почки» высунулось по паре ярко-розовых ниточек – язычков. Это рыльца, они ловят пыльцу, летящую по ветру. Отцветет орешник, отвалятся сережки, засохнут розовые ниточки странных цветов-почек. Но каждый такой цветок превратится в орех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642520" y="857160"/>
            <a:ext cx="3373200" cy="37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24939" t="23431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370320" y="298440"/>
            <a:ext cx="8232840" cy="36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Много есть цветущих растений. Анютины глазки, пастушья сумка, ярутка, мокрица, ромашка. Весенние ли это цветы?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Они от зимы не прятались, встретили ее отважно – в полном цвету. Зима их укутала своим белым снежным одеялом. И как только над ними вместо снежного покрова вновь показалось голубое небо, они очнулись. И те самые бутоны, которые мы видели на стеблях осенью, глядят на нас сейчас из травы цветочками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Под деревьями и кустами, невысоко над землею, уже давно светятся желтые звездочки гусиного лука. Они появились, когда деревья были еще голые, и яркие лучи солнца свободно достигали земли. Рядом с луком расцвела хохлатка. Их дом – в подземном мире. На земле эти растения только гости. Рассеяв семена, они бесследно исчезнут. Все лето, осень и зиму в земле будут покоиться маленькая луковица и круглый клубенек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25560" y="-65160"/>
            <a:ext cx="2913120" cy="2627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10280" t="2010" r="0" b="-2002"/>
          <a:stretch/>
        </p:blipFill>
        <p:spPr>
          <a:xfrm>
            <a:off x="-25560" y="1557360"/>
            <a:ext cx="2918160" cy="256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0520" y="2827440"/>
            <a:ext cx="2895840" cy="2179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0" t="0" r="4553" b="0"/>
          <a:stretch/>
        </p:blipFill>
        <p:spPr>
          <a:xfrm>
            <a:off x="-25560" y="4024440"/>
            <a:ext cx="2921040" cy="2008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-25560" y="5194440"/>
            <a:ext cx="2941920" cy="162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3370320" y="4197240"/>
            <a:ext cx="3727440" cy="2617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7486560" y="4140360"/>
            <a:ext cx="4199040" cy="26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24939" t="23431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8120" y="239760"/>
            <a:ext cx="8665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На болоте тоже растаял снег, между кочками выступила вода. А под кочками белеют серебристые кисточки, качаясь на гладких зеленых стебельках. Сорвешь такую кисточку, раздвинешь пушок, а там между белыми шелковистыми волосками виднеются желтые тычинки и тонкие ниточки-рыльца. Так цвет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уш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, а волоски у цветков для тепла – ведь ночи еще так холодны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752560" y="1717560"/>
            <a:ext cx="8842680" cy="51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24939" t="23431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151080" y="139680"/>
            <a:ext cx="87994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Пригрело солнышко, освободились от снега пригорки, и вдруг появился волшебной красоты цветок. Это сон-трава, или прострел. Растение ядовито, люди и животные, пожевав корень, впадают в глубокий сон. Сон-травы становится все меньше, растение находится под угрозой исчезновения. Сбор этого вида строго запрещен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49840" y="1617840"/>
            <a:ext cx="7427880" cy="4133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74840" y="6012000"/>
            <a:ext cx="877572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Весна – очень важное время для всех растений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DejaVu Sans"/>
              </a:rPr>
              <a:t>Все они пробудились от зимнего покоя, спешат расти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4T10:54:06Z</dcterms:created>
  <dc:creator>Raduga</dc:creator>
  <dc:description/>
  <dc:language>en-US</dc:language>
  <cp:lastModifiedBy>Raduga</cp:lastModifiedBy>
  <dcterms:modified xsi:type="dcterms:W3CDTF">2020-05-14T13:08:36Z</dcterms:modified>
  <cp:revision>1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7</vt:r8>
  </property>
</Properties>
</file>