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1C90-7939-4977-948A-79BFFADE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C999-BA33-4086-99AF-69C80598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8516-B47C-4293-9184-D2374574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2D8E-D495-4276-A92A-2E61C4FF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699B-FCD8-49F1-BDF3-C64229DE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38A2-D6E0-47AC-96F1-F1EB1E38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42EA-24DE-4DFA-BA1A-44987776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90D1-7904-4CA6-9FAD-45B98161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1120" cy="11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457D-49B7-49FE-B2B3-83E5E050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5F87-8396-4F80-A59E-76C8591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DA1A-3161-479A-AB7C-9694FB31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3094-A8CD-4EAB-8FAB-923926D1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038480" y="6356160"/>
            <a:ext cx="4111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2418-87DD-4CCB-A64E-B69497E0733D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455" t="754" r="738" b="-735"/>
          <a:stretch/>
        </p:blipFill>
        <p:spPr>
          <a:xfrm>
            <a:off x="0" y="0"/>
            <a:ext cx="12192120" cy="695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03520" y="0"/>
            <a:ext cx="587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МБДОУ «Детский сад комбинированного вида №1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3944880" y="2522520"/>
            <a:ext cx="43005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седы с детьми на тему недели «Цветущая весна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8628120" y="4363920"/>
            <a:ext cx="3038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Калашникова О.Н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Сарызина О.Ю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4924440" y="5796000"/>
            <a:ext cx="11714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г.Самар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19440" y="85680"/>
            <a:ext cx="7804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Доброе утро ребята!!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После зарядки следует умыться и вымыть рук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19440" y="879480"/>
            <a:ext cx="7729560" cy="5230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19440" y="6110280"/>
            <a:ext cx="7729560" cy="630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372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DejaVu Sans"/>
              </a:rPr>
              <a:t>Молодцы ребята!!!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8120" y="517680"/>
            <a:ext cx="881352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-Как вы думаете почему же подснежники зацветают ранней весной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После зимнего покоя самыми первыми пробуждаются многолетние травы. Стоит солнышку только пригреть где-нибудь на проталинке землю, как тут же появляются побеги и даже цветки нетерпеливой травки. Такие растения называют первоцветами, или подснежниками. Для зацветания подснежникам нужно совсем немного тепл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-Почему ранней весной появляются шмели и бабочки? Какая связь существует между ними и подснежниками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Цветки подснежников первыми кормят шмелей, пчел и других весенних насекомых. Питаясь сладким соком (нектаром), шмели опыляют подснежники. Вот так и в природе все взаимосвязано: проталины – почва – первоцветы – шмел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47600"/>
            <a:ext cx="82468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DejaVu Sans"/>
              </a:rPr>
              <a:t>Теперь предлагаю побеседовать по теме недели «Цветущая весн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16320" y="3975120"/>
            <a:ext cx="3907080" cy="2803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485200" y="3943440"/>
            <a:ext cx="301608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71720" y="233280"/>
            <a:ext cx="55929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«О цветущих растениях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Растения, которые цветут до распускания листьев, называют раннецветущими. Пыльцу цветущих берез, ив разносит ветер, и листья не мешают пыльце разлетаться на большие расстояния. На голых прутиках орешника тоже распустились первые цветки. Гибкие серые хвостики свешиваются с прутиков, их называют сережками. Правда, на сережки они не очень-то похожи. Качнешь такой хвостик – из него вылетит облачко пыльцы. На тех же веточках орешника есть и другие цветки. Они сидят парочками или по три, их можно принять за почки, только из верхушки каждой «почки» высунулось по паре ярко-розовых ниточек – язычков. Это рыльца, они ловят пыльцу, летящую по ветру. Отцветет орешник, отвалятся сережки, засохнут розовые ниточки странных цветов-почек. Но каждый такой цветок превратится в орех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42520" y="857160"/>
            <a:ext cx="3373200" cy="37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70320" y="298440"/>
            <a:ext cx="823284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Много есть цветущих растений. Анютины глазки, пастушья сумка, ярутка, мокрица, ромашка. Весенние ли это цветы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Они от зимы не прятались, встретили ее отважно – в полном цвету. Зима их укутала своим белым снежным одеялом. И как только над ними вместо снежного покрова вновь показалось голубое небо, они очнулись. И те самые бутоны, которые мы видели на стеблях осенью, глядят на нас сейчас из травы цветочкам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Под деревьями и кустами, невысоко над землею, уже давно светятся желтые звездочки гусиного лука. Они появились, когда деревья были еще голые, и яркие лучи солнца свободно достигали земли. Рядом с луком расцвела хохлатка. Их дом – в подземном мире. На земле эти растения только гости. Рассеяв семена, они бесследно исчезнут. Все лето, осень и зиму в земле будут покоиться маленькая луковица и круглый клубенек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25560" y="-65160"/>
            <a:ext cx="2913120" cy="262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0280" t="2010" r="0" b="-2002"/>
          <a:stretch/>
        </p:blipFill>
        <p:spPr>
          <a:xfrm>
            <a:off x="-25560" y="1557360"/>
            <a:ext cx="2918160" cy="256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0520" y="2827440"/>
            <a:ext cx="2895840" cy="217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553" b="0"/>
          <a:stretch/>
        </p:blipFill>
        <p:spPr>
          <a:xfrm>
            <a:off x="-25560" y="4024440"/>
            <a:ext cx="2921040" cy="200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-25560" y="5194440"/>
            <a:ext cx="2941920" cy="162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70320" y="4197240"/>
            <a:ext cx="3727440" cy="261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486560" y="4140360"/>
            <a:ext cx="4199040" cy="26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8120" y="239760"/>
            <a:ext cx="8665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 болоте тоже растаял снег, между кочками выступила вода. А под кочками белеют серебристые кисточки, качаясь на гладких зеленых стебельках. Сорвешь такую кисточку, раздвинешь пушок, а там между белыми шелковистыми волосками виднеются желтые тычинки и тонкие ниточки-рыльца. Так цвет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уш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, а волоски у цветков для тепла – ведь ночи еще так холодн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52560" y="1717560"/>
            <a:ext cx="884268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1080" y="139680"/>
            <a:ext cx="87994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Пригрело солнышко, освободились от снега пригорки, и вдруг появился волшебной красоты цветок. Это сон-трава, или прострел. Растение ядовито, люди и животные, пожевав корень, впадают в глубокий сон. Сон-травы становится все меньше, растение находится под угрозой исчезновения. Сбор этого вида строго запрещен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49840" y="1617840"/>
            <a:ext cx="7427880" cy="4133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74840" y="6012000"/>
            <a:ext cx="877572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Весна – очень важное время для всех растений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Все они пробудились от зимнего покоя, спешат раст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4T10:54:06Z</dcterms:created>
  <dc:creator>Raduga</dc:creator>
  <dc:description/>
  <dc:language>en-US</dc:language>
  <cp:lastModifiedBy>Raduga</cp:lastModifiedBy>
  <dcterms:modified xsi:type="dcterms:W3CDTF">2020-05-14T13:08:36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