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6B6-1E18-4167-9BAF-3B7F6CBF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402-53BA-4737-A26E-A18999ED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874-E3EC-4D05-B3EA-7FDA6185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3E1-4190-4A84-84B1-C973A92C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6518-3B5A-4775-8606-8AA35963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D1D5-6147-4C39-B881-B0D32465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4745-3EC0-4478-88DA-C3B8972F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BBA5-4A2B-4497-AD39-233A89D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23FE-88D1-4EE1-9EFE-F6BB9F7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91B8-1300-41EE-8785-750E6F62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DA79-D846-4D39-95A7-6C086CC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B1E-EB44-4B2F-9541-6296D37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E46-7A28-44B2-9D4F-33BE35A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C063-15A1-4495-91AB-63D4F03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EA0-F2AB-441B-B16E-B6C71E05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9AB-E11F-42CC-B319-EDAF12F1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3E7-1D47-4160-8F57-6D2B64CE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D045-AFBA-41BE-BA0A-66C6B4FA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AEA5-35BA-4461-88BF-02191EAF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3AFE-C4F9-447B-996A-8D4FF59A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4D97-5372-4EA3-B3E3-5F471B5E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9692-E211-445F-83F9-CA2DA89E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546-B5E8-47DD-9A63-FD6BC9B8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12E1-17B2-4BC7-8759-69783198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F96C-D350-4CCC-BD8E-E1AA40A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C771-9218-47EB-8D6E-99E0C87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D2B2-5601-4B7A-82E1-556C24D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FBA4-5C32-414A-9444-A5EB7E2B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F026-3DB0-412C-8496-22234D90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4E0D-0DE2-4C56-8789-E975270F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DB13-7089-45AB-81E5-5D4BA946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674D-6E7A-4696-927F-A138EB8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EC94-16A3-4676-BB2C-B824E007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1BB-DDA1-478C-A171-9DD2D67B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4E27-C698-4148-8248-4E7F2EC2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4BBA-A440-4EF1-8040-ED5EE5F8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6CED-36F3-4CF3-B302-8376612E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5A4D-AF3A-49C4-92C2-CD54112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5AB28-6D65-415C-9C8B-3E15987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7EC0-B84F-4D7C-BC53-AED0CDD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FE01-523F-4FDD-92BA-BD28BD5B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4018-BE15-44C8-AF6C-77D5B0D4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DC0A-8056-47A0-B0EB-11FF8045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105E-7601-46C9-95F8-D35EE7F0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6D0-104D-4627-B4ED-0A005F5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51D7-012E-4B16-B848-F62DBEA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85F3-F9D0-4CF8-B012-60BA9DFE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80D9-1735-4582-81C9-41B5AAD6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8E42-6C5D-4D6C-A370-523741E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9B7C-DEEF-4682-AADC-B9610B07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328D5-A0C2-43BB-842D-83D68AA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7FF9-4179-4D31-94A4-5087E7B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32A06-F7DF-489A-9A18-690E5FE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5B2D-9C5E-4DD9-AA50-CF243F6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8F8A-199E-48F4-BA17-9D349AB5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CFA-5F1B-41B0-8EBA-729BFF02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42848-E126-4931-AB4F-237ED60D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6795-6240-4A3E-90F6-D4B153A1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AFB8-67FA-4F26-A651-B98454C2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4DDA-4E31-4FAF-898F-D9DF9B1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F4895-6971-4245-BD41-157578E3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8622-55B5-4100-A679-7AF6D46A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6813-9862-48EE-B340-ED78EE6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BDBD-EDD1-4406-B9C4-09C3C07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C5DB-41DC-43A2-BC6A-6EA49FA5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8EB25-E8FB-4A12-86A0-B991528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8AA-4BD6-4895-8A96-C9C8474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A820-A61C-4AB2-B68C-9E46C45E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5FF0-DA5E-410F-BE35-1D4314F6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11C93-5148-4C8F-A2B8-273DA951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9919-2F56-4530-8357-EA06711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B691B-5F94-4848-922B-286EE91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7365-318F-48EB-A530-E7FDE9D4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3C50-D246-475D-81EB-F5811A4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FCFF5-398D-4440-8249-F73CEC5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56F7-337F-4928-92A7-03297C86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86F4-917F-4FB3-86CD-06A36E44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0F7-571C-4AC1-A187-43BEE6C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C2C9E-DCE2-4C6B-8DC5-789F520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76D29-3887-42C0-B513-C7A31FAD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5F2E-3478-4CC8-82C2-BA747C88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221D-A1E9-4922-9EC2-C0B2D4ED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8365-9DF3-447F-A223-3EA12E1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A74-D1B7-4162-89A5-C1E9D54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BDB-24BD-4A78-B7AD-8BD9D02BF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2FA4-2D38-457D-9BBD-05C88DB12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E4EF-97C6-4702-A2F5-CA17984A9B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F94A-07F2-4006-81F0-4B83B5B32D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F5A-EEE2-406F-AFA7-31369B5BE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B6E-0081-4E46-8B2F-D9BADA9AC5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7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7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3E0B-36CC-4E86-A814-D6D409903A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250920" y="0"/>
            <a:ext cx="8497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нтегрированный урок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.Свифт "Путешествие Гулливер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323" name="WordArt 3"/>
          <p:cNvSpPr txBox="1"/>
          <p:nvPr/>
        </p:nvSpPr>
        <p:spPr>
          <a:xfrm>
            <a:off x="2916360" y="4724280"/>
            <a:ext cx="4103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БОУ "Мультинская СОШ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Колесникова Н.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916000" y="333360"/>
            <a:ext cx="59259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прибыл, чтобы лично поговорить с Гулли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ролевский пос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л путешественник слова важной перс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а как вы думаете, о чём мог так долго говорить и читать посол?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 законах своей страны, о распоряжении короля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вёл себя путешествен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ивнул головой и приложил руку к серд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ля чего он так сделал?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бы человечки его не боялись и поняли, что великан их ува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2274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547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быки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кг 150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баран- 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02г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меньше, чем 1 бы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 птицы- 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10г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больше, чем вес всех баран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 всех поросят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меньше, чем вес птиц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лько всего мяса съел Гулливер, ес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жаренных быков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яленых баранов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росят 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00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тиц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01680" y="446040"/>
            <a:ext cx="8540640" cy="61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быков-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кг150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8 баранов-?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 баран на 202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 бы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00 птиц-?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 110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8 бара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9 поросят-?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2 раза меньше  200 птиц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150г=1150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.1150:5=230(г)- весил 1 бы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.(230-202)* 8=224(г)- весили 8 бар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.224+110=334(г)- весили 200 п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.334:2=167(г)- весили 19 порос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.1150+224+334+167=1875(г)- всего мяса съ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75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липутская бочка- меньше нормальной человеческой бочк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12 ра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сота человеческой бочки равно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96с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96:12=8(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5103720" y="525600"/>
            <a:ext cx="4076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124000" y="518760"/>
            <a:ext cx="671832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аком литературном произведении мы с вами продолжали разговарив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О Приключениях Гулливера»Джонатана Свиф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м понравилось на уроке больше вс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4"/>
          <p:cNvSpPr txBox="1"/>
          <p:nvPr/>
        </p:nvSpPr>
        <p:spPr>
          <a:xfrm>
            <a:off x="468360" y="2995560"/>
            <a:ext cx="81421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читайте вс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тишествия Гулливе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1042920" y="620640"/>
            <a:ext cx="6912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гад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Смелый и удаленький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Человек маленьк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Может справиться с горой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Угадайте, кто такой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илипу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авай посмотрим, что нам приготовил лилипу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165120" y="1905120"/>
            <a:ext cx="597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4+46=                    72:8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2+19=                    23*7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9-43=                     48:8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7-36=                    37*5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0-50=                   67*10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8+22=                    56:7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6:6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89480" y="1915920"/>
            <a:ext cx="104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2535120" cy="4653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7"/>
          <p:cNvSpPr/>
          <p:nvPr/>
        </p:nvSpPr>
        <p:spPr>
          <a:xfrm>
            <a:off x="7270920" y="1901880"/>
            <a:ext cx="1046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каким произведением мы с вами познакомились на прошлом уроке чтения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жонатана Свифта «Путешествие Гулливе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189080" y="2852640"/>
            <a:ext cx="676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ята Гулливер сел на корабль «Антилопа» в 1699г. Только в 1702г. Он вновь увидел свою семью, сойдя на берег в родной Анг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ем сколько длилось путешеств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02-1699=3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ята, посчитаем сколько лилипутам понадобилось кольев, чтобы пленить Гулливера, если на опутывание рук великана ушло 1835 колышков, ног- 7567 колышков, туловища- 14 563 колышка, головы- 1689 колышков. Что нужно сделать, чтобы ответить на вопр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35+7567+14563+1689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5038920" cy="21607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5076720" y="4149720"/>
            <a:ext cx="1656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 654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как вы думаете, почему лилипуты, обнаружив на своём берегу великана, решили тут же его плен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Они опасались его, потому что не знали, какой он – злой или добрый, он мог разрушить их дома, убить жител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120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55280" y="331920"/>
            <a:ext cx="80866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лилипута-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*3=15(С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Гулливера-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*12=180(см)=1м80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зинец корабельного врача- 5см и он был в 12 раз больше своих не слишком гостеприимных новых знако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лилипута- 3 пальца Гуллив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411280" y="189000"/>
            <a:ext cx="6337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можно ли назвать лилипутов смелыми и бесстрашным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а, потому что они не убежали сразу, а привязали великана и попытались исследовать этот новый живой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вели себя лилипуты, когда Гулливер оторвал от земли левую руку, чтобы немного размя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али обстреливать его из л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качества характера проявил корабельный врач, попав в плен к лилипут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 постарался спокойно разобраться в ситуации, не стал бороться с маленькими человечками, проявил к ним уважение, делал всё, чтобы не напуг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Гулливер решил лежать не двигаясь до ноч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бы под покровом темноты освободиться из п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ли лилипуты покладистость нежданного гост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а, они прекратили обстр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2274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5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0:21:25Z</dcterms:created>
  <dc:creator>Колесниковы</dc:creator>
  <dc:description/>
  <dc:language>en-US</dc:language>
  <cp:lastModifiedBy>Windows User</cp:lastModifiedBy>
  <dcterms:modified xsi:type="dcterms:W3CDTF">2023-05-24T16:10:39Z</dcterms:modified>
  <cp:revision>16</cp:revision>
  <dc:subject/>
  <dc:title>Д.Свифт. «Путешествие Гулливера».</dc:title>
</cp:coreProperties>
</file>