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85A-D6F6-4633-A00C-9A9242DA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3BB-5B19-48D5-AE1C-807C3F0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46F-BBBE-4D8A-9C14-D5FB08F6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CDA-E912-4633-AFC7-73FDB00C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10C-FA61-46F5-A591-69FD80A7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501A-3C97-4C99-90E5-AFFD70E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019B-501C-44AA-B834-E05DFBD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2181-2230-4A2B-8180-BCB99039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E248-270C-48A5-8BFF-CB6F4CC3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AC76-8859-4727-9648-B331906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15B0-5179-4F71-A2CE-4850082C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384-E69F-4611-98D3-29D356D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4A4-F82A-4757-B3C1-CEA0083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6D65-9635-489D-836F-72C5982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79E-6D14-4A39-BEE4-E082B28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DFB6-9BC2-4FF9-A1FA-AC063350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9519-0984-4679-980F-1C5DDD8E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7353-DFF9-41BC-9C29-672A7C06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339E-5BA3-4B5E-981F-CE93D09E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2DFE-9860-419B-BE8A-27871E7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EEAB-0F25-444D-BCFA-355104E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E080-D001-4368-835F-A442C85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6FF-3F0C-48C0-810B-3C1B2EF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52DD-0C8E-4698-9773-D441BAD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EBE6-8DE9-4315-853F-B9E950A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1CC0-0C40-4E44-BBA9-AC843AE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19B8-A494-4778-8212-9391F2E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4C46-4CC8-4F0F-A308-39A415E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14D8-8904-4391-B285-D25AED5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A8B8-A166-4692-BC49-BAB166BF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5B27A-16BE-4BEC-842B-878FDEA7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65D23-DFC7-484F-A612-660902F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20A1-B0A6-4045-9384-791C0F66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7F2-410C-43DD-92B5-12B007D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A25C-326C-4A42-B81E-4F43A12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3D35-37AA-41CF-90DA-B17FCF1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0E37-6E27-42C3-AA41-68A69CE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AEB7-73AA-4ED7-BE41-BFEAF08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0BA4-B375-4D2F-83EE-E9A0669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0728-AB26-40EE-9841-4657371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8A12-EE8C-4696-BB0F-3E756B0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B225-BAAB-454B-BD62-54642A47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DC40-7072-4F2A-88F4-935AE7A8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2EAA-7047-4DF1-882C-AA53166E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A98-BF90-4DC6-A2A7-A0A85B6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55DB-DB0A-46D0-8582-E7863BA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58CA-0487-4B1B-A2F9-DBA3A0C0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D25C9-5BB7-49D9-A406-4D9EC7A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5D6ED-7A7B-4998-B1BD-7494F47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F00D-9B79-436E-8EEF-59478C8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9602-071F-48D5-BDB7-4A676A6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2959-F3FB-4193-9B66-E5B0695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474C-7D74-4F09-9F46-51F0FB4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6E23-CD65-408E-B380-2DA6BA9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AA0A3-3828-49E8-82AB-C3E743BA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4C5-111E-41A8-BF28-DC7A86C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7218-89E7-4E22-B623-54878D42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B575-96BF-499B-80DA-EACF821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FC35-096B-4774-A2D6-2C726565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E8BA-E3F4-4002-BD28-792F0B0E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AF6A-164A-49F1-AA63-099A905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AD82-2948-4213-993E-F7FE734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B7F4-2C0F-4C15-A63F-07F9278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10CD7-3507-4899-92B2-33E309B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F584-80F1-4A4F-BAE5-C002BE2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5AE3-061E-4EE1-AB45-183BEF9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F30-9071-468C-8079-4E2CB26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40031-DBB9-45F1-A097-E1AA04DB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EB6A-7416-42EA-835D-F386E227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09A8-0EFD-4600-A09E-24D99923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FC28-66C7-430F-B985-0D0577D1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F678-9A96-485F-98E4-E9DA33BA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731C-65CB-42A4-8299-06AA8D90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6422-CB00-40A3-9CE8-8271F9A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21AE-66AA-4591-8976-F8316F6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B513E-E3BE-47D4-95FB-6E926C6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8891-37D4-453E-9AD4-DA2161D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9B4-CB42-429E-8337-A3C3BBF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D3EA-D67B-4E45-AAC9-8BA12BA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7216-57A6-4F0A-BB2C-5ADCDA6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02EC-27B7-4C6B-BF73-8A9C47E1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5D9E-9151-4116-83EB-587209C7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2B3C-D658-4A35-8C5C-77433A6E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BE7-AE9B-46EB-8C39-9C660B93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C5F-49FF-49C1-86A8-A5B316EDE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170-8FDC-4824-99DC-30AD21B4B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4D50-5971-4522-965C-35B29FD345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5D1-F839-42EA-88CF-ED8CD77361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91E2-1151-4A6B-AD97-B0B860FB0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4C1-6FBF-420E-9213-0B99D841B9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7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7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71B-3269-47A0-8D7C-935D3D3092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250920" y="0"/>
            <a:ext cx="8497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нтегрированный урок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.Свифт "Путешествие Гулливер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23" name="WordArt 3"/>
          <p:cNvSpPr txBox="1"/>
          <p:nvPr/>
        </p:nvSpPr>
        <p:spPr>
          <a:xfrm>
            <a:off x="2916360" y="4724280"/>
            <a:ext cx="4103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БОУ "Мультинская СОШ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Колесникова Н.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916000" y="333360"/>
            <a:ext cx="59259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рибыл, чтобы лично поговорить с Гулли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ролевский пос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л путешественник слова важной перс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а как вы думаете, о чём мог так долго говорить и читать посол?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 законах своей страны, о распоряжении короля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вёл себя путешест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ивнул головой и приложил руку к серд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ля чего он так сделал?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бы человечки его не боялись и поняли, что великан их ува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274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547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быки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кг 150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баран-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02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меньше, чем 1 бы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 птицы-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10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больше, чем вес всех баран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 всех поросят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меньше, чем вес птиц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всего мяса съел Гулливер, ес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жаренных быков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яленых баранов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росят 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00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ти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1680" y="446040"/>
            <a:ext cx="8540640" cy="61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быков-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кг150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 баранов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 баран на 202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 бы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00 птиц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 110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8 бара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9 поросят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2 раза меньше  200 птиц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150г=1150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.1150:5=230(г)- весил 1 бы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.(230-202)* 8=224(г)- весили 8 бар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.224+110=334(г)- весили 200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.334:2=167(г)- весили 19 порос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.1150+224+334+167=1875(г)- всего мяса съ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75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липутская бочка- меньше нормальной человеческой бочк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12 р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сота человеческой бочки равно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6с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6:12=8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103720" y="525600"/>
            <a:ext cx="4076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124000" y="518760"/>
            <a:ext cx="671832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аком литературном произведении мы с вами продолжали разговарив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О Приключениях Гулливера»Джонатана Свиф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м понравилось на уроке больше вс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4"/>
          <p:cNvSpPr txBox="1"/>
          <p:nvPr/>
        </p:nvSpPr>
        <p:spPr>
          <a:xfrm>
            <a:off x="468360" y="2995560"/>
            <a:ext cx="81421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читайте вс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тишествия Гулливе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1042920" y="620640"/>
            <a:ext cx="6912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Смелый и удаленький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Человек маленьк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Может справиться с горой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Угадайте, кто тако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илипу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 посмотрим, что нам приготовил лилипу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165120" y="1905120"/>
            <a:ext cx="597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4+46=                    72:8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2+19=                    23*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9-43=                     48:8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7-36=                    37*5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0-50=                   67*10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8+22=                    56: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6:6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89480" y="1915920"/>
            <a:ext cx="104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2535120" cy="4653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7"/>
          <p:cNvSpPr/>
          <p:nvPr/>
        </p:nvSpPr>
        <p:spPr>
          <a:xfrm>
            <a:off x="7270920" y="1901880"/>
            <a:ext cx="1046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каким произведением мы с вами познакомились на прошлом уроке чтения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жонатана Свифта «Путешествие Гулливе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189080" y="2852640"/>
            <a:ext cx="676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ята Гулливер сел на корабль «Антилопа» в 1699г. Только в 1702г. Он вновь увидел свою семью, сойдя на берег в родной Анг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ем сколько длилось путешеств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02-1699=3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ята, посчитаем сколько лилипутам понадобилось кольев, чтобы пленить Гулливера, если на опутывание рук великана ушло 1835 колышков, ног- 7567 колышков, туловища- 14 563 колышка, головы- 1689 колышков. Что нужно сделать, чтобы ответить на вопр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35+7567+14563+1689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5038920" cy="21607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5076720" y="4149720"/>
            <a:ext cx="165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 654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как вы думаете, почему лилипуты, обнаружив на своём берегу великана, решили тут же его плен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Они опасались его, потому что не знали, какой он – злой или добрый, он мог разрушить их дома, убить жител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120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280" y="331920"/>
            <a:ext cx="80866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лилипута-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*3=15(С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Гулливера-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*12=180(см)=1м80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зинец корабельного врача- 5см и он был в 12 раз больше своих не слишком гостеприимных новых знако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лилипута- 3 пальца Гуллив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411280" y="189000"/>
            <a:ext cx="6337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можно ли назвать лилипутов смелыми и бесстрашным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а, потому что они не убежали сразу, а привязали великана и попытались исследовать этот новый живой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вели себя лилипуты, когда Гулливер оторвал от земли левую руку, чтобы немного размя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али обстреливать его из л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качества характера проявил корабельный врач, попав в плен к лилипут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постарался спокойно разобраться в ситуации, не стал бороться с маленькими человечками, проявил к ним уважение, делал всё, чтобы не напуг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Гулливер решил лежать не двигаясь до ноч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бы под покровом темноты освободиться из п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ли лилипуты покладистость нежданного гост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а, они прекратили обстр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274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5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0:21:25Z</dcterms:created>
  <dc:creator>Колесниковы</dc:creator>
  <dc:description/>
  <dc:language>en-US</dc:language>
  <cp:lastModifiedBy>Windows User</cp:lastModifiedBy>
  <dcterms:modified xsi:type="dcterms:W3CDTF">2023-05-24T16:10:39Z</dcterms:modified>
  <cp:revision>16</cp:revision>
  <dc:subject/>
  <dc:title>Д.Свифт. «Путешествие Гулливера».</dc:title>
</cp:coreProperties>
</file>