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58A-D261-4241-8D64-3B71CB12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A7C-D2FB-4DD0-A267-C2336D96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539-3E3A-47A5-B36D-3F9CF39A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48E-15B9-471C-9F2D-289F817B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5FF-D640-4D87-A6F2-56D5E125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119B-E725-4303-A22E-E1F14E95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11E-6103-470D-8B9F-9BA14C4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034A-674C-48A6-BB28-826C615A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2812-01EB-46F2-B9B1-590DC6D6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AF86-D69F-43A9-A285-F626797C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9B3-489A-42AB-AC25-6613F56C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21E-48A7-4A63-ABAD-CDF1EE16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028-57EE-411B-A2D3-0F42BC1B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1A65-072C-49ED-AA2D-16A0E18B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BDC1-B943-4F32-BADE-F10B8E4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C494-2934-49E2-86DC-CB7E452E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2B96-2571-4E5A-8CA3-90DC5A16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4008-8189-490D-AEBC-18ABD734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5235-A656-474F-908B-B008298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999E-589E-4315-916B-10128117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6BE41-578C-48CB-BBE0-05CE8DF0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65A8-4FC2-4CE1-AF7B-33445825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BC6-B930-4D04-B89E-37E9CDB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8BD4-C708-4BE9-8365-9A7D1197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5AE5-CFC6-4B21-8943-65EFF4A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6047-AE47-4970-A44C-5F2CEC9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29DA-BE7A-49F7-B009-3FB4316A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D5A8B-CD89-4676-B8C0-7D7443E0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6A41-56EA-4C68-9CBB-056AF12D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3186-EFA6-429E-A14B-E789893D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A91B8-0FB1-4153-8DAC-AACFB4AF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4DDCA-7FB7-40E5-9A8E-613881B1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7C6F-5A25-49A9-9FFA-3F0A5D87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E1D-FF97-4F20-A19E-D9DF6C3D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1FCE-DDB4-4C94-82C3-A95887C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3A0FE-CBD0-4A98-9613-9562A8F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A366-CC80-4D33-9CF6-5E6F600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31F64-E0A1-4D7A-AB35-250D4EB9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A040E-4FA5-417F-91EF-5AFCFFB8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5F78-6543-4952-A0B9-0CDF21BF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210F5-43F3-455F-A14F-2D4A8263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2E54-3E84-4043-8BDC-35CEC589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490C-1F7A-48CA-A0BB-24AF2E72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9D375-1513-44F8-A5CC-F6666C06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404-4EDF-41D1-A32F-26598870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D033B-0533-4E0F-BD1B-5B5E42DD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72E8-647A-4B07-A19F-5CF024F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2A3F-D721-47C9-834C-07537E1C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6E0C-5781-4976-B50C-E982F0F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BA61E-6317-4348-BA07-42BB78EE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0F1B8-06C1-4E9C-A80F-FC752A25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65FBF-56B4-4A34-9A6F-B9F62F1B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73B3-6B7F-46F0-8885-A6653D02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E6D6-179D-4440-AF1E-62A1773E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ADAFC-66C3-4B8C-A756-72F1C80C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A88-D864-436D-8413-ACE2935C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C7BA-9FB3-42DA-8D46-38B6AE29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EB179-84BB-455A-ADF6-580CF489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31E92-5045-4E47-B1D1-BC1FA6ED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F9732-37E7-4D5D-B02F-AE8E8924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CE5F6-D417-4F86-AC25-3741C9F8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603A9-5047-4AB3-8FC4-6C56CF2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E640A-0D78-4654-B374-4B3A5337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773B-8E08-4545-B8C7-50DA259F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A034C-85A8-45C6-9B09-3A0C735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2818-32B0-45ED-A19A-9F66E75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4B7-AFBA-495A-B145-3EAB0D9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151C6-A375-4AC2-936D-5E123147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C2D3C-D3AA-47AB-BA76-6A1E1FE6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E1EA2-17F9-487A-8B87-44731AE9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1E45F-D105-416A-914F-FE87ECF5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CC8C1-B7DA-465E-8DC2-1A7F38AA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EF48B-CC4C-4718-80AC-866F1B04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A69B-B629-4F87-BA92-5552D19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0885-5B45-4FB9-A140-A8FCE832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F443-A223-4950-A4C1-667A7B2D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E56FA-096C-471D-A629-6226B127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062-F07D-4090-B81E-347C852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75F57-B2A2-4A32-BBEE-4CBC855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0044B-D188-445C-9E51-9688AC4E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3605-1CDF-4EEB-8382-8B4C89EA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43452-9A23-4974-8080-E9710617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B8A63-D564-4C53-8BC4-72B40C3D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E95-A5F9-4714-8798-272160D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F10C-4007-4A83-86FB-5FC1FF4DBE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E915-598F-461D-AF4D-C64398E1FD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B3C3-B440-467D-A43F-48A28253D0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E312-8F38-4192-B8B8-4A4F7F12AD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0CC-021C-4456-BBFC-55966EB3A366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B0F0-CF1C-4E97-ADE3-17F54F65C4D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5F66-F250-45DF-8248-A44E98A760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777440" cy="35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099b"/>
                </a:solidFill>
                <a:latin typeface="Calibri Light"/>
              </a:rPr>
              <a:t>Правила поведения на водоёмах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Если тонешь сам</a:t>
            </a:r>
            <a:br>
              <a:rPr sz="32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паникуйте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Снимите с себя лишнюю одежду, обувь, кричи, зови на помощь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еревернитесь на спину, широко раскиньте руки, расслабьтесь, сделайте несколько глубоких вдохов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режде, чем пойти купаться, не забудьте взять с собой английскую булавку. Она поможет вам, если в воде начнутся судороги. Если же у вас свело ногу, а булавки при себе нет, ущипните несколько раз икроножную мышцу. Если это не помогает, крепко возьмитесь за большой палец ноги и резко выпрямите его. Плывите к берегу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1" name="Picture 4" descr="defaвапult"/>
          <p:cNvPicPr/>
          <p:nvPr/>
        </p:nvPicPr>
        <p:blipFill>
          <a:blip r:embed="rId1"/>
          <a:stretch/>
        </p:blipFill>
        <p:spPr>
          <a:xfrm>
            <a:off x="6156360" y="465300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Вы захлебнулись водой</a:t>
            </a:r>
            <a:br>
              <a:rPr sz="32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5280" y="2276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паникуйте, постарайтесь развернуться спиной к волне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рижмите согнутые в локтях руки к нижней части груди и сделайте несколько резких выдохов, помогая себе руками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Затем очистите от воды нос и сделайте несколько глотательных движений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Восстановив дыхание, ложитесь на живот и двигайтесь к берегу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5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ри необходимости позовите людей на помощь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68360" y="2060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Зимой большинство водоемов покрывается льдом, который является источником серьезной опасности, особенно после первых морозов и в период оттепелей. В это время очень высок риск провалиться под лед. Поэтому важно соблюдать правила безопасного поведения на зимних водоемах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99b"/>
                </a:solidFill>
                <a:latin typeface="Calibri Light"/>
              </a:rPr>
              <a:t>Основные правила безопасного поведения на зимних водоемах</a:t>
            </a: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184428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надежным является лед, имеющий зеленоватый или синеватый оттенок, а желтоватый лед опасен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опасны участки льда в местах впадения рек и ручьев, у крутых берегов, на крутых изгибах русла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места, где поверх льда выступает вода, представляют большую опасность, так как обычно свидетельствуют о наличии промоины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реодолевать водоем по льду следует в светлое время суток и при хорошей видимост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5280" y="1988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5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ри движении по льду группы людей необходимо соблюдать дистанцию примерно 5 м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6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ри наличии рюкзака необходимо предусмотреть возможность быстрого освобождения от него (лучше нести его на одном плече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7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ровалившись, необходимо облокотиться на лед, перенести на него одну ногу, затем вытащить вторую, перекатиться на лед и осторожно переместиться в сторону от опасного места. Перед этим лучше освободиться от обуви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Calibri"/>
              </a:rPr>
              <a:t>РЕБЯТА, БУДЬТЕ ОСТОРОЖНЫ!!!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одоемы являются опасными в любое время года. Летом они опасны при купании и пользовании плавсредствами. Опасность чаще всего представляют сильное течение (в том числе подводное), глубокие омуты и подводные холодные ключи. Весной и летом к этим факторам прибавляется низкая температура воды.</a:t>
            </a:r>
            <a:r>
              <a:rPr b="0" lang="ru-RU" sz="2000" spc="-1" strike="noStrike">
                <a:solidFill>
                  <a:srgbClr val="63705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5280" y="2060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зрослые должны ознакомить детей с правилами безопасности на водных объектах, прежде чем дети отправятся в лагеря, туристические походы, пикники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Умение хорошо плавать - одна из важнейших гарантий безопасного отдыха на воде, но помните, что даже хороший пловец должен соблюдать постоянную осторожность, дисциплину и строго придерживаться правил поведения на воде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7" name="Picture 5" descr="C:\Users\Пристижио\Desktop\2bu68-yT8jo.jpg"/>
          <p:cNvPicPr/>
          <p:nvPr/>
        </p:nvPicPr>
        <p:blipFill>
          <a:blip r:embed="rId1"/>
          <a:stretch/>
        </p:blipFill>
        <p:spPr>
          <a:xfrm>
            <a:off x="3071880" y="44290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5" descr="C:\Users\Пристижио\Desktop\mfFez8KeVJQ.jpg"/>
          <p:cNvPicPr/>
          <p:nvPr/>
        </p:nvPicPr>
        <p:blipFill>
          <a:blip r:embed="rId1"/>
          <a:stretch/>
        </p:blipFill>
        <p:spPr>
          <a:xfrm>
            <a:off x="5643720" y="3071880"/>
            <a:ext cx="2697120" cy="35956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Правила безопасного поведения на воде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17859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Купайся только в специально оборудованных местах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нырять в незнакомых местах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заплывать за буйки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хватать друг друга за руки и ноги во время игр на воде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5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Не умеющим плавать купаться только в специально оборудованных местах глубиной не более 1,2 метра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68360" y="2060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6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Перед купанием следует отдохнуть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7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Не рекомендуется входить в воду разгоряченным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8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Входите в воду осторожно, медленно, когда вода дойдет вам до пояса, остановитесь и быстро окунитесь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9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икогда не плавайте в одиночестве, особенно, если не уверены в своих силах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10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Не подавайте ложных сигналов бедствия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6836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1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ледите за играми детей даже на мелководье, потому что они могут во время игр упасть и захлебнуться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Учиться плавать дети могут только под контролем взрослых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омните: купание в нетрезвом виде может привести к трагическому исходу!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Если тонет человек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8360" y="1988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 Сразу громко зовите на помощь: «Человек тонет!»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 Попросите вызвать спасателей и «скорую помощь»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 Бросьте тонущему спасательный круг, длинную веревку с узлом на конце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 Если хорошо плаваете, снимите одежду и обувь и вплавь доберитесь до тонущего. Заговорите с ним. Если услышите адекватный ответ, смело подставляйте ему плечо в качестве опоры и помогите доплыть до берега. Если же утопающий находится в панике, схватил вас и тащит за собой в воду, применяйте силу. Если освободиться от захвата вам не удается, сделайте глубокий вдох и нырните под воду, увлекая за собой спасаемого. Он обязательно отпустит вас. Если утопающий находится без сознания, можно транспортировать его до берега, держа за волосы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5" name="Picture 4" descr="фвцdefault"/>
          <p:cNvPicPr/>
          <p:nvPr/>
        </p:nvPicPr>
        <p:blipFill>
          <a:blip r:embed="rId1"/>
          <a:stretch/>
        </p:blipFill>
        <p:spPr>
          <a:xfrm>
            <a:off x="6877080" y="5084640"/>
            <a:ext cx="1493640" cy="149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262626"/>
                </a:solidFill>
                <a:latin typeface="Calibri Light"/>
              </a:rPr>
              <a:t> </a:t>
            </a:r>
            <a:r>
              <a:rPr b="0" lang="ru-RU" sz="4300" spc="-1" strike="noStrike">
                <a:solidFill>
                  <a:srgbClr val="1e099b"/>
                </a:solidFill>
                <a:latin typeface="Calibri Light"/>
              </a:rPr>
              <a:t>Правила оказания помощи при утоплении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9528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еревернуть пострадавшего лицом вниз, опустить голову ниже таз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Очистить ротовую полость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Резко надавить на корень язы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При появлении рвотного и кашлевого рефлексов - добиться полного удаления воды из дыхательных путей и желуд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5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Если нет рвотных движений и пульса - положить на спину и приступить к реанимации (искусственное дыхание, непрямой массаж сердца). При появлении признаков жизни - перевернуть лицом вниз, удалить воду из легких и желуд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1e099b"/>
                </a:solidFill>
                <a:latin typeface="Calibri"/>
              </a:rPr>
              <a:t>6)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Вызвать «Скорую помощь»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528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7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Если человек уже погрузился в воду, не оставляйте попыток найти его на глубине, а затем вернуть к жизни. Это можно сделать, если утонувший находился в воде не более 6 минут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1e099b"/>
                </a:solidFill>
                <a:latin typeface="Calibri"/>
              </a:rPr>
              <a:t>8)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НЕЛЬЗЯ ОСТАВЛЯТЬ ПОСТРАДАВШЕГО БЕЗ ВНИМАНИЯ (в любой момент может произойти остановка сердца), САМОСТОЯТЕЛЬНО ПЕРЕВОЗИТЬ ПОСТРАДАВШЕГО, ЕСЛИ ЕСТЬ ВОЗМОЖНОСТЬ ВЫЗВАТЬ СПАСАТЕЛЬНУЮ СЛУЖБУ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5:25:23Z</dcterms:created>
  <dc:creator>Дмитрий</dc:creator>
  <dc:description/>
  <dc:language>en-US</dc:language>
  <cp:lastModifiedBy>Александр</cp:lastModifiedBy>
  <dcterms:modified xsi:type="dcterms:W3CDTF">2023-05-24T18:03:29Z</dcterms:modified>
  <cp:revision>9</cp:revision>
  <dc:subject/>
  <dc:title>Правила поведения на водоёмах</dc:title>
</cp:coreProperties>
</file>