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062-A1AD-4F17-9ACD-4F782A70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D94-6D29-4566-A6F6-C74268CF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4BE-49DD-4E37-A5C2-C20B1791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C36-F126-438C-A051-3719503D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27F9-0724-4D34-9A57-CA3E7E8F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7425-1D81-4762-8564-1C15FE93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01D7-A730-45A5-81CA-D4BED136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C7AB-FF69-488E-9F89-8532738C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EA99-072B-4306-8588-A3566B0F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4BD5-D37D-49AD-8688-215B889D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5B9C-9831-46B0-AC93-DD8740CC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9DF-3C5D-401C-AD78-25F128E1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764A-EDA3-4A89-AC52-C82F1B05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597C-BFA0-4565-93FC-0A82CA92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904D-CD9A-41CE-A5B0-4D3ADDEE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6FD6-C37B-4E12-BB28-B79AE87C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4318-453C-4D46-9B5D-B58A83BB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A7CF-08A5-4208-8DE7-47459C22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705C7-C247-48A0-B7B8-57B84BD9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76E4-328F-4634-B136-CDF3554C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B673-1653-486F-9B09-1514867C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D1548-D42D-457D-9E9A-4796E360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085-058F-4449-90D5-EE570026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34CEC-D997-46DB-8B17-18C42891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085AA-986F-443F-A23E-87971CE6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81D9-29BF-4EC8-A81A-D13B6DC7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79B5B-B526-4701-9BC1-F5CB6FA3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A4C93-C4C6-4A4E-99C9-F2C6847E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4D94B-ACCE-4283-9A5C-0CD59393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ECD90-66F3-427E-AD4C-1CFEAB79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6E074-694C-42FE-B233-3450C7CA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3FE3C-87F0-4E80-A1AB-54971D14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C5C1D-A624-4A58-BCBB-2020F176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D6F-5C2A-4F60-8A73-471B029A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269CB-5F1D-4901-A08A-D9FA0C31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9B6B0-D532-443C-AF0A-3BE72D78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ED236-1199-441D-8606-B4528B59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DEC3-EC6B-437F-A834-39E3638A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E21FD-B5FE-4ED1-935B-9E6DE835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7851E-0C1E-4934-8FF0-1C426F1E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16D32-4579-4C7A-9A2E-AD3E25DD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399E8-944D-4344-B382-62A961F4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E1192-112F-4393-AC60-17A9A946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02FF1-A494-4E21-9F32-207022B8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70B-A556-484D-929F-09368327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4D57C-37BC-4805-8277-C37BB634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044FB-B697-4B37-A35A-5511D307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56E29-6EC1-407C-AF0A-C289698C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55EE3-D1EC-415D-8BFE-77D44E95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67761-6F75-4A28-8DCD-6FCB9126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44AF9-6A9E-4BD7-A73A-089DCDA6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62872-79E4-4217-8806-01CEAC33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14E33-25F6-4025-B7CA-B989C62B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029B2-2E6C-4FB2-897E-15BEC029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391FF-5A18-4B98-9E76-469C1434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F7E-D273-4E87-A52D-5ED7689A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07423-1C47-418F-A9DA-84B117BF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836E6-5C90-41B8-B372-E089ACE2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D4C7E-BCCF-4613-8DDC-B8FC332C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9B93A-1002-4347-8B40-EEE88CF0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73E43-7814-403B-9522-E064D8E2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E0EB9-1AE5-4484-AE80-6DC28094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24431-9326-4537-BAAE-6602F913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63F3-1411-4A48-8DB0-ED99BA20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43064-2A98-4442-AFE8-9931E4EB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91FF7-3FDD-4A18-8F39-80E74B9B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0D43-35E1-4629-BB53-DB107026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5BFA4-CD5B-4160-AF73-0948C30A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774F2-B189-44C4-83BD-9C0D36C9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04588-EF09-4E29-B97B-38631D5C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DBEE7-27BA-4F00-847C-24C27B6B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BC338-6447-4D8B-8855-550DC024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BA226-CF0D-470E-9D1B-4337D72A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C4128-37F6-4FF0-84B2-38E7B61D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E4059-7848-4999-8127-104F96AF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DC0EF-B2C1-4A68-BA16-A798A7AA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DE711-6C10-4287-8C79-4AD46431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4FC-BAA9-4EA0-BC09-711A3F10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E8FCF-E424-4EFA-9940-2BB546D1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0D22D-D20F-4244-A70F-31480324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761A3-E76A-4647-8E95-71D60948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97895-CEE6-4049-B173-9DD92A14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75131-02F4-4406-B14D-566890DD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D00-00FA-4C24-A675-FF87BE82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BC18-C13E-4888-8844-3B3E7DAFC37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57F2-F44F-429E-878B-5BEF6584AC5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A247-88B1-4AD1-8996-9B4F48027D4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83BE-1081-46B1-9DE6-2BC59929026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2559-FD2C-4706-989E-740251AC266B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4D82-71B6-43AC-8889-41CB8C33F67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534A-0F4D-4A1B-9B8C-C9F0AEA611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777440" cy="358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099b"/>
                </a:solidFill>
                <a:latin typeface="Calibri Light"/>
              </a:rPr>
              <a:t>Правила поведения на водоёмах</a:t>
            </a:r>
            <a:br>
              <a:rPr sz="4400"/>
            </a:b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e099b"/>
                </a:solidFill>
                <a:latin typeface="Calibri Light"/>
              </a:rPr>
              <a:t>Если тонешь сам</a:t>
            </a:r>
            <a:br>
              <a:rPr sz="32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8360" y="2205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Не паникуйте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Снимите с себя лишнюю одежду, обувь, кричи, зови на помощь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Перевернитесь на спину, широко раскиньте руки, расслабьтесь, сделайте несколько глубоких вдохов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Прежде, чем пойти купаться, не забудьте взять с собой английскую булавку. Она поможет вам, если в воде начнутся судороги. Если же у вас свело ногу, а булавки при себе нет, ущипните несколько раз икроножную мышцу. Если это не помогает, крепко возьмитесь за большой палец ноги и резко выпрямите его. Плывите к берегу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1" name="Picture 4" descr="defaвапult"/>
          <p:cNvPicPr/>
          <p:nvPr/>
        </p:nvPicPr>
        <p:blipFill>
          <a:blip r:embed="rId1"/>
          <a:stretch/>
        </p:blipFill>
        <p:spPr>
          <a:xfrm>
            <a:off x="6156360" y="4653000"/>
            <a:ext cx="1790640" cy="1790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e099b"/>
                </a:solidFill>
                <a:latin typeface="Calibri Light"/>
              </a:rPr>
              <a:t>Вы захлебнулись водой</a:t>
            </a:r>
            <a:br>
              <a:rPr sz="32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5280" y="2276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Не паникуйте, постарайтесь развернуться спиной к волне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Прижмите согнутые в локтях руки к нижней части груди и сделайте несколько резких выдохов, помогая себе руками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Затем очистите от воды нос и сделайте несколько глотательных движений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Восстановив дыхание, ложитесь на живот и двигайтесь к берегу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5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При необходимости позовите людей на помощь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68360" y="2060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Зимой большинство водоемов покрывается льдом, который является источником серьезной опасности, особенно после первых морозов и в период оттепелей. В это время очень высок риск провалиться под лед. Поэтому важно соблюдать правила безопасного поведения на зимних водоемах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e099b"/>
                </a:solidFill>
                <a:latin typeface="Calibri Light"/>
              </a:rPr>
              <a:t>Основные правила безопасного поведения на зимних водоемах</a:t>
            </a: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8360" y="184428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1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надежным является лед, имеющий зеленоватый или синеватый оттенок, а желтоватый лед опасен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2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опасны участки льда в местах впадения рек и ручьев, у крутых берегов, на крутых изгибах русла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3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места, где поверх льда выступает вода, представляют большую опасность, так как обычно свидетельствуют о наличии промоины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4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преодолевать водоем по льду следует в светлое время суток и при хорошей видимост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95280" y="198864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5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при движении по льду группы людей необходимо соблюдать дистанцию примерно 5 м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6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при наличии рюкзака необходимо предусмотреть возможность быстрого освобождения от него (лучше нести его на одном плече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7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Провалившись, необходимо облокотиться на лед, перенести на него одну ногу, затем вытащить вторую, перекатиться на лед и осторожно переместиться в сторону от опасного места. Перед этим лучше освободиться от обуви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040"/>
                </a:solidFill>
                <a:latin typeface="Calibri"/>
              </a:rPr>
              <a:t>РЕБЯТА, БУДЬТЕ ОСТОРОЖНЫ!!!</a:t>
            </a:r>
            <a:endParaRPr b="0" lang="en-US" sz="5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Водоемы являются опасными в любое время года. Летом они опасны при купании и пользовании плавсредствами. Опасность чаще всего представляют сильное течение (в том числе подводное), глубокие омуты и подводные холодные ключи. Весной и летом к этим факторам прибавляется низкая температура воды.</a:t>
            </a:r>
            <a:r>
              <a:rPr b="0" lang="ru-RU" sz="2000" spc="-1" strike="noStrike">
                <a:solidFill>
                  <a:srgbClr val="63705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95280" y="2060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 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Взрослые должны ознакомить детей с правилами безопасности на водных объектах, прежде чем дети отправятся в лагеря, туристические походы, пикники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Умение хорошо плавать - одна из важнейших гарантий безопасного отдыха на воде, но помните, что даже хороший пловец должен соблюдать постоянную осторожность, дисциплину и строго придерживаться правил поведения на воде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7" name="Picture 5" descr="C:\Users\Пристижио\Desktop\2bu68-yT8jo.jpg"/>
          <p:cNvPicPr/>
          <p:nvPr/>
        </p:nvPicPr>
        <p:blipFill>
          <a:blip r:embed="rId1"/>
          <a:stretch/>
        </p:blipFill>
        <p:spPr>
          <a:xfrm>
            <a:off x="3071880" y="442908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5" descr="C:\Users\Пристижио\Desktop\mfFez8KeVJQ.jpg"/>
          <p:cNvPicPr/>
          <p:nvPr/>
        </p:nvPicPr>
        <p:blipFill>
          <a:blip r:embed="rId1"/>
          <a:stretch/>
        </p:blipFill>
        <p:spPr>
          <a:xfrm>
            <a:off x="5643720" y="3071880"/>
            <a:ext cx="2697120" cy="35956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e099b"/>
                </a:solidFill>
                <a:latin typeface="Calibri Light"/>
              </a:rPr>
              <a:t>Правила безопасного поведения на воде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178596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Купайся только в специально оборудованных местах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Не нырять в незнакомых местах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Не заплывать за буйки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Не хватать друг друга за руки и ноги во время игр на воде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5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Не умеющим плавать купаться только в специально оборудованных местах глубиной не более 1,2 метра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68360" y="2060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6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Перед купанием следует отдохнуть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7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Не рекомендуется входить в воду разгоряченным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8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Входите в воду осторожно, медленно, когда вода дойдет вам до пояса, остановитесь и быстро окунитесь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9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Никогда не плавайте в одиночестве, особенно, если не уверены в своих силах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10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Не подавайте ложных сигналов бедствия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68360" y="2133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11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Следите за играми детей даже на мелководье, потому что они могут во время игр упасть и захлебнуться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12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Учиться плавать дети могут только под контролем взрослых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13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Помните: купание в нетрезвом виде может привести к трагическому исходу!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e099b"/>
                </a:solidFill>
                <a:latin typeface="Calibri Light"/>
              </a:rPr>
              <a:t>Если тонет человек</a:t>
            </a: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68360" y="198864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 Сразу громко зовите на помощь: «Человек тонет!»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 Попросите вызвать спасателей и «скорую помощь»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 Бросьте тонущему спасательный круг, длинную веревку с узлом на конце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 Если хорошо плаваете, снимите одежду и обувь и вплавь доберитесь до тонущего. Заговорите с ним. Если услышите адекватный ответ, смело подставляйте ему плечо в качестве опоры и помогите доплыть до берега. Если же утопающий находится в панике, схватил вас и тащит за собой в воду, применяйте силу. Если освободиться от захвата вам не удается, сделайте глубокий вдох и нырните под воду, увлекая за собой спасаемого. Он обязательно отпустит вас. Если утопающий находится без сознания, можно транспортировать его до берега, держа за волосы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5" name="Picture 4" descr="фвцdefault"/>
          <p:cNvPicPr/>
          <p:nvPr/>
        </p:nvPicPr>
        <p:blipFill>
          <a:blip r:embed="rId1"/>
          <a:stretch/>
        </p:blipFill>
        <p:spPr>
          <a:xfrm>
            <a:off x="6877080" y="5084640"/>
            <a:ext cx="1493640" cy="149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262626"/>
                </a:solidFill>
                <a:latin typeface="Calibri Light"/>
              </a:rPr>
              <a:t> </a:t>
            </a:r>
            <a:r>
              <a:rPr b="0" lang="ru-RU" sz="4300" spc="-1" strike="noStrike">
                <a:solidFill>
                  <a:srgbClr val="1e099b"/>
                </a:solidFill>
                <a:latin typeface="Calibri Light"/>
              </a:rPr>
              <a:t>Правила оказания помощи при утоплении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95280" y="2133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Перевернуть пострадавшего лицом вниз, опустить голову ниже таза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Очистить ротовую полость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Резко надавить на корень языка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При появлении рвотного и кашлевого рефлексов - добиться полного удаления воды из дыхательных путей и желудка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5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Если нет рвотных движений и пульса - положить на спину и приступить к реанимации (искусственное дыхание, непрямой массаж сердца). При появлении признаков жизни - перевернуть лицом вниз, удалить воду из легких и желудка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6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Вызвать «Скорую помощь»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95280" y="2205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7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Если человек уже погрузился в воду, не оставляйте попыток найти его на глубине, а затем вернуть к жизни. Это можно сделать, если утонувший находился в воде не более 6 минут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8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НЕЛЬЗЯ ОСТАВЛЯТЬ ПОСТРАДАВШЕГО БЕЗ ВНИМАНИЯ (в любой момент может произойти остановка сердца), САМОСТОЯТЕЛЬНО ПЕРЕВОЗИТЬ ПОСТРАДАВШЕГО, ЕСЛИ ЕСТЬ ВОЗМОЖНОСТЬ ВЫЗВАТЬ СПАСАТЕЛЬНУЮ СЛУЖБУ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5:25:23Z</dcterms:created>
  <dc:creator>Дмитрий</dc:creator>
  <dc:description/>
  <dc:language>en-US</dc:language>
  <cp:lastModifiedBy>Александр</cp:lastModifiedBy>
  <dcterms:modified xsi:type="dcterms:W3CDTF">2023-05-24T18:03:29Z</dcterms:modified>
  <cp:revision>9</cp:revision>
  <dc:subject/>
  <dc:title>Правила поведения на водоёмах</dc:title>
</cp:coreProperties>
</file>