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gif" ContentType="image/gif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6D8-1B1F-46B6-BA3D-0EA92394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3D7-2389-4EF5-983F-B3952A0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3AE-A2A9-40BF-B6A3-1CDE37ED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661-0DC4-4AF2-A5B4-679A579D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AECA-4988-429B-87E3-698BA082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26B7-29FC-4E96-8246-52ED9E4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37D-D360-4E78-91E1-3B566F3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976C-5670-49B0-9811-8203570F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237-8870-4F6D-8841-DF067409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6D3-63F5-4A7B-9D2A-47D778F4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4AB6-1C31-4DE6-BD30-98C76A8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79C-6768-47CC-AB1F-241A37B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5219-9C64-450E-959D-E9FDE01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659-6FDF-4A48-A222-0CDD7E9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682-29D5-4AB4-8F37-21CAF38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9EA1-1B13-48D2-8FD5-5C766698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04D-C899-438A-A0D7-CEA2A5EB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DF3-0B58-4410-902C-675E9B7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137-25D3-45CE-841B-414E597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DAC-B1DB-4278-91E5-ADE25FE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DB6-5D86-44A8-99A2-29CB6A3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4D0-98FD-41A5-B0B8-334C6AB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C64-7788-4B7C-9211-948BD0D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7A0-6E29-49A5-B8B7-6A80A8F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BA2-736B-4F96-8C62-426D83CE16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9B1-9FA8-4DD4-BDEF-19D1C18F59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Из опыта работы учителя начальных класс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3300"/>
                </a:solidFill>
                <a:latin typeface="Tahoma"/>
              </a:rPr>
              <a:t>Пронкиной Л.В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1916280"/>
            <a:ext cx="67183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редмет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исьмо и развитие речи и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         развитие  реч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4292640"/>
            <a:ext cx="766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41360" indent="-134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Тема: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авописание слов с глухими и звонкими согласными.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утешествие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 Уренский лес.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авила поведения в лес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3213000"/>
            <a:ext cx="67183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Интегрированный ур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1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1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Ручеек С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137440" cy="532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0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0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484360" y="333360"/>
            <a:ext cx="57196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Ручеек С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у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вра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ло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и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оз...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с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.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р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рбу...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у..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549360"/>
            <a:ext cx="579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14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16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635280" y="390060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005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нас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2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3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3640" y="87624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92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ду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42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44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5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5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419640" y="206064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74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пл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6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6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68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708360" y="51260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5175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арбу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178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86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32846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357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дроз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196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198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04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06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76720" y="573408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5823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жу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14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16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2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2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635280" y="145260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1503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овра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32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34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40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42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132000" y="45086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5640" y="4581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ерш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95280" y="765000"/>
            <a:ext cx="2089080" cy="1873440"/>
            <a:chOff x="395280" y="765000"/>
            <a:chExt cx="2089080" cy="1873440"/>
          </a:xfrm>
        </p:grpSpPr>
        <p:sp>
          <p:nvSpPr>
            <p:cNvPr id="250" name=""/>
            <p:cNvSpPr/>
            <p:nvPr/>
          </p:nvSpPr>
          <p:spPr>
            <a:xfrm>
              <a:off x="827280" y="982440"/>
              <a:ext cx="1224000" cy="648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8000"/>
                <a:gd name="textAreaBottom" fmla="*/ 56412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95280" y="1990800"/>
              <a:ext cx="2089080" cy="647640"/>
              <a:chOff x="395280" y="1990800"/>
              <a:chExt cx="2089080" cy="647640"/>
            </a:xfrm>
          </p:grpSpPr>
          <p:sp>
            <p:nvSpPr>
              <p:cNvPr id="252" name=""/>
              <p:cNvSpPr/>
              <p:nvPr/>
            </p:nvSpPr>
            <p:spPr>
              <a:xfrm>
                <a:off x="395280" y="1990800"/>
                <a:ext cx="50508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5280" y="199080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84360" y="199080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00360" y="263844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55640" y="765000"/>
              <a:ext cx="0" cy="122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659640" y="692280"/>
            <a:ext cx="2089080" cy="1872720"/>
            <a:chOff x="6659640" y="692280"/>
            <a:chExt cx="2089080" cy="1872720"/>
          </a:xfrm>
        </p:grpSpPr>
        <p:sp>
          <p:nvSpPr>
            <p:cNvPr id="258" name=""/>
            <p:cNvSpPr/>
            <p:nvPr/>
          </p:nvSpPr>
          <p:spPr>
            <a:xfrm>
              <a:off x="7091640" y="909360"/>
              <a:ext cx="1224000" cy="64764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83880 h 647640"/>
                <a:gd name="textAreaBottom" fmla="*/ 56376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659640" y="1917720"/>
              <a:ext cx="2089080" cy="647280"/>
              <a:chOff x="6659640" y="1917720"/>
              <a:chExt cx="2089080" cy="647280"/>
            </a:xfrm>
          </p:grpSpPr>
          <p:sp>
            <p:nvSpPr>
              <p:cNvPr id="260" name=""/>
              <p:cNvSpPr/>
              <p:nvPr/>
            </p:nvSpPr>
            <p:spPr>
              <a:xfrm>
                <a:off x="6659640" y="1917720"/>
                <a:ext cx="50508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9640" y="1917720"/>
                <a:ext cx="20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48720" y="1917720"/>
                <a:ext cx="0" cy="64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64720" y="2565000"/>
                <a:ext cx="158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7020000" y="692280"/>
              <a:ext cx="0" cy="122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635280" y="270828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56000" y="2781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стри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024 C 0.05138 0.26324 0.09913 0.52671 0.14305 0.60397 C 0.18732 0.68147 0.24149 0.52278 0.2677 0.46379 E">
                                      <p:cBhvr>
                                        <p:cTn id="5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5737E-006 C -0.01059 0.08836 -0.11511 0.43789 -0.06337 0.53111 C -0.01164 0.62433 0.26736 0.59819 0.31076 0.55933 C 0.35416 0.52047 0.21371 0.38908 0.19687 0.29724 C 0.18003 0.20541 0.20694 0.068 0.20954 0.00763 E">
                                      <p:cBhvr>
                                        <p:cTn id="8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0024 C -0.01754 0.08813 -0.12205 0.43765 -0.07032 0.53088 C -0.01858 0.6241 0.26041 0.59796 0.30381 0.5591 C 0.34722 0.52024 0.20138 0.36178 0.18993 0.29701 C 0.17847 0.23224 0.22586 0.19685 0.23541 0.17048 E">
                                      <p:cBhvr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7147 C -0.05225 0.15336 -0.30555 0.47605 -0.29079 0.56257 C -0.27604 0.64908 0.03994 0.62965 0.08334 0.59079 C 0.12674 0.55193 0.05244 0.31922 -0.03055 0.3287 C -0.11354 0.33819 -0.3342 0.58177 -0.41423 0.64839 E">
                                      <p:cBhvr>
                                        <p:cTn id="15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7147 C -0.05225 0.15336 -0.30555 0.47605 -0.29079 0.56257 C -0.27604 0.64908 0.03994 0.62965 0.08334 0.59079 C 0.12674 0.55193 0.05313 0.36733 -0.03055 0.3287 C -0.11423 0.29007 -0.33802 0.35207 -0.41892 0.35831 E">
                                      <p:cBhvr>
                                        <p:cTn id="18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1688 C 0.04652 0.05066 0.24392 0.12769 0.2559 0.21906 C 0.26788 0.31043 0.04444 0.50219 0.07691 0.56442 C 0.10954 0.62664 0.40763 0.6315 0.45104 0.59264 C 0.49444 0.55378 0.375 0.31205 0.33715 0.33055 C 0.2993 0.34906 0.24739 0.62572 0.22378 0.70344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61948E-006 C 0.04167 0.03377 0.23906 0.1108 0.25104 0.20217 C 0.26302 0.29354 0.03958 0.48531 0.07205 0.54753 C 0.10469 0.60976 0.40278 0.61461 0.44618 0.57575 C 0.48958 0.53689 0.36267 0.39833 0.33229 0.31367 C 0.30191 0.229 0.27795 0.11889 0.26354 0.06754 E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092 C 0.01407 0.03261 0.11823 0.10247 0.10695 0.19176 C 0.09566 0.28105 -0.05156 0.45801 -0.07204 0.53712 C -0.09253 0.61623 -0.07795 0.6618 -0.01562 0.66643 C 0.04671 0.67106 0.30087 0.63682 0.30209 0.56534 C 0.3033 0.49387 0.12101 0.24057 -0.0085 0.23687 C -0.13802 0.23317 -0.42517 0.49387 -0.47552 0.54337 C -0.52586 0.59287 -0.34461 0.53597 -0.31024 0.53388 E">
                                      <p:cBhvr>
                                        <p:cTn id="29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092 C 0.01407 0.03261 0.11823 0.10247 0.10695 0.19176 C 0.09566 0.28105 -0.05156 0.45801 -0.07204 0.53712 C -0.09253 0.61623 -0.07795 0.6618 -0.01562 0.66643 C 0.04671 0.67106 0.30087 0.63682 0.30209 0.56534 C 0.3033 0.49387 0.12101 0.24057 -0.0085 0.23687 C -0.13802 0.23317 -0.40607 0.53735 -0.47552 0.54337 C -0.54496 0.54938 -0.43541 0.32986 -0.42482 0.27365 E">
                                      <p:cBhvr>
                                        <p:cTn id="32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пушка Списы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048360" cy="476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се покрыл пушистый (…......) сне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 дома намело большой (….….…..)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угро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ловно в белой шубе стоит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могучий (……....) ду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коро ударит (…...…...) моро...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Замерз (……..….) пру... 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 нем крепкий (.....…..) ле... 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885080" y="105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105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не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21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угро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2360" y="3284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у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7893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мороз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4292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36572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пру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03640" y="48690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ль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Дубрава Здоровья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Физминутк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-1374120"/>
            <a:ext cx="367344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брый лес, старый л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он сказочных чуде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идём гулять сейч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овём с собою ва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дут вас на лесной опуш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тички, бабочки, зверюш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учок на паутин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кузнечик на травинк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200" y="421920"/>
            <a:ext cx="777708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Покажите, как живут зверят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9280" y="162864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Покажите мне, ребя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в лесу живут зверя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лисёнок просып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бельчонок умыв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зайчонок поскак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волчонок пробеж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Как ежонок и ежи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Собирали ежев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Только медвежонок сп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Просыпаться не спеши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0" y="0"/>
            <a:ext cx="900000" cy="692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Image1"/>
          <p:cNvPicPr/>
          <p:nvPr/>
        </p:nvPicPr>
        <p:blipFill>
          <a:blip r:embed="rId2"/>
          <a:stretch/>
        </p:blipFill>
        <p:spPr>
          <a:xfrm>
            <a:off x="2268360" y="2852640"/>
            <a:ext cx="1845000" cy="180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2"/>
          <p:cNvPicPr/>
          <p:nvPr/>
        </p:nvPicPr>
        <p:blipFill>
          <a:blip r:embed="rId3"/>
          <a:stretch/>
        </p:blipFill>
        <p:spPr>
          <a:xfrm>
            <a:off x="0" y="2997360"/>
            <a:ext cx="1476360" cy="172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mage3"/>
          <p:cNvPicPr/>
          <p:nvPr/>
        </p:nvPicPr>
        <p:blipFill>
          <a:blip r:embed="rId4"/>
          <a:stretch/>
        </p:blipFill>
        <p:spPr>
          <a:xfrm>
            <a:off x="2700360" y="5157720"/>
            <a:ext cx="2016000" cy="125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ежик"/>
          <p:cNvPicPr/>
          <p:nvPr/>
        </p:nvPicPr>
        <p:blipFill>
          <a:blip r:embed="rId5"/>
          <a:stretch/>
        </p:blipFill>
        <p:spPr>
          <a:xfrm>
            <a:off x="5143680" y="4929120"/>
            <a:ext cx="1904760" cy="1295640"/>
          </a:xfrm>
          <a:prstGeom prst="rect">
            <a:avLst/>
          </a:prstGeom>
          <a:ln w="0">
            <a:noFill/>
          </a:ln>
        </p:spPr>
      </p:pic>
      <p:sp>
        <p:nvSpPr>
          <p:cNvPr id="292" name="plant"/>
          <p:cNvSpPr/>
          <p:nvPr/>
        </p:nvSpPr>
        <p:spPr>
          <a:xfrm>
            <a:off x="7334280" y="50482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10" descr="1072878"/>
          <p:cNvPicPr/>
          <p:nvPr/>
        </p:nvPicPr>
        <p:blipFill>
          <a:blip r:embed="rId6"/>
          <a:stretch/>
        </p:blipFill>
        <p:spPr>
          <a:xfrm>
            <a:off x="0" y="4869000"/>
            <a:ext cx="2341440" cy="165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оляна Памя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5640" y="1484280"/>
            <a:ext cx="76327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адал снег на поро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т слепил себе пиро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 пока лепил и пек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учейком пирог утек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Просека Предлож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Правило поведения в природе:</a:t>
            </a: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7200" spc="-1" strike="noStrike">
                <a:solidFill>
                  <a:srgbClr val="ffcc00"/>
                </a:solidFill>
                <a:latin typeface="Tahoma"/>
              </a:rPr>
              <a:t>НЕ ШУМИ!</a:t>
            </a:r>
            <a:br>
              <a:rPr sz="7200"/>
            </a:b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Роща Однокоренных с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9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Цель урока: 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  Повторить знания детей о правописании слов с глухими и звонкими согласными, формировать умение подбирать проверочные слова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2. Развивать орфографическую зоркость, внимание, речь, учить детей обобщать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 Воспитывать экологическую культуру, любовь природе, бережное отношение к ней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Отгадайте загадку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Я родился в день дождливый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Под осинкой молодой.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руглый, гладкий и красивый,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С ножкой толстой и прямо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Подбор однокоренных слов со словом гриб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Следующее правило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cc00"/>
                </a:solidFill>
                <a:latin typeface="Tahoma"/>
              </a:rPr>
              <a:t>НЕ ГУБИ! </a:t>
            </a:r>
            <a:br>
              <a:rPr sz="4800"/>
            </a:b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Не рви цветы, не ломай ветки, не разрушай муравейники...</a:t>
            </a:r>
            <a:br>
              <a:rPr sz="4400"/>
            </a:br>
            <a:r>
              <a:rPr b="1" i="1" lang="en-US" sz="5400" spc="-1" strike="noStrike">
                <a:solidFill>
                  <a:srgbClr val="ffcc00"/>
                </a:solidFill>
                <a:latin typeface="Tahoma"/>
              </a:rPr>
              <a:t>Берегите нашу природу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Итог урока.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ебята! Для чего нужно знать правило о  написании слов с глухими и звонкими согласными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бираясь на пикник  со взрослыми, что вы должны им напомнить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 теперь послушайте, зачем  вы должны об этом помнить?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Я сорвала цветок – он завял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Я поймала жука – он умер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тогда я поняла, что прикоснуться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 красоте природы можно только сердце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362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Tahoma"/>
              </a:rPr>
              <a:t>Домашнее задание.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Творческая работа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.  На урок по развитию речи нарисуйте экологические знаки.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416088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р. 32, с 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р. на карточке (Руслану, Илье, Данил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Как работалось на уроке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Какое задание понравилось больше?   Почему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1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Raavi"/>
              </a:rPr>
              <a:t>С каким настроением заканчиваете урок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26920" y="4149720"/>
            <a:ext cx="7417080" cy="1727280"/>
            <a:chOff x="826920" y="4149720"/>
            <a:chExt cx="7417080" cy="1727280"/>
          </a:xfrm>
        </p:grpSpPr>
        <p:sp>
          <p:nvSpPr>
            <p:cNvPr id="312" name=""/>
            <p:cNvSpPr/>
            <p:nvPr/>
          </p:nvSpPr>
          <p:spPr>
            <a:xfrm>
              <a:off x="826920" y="4149720"/>
              <a:ext cx="1800360" cy="1727280"/>
            </a:xfrm>
            <a:prstGeom prst="smileyFace">
              <a:avLst>
                <a:gd name="adj" fmla="val 9282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5280" y="4149720"/>
              <a:ext cx="1800360" cy="1727280"/>
            </a:xfrm>
            <a:prstGeom prst="smileyFace">
              <a:avLst>
                <a:gd name="adj" fmla="val 14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3640" y="4149720"/>
              <a:ext cx="1800360" cy="1727280"/>
            </a:xfrm>
            <a:prstGeom prst="smileyFace">
              <a:avLst>
                <a:gd name="adj" fmla="val -4652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Оцени себя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2006640"/>
            <a:ext cx="769752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отлич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хорош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надо еще постарать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20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328464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508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e5ffff"/>
                </a:solidFill>
                <a:latin typeface="Tahoma"/>
              </a:rPr>
              <a:t>Урок окончен!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Спасибо всем за работу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276720" cy="28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184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 со всех сторон откры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  резною крышей   кры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ходи в зеленый дом —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а увидишь в нем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Лес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621504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обро пожаловать в волшебное царство природы! А живет здесь мудрая бабушка Сова. Она охраняет лесное царство Урень-края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бята! Сова приглашает вас в волшебный Уренский лес, где вы вспомните правила поведения в природе и правописание слов с глухими и звонкими согласными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Уренский лес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91636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97672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ляна Чистописани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626000"/>
            <a:ext cx="8218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207280" cy="51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Учитель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вот на поляне кто-то отдыхал и оставил мусор пос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бя. О каком правиле забыли отдыхающие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Приходя в гости в лес помни первое правило: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i="1" lang="ru-RU" sz="6600" spc="-1" strike="noStrike">
                <a:solidFill>
                  <a:srgbClr val="ffcc00"/>
                </a:solidFill>
                <a:latin typeface="Tahoma"/>
              </a:rPr>
              <a:t>НЕ СОРИ!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51:07Z</dcterms:created>
  <dc:creator>Admin</dc:creator>
  <dc:description/>
  <dc:language>en-US</dc:language>
  <cp:lastModifiedBy>1</cp:lastModifiedBy>
  <dcterms:modified xsi:type="dcterms:W3CDTF">2011-10-24T17:14:27Z</dcterms:modified>
  <cp:revision>39</cp:revision>
  <dc:subject/>
  <dc:title>Урок-путешествие. Тема урока: Правописание слов с глухими и звонкими согласными. Цель урока: обобщить знания детей о правописании слов с глухими и звонкими согласными, формировать умение подбирать проверочные слова, развивать орфографическую зоркость, внимание, речь, учить детей обобщать, воспитывать любовь к природе, бережное отношение к ней. </dc:title>
</cp:coreProperties>
</file>