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4DD-864F-420C-9964-110316C8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322-F179-4C9E-946B-E37E9A18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4B3-CBEE-4A51-8EE9-5E340883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6F0-245E-4F4B-B108-F0261D49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C646-AF08-4E67-9DC7-C79E52F0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5F3A-806A-42B3-A507-742688A8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E0D2-3FE9-4E08-8A88-51AF45AC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390E-D729-466C-9CFC-F745564E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C802-5A52-4AE1-AE38-0F946653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EFFB-EE39-437C-8776-86D76482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D54A-07B8-495D-A7E5-953D2DEE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0ED-FF02-4C39-871E-DA68D35B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A606-23AD-41C1-A3BE-C0C1AC30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DD32-74E1-4F61-9717-A7E26466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262A-C555-4267-8EC2-B4110210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9973-1540-49B8-9214-48C7909C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5256-BC0C-4ECA-BF6D-9763E7DA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754-4135-4571-A2C0-C0E7F414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105-14CB-4E37-8A00-B26C373F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1BF-1890-468E-9EB4-741B7881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269-04C0-41C5-AF80-6FCF768D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55D-5B36-46D1-975E-7EA19178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AE2-C283-4B40-B426-AA6C853E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0AF-77A6-452C-815E-AA7C07DB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4C92-5FD6-4F8A-AFFD-349724B1D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75D5-9207-4C01-A079-15BE89C979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Режим труда и отдыха, хороший сон - составляющие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Womanjo.ru - Part 37"/>
          <p:cNvPicPr/>
          <p:nvPr/>
        </p:nvPicPr>
        <p:blipFill>
          <a:blip r:embed="rId1"/>
          <a:stretch/>
        </p:blipFill>
        <p:spPr>
          <a:xfrm>
            <a:off x="0" y="2828880"/>
            <a:ext cx="61531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Физическая работоспособность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иболее сильная с 8 до 12 часов и с 14- 17 ча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иболее слабый с 3 до 5 час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Скачать программу Нормирование и оплата труда FinancePro. - 2 Декабря 2013 - Blog - Icqclients"/>
          <p:cNvPicPr/>
          <p:nvPr/>
        </p:nvPicPr>
        <p:blipFill>
          <a:blip r:embed="rId1"/>
          <a:stretch/>
        </p:blipFill>
        <p:spPr>
          <a:xfrm>
            <a:off x="0" y="4000680"/>
            <a:ext cx="42958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714240" y="240840"/>
            <a:ext cx="7215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ой составляющей режима жизнедеятельности человека является его труд, который представляет целесообразную деятельность человека, направленную на создание материальных и духовных ценност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714240" y="241560"/>
            <a:ext cx="707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ющий человек живёт в определённом ритме: он должен в определённое время вставать, выполнять свои обязанности, питаться, отдыхать и сп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это неудивительно, все процессы в природе подчинены в той или иной мере строгому ритму: чередуются времена года, ночь сменяет день, день снова приходит на смену но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Ритмичная деятельность –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один из основных законов жизни и одна из основ любого тру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5" descr="{CD767AF8-2613-448D-93C6-E512FF6D3351}"/>
          <p:cNvPicPr/>
          <p:nvPr/>
        </p:nvPicPr>
        <p:blipFill>
          <a:blip r:embed="rId1"/>
          <a:stretch/>
        </p:blipFill>
        <p:spPr>
          <a:xfrm>
            <a:off x="250920" y="260280"/>
            <a:ext cx="85881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Режим дня школь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57400" y="1341000"/>
            <a:ext cx="4981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бу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ренняя заряд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тра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нятие в шко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ул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готовление уро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ж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ободно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Распорядок дня ребенка"/>
          <p:cNvPicPr/>
          <p:nvPr/>
        </p:nvPicPr>
        <p:blipFill>
          <a:blip r:embed="rId1"/>
          <a:stretch/>
        </p:blipFill>
        <p:spPr>
          <a:xfrm>
            <a:off x="0" y="1500120"/>
            <a:ext cx="37908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еутом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6" descr="{75257A8E-1FDD-4A3E-BD0D-D5C9AC58DE0C}"/>
          <p:cNvPicPr/>
          <p:nvPr/>
        </p:nvPicPr>
        <p:blipFill>
          <a:blip r:embed="rId1"/>
          <a:srcRect l="27812" t="19313" r="27689" b="9260"/>
          <a:stretch/>
        </p:blipFill>
        <p:spPr>
          <a:xfrm>
            <a:off x="2262240" y="1428840"/>
            <a:ext cx="438156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ризнаки переутом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о болит гол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хой с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ятся кошма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сна разбитое и усталое состоя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хой аппет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Чтобы не допустить переутомле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раните или уменьшите воздействие  вредных раздражающие фак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о организуйте свой отдых (чередование разных видов деятельнос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ционально питайтес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6" descr="{61D25EF3-6465-464A-B88E-C18DCB9F8A79}"/>
          <p:cNvPicPr/>
          <p:nvPr/>
        </p:nvPicPr>
        <p:blipFill>
          <a:blip r:embed="rId1"/>
          <a:srcRect l="26423" t="25002" r="26707" b="9090"/>
          <a:stretch/>
        </p:blipFill>
        <p:spPr>
          <a:xfrm>
            <a:off x="5214960" y="1428840"/>
            <a:ext cx="392904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57120" y="226440"/>
            <a:ext cx="8286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акие медицинские учреждения не смогут сделать старшеклассника здоровым, если он не получил навыков здорового образа жизни в семье с самого раннего возра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сокая работоспособность зависит от оптимального сочетания умственного и физического тру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ами нарушения здоровья могут быть умственное и физическое перенапряжение, избыточный производственный и бытовой шум, недостаточный сон и неполноценный отдых, плохая экология, избыточное или недостаточное питание, вредные привычки, не оказанная вовремя и некачественная медицинская помощь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доровый образ жизни предполагает физическую нагрузку, оптимальный режим труда и отдыха, правильное питание, достаточную двигательную активность, личную гигиену, закаливание, отрицательное отношение к вредным привычкам, позитивное восприятие жизн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500040" y="1018440"/>
            <a:ext cx="3214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ичь благополучия возможно только через труд, направленный на расширение своих духовных, физических и социальных возмож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ЧТО ТАКОЕ ЗДОРОВЬЕ ?&quot;ЗДОРОВЬЕ - ЭТО СОСТОЯНИЕ . - Здоровье - Презентации онлайн - PPTonline.ru"/>
          <p:cNvPicPr/>
          <p:nvPr/>
        </p:nvPicPr>
        <p:blipFill>
          <a:blip r:embed="rId1"/>
          <a:srcRect l="58614" t="25003" r="0" b="0"/>
          <a:stretch/>
        </p:blipFill>
        <p:spPr>
          <a:xfrm>
            <a:off x="4071960" y="0"/>
            <a:ext cx="504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500040" y="145800"/>
            <a:ext cx="83581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Обязанности мудрого – заботиться о своём имуществе, не совершая ничего противного обычаям, законам и установлениям; ведь мы хотим быть богаты не только ради себя, но и ради детей, родных и друзей, а особенно ради государства; ведь средства и достояние отдельных лиц составляют богатства гражданской общины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актат «Об обязанностях» древнеримского политика, оратора и писателя Марка Туллия Цицерона (106-43 гг. до н. 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Таким образом, здоровье – непременное условие эффективной жизнедеятельности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285840" y="306000"/>
            <a:ext cx="78580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Индивидуальное здоровье в основном зависит от четырёх факторов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логические факторы (наследственность) – около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20%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ужающая среда (природная, техногенная, социальная) –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20%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лужба здоровья –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10%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ндивидуальный образ жизни –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5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57120" y="4935600"/>
            <a:ext cx="785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Вывод -  состояние здоровья каждого человека на 90% индивидуально, так как оно зависит от наследственности, факторов окружающей среды и в основном от индивидуального образа жизни (поведения каждого, его привычек, поступков, стремлений, пристрасти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571680" y="311760"/>
            <a:ext cx="8001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составляющие здорового образа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ым шагом к созданию своей индивидуальной системы здорового образа жизни является </a:t>
            </a:r>
            <a:r>
              <a:rPr b="0" lang="ru-RU" sz="4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выработка твёрдой мотивации (1!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14200" y="857160"/>
            <a:ext cx="8643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Другим составляющим элементом здорового образа жизни является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режим жизнедеятельности (2!)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ся жизнедеятельность человека проходит в режиме распределения времени, частично вынужденного, связанно с общественно необходимой деятельностью, частично по индивидуальному пла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6286680" y="357120"/>
            <a:ext cx="2571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Так, например, режим жизне-деятельности школьника определён учебным планом занятий в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Повышение квалификации - Рефераты на тему windows"/>
          <p:cNvPicPr/>
          <p:nvPr/>
        </p:nvPicPr>
        <p:blipFill>
          <a:blip r:embed="rId1"/>
          <a:stretch/>
        </p:blipFill>
        <p:spPr>
          <a:xfrm>
            <a:off x="0" y="428760"/>
            <a:ext cx="63817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4071960" y="642960"/>
            <a:ext cx="4714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Режим  жизнедеятельности 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это установленный распорядок жизни человека, который включает в себя труд, питание, отдых и со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Материалы для развития и обучения &quot; Страница 2043 &quot; Baby-best.ru"/>
          <p:cNvPicPr/>
          <p:nvPr/>
        </p:nvPicPr>
        <p:blipFill>
          <a:blip r:embed="rId1"/>
          <a:srcRect l="5169" t="20294" r="6017" b="8888"/>
          <a:stretch/>
        </p:blipFill>
        <p:spPr>
          <a:xfrm>
            <a:off x="0" y="1000080"/>
            <a:ext cx="3786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14240" y="3571920"/>
            <a:ext cx="81964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мственная работоспособность человека в течении дня меняе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учший период с 9-до11 ча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осле отдыха  с 16- до 17 час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Рынок труда: кто зрел, тот и не съел Новости.Gazeta.kz"/>
          <p:cNvPicPr/>
          <p:nvPr/>
        </p:nvPicPr>
        <p:blipFill>
          <a:blip r:embed="rId1"/>
          <a:stretch/>
        </p:blipFill>
        <p:spPr>
          <a:xfrm>
            <a:off x="2500200" y="0"/>
            <a:ext cx="4376880" cy="3282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11:40:56Z</dcterms:created>
  <dc:creator>Лада</dc:creator>
  <dc:description/>
  <dc:language>en-US</dc:language>
  <cp:lastModifiedBy>Александр</cp:lastModifiedBy>
  <dcterms:modified xsi:type="dcterms:W3CDTF">2023-05-24T17:55:42Z</dcterms:modified>
  <cp:revision>8</cp:revision>
  <dc:subject/>
  <dc:title>Слайд 1</dc:title>
</cp:coreProperties>
</file>