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F450-939E-447F-A66B-FF75BBEA4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B0D0-8F87-49B0-8CDC-ABFD579A5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67AC-8CAC-4BF8-B8F2-0F98F12BB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337A-4A7C-418B-AC3A-64C7A976A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EAA89-6388-4737-8474-CBCD56223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11724-9633-4624-8B80-B4B970233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2AD1B-D4BA-4CF2-89ED-46F0C038A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B2E79-817B-4E33-A4BF-5F4098063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5F02E-4CCD-4090-8DDA-C93757B99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46102-2902-4B34-926B-3F5F84A7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A2248-20A2-45F6-8AD3-B96C8323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11FA-86C9-4CA8-A9CA-0C94B2868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2CB5B-A954-4780-891B-4A922700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53AAF-7D17-40D8-BC13-74CE7638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EE93E-7F99-4830-A19E-909C72735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F8A3D-A6DD-4950-9167-AF6508F2F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80734-B752-4C3D-BB3D-F68A9779C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0F22-6CBB-4F7C-9B2C-BD9122F64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DCE1-11F4-47B0-8EA2-8C66DA63C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5202-B3E7-4294-8A12-CB97DB910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46F8-53FE-48F7-8A36-86D5748B3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52F1-C066-41E5-9FBF-A9B0E278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51DE-03D2-4133-BBDF-053F6716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40C1-6ABF-4A81-BA18-22350EEB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33967-EF23-4719-929C-B0C162F53A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8710D-6350-42F4-8D11-BF92F1988F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14240" y="571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Режим труда и отдыха, хороший сон - составляющие здорового образа жизн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4" descr="Womanjo.ru - Part 37"/>
          <p:cNvPicPr/>
          <p:nvPr/>
        </p:nvPicPr>
        <p:blipFill>
          <a:blip r:embed="rId1"/>
          <a:stretch/>
        </p:blipFill>
        <p:spPr>
          <a:xfrm>
            <a:off x="0" y="2828880"/>
            <a:ext cx="61531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Физическая работоспособность челове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аиболее сильная с 8 до 12 часов и с 14- 17 час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аиболее слабый с 3 до 5 часов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5" descr="Скачать программу Нормирование и оплата труда FinancePro. - 2 Декабря 2013 - Blog - Icqclients"/>
          <p:cNvPicPr/>
          <p:nvPr/>
        </p:nvPicPr>
        <p:blipFill>
          <a:blip r:embed="rId1"/>
          <a:stretch/>
        </p:blipFill>
        <p:spPr>
          <a:xfrm>
            <a:off x="0" y="4000680"/>
            <a:ext cx="429588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"/>
          <p:cNvSpPr/>
          <p:nvPr/>
        </p:nvSpPr>
        <p:spPr>
          <a:xfrm>
            <a:off x="714240" y="240840"/>
            <a:ext cx="72154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Главной составляющей режима жизнедеятельности человека является его труд, который представляет целесообразную деятельность человека, направленную на создание материальных и духовных ценностей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"/>
          <p:cNvSpPr/>
          <p:nvPr/>
        </p:nvSpPr>
        <p:spPr>
          <a:xfrm>
            <a:off x="714240" y="241560"/>
            <a:ext cx="70725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Работающий человек живёт в определённом ритме: он должен в определённое время вставать, выполнять свои обязанности, питаться, отдыхать и спа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И это неудивительно, все процессы в природе подчинены в той или иной мере строгому ритму: чередуются времена года, ночь сменяет день, день снова приходит на смену ноч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Ритмичная деятельность –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 один из основных законов жизни и одна из основ любого тру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5" descr="{CD767AF8-2613-448D-93C6-E512FF6D3351}"/>
          <p:cNvPicPr/>
          <p:nvPr/>
        </p:nvPicPr>
        <p:blipFill>
          <a:blip r:embed="rId1"/>
          <a:stretch/>
        </p:blipFill>
        <p:spPr>
          <a:xfrm>
            <a:off x="250920" y="260280"/>
            <a:ext cx="8588160" cy="64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Режим дня школьн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57400" y="1341000"/>
            <a:ext cx="49813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бужд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тренняя заряд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втрак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нятие в школ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е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гул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готовление уро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ж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вободное врем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5" descr="Распорядок дня ребенка"/>
          <p:cNvPicPr/>
          <p:nvPr/>
        </p:nvPicPr>
        <p:blipFill>
          <a:blip r:embed="rId1"/>
          <a:stretch/>
        </p:blipFill>
        <p:spPr>
          <a:xfrm>
            <a:off x="0" y="1500120"/>
            <a:ext cx="3790800" cy="371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ереутомл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Рисунок 6" descr="{75257A8E-1FDD-4A3E-BD0D-D5C9AC58DE0C}"/>
          <p:cNvPicPr/>
          <p:nvPr/>
        </p:nvPicPr>
        <p:blipFill>
          <a:blip r:embed="rId1"/>
          <a:srcRect l="27812" t="19313" r="27689" b="9260"/>
          <a:stretch/>
        </p:blipFill>
        <p:spPr>
          <a:xfrm>
            <a:off x="2262240" y="1428840"/>
            <a:ext cx="4381560" cy="49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Признаки переутом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асто болит гол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лохой с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нятся кошма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ле сна разбитое и усталое состоя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лохой аппети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Чтобы не допустить переутомление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86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страните или уменьшите воздействие  вредных раздражающие факто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вильно организуйте свой отдых (чередование разных видов деятельност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ционально питайтесь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Рисунок 6" descr="{61D25EF3-6465-464A-B88E-C18DCB9F8A79}"/>
          <p:cNvPicPr/>
          <p:nvPr/>
        </p:nvPicPr>
        <p:blipFill>
          <a:blip r:embed="rId1"/>
          <a:srcRect l="26423" t="25002" r="26707" b="9090"/>
          <a:stretch/>
        </p:blipFill>
        <p:spPr>
          <a:xfrm>
            <a:off x="5214960" y="1428840"/>
            <a:ext cx="3929040" cy="41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"/>
          <p:cNvSpPr/>
          <p:nvPr/>
        </p:nvSpPr>
        <p:spPr>
          <a:xfrm>
            <a:off x="357120" y="226440"/>
            <a:ext cx="82868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Вы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икакие медицинские учреждения не смогут сделать старшеклассника здоровым, если он не получил навыков здорового образа жизни в семье с самого раннего возрас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ысокая работоспособность зависит от оптимального сочетания умственного и физического тру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чинами нарушения здоровья могут быть умственное и физическое перенапряжение, избыточный производственный и бытовой шум, недостаточный сон и неполноценный отдых, плохая экология, избыточное или недостаточное питание, вредные привычки, не оказанная вовремя и некачественная медицинская помощь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доровый образ жизни предполагает физическую нагрузку, оптимальный режим труда и отдыха, правильное питание, достаточную двигательную активность, личную гигиену, закаливание, отрицательное отношение к вредным привычкам, позитивное восприятие жизни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500040" y="1018440"/>
            <a:ext cx="3214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остичь благополучия возможно только через труд, направленный на расширение своих духовных, физических и социальных возможност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ЧТО ТАКОЕ ЗДОРОВЬЕ ?&quot;ЗДОРОВЬЕ - ЭТО СОСТОЯНИЕ . - Здоровье - Презентации онлайн - PPTonline.ru"/>
          <p:cNvPicPr/>
          <p:nvPr/>
        </p:nvPicPr>
        <p:blipFill>
          <a:blip r:embed="rId1"/>
          <a:srcRect l="58614" t="25003" r="0" b="0"/>
          <a:stretch/>
        </p:blipFill>
        <p:spPr>
          <a:xfrm>
            <a:off x="4071960" y="0"/>
            <a:ext cx="5046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"/>
          <p:cNvSpPr/>
          <p:nvPr/>
        </p:nvSpPr>
        <p:spPr>
          <a:xfrm>
            <a:off x="500040" y="145800"/>
            <a:ext cx="8358120" cy="59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«Обязанности мудрого – заботиться о своём имуществе, не совершая ничего противного обычаям, законам и установлениям; ведь мы хотим быть богаты не только ради себя, но и ради детей, родных и друзей, а особенно ради государства; ведь средства и достояние отдельных лиц составляют богатства гражданской общины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рактат «Об обязанностях» древнеримского политика, оратора и писателя Марка Туллия Цицерона (106-43 гг. до н. э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Таким образом, здоровье – непременное условие эффективной жизнедеятельности челове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285840" y="306000"/>
            <a:ext cx="785808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  <a:ea typeface="Times New Roman"/>
              </a:rPr>
              <a:t>Индивидуальное здоровье в основном зависит от четырёх факторов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биологические факторы (наследственность) – около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20%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кружающая среда (природная, техногенная, социальная) –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20%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лужба здоровья –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10%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индивидуальный образ жизни –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50%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357120" y="4935600"/>
            <a:ext cx="7858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Вывод -  состояние здоровья каждого человека на 90% индивидуально, так как оно зависит от наследственности, факторов окружающей среды и в основном от индивидуального образа жизни (поведения каждого, его привычек, поступков, стремлений, пристрастий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571680" y="311760"/>
            <a:ext cx="8001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  <a:ea typeface="Times New Roman"/>
              </a:rPr>
              <a:t>Основные составляющие здорового образа жиз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вым шагом к созданию своей индивидуальной системы здорового образа жизни является </a:t>
            </a:r>
            <a:r>
              <a:rPr b="0" lang="ru-RU" sz="4400" spc="-1" strike="noStrike" u="sng">
                <a:solidFill>
                  <a:srgbClr val="c00000"/>
                </a:solidFill>
                <a:uFillTx/>
                <a:latin typeface="Arial"/>
                <a:ea typeface="Times New Roman"/>
              </a:rPr>
              <a:t>выработка твёрдой мотивации (1!)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214200" y="857160"/>
            <a:ext cx="86439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Arial"/>
              </a:rPr>
              <a:t>Другим составляющим элементом здорового образа жизни является </a:t>
            </a:r>
            <a:r>
              <a:rPr b="1" lang="ru-RU" sz="3200" spc="-1" strike="noStrike" u="sng">
                <a:solidFill>
                  <a:srgbClr val="c00000"/>
                </a:solidFill>
                <a:uFillTx/>
                <a:latin typeface="Calibri"/>
                <a:ea typeface="Arial"/>
              </a:rPr>
              <a:t>режим жизнедеятельности (2!)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Вся жизнедеятельность человека проходит в режиме распределения времени, частично вынужденного, связанно с общественно необходимой деятельностью, частично по индивидуальному план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"/>
          <p:cNvSpPr/>
          <p:nvPr/>
        </p:nvSpPr>
        <p:spPr>
          <a:xfrm>
            <a:off x="6286680" y="357120"/>
            <a:ext cx="25714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Так, например, режим жизне-деятельности школьника определён учебным планом занятий в шко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Повышение квалификации - Рефераты на тему windows"/>
          <p:cNvPicPr/>
          <p:nvPr/>
        </p:nvPicPr>
        <p:blipFill>
          <a:blip r:embed="rId1"/>
          <a:stretch/>
        </p:blipFill>
        <p:spPr>
          <a:xfrm>
            <a:off x="0" y="428760"/>
            <a:ext cx="638172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4071960" y="642960"/>
            <a:ext cx="47149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  <a:ea typeface="Arial"/>
              </a:rPr>
              <a:t>Режим  жизнедеятельности </a:t>
            </a:r>
            <a:r>
              <a:rPr b="0" lang="ru-RU" sz="4000" spc="-1" strike="noStrike">
                <a:solidFill>
                  <a:srgbClr val="c00000"/>
                </a:solidFill>
                <a:latin typeface="Calibri"/>
                <a:ea typeface="Arial"/>
              </a:rPr>
              <a:t>–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это установленный распорядок жизни человека, который включает в себя труд, питание, отдых и сон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Материалы для развития и обучения &quot; Страница 2043 &quot; Baby-best.ru"/>
          <p:cNvPicPr/>
          <p:nvPr/>
        </p:nvPicPr>
        <p:blipFill>
          <a:blip r:embed="rId1"/>
          <a:srcRect l="5169" t="20294" r="6017" b="8888"/>
          <a:stretch/>
        </p:blipFill>
        <p:spPr>
          <a:xfrm>
            <a:off x="0" y="1000080"/>
            <a:ext cx="37861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714240" y="3571920"/>
            <a:ext cx="819648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Умственная работоспособность человека в течении дня меняетс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Лучший период с 9-до11 час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После отдыха  с 16- до 17 часов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5" descr="Рынок труда: кто зрел, тот и не съел Новости.Gazeta.kz"/>
          <p:cNvPicPr/>
          <p:nvPr/>
        </p:nvPicPr>
        <p:blipFill>
          <a:blip r:embed="rId1"/>
          <a:stretch/>
        </p:blipFill>
        <p:spPr>
          <a:xfrm>
            <a:off x="2500200" y="0"/>
            <a:ext cx="4376880" cy="3282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9T11:40:56Z</dcterms:created>
  <dc:creator>Лада</dc:creator>
  <dc:description/>
  <dc:language>en-US</dc:language>
  <cp:lastModifiedBy>Александр</cp:lastModifiedBy>
  <dcterms:modified xsi:type="dcterms:W3CDTF">2023-05-24T17:55:42Z</dcterms:modified>
  <cp:revision>8</cp:revision>
  <dc:subject/>
  <dc:title>Слайд 1</dc:title>
</cp:coreProperties>
</file>